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99E-6E4A-46EF-B080-5BE92953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3A7-1E57-40D8-BABE-0B9802FF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DA3-3672-481A-A5A1-F18B7EC4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13F-9B62-40EB-8E80-A9E6333D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C339-94DB-43B1-9DBE-7C7D3AE0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7144-AEEF-4685-A348-08EB3A6E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7E84-8DD4-4122-880A-91F49D6C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91D0-3C64-4D32-94D8-23131E6C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5CC4-D37C-4B20-BF24-4F7A6A2A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902D-3262-4AAF-9979-3ECD85FF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F388-B02A-4085-AF22-16E85403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FEB-4B16-48A2-9BCA-ADBBF09D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511B-994B-4D95-B28F-76A2C4CB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E1DE-05AC-4E48-9745-623B939A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07E0-BBD2-43EB-934B-6F9DF648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9347-55EF-4349-A7A5-020BC96C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B42C-16A7-4A7A-87B4-48DBA620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49C-DF8B-42FE-A20F-ACE290D4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789-5B26-4753-8C57-2A93A7D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951-E086-44BD-A0C3-6CF84BA0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9E8-AD56-4A3D-9905-D79ADD26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E91-8B85-47B8-BEE4-C17DA14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3B2-44C8-4642-9D5D-B6260BA8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54A-AD97-43B2-B5EF-6E308CEF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A4AB-DE29-4ECB-9932-784CFC6A65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E428-9081-48CB-A8D7-A6C1A1C3A7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5240"/>
            <a:ext cx="7772400" cy="170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«..Красная книга-это крик растений и животных о помощи, озвученный языком человека..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560" y="2092320"/>
            <a:ext cx="78850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ема проек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Times New Roman"/>
              </a:rPr>
              <a:t>«Исчезающие виды растений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цы 11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У «СОШ с.Хватов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к мы можем помочь растениям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храна: усилие государственных и общественных организаций, привлечение большого числа людей- для контролирования численности раст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бота: проявлять интерес, уделять внимание растениям нашей обл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Восстановление: посадка новых раст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прос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(среди учащихся 5-11 классов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учеников в классе (в %) имеют представление о  Красной Книг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Object 6"/>
          <p:cNvGraphicFramePr/>
          <p:nvPr/>
        </p:nvGraphicFramePr>
        <p:xfrm>
          <a:off x="4648320" y="1600200"/>
          <a:ext cx="40384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ннотаци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дание и ведение Красных книг является важным шагом в деле защиты редких и находящихся под угрозой исчезновений растений. Красная книга необходима для организации исследований и принятия и осуществления особых мер по охране, восстановлению и научно обоснованному природопользованию живыми биологическими ресурс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есение того или иного вида флоры в Красную книгу является юридическим гарантом правовой охраны редкого вида. Виды, включенные в Красную книгу,  официально отграничиваются от всех других представителей растительного мира. В отношении этих видов функционируют механизмы организационно –правовых гарантий, которые повышают возможность их сохранения и восстановления в естественной среде обит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сная книга –это сигнал тревоги, это-информация о современном положении испытывающих беду вида, это- рекомендация по мерам его охран, это- «индикатор» нашего отношения к здоровью окружающий сре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па"/>
          <p:cNvPicPr/>
          <p:nvPr/>
        </p:nvPicPr>
        <p:blipFill>
          <a:blip r:embed="rId1"/>
          <a:stretch/>
        </p:blipFill>
        <p:spPr>
          <a:xfrm>
            <a:off x="6588000" y="189000"/>
            <a:ext cx="1800360" cy="136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пользуемые материа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Красная книга Саратовской обл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Интер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лора Саратовской област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читывает в своем составе ( в месте с заносными ) около 2000т.видов сосудистых растений. Это значительно больше, чем в соседних регионах. Высокое флористическое богатство области определяется разнообразными природн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иматическими услов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ложной истори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тительного покр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images"/>
          <p:cNvPicPr/>
          <p:nvPr/>
        </p:nvPicPr>
        <p:blipFill>
          <a:blip r:embed="rId1"/>
          <a:stretch/>
        </p:blipFill>
        <p:spPr>
          <a:xfrm>
            <a:off x="5796000" y="3789360"/>
            <a:ext cx="3348000" cy="306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стория создания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аратовской Красной книг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ое издание региональной Красной книги Саратовской области было осуществлено в 1996 г.( Красная книга…,1996). Она состояла из 2-х частей: первая- « Растения, грибы, лишайники», вторая- « Животные». В издании было приведено описание 404 видов, из них грибов-4, лишайников-1, растений природной флоры-184, интродуцентов-60, животных-155видов( 2 вида пиявок,3-ракообразных,72-насекомых, 1- миног, 5-костных рыб,5- рептилий, 49 – птиц, 20 видов о подвидов млекопитающ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учные редакторы: Г.В. Шляхти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ктор биологических нау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фессор, академик РАЕН и МАНЭБ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служенный деятель науки РФ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кан биологического факульте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ГУ им. Н.Г. Чернышевско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САМА"/>
          <p:cNvPicPr/>
          <p:nvPr/>
        </p:nvPicPr>
        <p:blipFill>
          <a:blip r:embed="rId1"/>
          <a:stretch/>
        </p:blipFill>
        <p:spPr>
          <a:xfrm>
            <a:off x="6084720" y="3789360"/>
            <a:ext cx="2808360" cy="306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сновополагающие 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Категории исчезающих раст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Основные законодательные и       нормативные правовые акты по охране редких раст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Важные проблем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чезновения раст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Как мы можем помо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тениям нашей области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А"/>
          <p:cNvPicPr/>
          <p:nvPr/>
        </p:nvPicPr>
        <p:blipFill>
          <a:blip r:embed="rId1"/>
          <a:stretch/>
        </p:blipFill>
        <p:spPr>
          <a:xfrm>
            <a:off x="5262480" y="3284640"/>
            <a:ext cx="3881520" cy="35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Цели нашего проек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Охр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б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Возобно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Правильное исполь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9" descr="Ф"/>
          <p:cNvPicPr/>
          <p:nvPr/>
        </p:nvPicPr>
        <p:blipFill>
          <a:blip r:embed="rId1"/>
          <a:stretch/>
        </p:blipFill>
        <p:spPr>
          <a:xfrm>
            <a:off x="0" y="1268280"/>
            <a:ext cx="2771640" cy="331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В"/>
          <p:cNvPicPr/>
          <p:nvPr/>
        </p:nvPicPr>
        <p:blipFill>
          <a:blip r:embed="rId1"/>
          <a:stretch/>
        </p:blipFill>
        <p:spPr>
          <a:xfrm>
            <a:off x="3492360" y="1628640"/>
            <a:ext cx="1871640" cy="2232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ст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images"/>
          <p:cNvPicPr/>
          <p:nvPr/>
        </p:nvPicPr>
        <p:blipFill>
          <a:blip r:embed="rId2"/>
          <a:stretch/>
        </p:blipFill>
        <p:spPr>
          <a:xfrm>
            <a:off x="395280" y="1628640"/>
            <a:ext cx="208764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К"/>
          <p:cNvPicPr/>
          <p:nvPr/>
        </p:nvPicPr>
        <p:blipFill>
          <a:blip r:embed="rId3"/>
          <a:stretch/>
        </p:blipFill>
        <p:spPr>
          <a:xfrm>
            <a:off x="6588000" y="1557360"/>
            <a:ext cx="183996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КУ"/>
          <p:cNvPicPr/>
          <p:nvPr/>
        </p:nvPicPr>
        <p:blipFill>
          <a:blip r:embed="rId4"/>
          <a:stretch/>
        </p:blipFill>
        <p:spPr>
          <a:xfrm>
            <a:off x="3492360" y="4581360"/>
            <a:ext cx="1871640" cy="2276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ЛЮТИК"/>
          <p:cNvPicPr/>
          <p:nvPr/>
        </p:nvPicPr>
        <p:blipFill>
          <a:blip r:embed="rId5"/>
          <a:stretch/>
        </p:blipFill>
        <p:spPr>
          <a:xfrm>
            <a:off x="6516720" y="4581360"/>
            <a:ext cx="1942920" cy="2276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С"/>
          <p:cNvPicPr/>
          <p:nvPr/>
        </p:nvPicPr>
        <p:blipFill>
          <a:blip r:embed="rId6"/>
          <a:stretch/>
        </p:blipFill>
        <p:spPr>
          <a:xfrm>
            <a:off x="468360" y="4581360"/>
            <a:ext cx="208764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0"/>
          <p:cNvSpPr txBox="1"/>
          <p:nvPr/>
        </p:nvSpPr>
        <p:spPr>
          <a:xfrm>
            <a:off x="179280" y="4149720"/>
            <a:ext cx="259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траусник обыкновенный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3851280" y="4149720"/>
            <a:ext cx="11145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увшинка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2" name="WordArt 12"/>
          <p:cNvSpPr txBox="1"/>
          <p:nvPr/>
        </p:nvSpPr>
        <p:spPr>
          <a:xfrm>
            <a:off x="6588000" y="4149720"/>
            <a:ext cx="187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Лютик высокий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WordArt 13"/>
          <p:cNvSpPr txBox="1"/>
          <p:nvPr/>
        </p:nvSpPr>
        <p:spPr>
          <a:xfrm>
            <a:off x="468360" y="1052640"/>
            <a:ext cx="165744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ервоцвет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WordArt 14"/>
          <p:cNvSpPr txBox="1"/>
          <p:nvPr/>
        </p:nvSpPr>
        <p:spPr>
          <a:xfrm>
            <a:off x="6804000" y="1197000"/>
            <a:ext cx="1447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олокольчик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5" name="WordArt 15"/>
          <p:cNvSpPr txBox="1"/>
          <p:nvPr/>
        </p:nvSpPr>
        <p:spPr>
          <a:xfrm>
            <a:off x="3635280" y="1197000"/>
            <a:ext cx="1378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етреница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тегории исчезающих расте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-Исчезнувш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-Находящиеся под угрозой исчезнов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-Уязвимые,которым в ближайшем будущем грозит перемещение в категорию 1,если факторы, вызывающие сокращение их численности, будут продолжать действ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- Редкие в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-Виды с неопределённым статусом, относящиеся к одной из предыдущих категор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-Восстанавливающиеся ви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п"/>
          <p:cNvPicPr/>
          <p:nvPr/>
        </p:nvPicPr>
        <p:blipFill>
          <a:blip r:embed="rId1"/>
          <a:stretch/>
        </p:blipFill>
        <p:spPr>
          <a:xfrm>
            <a:off x="6659640" y="5084640"/>
            <a:ext cx="2089080" cy="156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овые акт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ановление №1 Правительства Саратовской области «О Красной книге Саратовской области»,( «Положением комиссии по ведению Красной книги», «Составом комиссии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ановление №2 «Об утверждении перечней видов растений, занесённых в Красную книгу Саратовской области, и такс для исчисления размера взыскания за ущерб, причинённый объектам растительного мир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ановление №3 «О регулирование деятельности по использованию растений, занесённых в Красную книг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ОБ"/>
          <p:cNvPicPr/>
          <p:nvPr/>
        </p:nvPicPr>
        <p:blipFill>
          <a:blip r:embed="rId1"/>
          <a:stretch/>
        </p:blipFill>
        <p:spPr>
          <a:xfrm>
            <a:off x="6300720" y="5084640"/>
            <a:ext cx="2843280" cy="177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у"/>
          <p:cNvPicPr/>
          <p:nvPr/>
        </p:nvPicPr>
        <p:blipFill>
          <a:blip r:embed="rId2"/>
          <a:stretch/>
        </p:blipFill>
        <p:spPr>
          <a:xfrm>
            <a:off x="250920" y="0"/>
            <a:ext cx="2089080" cy="161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ажные проблемы исчезновения расте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Уменьшение площади ле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Распашка целинных зем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Опустыни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Научно не обоснованная мелиор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Значительная рекреационная нагрузка на прир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Перевыпас ск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.Создание обширных «промышленных пустоше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.Чрезмерный сбор раст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.Нерегламентированный промыс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0.Случайное уничтожение (засуха, наводнение, химические загрязн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1.Вселение нового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ОБЛ"/>
          <p:cNvPicPr/>
          <p:nvPr/>
        </p:nvPicPr>
        <p:blipFill>
          <a:blip r:embed="rId1"/>
          <a:stretch/>
        </p:blipFill>
        <p:spPr>
          <a:xfrm>
            <a:off x="5940360" y="1125360"/>
            <a:ext cx="2952720" cy="16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45:45Z</dcterms:created>
  <dc:creator>User</dc:creator>
  <dc:description/>
  <dc:language>en-US</dc:language>
  <cp:lastModifiedBy>Коля</cp:lastModifiedBy>
  <dcterms:modified xsi:type="dcterms:W3CDTF">2013-03-18T20:15:02Z</dcterms:modified>
  <cp:revision>14</cp:revision>
  <dc:subject/>
  <dc:title>Слайд 1</dc:title>
</cp:coreProperties>
</file>