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03C-EC92-444A-BBCE-FF23E9F7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37B-A4DE-48B1-836F-4FEF33E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594-C8E0-4DF4-B7D0-AD5C8E06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F98-C9BE-4FBC-A7A3-E53C028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B74-A0C4-49B4-A815-3715937A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66B-B995-42DA-B4B3-76D6267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EE6-C23F-4939-81FC-15270DA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DDBF-7EA3-4E50-A7A0-DE1C5144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0B86-CB66-4D79-880A-43383B16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DCB6-8BD9-43C2-B686-7173BEB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DCE-7161-45E9-BF13-A57178B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338-60A0-4754-80DC-C476DFC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0CC-F47E-4A62-BA01-0769672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C6CC-6EDD-4DB4-BD04-A7067B0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75EC-104E-4939-AA41-24570D8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9394-85A8-49C7-AFE2-DAE311D4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FDB5-9EAA-4551-A42B-FF1E8746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94E-9E3C-4EBA-93D5-A7807861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6AE-4097-445B-B7BF-BF91E9A2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E6E-AD95-490A-A7B7-7B43B84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F6B-3138-46DD-AFF9-6BD1EA13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8E6-6005-491E-9C33-4F64D22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867-9F50-4397-9545-EA58C1D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04E-6C72-403C-AD49-8F38645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F94-FFBB-4071-BE32-F0DEF8505D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C3A-8FFE-4820-BAF7-6CD55774C5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«..Красная книга-это крик растений и животных о помощи, озвученный языком человека..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560" y="2092320"/>
            <a:ext cx="78850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Times New Roman"/>
              </a:rPr>
              <a:t>«Исчезающие виды растений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цы 11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У «СОШ с.Хватов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мы можем помочь растениям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храна: усилие государственных и общественных организаций, привлечение большого числа людей- для контролирования численности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бота: проявлять интерес, уделять внимание растениям наше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Восстановление: посадка новых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прос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(среди учащихся 5-11 классов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учеников в классе (в %) имеют представление о  Красной Книг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Object 6"/>
          <p:cNvGraphicFramePr/>
          <p:nvPr/>
        </p:nvGraphicFramePr>
        <p:xfrm>
          <a:off x="4648320" y="1600200"/>
          <a:ext cx="40384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ннотац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ание и ведение Красных книг является важным шагом в деле защиты редких и находящихся под угрозой исчезновений растений. Красная книга необходима для организации исследований и принятия и осуществления особых мер по охране, восстановлению и научно обоснованному природопользованию живыми биологическими ресурс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есение того или иного вида флоры в Красную книгу является юридическим гарантом правовой охраны редкого вида. Виды, включенные в Красную книгу,  официально отграничиваются от всех других представителей растительного мира. В отношении этих видов функционируют механизмы организационно –правовых гарантий, которые повышают возможность их сохранения и восстановления в естественной среде об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ая книга –это сигнал тревоги, это-информация о современном положении испытывающих беду вида, это- рекомендация по мерам его охран, это- «индикатор» нашего отношения к здоровью окружающи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па"/>
          <p:cNvPicPr/>
          <p:nvPr/>
        </p:nvPicPr>
        <p:blipFill>
          <a:blip r:embed="rId1"/>
          <a:stretch/>
        </p:blipFill>
        <p:spPr>
          <a:xfrm>
            <a:off x="6588000" y="189000"/>
            <a:ext cx="1800360" cy="136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уемые материа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Красная книга Саратовск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лора Саратовской област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читывает в своем составе ( в месте с заносными ) около 2000т.видов сосудистых растений. Это значительно больше, чем в соседних регионах. Высокое флористическое богатство области определяется разнообразными природн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матическими услов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ложной истори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ительного пок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ages"/>
          <p:cNvPicPr/>
          <p:nvPr/>
        </p:nvPicPr>
        <p:blipFill>
          <a:blip r:embed="rId1"/>
          <a:stretch/>
        </p:blipFill>
        <p:spPr>
          <a:xfrm>
            <a:off x="5796000" y="3789360"/>
            <a:ext cx="334800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тория создания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аратовской Красной книг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е издание региональной Красной книги Саратовской области было осуществлено в 1996 г.( Красная книга…,1996). Она состояла из 2-х частей: первая- « Растения, грибы, лишайники», вторая- « Животные». В издании было приведено описание 404 видов, из них грибов-4, лишайников-1, растений природной флоры-184, интродуцентов-60, животных-155видов( 2 вида пиявок,3-ракообразных,72-насекомых, 1- миног, 5-костных рыб,5- рептилий, 49 – птиц, 20 видов о подвидов млекопитающ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учные редакторы: Г.В. Шляхти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тор биологических нау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ессор, академик РАЕН и МАНЭБ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служенный деятель науки РФ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ан биологического факульте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ГУ им. Н.Г. Чернышевск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САМА"/>
          <p:cNvPicPr/>
          <p:nvPr/>
        </p:nvPicPr>
        <p:blipFill>
          <a:blip r:embed="rId1"/>
          <a:stretch/>
        </p:blipFill>
        <p:spPr>
          <a:xfrm>
            <a:off x="6084720" y="3789360"/>
            <a:ext cx="280836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Категории исчезающих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Основные законодательные и       нормативные правовые акты по охране редких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Важные пробле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чезновения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Как мы можем помо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ениям нашей област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А"/>
          <p:cNvPicPr/>
          <p:nvPr/>
        </p:nvPicPr>
        <p:blipFill>
          <a:blip r:embed="rId1"/>
          <a:stretch/>
        </p:blipFill>
        <p:spPr>
          <a:xfrm>
            <a:off x="5262480" y="3284640"/>
            <a:ext cx="388152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Цели нашего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х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Возобно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Правильное исполь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9" descr="Ф"/>
          <p:cNvPicPr/>
          <p:nvPr/>
        </p:nvPicPr>
        <p:blipFill>
          <a:blip r:embed="rId1"/>
          <a:stretch/>
        </p:blipFill>
        <p:spPr>
          <a:xfrm>
            <a:off x="0" y="1268280"/>
            <a:ext cx="2771640" cy="33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В"/>
          <p:cNvPicPr/>
          <p:nvPr/>
        </p:nvPicPr>
        <p:blipFill>
          <a:blip r:embed="rId1"/>
          <a:stretch/>
        </p:blipFill>
        <p:spPr>
          <a:xfrm>
            <a:off x="3492360" y="1628640"/>
            <a:ext cx="1871640" cy="223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т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s"/>
          <p:cNvPicPr/>
          <p:nvPr/>
        </p:nvPicPr>
        <p:blipFill>
          <a:blip r:embed="rId2"/>
          <a:stretch/>
        </p:blipFill>
        <p:spPr>
          <a:xfrm>
            <a:off x="395280" y="1628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"/>
          <p:cNvPicPr/>
          <p:nvPr/>
        </p:nvPicPr>
        <p:blipFill>
          <a:blip r:embed="rId3"/>
          <a:stretch/>
        </p:blipFill>
        <p:spPr>
          <a:xfrm>
            <a:off x="6588000" y="1557360"/>
            <a:ext cx="183996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У"/>
          <p:cNvPicPr/>
          <p:nvPr/>
        </p:nvPicPr>
        <p:blipFill>
          <a:blip r:embed="rId4"/>
          <a:stretch/>
        </p:blipFill>
        <p:spPr>
          <a:xfrm>
            <a:off x="3492360" y="4581360"/>
            <a:ext cx="187164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ЛЮТИК"/>
          <p:cNvPicPr/>
          <p:nvPr/>
        </p:nvPicPr>
        <p:blipFill>
          <a:blip r:embed="rId5"/>
          <a:stretch/>
        </p:blipFill>
        <p:spPr>
          <a:xfrm>
            <a:off x="6516720" y="4581360"/>
            <a:ext cx="194292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С"/>
          <p:cNvPicPr/>
          <p:nvPr/>
        </p:nvPicPr>
        <p:blipFill>
          <a:blip r:embed="rId6"/>
          <a:stretch/>
        </p:blipFill>
        <p:spPr>
          <a:xfrm>
            <a:off x="468360" y="4581360"/>
            <a:ext cx="208764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0"/>
          <p:cNvSpPr txBox="1"/>
          <p:nvPr/>
        </p:nvSpPr>
        <p:spPr>
          <a:xfrm>
            <a:off x="179280" y="4149720"/>
            <a:ext cx="25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траусник обыкновенный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3851280" y="4149720"/>
            <a:ext cx="1114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увшинка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6588000" y="414972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Лютик высокий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468360" y="1052640"/>
            <a:ext cx="165744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ервоцвет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6804000" y="1197000"/>
            <a:ext cx="1447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олокольчик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15"/>
          <p:cNvSpPr txBox="1"/>
          <p:nvPr/>
        </p:nvSpPr>
        <p:spPr>
          <a:xfrm>
            <a:off x="3635280" y="1197000"/>
            <a:ext cx="1378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етреница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тегории исчезающих раст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-Исчезнувш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-Находящиеся под угрозой исчезнов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-Уязвимые,которым в ближайшем будущем грозит перемещение в категорию 1,если факторы, вызывающие сокращение их численности, будут продолжать действ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- Редкие в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-Виды с неопределённым статусом, относящиеся к одной из предыдущих катего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-Восстанавливающиеся ви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п"/>
          <p:cNvPicPr/>
          <p:nvPr/>
        </p:nvPicPr>
        <p:blipFill>
          <a:blip r:embed="rId1"/>
          <a:stretch/>
        </p:blipFill>
        <p:spPr>
          <a:xfrm>
            <a:off x="6659640" y="5084640"/>
            <a:ext cx="2089080" cy="156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вые ак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1 Правительства Саратовской области «О Красной книге Саратовской области»,( «Положением комиссии по ведению Красной книги», «Составом комисси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2 «Об утверждении перечней видов растений, занесённых в Красную книгу Саратовской области, и такс для исчисления размера взыскания за ущерб, причинённый объектам растительного ми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3 «О регулирование деятельности по использованию растений, занесённых в Красную кни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ОБ"/>
          <p:cNvPicPr/>
          <p:nvPr/>
        </p:nvPicPr>
        <p:blipFill>
          <a:blip r:embed="rId1"/>
          <a:stretch/>
        </p:blipFill>
        <p:spPr>
          <a:xfrm>
            <a:off x="6300720" y="5084640"/>
            <a:ext cx="2843280" cy="177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у"/>
          <p:cNvPicPr/>
          <p:nvPr/>
        </p:nvPicPr>
        <p:blipFill>
          <a:blip r:embed="rId2"/>
          <a:stretch/>
        </p:blipFill>
        <p:spPr>
          <a:xfrm>
            <a:off x="250920" y="0"/>
            <a:ext cx="2089080" cy="16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жные проблемы исчезновения раст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Уменьшение площади ле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Распашка целинных зем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Опустын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Научно не обоснованная мелиор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Значительная рекреационная нагрузка на прир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Перевыпас ск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Создание обширных «промышленных пустош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.Чрезмерный сбор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.Нерегламентированный промыс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.Случайное уничтожение (засуха, наводнение, химические загряз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.Вселение нового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ОБЛ"/>
          <p:cNvPicPr/>
          <p:nvPr/>
        </p:nvPicPr>
        <p:blipFill>
          <a:blip r:embed="rId1"/>
          <a:stretch/>
        </p:blipFill>
        <p:spPr>
          <a:xfrm>
            <a:off x="5940360" y="1125360"/>
            <a:ext cx="2952720" cy="16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5:45Z</dcterms:created>
  <dc:creator>User</dc:creator>
  <dc:description/>
  <dc:language>en-US</dc:language>
  <cp:lastModifiedBy>Коля</cp:lastModifiedBy>
  <dcterms:modified xsi:type="dcterms:W3CDTF">2013-03-18T20:15:02Z</dcterms:modified>
  <cp:revision>14</cp:revision>
  <dc:subject/>
  <dc:title>Слайд 1</dc:title>
</cp:coreProperties>
</file>