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DC6-C7C7-4ED7-8FD3-AAE32E7A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BC1-E25E-41AD-96A1-344019F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CF5-FFD7-450E-8579-C2C3FFE8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6F0-244C-46F6-A6A4-A65E82E5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9DE-5FE1-425C-BB07-A88B988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F86-7681-4140-AB8E-39EA631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CF1-3379-4AEB-83DC-4C1C8BD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7C8-8ABD-42F9-8340-ED19AC6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04F-FCCB-4189-BF65-EAA53282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E07-CFF9-4441-8924-7936DF1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25F-9C5E-4300-A77A-A3D85E0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071-D70B-4120-A22F-359AAFC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7ED-BCBD-460F-BAE7-A126BDA779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1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2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3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4.do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ff"/>
                </a:solidFill>
                <a:latin typeface="Tahoma"/>
              </a:rPr>
              <a:t>Тема урока.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Tahoma"/>
              </a:rPr>
              <a:t>«Среды обитания животных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Apr17#37"/>
          <p:cNvPicPr/>
          <p:nvPr/>
        </p:nvPicPr>
        <p:blipFill>
          <a:blip r:embed="rId1"/>
          <a:stretch/>
        </p:blipFill>
        <p:spPr>
          <a:xfrm>
            <a:off x="971640" y="3357720"/>
            <a:ext cx="2303280" cy="165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pr17#28"/>
          <p:cNvPicPr/>
          <p:nvPr/>
        </p:nvPicPr>
        <p:blipFill>
          <a:blip r:embed="rId2"/>
          <a:stretch/>
        </p:blipFill>
        <p:spPr>
          <a:xfrm>
            <a:off x="5435640" y="3284640"/>
            <a:ext cx="2521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17#29"/>
          <p:cNvPicPr/>
          <p:nvPr/>
        </p:nvPicPr>
        <p:blipFill>
          <a:blip r:embed="rId3"/>
          <a:stretch/>
        </p:blipFill>
        <p:spPr>
          <a:xfrm>
            <a:off x="5364000" y="476280"/>
            <a:ext cx="165744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pr17#34"/>
          <p:cNvPicPr/>
          <p:nvPr/>
        </p:nvPicPr>
        <p:blipFill>
          <a:blip r:embed="rId4"/>
          <a:stretch/>
        </p:blipFill>
        <p:spPr>
          <a:xfrm>
            <a:off x="5364000" y="5229360"/>
            <a:ext cx="2772000" cy="8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pr17#32"/>
          <p:cNvPicPr/>
          <p:nvPr/>
        </p:nvPicPr>
        <p:blipFill>
          <a:blip r:embed="rId5"/>
          <a:stretch/>
        </p:blipFill>
        <p:spPr>
          <a:xfrm>
            <a:off x="755640" y="5084640"/>
            <a:ext cx="28083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pr17#39"/>
          <p:cNvPicPr/>
          <p:nvPr/>
        </p:nvPicPr>
        <p:blipFill>
          <a:blip r:embed="rId6"/>
          <a:stretch/>
        </p:blipFill>
        <p:spPr>
          <a:xfrm>
            <a:off x="0" y="260280"/>
            <a:ext cx="1900080" cy="20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Apr17#30"/>
          <p:cNvPicPr/>
          <p:nvPr/>
        </p:nvPicPr>
        <p:blipFill>
          <a:blip r:embed="rId7"/>
          <a:stretch/>
        </p:blipFill>
        <p:spPr>
          <a:xfrm>
            <a:off x="2124000" y="476280"/>
            <a:ext cx="1616040" cy="116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pr17#33"/>
          <p:cNvPicPr/>
          <p:nvPr/>
        </p:nvPicPr>
        <p:blipFill>
          <a:blip r:embed="rId8"/>
          <a:stretch/>
        </p:blipFill>
        <p:spPr>
          <a:xfrm>
            <a:off x="7246800" y="260280"/>
            <a:ext cx="18972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акие утверждения верны?   Поставьте знак «+» или «-»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1.   Различают две среды обитания:  наземно  – воздушную и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2.   Чтобы легче было передвигаться в толще воды, большинство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3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4.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5. 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6.   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Проверка зад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68360" y="2060640"/>
            <a:ext cx="8207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   Различают две среды обитания:  наземно  – воздушную и  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+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тобы легче было передвигаться в толще воды, большинство 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+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Tahoma"/>
              </a:rPr>
              <a:t>+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ahoma"/>
              </a:rPr>
              <a:t>По описанию узнай, о какой среде идёт речь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.   Эта среда довольно плотная, и в ней передвигаться нелегко. Зачастую в ней не хватает кислорода для дыхания животных. Обитатели этой среды часто имеют плавники как приспособления к движ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2.   Дом для животных, имеющих крылья. Лёгкая, неплотная сре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3.   В эту среду проникает мало света. А на глубину и совсем не проник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4.   Ноги животных этой среды приспособлены к бегу, прыж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5.   Эта среда может изменяться, расти, питаться, дышать, умирать, давать себе подобных.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f700"/>
                </a:solidFill>
                <a:latin typeface="Tahoma"/>
              </a:rPr>
              <a:t>Проверка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1.   Во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2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3.   Почвен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4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5.   Организм человека и животных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6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6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ознакомить учащихся со средами обитания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Обучать решению простых экологических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Развить умение анализировать, высказывать свои мысли, обосновывать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родолжить обучение работе в режиме диалога и поли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628640"/>
          <a:ext cx="8640720" cy="4776840"/>
        </p:xfrm>
        <a:graphic>
          <a:graphicData uri="http://schemas.openxmlformats.org/drawingml/2006/table">
            <a:tbl>
              <a:tblPr/>
              <a:tblGrid>
                <a:gridCol w="2914560"/>
                <a:gridCol w="2584440"/>
                <a:gridCol w="314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животных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Среда об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испособления к обитанию в данной сре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Прочитайте тек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и птицы – чемпионы по скорости полёта среди птиц. Обычная для них скорость – 120 км/ч. Весной эти птицы прилетают поздно. Их прилёт означает наступление устойчивой тёплой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о небольшие птицы. Клюв у них короткий, широкий. Крылья – длинные, заострённые. В полёте они бывают до 19 ч. В сутки – ловят насекомых. Ноги совсем маленькие, не приспособленные для хож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 каких птицах идёт реч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 какой среде обитаю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Какие у них есть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твет – «стриж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Заполняе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Самое быстроногое из зверей. Развивает скорость до 110 км/ч, но довольно быстро устаёт. Если в течение минуты он не догоняет добычу, то прекращает погон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В какой среде обитае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Ответ – «гепард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Заполняетс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Живя в этой среде, животные либо дышат жабрами, либо поднимаются к поверхности для вдоха. Животные, активно передвигающиеся в этой среде, имеют обтекаемую форму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В какой среде обит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Ответ – «дельфи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Заполняется 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Среда обитания характеризуется тем, что она плотная. В ней обитатели находят воздух, воду. А вот свет сюда почти не проникает. Поэтому животные обычно имеют маленькие глаза или вовсе лишены органов зрения. Выручают их в жизни обоняние и ося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ое это животно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какой среде обита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Ответ – «кро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Заполняется 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ahoma"/>
              </a:rPr>
              <a:t>Игра по средам обитания» Кто здесь лишний?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Apr17#28"/>
          <p:cNvPicPr/>
          <p:nvPr/>
        </p:nvPicPr>
        <p:blipFill>
          <a:blip r:embed="rId1"/>
          <a:stretch/>
        </p:blipFill>
        <p:spPr>
          <a:xfrm>
            <a:off x="3132000" y="4221000"/>
            <a:ext cx="23767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Apr17#33"/>
          <p:cNvPicPr/>
          <p:nvPr/>
        </p:nvPicPr>
        <p:blipFill>
          <a:blip r:embed="rId2"/>
          <a:stretch/>
        </p:blipFill>
        <p:spPr>
          <a:xfrm>
            <a:off x="2771640" y="1844640"/>
            <a:ext cx="170820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pr17#34"/>
          <p:cNvPicPr/>
          <p:nvPr/>
        </p:nvPicPr>
        <p:blipFill>
          <a:blip r:embed="rId3"/>
          <a:stretch/>
        </p:blipFill>
        <p:spPr>
          <a:xfrm>
            <a:off x="5580000" y="5373720"/>
            <a:ext cx="3564000" cy="102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pr17#39"/>
          <p:cNvPicPr/>
          <p:nvPr/>
        </p:nvPicPr>
        <p:blipFill>
          <a:blip r:embed="rId4"/>
          <a:stretch/>
        </p:blipFill>
        <p:spPr>
          <a:xfrm>
            <a:off x="1116000" y="1844640"/>
            <a:ext cx="145908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pr27#41"/>
          <p:cNvPicPr/>
          <p:nvPr/>
        </p:nvPicPr>
        <p:blipFill>
          <a:blip r:embed="rId5"/>
          <a:stretch/>
        </p:blipFill>
        <p:spPr>
          <a:xfrm>
            <a:off x="5580000" y="4221000"/>
            <a:ext cx="3564000" cy="924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pr27#42"/>
          <p:cNvPicPr/>
          <p:nvPr/>
        </p:nvPicPr>
        <p:blipFill>
          <a:blip r:embed="rId6"/>
          <a:stretch/>
        </p:blipFill>
        <p:spPr>
          <a:xfrm>
            <a:off x="900000" y="4221000"/>
            <a:ext cx="214812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Apr27#43"/>
          <p:cNvPicPr/>
          <p:nvPr/>
        </p:nvPicPr>
        <p:blipFill>
          <a:blip r:embed="rId7"/>
          <a:stretch/>
        </p:blipFill>
        <p:spPr>
          <a:xfrm>
            <a:off x="4572000" y="1844640"/>
            <a:ext cx="208764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pr27#44"/>
          <p:cNvPicPr/>
          <p:nvPr/>
        </p:nvPicPr>
        <p:blipFill>
          <a:blip r:embed="rId8"/>
          <a:stretch/>
        </p:blipFill>
        <p:spPr>
          <a:xfrm>
            <a:off x="6732720" y="1844640"/>
            <a:ext cx="2160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Проверка 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cc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Apr17#28"/>
          <p:cNvPicPr/>
          <p:nvPr/>
        </p:nvPicPr>
        <p:blipFill>
          <a:blip r:embed="rId1"/>
          <a:stretch/>
        </p:blipFill>
        <p:spPr>
          <a:xfrm>
            <a:off x="900000" y="4462560"/>
            <a:ext cx="3311640" cy="215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pr17#33"/>
          <p:cNvPicPr/>
          <p:nvPr/>
        </p:nvPicPr>
        <p:blipFill>
          <a:blip r:embed="rId2"/>
          <a:stretch/>
        </p:blipFill>
        <p:spPr>
          <a:xfrm>
            <a:off x="3780000" y="1773360"/>
            <a:ext cx="2224080" cy="2436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pr17#34"/>
          <p:cNvPicPr/>
          <p:nvPr/>
        </p:nvPicPr>
        <p:blipFill>
          <a:blip r:embed="rId3"/>
          <a:stretch/>
        </p:blipFill>
        <p:spPr>
          <a:xfrm>
            <a:off x="5076720" y="5756400"/>
            <a:ext cx="3816360" cy="110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pr17#39"/>
          <p:cNvPicPr/>
          <p:nvPr/>
        </p:nvPicPr>
        <p:blipFill>
          <a:blip r:embed="rId4"/>
          <a:stretch/>
        </p:blipFill>
        <p:spPr>
          <a:xfrm>
            <a:off x="1403280" y="1773360"/>
            <a:ext cx="2089080" cy="24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pr27#41"/>
          <p:cNvPicPr/>
          <p:nvPr/>
        </p:nvPicPr>
        <p:blipFill>
          <a:blip r:embed="rId5"/>
          <a:stretch/>
        </p:blipFill>
        <p:spPr>
          <a:xfrm>
            <a:off x="4284720" y="4437000"/>
            <a:ext cx="4637160" cy="120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pr27#44"/>
          <p:cNvPicPr/>
          <p:nvPr/>
        </p:nvPicPr>
        <p:blipFill>
          <a:blip r:embed="rId6"/>
          <a:stretch/>
        </p:blipFill>
        <p:spPr>
          <a:xfrm>
            <a:off x="6156360" y="1743120"/>
            <a:ext cx="2808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5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67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8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48:04Z</dcterms:created>
  <dc:creator>+</dc:creator>
  <dc:description/>
  <dc:language>en-US</dc:language>
  <cp:lastModifiedBy>Коля</cp:lastModifiedBy>
  <dcterms:modified xsi:type="dcterms:W3CDTF">2013-03-16T17:29:21Z</dcterms:modified>
  <cp:revision>8</cp:revision>
  <dc:subject/>
  <dc:title>Тема урока. «Среды обитания животных».</dc:title>
</cp:coreProperties>
</file>