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FF5-5C78-4342-AB64-19E7D0D1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1EA-9F3A-4074-9885-65AF3913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8CD-6EA0-4455-A64F-E92CF366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13C-43A4-4B7A-BFE9-4C4D6C06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E1B-A23D-448B-BA75-B6862015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DBB-E7E0-4D1C-AA25-2608C767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7B6-200E-44AB-9101-92401AA7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5B1-033A-4F13-AAFF-919E2887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F78-5CBF-4333-9E20-947A68AC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7E1-F39A-4AC7-9D39-C95B05D2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DE1-4879-4022-8E73-B43BCE1E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198-A575-4BD8-B568-3E149BEC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4502-B6D9-45D8-B0A8-2E25FDEE13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58;&#1040;&#1041;&#1051;&#1048;&#1062;&#1040;%201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8;&#1040;&#1041;&#1051;&#1048;&#1062;&#1040;%202.doc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8;&#1040;&#1041;&#1051;&#1048;&#1062;&#1040;%203.doc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8;&#1040;&#1041;&#1051;&#1048;&#1062;&#1040;%204.doc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99ff"/>
                </a:solidFill>
                <a:latin typeface="Tahoma"/>
              </a:rPr>
              <a:t>Тема урока.</a:t>
            </a:r>
            <a:br>
              <a:rPr sz="4000"/>
            </a:br>
            <a:r>
              <a:rPr b="0" lang="ru-RU" sz="4000" spc="-1" strike="noStrike">
                <a:solidFill>
                  <a:srgbClr val="ff00ff"/>
                </a:solidFill>
                <a:latin typeface="Tahoma"/>
              </a:rPr>
              <a:t>«Среды обитания животных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Apr17#37"/>
          <p:cNvPicPr/>
          <p:nvPr/>
        </p:nvPicPr>
        <p:blipFill>
          <a:blip r:embed="rId1"/>
          <a:stretch/>
        </p:blipFill>
        <p:spPr>
          <a:xfrm>
            <a:off x="971640" y="3357720"/>
            <a:ext cx="2303280" cy="165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Apr17#28"/>
          <p:cNvPicPr/>
          <p:nvPr/>
        </p:nvPicPr>
        <p:blipFill>
          <a:blip r:embed="rId2"/>
          <a:stretch/>
        </p:blipFill>
        <p:spPr>
          <a:xfrm>
            <a:off x="5435640" y="3284640"/>
            <a:ext cx="2521080" cy="183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pr17#29"/>
          <p:cNvPicPr/>
          <p:nvPr/>
        </p:nvPicPr>
        <p:blipFill>
          <a:blip r:embed="rId3"/>
          <a:stretch/>
        </p:blipFill>
        <p:spPr>
          <a:xfrm>
            <a:off x="5364000" y="476280"/>
            <a:ext cx="1657440" cy="12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Apr17#34"/>
          <p:cNvPicPr/>
          <p:nvPr/>
        </p:nvPicPr>
        <p:blipFill>
          <a:blip r:embed="rId4"/>
          <a:stretch/>
        </p:blipFill>
        <p:spPr>
          <a:xfrm>
            <a:off x="5364000" y="5229360"/>
            <a:ext cx="2772000" cy="87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Apr17#32"/>
          <p:cNvPicPr/>
          <p:nvPr/>
        </p:nvPicPr>
        <p:blipFill>
          <a:blip r:embed="rId5"/>
          <a:stretch/>
        </p:blipFill>
        <p:spPr>
          <a:xfrm>
            <a:off x="755640" y="5084640"/>
            <a:ext cx="280836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Apr17#39"/>
          <p:cNvPicPr/>
          <p:nvPr/>
        </p:nvPicPr>
        <p:blipFill>
          <a:blip r:embed="rId6"/>
          <a:stretch/>
        </p:blipFill>
        <p:spPr>
          <a:xfrm>
            <a:off x="0" y="260280"/>
            <a:ext cx="1900080" cy="208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Apr17#30"/>
          <p:cNvPicPr/>
          <p:nvPr/>
        </p:nvPicPr>
        <p:blipFill>
          <a:blip r:embed="rId7"/>
          <a:stretch/>
        </p:blipFill>
        <p:spPr>
          <a:xfrm>
            <a:off x="2124000" y="476280"/>
            <a:ext cx="1616040" cy="1168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Apr17#33"/>
          <p:cNvPicPr/>
          <p:nvPr/>
        </p:nvPicPr>
        <p:blipFill>
          <a:blip r:embed="rId8"/>
          <a:stretch/>
        </p:blipFill>
        <p:spPr>
          <a:xfrm>
            <a:off x="7246800" y="260280"/>
            <a:ext cx="18972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Какие утверждения верны?   Поставьте знак «+» или «-»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1.   Различают две среды обитания:  наземно  – воздушную и водну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2.   Чтобы легче было передвигаться в толще воды, большинство рыб имеют обтекаемую фор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ahoma"/>
              </a:rPr>
              <a:t>3    Крупные кенгуру совершают прыжки до 9 м, это помогает им лучше схватывать пищ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4.   Передние лапы этого животного плоские, как лоп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Тело овальное, компактное. Живёт это животное в воздушной сре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5.   Дельфины, как и водные жуки, поднимаются на поверхность   воды, захватывают воздух и опять ныряю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6.   Есть такие животные, которые поселяются в организме человека и вызывают различные заболеван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Tahoma"/>
              </a:rPr>
              <a:t>Проверка задани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68360" y="2060640"/>
            <a:ext cx="820728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    Различают две среды обитания:  наземно  – воздушную и   водну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+   </a:t>
            </a:r>
            <a:r>
              <a:rPr b="0" lang="ru-RU" sz="2000" spc="-1" strike="noStrike">
                <a:solidFill>
                  <a:srgbClr val="ffff66"/>
                </a:solidFill>
                <a:latin typeface="Tahoma"/>
              </a:rPr>
              <a:t>Чтобы легче было передвигаться в толще воды, большинство  рыб имеют обтекаемую фор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66ff33"/>
                </a:solidFill>
                <a:latin typeface="Tahoma"/>
              </a:rPr>
              <a:t>    Крупные кенгуру совершают прыжки до 9 м, это помогает им лучше схватывать пищ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     Передние лапы этого животного плоские, как лоп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99ff"/>
                </a:solidFill>
                <a:latin typeface="Tahoma"/>
              </a:rPr>
              <a:t>Тело овальное, компактное. Живёт это животное в воздушной сре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+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 Дельфины, как и водные жуки, поднимаются на поверхность   воды, захватывают воздух и опять ныряю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Tahoma"/>
              </a:rPr>
              <a:t>+  </a:t>
            </a:r>
            <a:r>
              <a:rPr b="0" lang="ru-RU" sz="2000" spc="-1" strike="noStrike">
                <a:solidFill>
                  <a:srgbClr val="99ff99"/>
                </a:solidFill>
                <a:latin typeface="Tahoma"/>
              </a:rPr>
              <a:t>Есть такие животные, которые поселяются в организме человека и вызывают различные заболевания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99"/>
                </a:solidFill>
                <a:latin typeface="Tahoma"/>
              </a:rPr>
              <a:t>По описанию узнай, о какой среде идёт речь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.   Эта среда довольно плотная, и в ней передвигаться нелегко. Зачастую в ней не хватает кислорода для дыхания животных. Обитатели этой среды часто имеют плавники как приспособления к движ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Tahoma"/>
              </a:rPr>
              <a:t>2.   Дом для животных, имеющих крылья. Лёгкая, неплотная сре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ahoma"/>
              </a:rPr>
              <a:t>3.   В эту среду проникает мало света. А на глубину и совсем не проник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Tahoma"/>
              </a:rPr>
              <a:t>4.   Ноги животных этой среды приспособлены к бегу, прыжк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5.   Эта среда может изменяться, расти, питаться, дышать, умирать, давать себе подобных.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74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cf700"/>
                </a:solidFill>
                <a:latin typeface="Tahoma"/>
              </a:rPr>
              <a:t>Проверка зад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1.   Вод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2.   Наземно – воздуш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cc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66cc"/>
                </a:solidFill>
                <a:latin typeface="Tahoma"/>
              </a:rPr>
              <a:t>3.   Почвен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66ff99"/>
                </a:solidFill>
                <a:latin typeface="Tahoma"/>
              </a:rPr>
              <a:t>4.   Наземно – воздушна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66"/>
                </a:solidFill>
                <a:latin typeface="Tahoma"/>
              </a:rPr>
              <a:t>5.   Организм человека и животных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6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6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6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Tahoma"/>
              </a:rPr>
              <a:t>ЗАДАЧ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Познакомить учащихся со средами обитания живот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Обучать решению простых экологических зада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Развить умение анализировать, высказывать свои мысли, обосновывать 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66"/>
                </a:solidFill>
                <a:latin typeface="Tahoma"/>
              </a:rPr>
              <a:t>Продолжить обучение работе в режиме диалога и полилог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Tahoma"/>
              </a:rPr>
              <a:t>ТАБЛИЦ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1628640"/>
          <a:ext cx="8640720" cy="4776840"/>
        </p:xfrm>
        <a:graphic>
          <a:graphicData uri="http://schemas.openxmlformats.org/drawingml/2006/table">
            <a:tbl>
              <a:tblPr/>
              <a:tblGrid>
                <a:gridCol w="2914560"/>
                <a:gridCol w="2584440"/>
                <a:gridCol w="31417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Название животных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Среда обит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испособления к обитанию в данной сред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Tahoma"/>
              </a:rPr>
              <a:t>Прочитайте текс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Эти птицы – чемпионы по скорости полёта среди птиц. Обычная для них скорость – 120 км/ч. Весной эти птицы прилетают поздно. Их прилёт означает наступление устойчивой тёплой пог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Это небольшие птицы. Клюв у них короткий, широкий. Крылья – длинные, заострённые. В полёте они бывают до 19 ч. В сутки – ловят насекомых. Ноги совсем маленькие, не приспособленные для хожд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О каких птицах идёт речь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В какой среде обитаю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Какие у них есть приспособления к обитанию в данной сре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Ответ – «стриж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ff"/>
                </a:solidFill>
                <a:latin typeface="Tahoma"/>
              </a:rPr>
              <a:t>Заполняетс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ТАБЛИЦА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Прочитайте  тек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Самое быстроногое из зверей. Развивает скорость до 110 км/ч, но довольно быстро устаёт. Если в течение минуты он не догоняет добычу, то прекращает погон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Какое это животно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В какой среде обитает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Какие у него приспособления к обитанию в данной сред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Ответ – «гепард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Заполняется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ТАБЛИЦА</a:t>
            </a: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.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Tahoma"/>
              </a:rPr>
              <a:t>Прочитайте  тек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Живя в этой среде, животные либо дышат жабрами, либо поднимаются к поверхности для вдоха. Животные, активно передвигающиеся в этой среде, имеют обтекаемую форму те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Какое это животно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В какой среде обита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Какие у него приспособления к обитанию в данной сред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Ответ – «дельфин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Заполняется 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ТАБЛИ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Прочитайте  тек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Среда обитания характеризуется тем, что она плотная. В ней обитатели находят воздух, воду. А вот свет сюда почти не проникает. Поэтому животные обычно имеют маленькие глаза или вовсе лишены органов зрения. Выручают их в жизни обоняние и осяз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Какое это животное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В какой среде обитае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Какие у него приспособления к обитанию в данной сре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Ответ – «кро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Заполняется 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ТАБЛИ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Tahoma"/>
              </a:rPr>
              <a:t>Игра по средам обитания» Кто здесь лишний?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Apr17#28"/>
          <p:cNvPicPr/>
          <p:nvPr/>
        </p:nvPicPr>
        <p:blipFill>
          <a:blip r:embed="rId1"/>
          <a:stretch/>
        </p:blipFill>
        <p:spPr>
          <a:xfrm>
            <a:off x="3132000" y="4221000"/>
            <a:ext cx="2376720" cy="194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Apr17#33"/>
          <p:cNvPicPr/>
          <p:nvPr/>
        </p:nvPicPr>
        <p:blipFill>
          <a:blip r:embed="rId2"/>
          <a:stretch/>
        </p:blipFill>
        <p:spPr>
          <a:xfrm>
            <a:off x="2771640" y="1844640"/>
            <a:ext cx="1708200" cy="18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Apr17#34"/>
          <p:cNvPicPr/>
          <p:nvPr/>
        </p:nvPicPr>
        <p:blipFill>
          <a:blip r:embed="rId3"/>
          <a:stretch/>
        </p:blipFill>
        <p:spPr>
          <a:xfrm>
            <a:off x="5580000" y="5373720"/>
            <a:ext cx="3564000" cy="102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Apr17#39"/>
          <p:cNvPicPr/>
          <p:nvPr/>
        </p:nvPicPr>
        <p:blipFill>
          <a:blip r:embed="rId4"/>
          <a:stretch/>
        </p:blipFill>
        <p:spPr>
          <a:xfrm>
            <a:off x="1116000" y="1844640"/>
            <a:ext cx="1459080" cy="194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pr27#41"/>
          <p:cNvPicPr/>
          <p:nvPr/>
        </p:nvPicPr>
        <p:blipFill>
          <a:blip r:embed="rId5"/>
          <a:stretch/>
        </p:blipFill>
        <p:spPr>
          <a:xfrm>
            <a:off x="5580000" y="4221000"/>
            <a:ext cx="3564000" cy="924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Apr27#42"/>
          <p:cNvPicPr/>
          <p:nvPr/>
        </p:nvPicPr>
        <p:blipFill>
          <a:blip r:embed="rId6"/>
          <a:stretch/>
        </p:blipFill>
        <p:spPr>
          <a:xfrm>
            <a:off x="900000" y="4221000"/>
            <a:ext cx="2148120" cy="193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Apr27#43"/>
          <p:cNvPicPr/>
          <p:nvPr/>
        </p:nvPicPr>
        <p:blipFill>
          <a:blip r:embed="rId7"/>
          <a:stretch/>
        </p:blipFill>
        <p:spPr>
          <a:xfrm>
            <a:off x="4572000" y="1844640"/>
            <a:ext cx="2087640" cy="1903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pr27#44"/>
          <p:cNvPicPr/>
          <p:nvPr/>
        </p:nvPicPr>
        <p:blipFill>
          <a:blip r:embed="rId8"/>
          <a:stretch/>
        </p:blipFill>
        <p:spPr>
          <a:xfrm>
            <a:off x="6732720" y="1844640"/>
            <a:ext cx="216036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2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3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3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3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3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3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Tahoma"/>
              </a:rPr>
              <a:t>Проверка  зад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cc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Apr17#28"/>
          <p:cNvPicPr/>
          <p:nvPr/>
        </p:nvPicPr>
        <p:blipFill>
          <a:blip r:embed="rId1"/>
          <a:stretch/>
        </p:blipFill>
        <p:spPr>
          <a:xfrm>
            <a:off x="900000" y="4462560"/>
            <a:ext cx="3311640" cy="2154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Apr17#33"/>
          <p:cNvPicPr/>
          <p:nvPr/>
        </p:nvPicPr>
        <p:blipFill>
          <a:blip r:embed="rId2"/>
          <a:stretch/>
        </p:blipFill>
        <p:spPr>
          <a:xfrm>
            <a:off x="3780000" y="1773360"/>
            <a:ext cx="2224080" cy="2436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Apr17#34"/>
          <p:cNvPicPr/>
          <p:nvPr/>
        </p:nvPicPr>
        <p:blipFill>
          <a:blip r:embed="rId3"/>
          <a:stretch/>
        </p:blipFill>
        <p:spPr>
          <a:xfrm>
            <a:off x="5076720" y="5756400"/>
            <a:ext cx="3816360" cy="110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Apr17#39"/>
          <p:cNvPicPr/>
          <p:nvPr/>
        </p:nvPicPr>
        <p:blipFill>
          <a:blip r:embed="rId4"/>
          <a:stretch/>
        </p:blipFill>
        <p:spPr>
          <a:xfrm>
            <a:off x="1403280" y="1773360"/>
            <a:ext cx="2089080" cy="24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Apr27#41"/>
          <p:cNvPicPr/>
          <p:nvPr/>
        </p:nvPicPr>
        <p:blipFill>
          <a:blip r:embed="rId5"/>
          <a:stretch/>
        </p:blipFill>
        <p:spPr>
          <a:xfrm>
            <a:off x="4284720" y="4437000"/>
            <a:ext cx="4637160" cy="1203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Apr27#44"/>
          <p:cNvPicPr/>
          <p:nvPr/>
        </p:nvPicPr>
        <p:blipFill>
          <a:blip r:embed="rId6"/>
          <a:stretch/>
        </p:blipFill>
        <p:spPr>
          <a:xfrm>
            <a:off x="6156360" y="1743120"/>
            <a:ext cx="28083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6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6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6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47" dur="1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56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57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66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67" dur="1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7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7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86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87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496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497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3:48:04Z</dcterms:created>
  <dc:creator>+</dc:creator>
  <dc:description/>
  <dc:language>en-US</dc:language>
  <cp:lastModifiedBy>Коля</cp:lastModifiedBy>
  <dcterms:modified xsi:type="dcterms:W3CDTF">2013-03-16T17:29:21Z</dcterms:modified>
  <cp:revision>8</cp:revision>
  <dc:subject/>
  <dc:title>Тема урока. «Среды обитания животных».</dc:title>
</cp:coreProperties>
</file>