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4F4C-1F0C-4711-AF7C-1CBEDC6B2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D596-2117-45AC-9848-103F7C11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AB15-6FAA-40FC-B8B3-C0EB5EFFA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B790-2C03-406C-B4F0-F7937F268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D6BC-463E-41C7-95C0-F834AA69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FC63-C4A9-43B6-B4D1-92CF3762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05A4-ECD0-4016-9100-28923F4D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326A-EA74-449F-A8C3-97C25CB7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A723-9207-4614-A1FF-95FC659C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459A-DF96-4BBD-B673-40F0B9F4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03EF-7F12-4831-B8FC-329FFF2E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F503-EA34-40B3-9687-5505B362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5B24-AB98-4235-84FF-565E974AE5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3300"/>
                </a:solidFill>
                <a:latin typeface="Times New Roman"/>
              </a:rPr>
              <a:t>Стрелковое</a:t>
            </a:r>
            <a:r>
              <a:rPr b="0" i="1" lang="ru-RU" sz="7200" spc="-1" strike="noStrike">
                <a:solidFill>
                  <a:srgbClr val="ff3300"/>
                </a:solidFill>
                <a:latin typeface="Times New Roman"/>
              </a:rPr>
              <a:t> оружие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08360" y="3716280"/>
            <a:ext cx="211464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вольвер «Уэбли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92360" y="2062080"/>
            <a:ext cx="59040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597708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вольвер «Бульдог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6121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84360" y="14842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елковое оружие русской армии ( 1812 г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627280" y="1494000"/>
            <a:ext cx="385920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92360" y="2852640"/>
            <a:ext cx="5184720" cy="14004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ркебу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днозарядные винтов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08000" y="1944720"/>
            <a:ext cx="56167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Мушкет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031840" y="2133720"/>
            <a:ext cx="5080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релковое оружие для ох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190600" y="225252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оружение русских солда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 время «Второй мировой» у русских солдат было три варианта вооружения. Это : Винтовка Мосина, ППШ 41 и пистолет ТТ ( Тульский Токарев 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Пистолеты и револьве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261000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48320" y="2876400"/>
            <a:ext cx="38098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истолет-пулемет ППШ 4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59436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втомат Калашнико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вестный автомат во всем мире это «Калашников». Автомат «Калашникова» был разработан на базе немецкого автомата «МП 44» в 1949 год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867280" cy="44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пец-автомат«ВЛА»и«Винторез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4692600" cy="35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вольвер «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unter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56000" y="2349360"/>
            <a:ext cx="452412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Современное оруж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Шестиствольный пистоле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25560" y="1981080"/>
            <a:ext cx="5492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днозарядные пистоле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31840" y="2133720"/>
            <a:ext cx="5080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дни из первых револьверов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79800" y="1981080"/>
            <a:ext cx="4784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рманные пистоле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340000" y="2421000"/>
            <a:ext cx="453564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ушкето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05080" y="2238480"/>
            <a:ext cx="27338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431820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132000" y="836640"/>
            <a:ext cx="3375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М</cp:lastModifiedBy>
  <dcterms:modified xsi:type="dcterms:W3CDTF">2009-01-16T15:32:44Z</dcterms:modified>
  <cp:revision>9</cp:revision>
  <dc:subject/>
  <dc:title>PowerPoint Presentation</dc:title>
</cp:coreProperties>
</file>