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B39-DE07-4178-8B8D-62DDD968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910-8C30-4817-BC48-0233B2E0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AC3-260B-40D9-9249-3EB0AB44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0B1-8555-4C93-9127-309D8319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A03-DB42-43AD-92E0-5EB2983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D6D-3A6B-44EF-B2F7-0D4213E4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815-3AE6-4154-89B8-01B9EF5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B75-C989-48FD-A6F0-2164E64B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DA7-9925-479C-88F2-239D0D0C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463-D763-4944-AA73-84E8DF6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6D4-FE4B-479D-86C9-A07D2C85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668-B37B-4672-92C5-09555DB2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D7E0-56C4-43DE-AB88-371170823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3300"/>
                </a:solidFill>
                <a:latin typeface="Times New Roman"/>
              </a:rPr>
              <a:t>Стрелковое</a:t>
            </a:r>
            <a:r>
              <a:rPr b="0" i="1" lang="ru-RU" sz="7200" spc="-1" strike="noStrike">
                <a:solidFill>
                  <a:srgbClr val="ff3300"/>
                </a:solidFill>
                <a:latin typeface="Times New Roman"/>
              </a:rPr>
              <a:t> оружи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3716280"/>
            <a:ext cx="2114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Уэбл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2062080"/>
            <a:ext cx="5904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97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Бульдог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121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лковое оружие русской армии ( 1812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1494000"/>
            <a:ext cx="38592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5184720" cy="1400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ркебу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днозарядные винт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8000" y="1944720"/>
            <a:ext cx="5616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ушкет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31840" y="213372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елковое оружие для ох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оружение русских солда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 время «Второй мировой» у русских солдат было три варианта вооружения. Это : Винтовка Мосина, ППШ 41 и пистолет ТТ ( Тульский Токарев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столеты и револьв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8320" y="2876400"/>
            <a:ext cx="380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истолет-пулемет ППШ 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943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втомат Калашник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вестный автомат во всем мире это «Калашников». Автомат «Калашникова» был разработан на базе немецкого автомата «МП 44» в 1949 год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ец-автомат«ВЛА»и«Винторез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6926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вольвер «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5241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овременное оруж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естиствольный пистоле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549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днозарядные пистол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31840" y="213372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дни из первых револьверов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рманные пистол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53564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шкето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5080" y="2238480"/>
            <a:ext cx="27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3182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3375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</cp:lastModifiedBy>
  <dcterms:modified xsi:type="dcterms:W3CDTF">2009-01-16T15:32:44Z</dcterms:modified>
  <cp:revision>9</cp:revision>
  <dc:subject/>
  <dc:title>PowerPoint Presentation</dc:title>
</cp:coreProperties>
</file>