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9AE-8D15-43A5-9EAB-B313C3F1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58A-1734-4AE3-8F49-E34B641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46F-8B34-4BEA-88B2-9993CBAD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313-495E-43CA-A830-C165A45C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B8F-982F-4435-97CA-2FE39A74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688-676A-4503-AE8A-2D27A00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9A3-529F-4937-BDB1-48212F26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A70-CBC8-49C9-93AD-004E8008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13B-5BF3-4B4C-9D44-0E31832C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873-293F-4C57-A720-58A3607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E7C-E229-4807-8BD1-1686708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DA8-1FA6-4E18-81A7-0891DC72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AAED-50ED-4EE0-A133-42E898DAD0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620640"/>
            <a:ext cx="748836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описание гла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я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аже под ударе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7" descr="b37"/>
          <p:cNvPicPr/>
          <p:nvPr/>
        </p:nvPicPr>
        <p:blipFill>
          <a:blip r:embed="rId1"/>
          <a:stretch/>
        </p:blipFill>
        <p:spPr>
          <a:xfrm>
            <a:off x="6372360" y="421164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42960" y="285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унева Г.Н. МОУ СОШ №47 г.Бел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" dur="184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" dur="1845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9" dur="1845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0"/>
          <p:cNvSpPr/>
          <p:nvPr/>
        </p:nvSpPr>
        <p:spPr>
          <a:xfrm>
            <a:off x="179280" y="2421000"/>
            <a:ext cx="4032360" cy="863640"/>
          </a:xfrm>
          <a:prstGeom prst="flowChartTerminator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шем, что слыш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ж, ен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4140360" y="2997360"/>
            <a:ext cx="4643280" cy="936360"/>
          </a:xfrm>
          <a:prstGeom prst="flowChartTerminator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согласного или 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2195640" y="4581360"/>
            <a:ext cx="2232000" cy="10083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ц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411280" y="1268280"/>
            <a:ext cx="4824720" cy="7905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Это первая буква корн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843280" y="333360"/>
            <a:ext cx="3816360" cy="719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 или е в кор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79280" y="285264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8101080" y="5589720"/>
            <a:ext cx="718920" cy="936360"/>
          </a:xfrm>
          <a:custGeom>
            <a:avLst/>
            <a:gdLst>
              <a:gd name="textAreaLeft" fmla="*/ 296280 w 718920"/>
              <a:gd name="textAreaRight" fmla="*/ 422640 w 71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7777080" y="0"/>
            <a:ext cx="1366920" cy="1440000"/>
          </a:xfrm>
          <a:custGeom>
            <a:avLst/>
            <a:gdLst>
              <a:gd name="textAreaLeft" fmla="*/ 563040 w 1366920"/>
              <a:gd name="textAreaRight" fmla="*/ 803880 w 1366920"/>
              <a:gd name="textAreaTop" fmla="*/ 593280 h 1440000"/>
              <a:gd name="textAreaBottom" fmla="*/ 846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1332000" y="0"/>
            <a:ext cx="1224000" cy="141300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82120 h 1413000"/>
              <a:gd name="textAreaBottom" fmla="*/ 8308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2123640" y="1989000"/>
            <a:ext cx="86364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23"/>
          <p:cNvSpPr txBox="1"/>
          <p:nvPr/>
        </p:nvSpPr>
        <p:spPr>
          <a:xfrm>
            <a:off x="1042920" y="1844640"/>
            <a:ext cx="52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084720" y="2060640"/>
            <a:ext cx="574920" cy="936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6732720" y="2421000"/>
            <a:ext cx="66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Line 26"/>
          <p:cNvSpPr/>
          <p:nvPr/>
        </p:nvSpPr>
        <p:spPr>
          <a:xfrm flipH="1">
            <a:off x="3492000" y="3789360"/>
            <a:ext cx="792360" cy="649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2843280" y="3933720"/>
            <a:ext cx="52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Line 28"/>
          <p:cNvSpPr/>
          <p:nvPr/>
        </p:nvSpPr>
        <p:spPr>
          <a:xfrm>
            <a:off x="6588000" y="4005360"/>
            <a:ext cx="505080" cy="863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29"/>
          <p:cNvSpPr txBox="1"/>
          <p:nvPr/>
        </p:nvSpPr>
        <p:spPr>
          <a:xfrm>
            <a:off x="7451640" y="4221000"/>
            <a:ext cx="66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6084720" y="4941720"/>
            <a:ext cx="2195640" cy="10083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1" descr="AG00317"/>
          <p:cNvPicPr/>
          <p:nvPr/>
        </p:nvPicPr>
        <p:blipFill>
          <a:blip r:embed="rId2"/>
          <a:stretch/>
        </p:blipFill>
        <p:spPr>
          <a:xfrm>
            <a:off x="250920" y="3933720"/>
            <a:ext cx="20192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0"/>
          <p:cNvSpPr/>
          <p:nvPr/>
        </p:nvSpPr>
        <p:spPr>
          <a:xfrm>
            <a:off x="2556000" y="1989000"/>
            <a:ext cx="4032000" cy="863640"/>
          </a:xfrm>
          <a:prstGeom prst="flowChartTerminator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ух…тажный гара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050920" y="2924280"/>
            <a:ext cx="4967280" cy="936360"/>
          </a:xfrm>
          <a:prstGeom prst="flowChartTermina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тольный т…н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619280" y="3933720"/>
            <a:ext cx="5977080" cy="10080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ироко…кранный филь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1187280" y="5013360"/>
            <a:ext cx="6767640" cy="1008000"/>
          </a:xfrm>
          <a:prstGeom prst="flowChartTerminator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й муз…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3203640" y="1125360"/>
            <a:ext cx="2663640" cy="7909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о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780000" y="333360"/>
            <a:ext cx="1441440" cy="719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14200" y="364320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8101080" y="5589720"/>
            <a:ext cx="718920" cy="936360"/>
          </a:xfrm>
          <a:custGeom>
            <a:avLst/>
            <a:gdLst>
              <a:gd name="textAreaLeft" fmla="*/ 296280 w 718920"/>
              <a:gd name="textAreaRight" fmla="*/ 422640 w 71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620640"/>
            <a:ext cx="1366920" cy="1440000"/>
          </a:xfrm>
          <a:custGeom>
            <a:avLst/>
            <a:gdLst>
              <a:gd name="textAreaLeft" fmla="*/ 563040 w 1366920"/>
              <a:gd name="textAreaRight" fmla="*/ 803880 w 1366920"/>
              <a:gd name="textAreaTop" fmla="*/ 593280 h 1440000"/>
              <a:gd name="textAreaBottom" fmla="*/ 846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785880" y="1214280"/>
            <a:ext cx="1224000" cy="141300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82120 h 1413000"/>
              <a:gd name="textAreaBottom" fmla="*/ 8308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Прямоугольник 12" descr=""/>
          <p:cNvPicPr/>
          <p:nvPr/>
        </p:nvPicPr>
        <p:blipFill>
          <a:blip r:embed="rId1"/>
          <a:stretch/>
        </p:blipFill>
        <p:spPr>
          <a:xfrm>
            <a:off x="-30240" y="-60480"/>
            <a:ext cx="3979800" cy="118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1375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сные после шипящ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619280" y="1628640"/>
            <a:ext cx="431640" cy="1368720"/>
          </a:xfrm>
          <a:prstGeom prst="downArrow">
            <a:avLst>
              <a:gd name="adj1" fmla="val 50000"/>
              <a:gd name="adj2" fmla="val 7927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211640" y="1557360"/>
            <a:ext cx="431640" cy="1368360"/>
          </a:xfrm>
          <a:prstGeom prst="downArrow">
            <a:avLst>
              <a:gd name="adj1" fmla="val 50000"/>
              <a:gd name="adj2" fmla="val 792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164360" y="1557360"/>
            <a:ext cx="432000" cy="1368360"/>
          </a:xfrm>
          <a:prstGeom prst="downArrow">
            <a:avLst>
              <a:gd name="adj1" fmla="val 50000"/>
              <a:gd name="adj2" fmla="val 7918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61128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334800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615636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9"/>
          <p:cNvSpPr/>
          <p:nvPr/>
        </p:nvSpPr>
        <p:spPr>
          <a:xfrm>
            <a:off x="3635280" y="2565360"/>
            <a:ext cx="2881440" cy="1943280"/>
          </a:xfrm>
          <a:prstGeom prst="flowChartConnector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3936600">
            <a:off x="3152880" y="842760"/>
            <a:ext cx="2912760" cy="1224000"/>
          </a:xfrm>
          <a:custGeom>
            <a:avLst/>
            <a:gdLst>
              <a:gd name="textAreaLeft" fmla="*/ 0 w 2912760"/>
              <a:gd name="textAreaRight" fmla="*/ 2913120 w 29127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>
              <a:alpha val="9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 rot="9615600">
            <a:off x="6197400" y="2109600"/>
            <a:ext cx="2906640" cy="1427040"/>
          </a:xfrm>
          <a:custGeom>
            <a:avLst/>
            <a:gdLst>
              <a:gd name="textAreaLeft" fmla="*/ 0 w 2906640"/>
              <a:gd name="textAreaRight" fmla="*/ 2907000 w 290664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7" y="0"/>
                </a:lnTo>
                <a:lnTo>
                  <a:pt x="21600" y="10800"/>
                </a:lnTo>
                <a:lnTo>
                  <a:pt x="17317" y="21600"/>
                </a:lnTo>
                <a:lnTo>
                  <a:pt x="0" y="21600"/>
                </a:lnTo>
                <a:lnTo>
                  <a:pt x="4283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 rot="18913200">
            <a:off x="1446120" y="4500360"/>
            <a:ext cx="3168720" cy="122364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 rot="20238000">
            <a:off x="6443280" y="249228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18"/>
          <p:cNvSpPr txBox="1"/>
          <p:nvPr/>
        </p:nvSpPr>
        <p:spPr>
          <a:xfrm rot="18885600">
            <a:off x="2051280" y="4725360"/>
            <a:ext cx="218124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19"/>
          <p:cNvSpPr txBox="1"/>
          <p:nvPr/>
        </p:nvSpPr>
        <p:spPr>
          <a:xfrm rot="3949200">
            <a:off x="3492000" y="134136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20"/>
          <p:cNvSpPr txBox="1"/>
          <p:nvPr/>
        </p:nvSpPr>
        <p:spPr>
          <a:xfrm>
            <a:off x="3995640" y="3141720"/>
            <a:ext cx="21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, ш, ч, 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093080" y="4005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23"/>
          <p:cNvSpPr txBox="1"/>
          <p:nvPr/>
        </p:nvSpPr>
        <p:spPr>
          <a:xfrm>
            <a:off x="3851280" y="4581360"/>
            <a:ext cx="2800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сключение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508720" y="404640"/>
            <a:ext cx="20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ж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4067280" y="5373720"/>
            <a:ext cx="244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ж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1403280" y="299736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щ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9" descr="9"/>
          <p:cNvPicPr/>
          <p:nvPr/>
        </p:nvPicPr>
        <p:blipFill>
          <a:blip r:embed="rId1"/>
          <a:stretch/>
        </p:blipFill>
        <p:spPr>
          <a:xfrm>
            <a:off x="179280" y="250920"/>
            <a:ext cx="338472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400"/>
                            </p:stCondLst>
                            <p:childTnLst>
                              <p:par>
                                <p:cTn id="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4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7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7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9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25b128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900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или ё после шипящ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удар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00720" y="2205000"/>
            <a:ext cx="1295280" cy="144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1979280" y="2205000"/>
            <a:ext cx="252108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1403280" y="2276640"/>
            <a:ext cx="37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940360" y="227664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516720" y="220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удар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084720" y="2637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5003640" y="2997360"/>
            <a:ext cx="12002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рн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3058920" y="3357720"/>
            <a:ext cx="216036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5219640" y="3357720"/>
            <a:ext cx="122400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2556000" y="3573360"/>
            <a:ext cx="379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9"/>
          <p:cNvSpPr txBox="1"/>
          <p:nvPr/>
        </p:nvSpPr>
        <p:spPr>
          <a:xfrm>
            <a:off x="6443640" y="357336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2771640" y="393372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619280" y="2637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6372360" y="393372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4066920" y="5013360"/>
            <a:ext cx="216036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6156360" y="5013360"/>
            <a:ext cx="115236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4859280" y="4221000"/>
            <a:ext cx="3314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О ДЕЙСТВ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ЛИ ЕГО РЕЗУЛЬТАТ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26"/>
          <p:cNvSpPr txBox="1"/>
          <p:nvPr/>
        </p:nvSpPr>
        <p:spPr>
          <a:xfrm>
            <a:off x="3708360" y="5013360"/>
            <a:ext cx="37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7524720" y="551664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3924360" y="5445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29"/>
          <p:cNvSpPr txBox="1"/>
          <p:nvPr/>
        </p:nvSpPr>
        <p:spPr>
          <a:xfrm>
            <a:off x="7308720" y="515772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WordArt 30"/>
          <p:cNvSpPr txBox="1"/>
          <p:nvPr/>
        </p:nvSpPr>
        <p:spPr>
          <a:xfrm>
            <a:off x="3564000" y="5877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31"/>
          <p:cNvSpPr txBox="1"/>
          <p:nvPr/>
        </p:nvSpPr>
        <p:spPr>
          <a:xfrm>
            <a:off x="2411280" y="4214880"/>
            <a:ext cx="4320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32"/>
          <p:cNvSpPr txBox="1"/>
          <p:nvPr/>
        </p:nvSpPr>
        <p:spPr>
          <a:xfrm>
            <a:off x="7380360" y="5950080"/>
            <a:ext cx="352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Text Box 33"/>
          <p:cNvSpPr/>
          <p:nvPr/>
        </p:nvSpPr>
        <p:spPr>
          <a:xfrm flipH="1">
            <a:off x="3059280" y="4292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WordArt 34"/>
          <p:cNvSpPr txBox="1"/>
          <p:nvPr/>
        </p:nvSpPr>
        <p:spPr>
          <a:xfrm>
            <a:off x="1403280" y="2997360"/>
            <a:ext cx="257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6300720" y="6165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2627280" y="623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37"/>
          <p:cNvSpPr/>
          <p:nvPr/>
        </p:nvSpPr>
        <p:spPr>
          <a:xfrm>
            <a:off x="250920" y="3429000"/>
            <a:ext cx="1800000" cy="1728720"/>
          </a:xfrm>
          <a:prstGeom prst="foldedCorner">
            <a:avLst>
              <a:gd name="adj" fmla="val 2231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395280" y="3429000"/>
            <a:ext cx="151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нглё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т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9"/>
          <p:cNvSpPr/>
          <p:nvPr/>
        </p:nvSpPr>
        <p:spPr>
          <a:xfrm>
            <a:off x="1835280" y="472428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1835280" y="47242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в,шок,шорохкрюшон,шомпол капюшон мажор ш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6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6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1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1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6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1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62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12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62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12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2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12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62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62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72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22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972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22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22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272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22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72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422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72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22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72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622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72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187280" y="2349360"/>
            <a:ext cx="68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сные после 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 rot="5400000">
            <a:off x="1439280" y="-134640"/>
            <a:ext cx="2232000" cy="2879640"/>
          </a:xfrm>
          <a:prstGeom prst="rightArrowCallout">
            <a:avLst>
              <a:gd name="adj1" fmla="val 32257"/>
              <a:gd name="adj2" fmla="val 32254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или 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 rot="5400000">
            <a:off x="5255640" y="-134640"/>
            <a:ext cx="2232000" cy="2879640"/>
          </a:xfrm>
          <a:prstGeom prst="rightArrowCallout">
            <a:avLst>
              <a:gd name="adj1" fmla="val 32257"/>
              <a:gd name="adj2" fmla="val 32254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Ы или И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059280" y="3716280"/>
            <a:ext cx="2952720" cy="2448000"/>
          </a:xfrm>
          <a:prstGeom prst="upArrowCallout">
            <a:avLst>
              <a:gd name="adj1" fmla="val 30157"/>
              <a:gd name="adj2" fmla="val 30154"/>
              <a:gd name="adj3" fmla="val 16667"/>
              <a:gd name="adj4" fmla="val 6666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 или 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2" descr="18m5"/>
          <p:cNvPicPr/>
          <p:nvPr/>
        </p:nvPicPr>
        <p:blipFill>
          <a:blip r:embed="rId2"/>
          <a:stretch/>
        </p:blipFill>
        <p:spPr>
          <a:xfrm>
            <a:off x="6300720" y="3379680"/>
            <a:ext cx="2843280" cy="2764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e491"/>
            </a:gs>
            <a:gs pos="50000">
              <a:srgbClr val="33cc33"/>
            </a:gs>
            <a:gs pos="100000">
              <a:srgbClr val="91e4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3059280" y="0"/>
            <a:ext cx="3392280" cy="1838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или 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nt"/>
          <p:cNvSpPr/>
          <p:nvPr/>
        </p:nvSpPr>
        <p:spPr>
          <a:xfrm>
            <a:off x="3780000" y="5553000"/>
            <a:ext cx="1449360" cy="1305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nt"/>
          <p:cNvSpPr/>
          <p:nvPr/>
        </p:nvSpPr>
        <p:spPr>
          <a:xfrm rot="2131800">
            <a:off x="6516720" y="4941720"/>
            <a:ext cx="1809720" cy="1810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076720" y="115920"/>
            <a:ext cx="3889440" cy="34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067280" y="4653000"/>
            <a:ext cx="2592360" cy="201600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ударением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6948360" y="4437000"/>
            <a:ext cx="2195640" cy="2016360"/>
          </a:xfrm>
          <a:custGeom>
            <a:avLst/>
            <a:gdLst>
              <a:gd name="textAreaLeft" fmla="*/ 501120 w 2195640"/>
              <a:gd name="textAreaRight" fmla="*/ 1694520 w 2195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ударения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 rot="3894000">
            <a:off x="7019640" y="3573720"/>
            <a:ext cx="2089080" cy="215640"/>
          </a:xfrm>
          <a:prstGeom prst="rightArrow">
            <a:avLst>
              <a:gd name="adj1" fmla="val 50000"/>
              <a:gd name="adj2" fmla="val 24219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7188000">
            <a:off x="4320360" y="3824640"/>
            <a:ext cx="3024000" cy="2160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928800" y="1052640"/>
            <a:ext cx="3286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тен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ль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ьме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еяль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ц…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j0301252"/>
          <p:cNvPicPr/>
          <p:nvPr/>
        </p:nvPicPr>
        <p:blipFill>
          <a:blip r:embed="rId1"/>
          <a:stretch/>
        </p:blipFill>
        <p:spPr>
          <a:xfrm>
            <a:off x="4356000" y="278136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 flipH="1">
            <a:off x="4139640" y="333360"/>
            <a:ext cx="3168360" cy="2160720"/>
          </a:xfrm>
          <a:prstGeom prst="cloudCallout">
            <a:avLst>
              <a:gd name="adj1" fmla="val -58819"/>
              <a:gd name="adj2" fmla="val 69981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 или 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Ц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3851280" y="3068640"/>
            <a:ext cx="2230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олько 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5280" y="765000"/>
            <a:ext cx="3384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нтр 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нтн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рков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 rot="4844400">
            <a:off x="103320" y="3924360"/>
            <a:ext cx="5170320" cy="696960"/>
          </a:xfrm>
          <a:prstGeom prst="leftArrow">
            <a:avLst>
              <a:gd name="adj1" fmla="val 50000"/>
              <a:gd name="adj2" fmla="val 185460"/>
            </a:avLst>
          </a:prstGeom>
          <a:gradFill rotWithShape="0">
            <a:gsLst>
              <a:gs pos="0">
                <a:srgbClr val="ffff99"/>
              </a:gs>
              <a:gs pos="50000">
                <a:srgbClr val="ed0b05"/>
              </a:gs>
              <a:gs pos="100000">
                <a:srgbClr val="ffff99"/>
              </a:gs>
            </a:gsLst>
            <a:lin ang="1945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конч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 rot="4881600">
            <a:off x="-1933920" y="3900960"/>
            <a:ext cx="5214960" cy="698400"/>
          </a:xfrm>
          <a:prstGeom prst="leftArrow">
            <a:avLst>
              <a:gd name="adj1" fmla="val 50000"/>
              <a:gd name="adj2" fmla="val 186675"/>
            </a:avLst>
          </a:prstGeom>
          <a:gradFill rotWithShape="0">
            <a:gsLst>
              <a:gs pos="0">
                <a:srgbClr val="f2ed13"/>
              </a:gs>
              <a:gs pos="50000">
                <a:srgbClr val="003399"/>
              </a:gs>
              <a:gs pos="100000">
                <a:srgbClr val="f2ed13"/>
              </a:gs>
            </a:gsLst>
            <a:lin ang="1942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 окончании (в середине сло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9"/>
          <p:cNvPicPr/>
          <p:nvPr/>
        </p:nvPicPr>
        <p:blipFill>
          <a:blip r:embed="rId2"/>
          <a:stretch/>
        </p:blipFill>
        <p:spPr>
          <a:xfrm>
            <a:off x="0" y="0"/>
            <a:ext cx="2484360" cy="1660680"/>
          </a:xfrm>
          <a:prstGeom prst="rect">
            <a:avLst/>
          </a:prstGeom>
          <a:ln w="0">
            <a:noFill/>
          </a:ln>
        </p:spPr>
      </p:pic>
      <p:sp>
        <p:nvSpPr>
          <p:cNvPr id="120" name="plant"/>
          <p:cNvSpPr/>
          <p:nvPr/>
        </p:nvSpPr>
        <p:spPr>
          <a:xfrm>
            <a:off x="2050920" y="0"/>
            <a:ext cx="1449360" cy="1305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780000" y="3068640"/>
            <a:ext cx="4032000" cy="3600360"/>
          </a:xfrm>
          <a:custGeom>
            <a:avLst/>
            <a:gdLst>
              <a:gd name="textAreaLeft" fmla="*/ 920520 w 4032000"/>
              <a:gd name="textAreaRight" fmla="*/ 3111480 w 4032000"/>
              <a:gd name="textAreaTop" fmla="*/ 821880 h 3600360"/>
              <a:gd name="textAreaBottom" fmla="*/ 277848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г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цыпочк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кн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плён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Цыц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5801600">
            <a:off x="3288240" y="1427760"/>
            <a:ext cx="3549600" cy="693720"/>
          </a:xfrm>
          <a:prstGeom prst="leftArrow">
            <a:avLst>
              <a:gd name="adj1" fmla="val 50000"/>
              <a:gd name="adj2" fmla="val 127919"/>
            </a:avLst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950"/>
                            </p:stCondLst>
                            <p:childTnLst>
                              <p:par>
                                <p:cTn id="4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8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750"/>
                            </p:stCondLst>
                            <p:childTnLst>
                              <p:par>
                                <p:cTn id="4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667440"/>
            <a:ext cx="660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ставьте: ы или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_пленок в ц_рке выступал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грал  на ц_мбалах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 мотоц_кле разъезжал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ц_фр он знал немало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н из ц_линдра доставал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рковь и огурц_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только одного не знал: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де И, а где же 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95280" y="260280"/>
            <a:ext cx="1297080" cy="136836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826920" y="3284640"/>
            <a:ext cx="649440" cy="720720"/>
          </a:xfrm>
          <a:custGeom>
            <a:avLst/>
            <a:gdLst>
              <a:gd name="textAreaLeft" fmla="*/ 267480 w 649440"/>
              <a:gd name="textAreaRight" fmla="*/ 381960 w 6494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95280" y="5300640"/>
            <a:ext cx="1224000" cy="129708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7740720" y="5300640"/>
            <a:ext cx="718920" cy="720720"/>
          </a:xfrm>
          <a:custGeom>
            <a:avLst/>
            <a:gdLst>
              <a:gd name="textAreaLeft" fmla="*/ 296280 w 718920"/>
              <a:gd name="textAreaRight" fmla="*/ 422640 w 7189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559640" y="2060640"/>
            <a:ext cx="1584360" cy="1800000"/>
          </a:xfrm>
          <a:custGeom>
            <a:avLst/>
            <a:gdLst>
              <a:gd name="textAreaLeft" fmla="*/ 652680 w 1584360"/>
              <a:gd name="textAreaRight" fmla="*/ 931680 w 1584360"/>
              <a:gd name="textAreaTop" fmla="*/ 741600 h 1800000"/>
              <a:gd name="textAreaBottom" fmla="*/ 10584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7956720" y="404640"/>
            <a:ext cx="936360" cy="863640"/>
          </a:xfrm>
          <a:custGeom>
            <a:avLst/>
            <a:gdLst>
              <a:gd name="textAreaLeft" fmla="*/ 385920 w 936360"/>
              <a:gd name="textAreaRight" fmla="*/ 550440 w 93636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31:31Z</dcterms:created>
  <dc:creator>Дина</dc:creator>
  <dc:description/>
  <dc:language>en-US</dc:language>
  <cp:lastModifiedBy>User</cp:lastModifiedBy>
  <dcterms:modified xsi:type="dcterms:W3CDTF">2008-12-08T05:13:01Z</dcterms:modified>
  <cp:revision>20</cp:revision>
  <dc:subject/>
  <dc:title>Слайд 1</dc:title>
</cp:coreProperties>
</file>