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9A25-47CD-4457-B045-630BAD6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429A-9B5F-49FF-80F3-E8767CF6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E08C-E513-4357-9754-E881ACF1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E1F-0168-42D1-950C-7F17DBF4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607B-5353-4BA0-B1C0-F8522AA8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484C-F107-4F43-88F8-ED96206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8C5-8206-447E-8761-8D1C3436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F625-94B9-4489-96B2-6E05A86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2EE4-B8A7-417C-BB89-2C28871E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A24-F745-4DAE-BDA5-DEFCF3C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6BF5-FDB7-471D-BF34-7C01C3E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04B7-36EB-4ED9-90EC-CA0CB01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4B9E-2E15-4032-8B2F-5EF57D9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5138-7479-4C23-9E96-4187C93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B2F6-9E8D-43AB-9490-6611408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8D68-B1E6-4924-8E14-D547FCC8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40D2-099E-46D5-AB8A-005730C9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A037-2AD4-4F7A-851C-4FFEED4D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1493F-E360-4DC2-A9F6-C016B40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FCF1-A7D1-4856-BB8A-86526DC8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D27B-46CA-4373-9647-7F5A30C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7B8B-813E-455F-9268-EC19E38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73FB-D224-4C0E-8652-80B427A0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3502-7A0E-4EC1-9330-1A8F618A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3D7F-033A-49BA-928B-0A78BB76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5051-1E3B-4660-A5C9-AE1CB48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3F66-7A4A-4B94-B6BB-587EFA32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D696-27D6-46E2-A10B-72FED5E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B4B5-95AA-45BA-8647-665C2E30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AD12-E9E9-4ACF-843D-3B581B86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5350-45B0-40AE-8E8D-D4B2964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9C4F-5A14-483A-A6D4-7D11D17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A5A8-0062-42FF-A407-22C98F0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6491-6413-48E9-A9C4-D60FB02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A384-BEA6-4E8C-B0FE-EC03491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5EA-E4E4-45E2-B809-48A7116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F498-5831-4BE4-AA30-4244C33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487A-ECD8-40B7-9625-E6972CE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69E3-5BA8-438F-AC79-49EB15D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54EA-DD69-4A91-BE7B-5A97A0A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C390-B722-47AF-9650-3C0C7A1E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46C2-8B63-42CB-A46E-80C3D332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A2AC-E6C1-481B-BDE4-F5BDD63C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080B-1324-44C7-A7C4-7C15230C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5EC1-288C-4DFC-95DD-090C5AD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C8585-DF48-4989-8C83-546B4902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7718-D314-425F-9800-6023ACB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88F3D-EDEE-401B-99D9-9B797BC9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8B8F-745D-45B3-9908-51F9C1E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D7C45-21F1-4D77-AF85-D440E5C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F8C8-1266-4F61-B84C-0960EE1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7A6C-0531-43A1-95D1-9A0964D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6B86-3F68-4750-9935-9ECEB32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33CE-B0FF-4E55-998F-4FC0613E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784F-DB2B-4475-8E1A-D3142AD7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4CA6-B42E-4074-9E13-B0353C8C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F909-BF70-4C79-A7E4-9658F3DF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80C0-BA0D-458B-8676-499F049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8BBAA-5837-4F34-B77E-5127E74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5B23A-FF73-4999-8BE2-DC3F45D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A262-CD57-4002-BB22-7F9B31CE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079E-6C4F-4156-9A56-1D8B70D7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8A4D-7E5C-4FB8-B733-48D041C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9746-28B9-4908-8B25-73EAA3A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EFFB-58D6-41AB-8F6A-6643FB5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0196-0999-42E8-B663-F814CD5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1345-7C14-4D38-90AF-D551568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9237-367C-46F3-889F-BD54D92F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D715-D613-4D40-9455-7635DBF4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CECC-49D0-4906-B9E5-972BD660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C0AC-0DBE-48C7-B514-E0BA4AB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112E7-35C7-4021-BA99-9856DEE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53C8C-C514-44F6-A636-9F6EB4B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AE6F-5625-4CFA-8161-53D4647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6670-CADF-4028-92BD-5868F46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350AC-5537-4FF2-898D-53F1DB2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8BD3-838C-496D-9501-C72E151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8A6A-0C0F-4C62-B3F7-CDE57E1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E172D-320D-47A8-80EE-78799CFC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85E6-46E4-469E-AD10-28A6AFB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10BF0-5CA4-48A8-9BDD-50C69A5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19D1-61C9-4916-86F0-1844BD51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D7ADB-3FB8-46BB-A2EC-6A2E0C0C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9391-0EC0-47F7-8B75-D9BC41A8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477D-BAB0-4D5C-83AA-A5313004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2574-831D-4575-8926-CEB7F98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09ED-F590-4AC5-9C25-4F2AEA3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FF035-D083-4E2B-A210-678F43B8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B0CD-92FF-4ECA-9E19-ECE38F0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31E9-615A-4E82-92E6-4477A87E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0FA9-6B8D-45E7-AB39-21DA8EE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E49B-4EBC-436B-B004-EACC372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28B8-6BF1-4D89-89C2-66276D9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2837-DBCF-4A48-99C2-3D97368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17AA-D160-4245-A80B-E1587B6A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519B-79EF-4223-81E2-4EC336D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1158-E656-4F8D-BF19-841A91CD8CA0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roup 6" descr=""/>
          <p:cNvPicPr/>
          <p:nvPr/>
        </p:nvPicPr>
        <p:blipFill>
          <a:blip r:embed="rId3"/>
          <a:stretch/>
        </p:blipFill>
        <p:spPr>
          <a:xfrm>
            <a:off x="676440" y="1146240"/>
            <a:ext cx="7797600" cy="9204120"/>
          </a:xfrm>
          <a:prstGeom prst="rect">
            <a:avLst/>
          </a:prstGeom>
          <a:ln w="0">
            <a:noFill/>
          </a:ln>
        </p:spPr>
      </p:pic>
      <p:pic>
        <p:nvPicPr>
          <p:cNvPr id="48" name="Straight Connector 10" descr=""/>
          <p:cNvPicPr/>
          <p:nvPr/>
        </p:nvPicPr>
        <p:blipFill>
          <a:blip r:embed="rId4"/>
          <a:stretch/>
        </p:blipFill>
        <p:spPr>
          <a:xfrm>
            <a:off x="2225520" y="3718080"/>
            <a:ext cx="469908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48A1-91F4-427E-A97F-9EF3B1FAA7E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1143000"/>
            <a:ext cx="7772400" cy="2743200"/>
            <a:chOff x="0" y="1143000"/>
            <a:chExt cx="7772400" cy="2743200"/>
          </a:xfrm>
        </p:grpSpPr>
        <p:sp>
          <p:nvSpPr>
            <p:cNvPr id="91" name="Rectangle 8"/>
            <p:cNvSpPr/>
            <p:nvPr/>
          </p:nvSpPr>
          <p:spPr>
            <a:xfrm>
              <a:off x="0" y="1143000"/>
              <a:ext cx="7772400" cy="27432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0" y="1371600"/>
              <a:ext cx="7543800" cy="2286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1600200"/>
              <a:ext cx="7315200" cy="1828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9525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282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200-6925-4BD5-BEB1-59DBB9A72BB6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36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pic>
        <p:nvPicPr>
          <p:cNvPr id="141" name="Straight Connector 9" descr=""/>
          <p:cNvPicPr/>
          <p:nvPr/>
        </p:nvPicPr>
        <p:blipFill>
          <a:blip r:embed="rId4"/>
          <a:stretch/>
        </p:blipFill>
        <p:spPr>
          <a:xfrm>
            <a:off x="2011320" y="2468520"/>
            <a:ext cx="6529320" cy="165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F50-7032-4AAA-B8A3-CD2DB3FFA9B0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oup 11" descr=""/>
          <p:cNvPicPr/>
          <p:nvPr/>
        </p:nvPicPr>
        <p:blipFill>
          <a:blip r:embed="rId3"/>
          <a:stretch/>
        </p:blipFill>
        <p:spPr>
          <a:xfrm>
            <a:off x="-12600" y="0"/>
            <a:ext cx="9169200" cy="12862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6E2F-1716-4162-A608-C986CE5F49CD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oup 7" descr=""/>
          <p:cNvPicPr/>
          <p:nvPr/>
        </p:nvPicPr>
        <p:blipFill>
          <a:blip r:embed="rId3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Connector 13" descr=""/>
          <p:cNvPicPr/>
          <p:nvPr/>
        </p:nvPicPr>
        <p:blipFill>
          <a:blip r:embed="rId4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E9FA-A561-4005-80F2-6CB89D4F6490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7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Straight Connector 18" descr=""/>
          <p:cNvPicPr/>
          <p:nvPr/>
        </p:nvPicPr>
        <p:blipFill>
          <a:blip r:embed="rId3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pic>
        <p:nvPicPr>
          <p:cNvPr id="271" name="Group 13" descr=""/>
          <p:cNvPicPr/>
          <p:nvPr/>
        </p:nvPicPr>
        <p:blipFill>
          <a:blip r:embed="rId4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79A-53E5-45EF-BC09-8786A7FD0CA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6"/>
          <p:cNvGrpSpPr/>
          <p:nvPr/>
        </p:nvGrpSpPr>
        <p:grpSpPr>
          <a:xfrm>
            <a:off x="0" y="1143000"/>
            <a:ext cx="7772400" cy="5715000"/>
            <a:chOff x="0" y="1143000"/>
            <a:chExt cx="7772400" cy="5715000"/>
          </a:xfrm>
        </p:grpSpPr>
        <p:sp>
          <p:nvSpPr>
            <p:cNvPr id="314" name="Rectangle 7"/>
            <p:cNvSpPr/>
            <p:nvPr/>
          </p:nvSpPr>
          <p:spPr>
            <a:xfrm>
              <a:off x="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2286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4572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0"/>
          <p:cNvSpPr/>
          <p:nvPr/>
        </p:nvSpPr>
        <p:spPr>
          <a:xfrm flipV="1">
            <a:off x="836604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Straight Connector 11" descr=""/>
          <p:cNvPicPr/>
          <p:nvPr/>
        </p:nvPicPr>
        <p:blipFill>
          <a:blip r:embed="rId3"/>
          <a:stretch/>
        </p:blipFill>
        <p:spPr>
          <a:xfrm>
            <a:off x="8278920" y="-60480"/>
            <a:ext cx="188640" cy="698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1811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568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EFA-92C9-4B99-ABB3-B96F2B27CED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pravmir.ru/aleksandr-nevskij-myslitel-filosof-strateg-svyatoj/" TargetMode="External"/><Relationship Id="rId4" Type="http://schemas.openxmlformats.org/officeDocument/2006/relationships/hyperlink" Target="http://fotki.yandex.ru/users/minaew-vasilij/view/494320/?page=0" TargetMode="External"/><Relationship Id="rId5" Type="http://schemas.openxmlformats.org/officeDocument/2006/relationships/hyperlink" Target="http://shkolazhizni.ru/archive/0/n-20834/" TargetMode="External"/><Relationship Id="rId6" Type="http://schemas.openxmlformats.org/officeDocument/2006/relationships/hyperlink" Target="http://www.olofmp3.ru/index.php/10-velikih-russkih-kompozitorov.-Chasty-2.html" TargetMode="External"/><Relationship Id="rId7" Type="http://schemas.openxmlformats.org/officeDocument/2006/relationships/hyperlink" Target="http://narodna.pravda.com.ua/rus/history/4f04d067cbc50/" TargetMode="External"/><Relationship Id="rId8" Type="http://schemas.openxmlformats.org/officeDocument/2006/relationships/hyperlink" Target="http://narodna.pravda.com.ua/rus/history/4f04d067cbc50/" TargetMode="External"/><Relationship Id="rId9" Type="http://schemas.openxmlformats.org/officeDocument/2006/relationships/hyperlink" Target="http://en.wikipedia.org/wiki/Ivan_Susanin" TargetMode="External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583000" y="1154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музыки, 3 клас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Е. Д. Критской, Г. П. Сергеевой, Т. С. Шмаг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996920" y="4508640"/>
            <a:ext cx="4789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Чиркунова Ольга Вячесла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Уршельская сош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ь-Хруст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Прямоугольник 4" descr=""/>
          <p:cNvPicPr/>
          <p:nvPr/>
        </p:nvPicPr>
        <p:blipFill>
          <a:blip r:embed="rId2"/>
          <a:stretch/>
        </p:blipFill>
        <p:spPr>
          <a:xfrm>
            <a:off x="1706400" y="2305080"/>
            <a:ext cx="57610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152280"/>
            <a:ext cx="9498240" cy="10731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468360" y="1413000"/>
            <a:ext cx="813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Программа «Музыка. Начальн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. Рабочая тетрадь» 3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». Учебник для  3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3"/>
              </a:rPr>
              <a:t>http://www.pravmir.ru/aleksandr-nevskij-myslitel-filosof-strateg-svyatoj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4"/>
              </a:rPr>
              <a:t>http://fotki.yandex.ru/users/minaew-vasilij/view/494320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5"/>
              </a:rPr>
              <a:t>http://shkolazhizni.ru/archive/0/n-208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6"/>
              </a:rPr>
              <a:t>http://www.olofmp3.ru/index.php/10-velikih-russkih-kompozitorov.-Chasty-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7"/>
              </a:rPr>
              <a:t>http://narodna.pravda.com.ua/rus/history/4f04d067cbc50</a:t>
            </a: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/wiki/Ivan_Susa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sbass.ru/vedern-foto-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s-vailjewa/view/355203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4" descr="nev.jpg"/>
          <p:cNvPicPr/>
          <p:nvPr/>
        </p:nvPicPr>
        <p:blipFill>
          <a:blip r:embed="rId2"/>
          <a:stretch/>
        </p:blipFill>
        <p:spPr>
          <a:xfrm>
            <a:off x="5219640" y="0"/>
            <a:ext cx="360684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3"/>
          <a:stretch/>
        </p:blipFill>
        <p:spPr>
          <a:xfrm>
            <a:off x="487440" y="4913280"/>
            <a:ext cx="4029120" cy="1974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http://img-fotki.yandex.ru/get/4712/99684303.1/0_78af0_e4088e54_XL"/>
          <p:cNvPicPr/>
          <p:nvPr/>
        </p:nvPicPr>
        <p:blipFill>
          <a:blip r:embed="rId4"/>
          <a:stretch/>
        </p:blipFill>
        <p:spPr>
          <a:xfrm>
            <a:off x="798480" y="631800"/>
            <a:ext cx="3595680" cy="42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3" descr=""/>
          <p:cNvPicPr/>
          <p:nvPr/>
        </p:nvPicPr>
        <p:blipFill>
          <a:blip r:embed="rId2"/>
          <a:stretch/>
        </p:blipFill>
        <p:spPr>
          <a:xfrm>
            <a:off x="3852720" y="622440"/>
            <a:ext cx="5572440" cy="13222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4" descr=""/>
          <p:cNvPicPr/>
          <p:nvPr/>
        </p:nvPicPr>
        <p:blipFill>
          <a:blip r:embed="rId3"/>
          <a:stretch/>
        </p:blipFill>
        <p:spPr>
          <a:xfrm>
            <a:off x="317520" y="3565440"/>
            <a:ext cx="5302080" cy="324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D:\РАЗНОЕ\СМАЙЛИКИ\Новая папка\Аним\2222368.gif"/>
          <p:cNvPicPr/>
          <p:nvPr/>
        </p:nvPicPr>
        <p:blipFill>
          <a:blip r:embed="rId4"/>
          <a:stretch/>
        </p:blipFill>
        <p:spPr>
          <a:xfrm>
            <a:off x="0" y="4211640"/>
            <a:ext cx="1154160" cy="2062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&amp;YUcy;. &amp;Pcy;&amp;acy;&amp;ncy;&amp;tcy;&amp;yucy;&amp;khcy;&amp;icy;&amp;ncy;. &amp;Acy;&amp;lcy;&amp;iecy;&amp;kcy;&amp;scy;&amp;acy;&amp;ncy;&amp;dcy;&amp;rcy; &amp;Ncy;&amp;iecy;&amp;vcy;&amp;scy;&amp;kcy;&amp;icy;&amp;jcy; "/>
          <p:cNvPicPr/>
          <p:nvPr/>
        </p:nvPicPr>
        <p:blipFill>
          <a:blip r:embed="rId5"/>
          <a:stretch/>
        </p:blipFill>
        <p:spPr>
          <a:xfrm>
            <a:off x="324000" y="446040"/>
            <a:ext cx="3848040" cy="3086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&amp;Scy;&amp;iecy;&amp;rcy;&amp;gcy;&amp;iecy;&amp;jcy; &amp;Scy;&amp;iecy;&amp;rcy;&amp;gcy;&amp;iecy;&amp;iecy;&amp;vcy;&amp;icy;&amp;chcy; &amp;Pcy;&amp;rcy;&amp;ocy;&amp;kcy;&amp;ocy;&amp;fcy;&amp;softcy;&amp;iecy;&amp;vcy;"/>
          <p:cNvPicPr/>
          <p:nvPr/>
        </p:nvPicPr>
        <p:blipFill>
          <a:blip r:embed="rId6"/>
          <a:stretch/>
        </p:blipFill>
        <p:spPr>
          <a:xfrm>
            <a:off x="5256360" y="1989000"/>
            <a:ext cx="3152520" cy="39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4" descr=""/>
          <p:cNvPicPr/>
          <p:nvPr/>
        </p:nvPicPr>
        <p:blipFill>
          <a:blip r:embed="rId2"/>
          <a:stretch/>
        </p:blipFill>
        <p:spPr>
          <a:xfrm>
            <a:off x="109440" y="49320"/>
            <a:ext cx="8974080" cy="11937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538200" y="1125360"/>
            <a:ext cx="83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Живым бойцам почёт и чес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 мёртвым - слава вечна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отчий дом, за русский кра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русск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0e752fcb2ed"/>
          <p:cNvPicPr/>
          <p:nvPr/>
        </p:nvPicPr>
        <p:blipFill>
          <a:blip r:embed="rId2"/>
          <a:stretch/>
        </p:blipFill>
        <p:spPr>
          <a:xfrm>
            <a:off x="-23760" y="55440"/>
            <a:ext cx="9191520" cy="65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040601_1"/>
          <p:cNvPicPr/>
          <p:nvPr/>
        </p:nvPicPr>
        <p:blipFill>
          <a:blip r:embed="rId2"/>
          <a:stretch/>
        </p:blipFill>
        <p:spPr>
          <a:xfrm>
            <a:off x="901800" y="2809800"/>
            <a:ext cx="3054240" cy="36878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195120" y="55440"/>
            <a:ext cx="8961480" cy="3005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292720" y="2847960"/>
            <a:ext cx="3024360" cy="329256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4576680" y="404640"/>
            <a:ext cx="45720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ты завел н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ях старый вскри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да, куда нуж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анин сказ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йте, замучь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я здесь мог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знайте и рвите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пас Миха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ателя, мни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е вы наш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нет и не бу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сской зем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й каждый Отчиз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младенчества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ушу изме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не погу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леев, «Иван Сусан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File:Susanin.jpg"/>
          <p:cNvPicPr/>
          <p:nvPr/>
        </p:nvPicPr>
        <p:blipFill>
          <a:blip r:embed="rId2"/>
          <a:stretch/>
        </p:blipFill>
        <p:spPr>
          <a:xfrm>
            <a:off x="747720" y="584280"/>
            <a:ext cx="34574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5"/>
          <p:cNvSpPr/>
          <p:nvPr/>
        </p:nvSpPr>
        <p:spPr>
          <a:xfrm>
            <a:off x="430200" y="577800"/>
            <a:ext cx="316872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ют прав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взойдёшь мо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подь, в нужде моей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не оставь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ька моя судь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асная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алась в грудь 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ъедает сердце скор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страшно,  тяж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ытке уми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3797280" y="191628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придешь, моя зар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х, горький час! Ох, страшный час! Господь меня ты укрепи, ты укре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горький час, мой страшный 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! Ты укрепи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, мой смертный ч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укрепи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Прямоугольник 7" descr=""/>
          <p:cNvPicPr/>
          <p:nvPr/>
        </p:nvPicPr>
        <p:blipFill>
          <a:blip r:embed="rId2"/>
          <a:stretch/>
        </p:blipFill>
        <p:spPr>
          <a:xfrm>
            <a:off x="2266920" y="-146160"/>
            <a:ext cx="5754600" cy="1305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ve-susanin"/>
          <p:cNvPicPr/>
          <p:nvPr/>
        </p:nvPicPr>
        <p:blipFill>
          <a:blip r:embed="rId3"/>
          <a:stretch/>
        </p:blipFill>
        <p:spPr>
          <a:xfrm>
            <a:off x="6900840" y="1125360"/>
            <a:ext cx="206856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297000" y="774720"/>
            <a:ext cx="8496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олдатушки, бравы ребятушки, где же ваши д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олдатушки, бравы ребятушки, где же ваши сёст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лдатушки, бравы ребятушки, где же ваша сла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Прямоугольник 2" descr=""/>
          <p:cNvPicPr/>
          <p:nvPr/>
        </p:nvPicPr>
        <p:blipFill>
          <a:blip r:embed="rId2"/>
          <a:stretch/>
        </p:blipFill>
        <p:spPr>
          <a:xfrm>
            <a:off x="-19080" y="-122400"/>
            <a:ext cx="938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49:54Z</dcterms:created>
  <dc:creator>Ольга</dc:creator>
  <dc:description/>
  <dc:language>en-US</dc:language>
  <cp:lastModifiedBy>Мама</cp:lastModifiedBy>
  <dcterms:modified xsi:type="dcterms:W3CDTF">2012-11-04T11:17:53Z</dcterms:modified>
  <cp:revision>19</cp:revision>
  <dc:subject/>
  <dc:title>Презентация PowerPoint</dc:title>
</cp:coreProperties>
</file>