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1B73-6EEA-4B80-8016-95C78A34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164A-0D7F-42BB-9F39-951E2ABD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929C-799E-4070-B395-DE42756B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ECA9-F481-4049-9ED1-12DEE285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4EC8-9BED-4AD4-B654-C0B5E569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0E0E-6186-4A3B-A463-B400E4EF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604E-A70D-4AEA-A005-CCECCED9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47DB-F328-492D-AFA2-080CC26C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CE80-8ABA-454D-84F0-6678FE57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A33A-DACF-4151-B7A9-9A46411D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AAE9-CAB6-429F-8A82-A8DF0453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5041-3C6F-4D89-9220-EED13E2A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B637-F0E4-48DE-B3AA-6DBE611A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B530-8882-4BD2-9E0D-29FD5F74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E5A5-AB82-4306-8830-B0C778D7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C5C8-7715-4284-8A80-F06398D7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8B1B-3F68-4769-AF32-A72AD032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37D2-F188-4B29-871C-A82DA8C5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76E9-803A-4BF3-9E6D-99010125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CDB74-0585-4F28-8D5C-8BEEA3DA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28858-1EDE-4EFA-BBD6-07837CC1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A4687-3AAE-4732-92B8-0F21E096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FD0C-AECB-4000-8AF1-4E0DC8C5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B3177-719E-4882-A44A-9FA853FF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7CE09-1FE2-470B-A4B7-05BF6303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FB80-AB53-430D-9159-EDA421FF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B55E3-6292-47BB-83EC-7ED80A00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3C7FB-1273-44F1-B166-0AFCA763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1AE96-B645-4185-A022-E8E585C5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765D7-A3B5-4A64-BB68-2C01CF63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61478-36E6-41E7-A67A-2B2EDD49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362EB-ED1E-43D9-BADF-898029F3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624BC-ED27-45A0-889C-7F36843A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9C9C-6B09-4BC5-9430-874D7FD7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1A23B-FDC7-48AF-89DE-82920DBE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7860B-E383-40A5-82A9-357929DA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978ED-0F0E-4AC6-A54E-11367276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4456F-CC52-4036-A4A7-99D0B251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16EDF-4DB1-4BF7-8FAE-0F113336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AC077-D3BB-4B83-ADA1-4467FC65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5D1E0-34EF-4227-8443-AA1CF55F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64015-94D0-4853-A6B7-1D22CD04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E0CDB-3BDD-4600-8789-7520D06B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CA205-4D2E-4336-B81D-6C73E005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D476-A0E2-426B-AEBA-52A5173F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B7CA5-9B45-4936-9998-61F00F68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747C5-7652-448C-B302-07802107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94143-CF65-47E3-9359-889629FF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FEE45-07EA-4D97-A8E7-6A68CEDA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0C955-B4F8-439C-AFB6-886B6422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2A809-FFA6-4DD0-A7C3-AEC5E5B4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97641-DB9F-461E-8597-CDC8261B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501E2-5458-4373-88BF-F1C76590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20B5E-CC0D-4DC3-B7DC-C674F6E5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02E9D-F954-4EB7-AEA4-F268A844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83B6-A106-4573-8747-6A192D9D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8B9C6-DFF6-458E-9DD4-1590F9DF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2F982-211E-4C96-95F8-C91CA97E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AA348-9ED3-4811-BFB6-6DBB8BE5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6EF6F-B84E-47FE-979A-C747F80B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71F7C-287C-4A85-B16D-4F6BFA36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E35E4-14F8-4A65-9196-78E7D33E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FF788-E7F2-4C29-8CCB-9B38A9B4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A6071-E91B-4EAE-A7C8-C6C9D74C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11B9F-F62B-4F1C-95AF-202784F4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1A60F-7ACE-4789-95E4-663927C0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13FA-7CDD-4B1F-84D0-3A63F195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A3DC9-D5A4-4493-96C1-C1023255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CD1D2-03E2-4DD6-AA7E-C71848C8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4B5A0-D740-452A-AC6E-996FCD39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E654B-5F44-48D4-B307-F0569CCA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E8E46-DB95-48B6-AB8A-C34098A1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63CCA-71B8-4A34-9D58-713CDE9E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5F263-A712-49C2-A810-916E764F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5AF35-74EF-4EC7-B452-3033CF2A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0149A-B3AD-49BF-9467-1C2D5E56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4C505-0074-4AB9-B3F2-27A79493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46BE-DB3C-4B54-9AA1-9986A982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3B651-7C53-4D84-A7E7-4A409484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FCC36-595D-4F44-8758-CC033EC3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E52D4-25C8-4275-8104-851FFCE2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0F3C2-FFDC-4393-8421-C9EC033F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92BA7-0728-4845-8B98-F52B5F08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F9849-57DF-4B9F-A44F-415DD528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5ABB4-57D9-48E2-ADC1-1FC0983B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F45C6-D69E-46E6-8634-3FBF3368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04976-E3E4-4CED-B5D8-0785B374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1586B-1168-406E-94B1-D8BB9CB7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9FF9-82EF-440A-93AB-A6EAAE57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1400" y="6553080"/>
            <a:ext cx="624816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ED957-BCFB-4CD6-8460-03BB5879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96090-45A2-448D-B25E-AF88693E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F03A8-2139-455E-BFC9-0B48D2FE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2D59E-7A5D-4A32-A4CA-525B0550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057400" y="4202640"/>
            <a:ext cx="640080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1D7FB-E37A-401D-9A92-B7CD1776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337360" y="18284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05740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337360" y="4202640"/>
            <a:ext cx="312336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E6DEF-2CF7-46D5-BCF0-B847E99E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400" y="655308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22136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385680" y="18284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05740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22136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385680" y="4202640"/>
            <a:ext cx="2060640" cy="21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E3B36-1C5F-47A3-927F-C15FBC04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1371600" y="1143000"/>
            <a:ext cx="7772400" cy="5715000"/>
            <a:chOff x="1371600" y="1143000"/>
            <a:chExt cx="7772400" cy="5715000"/>
          </a:xfrm>
        </p:grpSpPr>
        <p:sp>
          <p:nvSpPr>
            <p:cNvPr id="1" name="Rectangle 10"/>
            <p:cNvSpPr/>
            <p:nvPr/>
          </p:nvSpPr>
          <p:spPr>
            <a:xfrm>
              <a:off x="1371600" y="1143000"/>
              <a:ext cx="7772400" cy="57150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13"/>
            <p:cNvSpPr/>
            <p:nvPr/>
          </p:nvSpPr>
          <p:spPr>
            <a:xfrm>
              <a:off x="1600200" y="1371600"/>
              <a:ext cx="7315200" cy="54864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1"/>
            <p:cNvSpPr/>
            <p:nvPr/>
          </p:nvSpPr>
          <p:spPr>
            <a:xfrm>
              <a:off x="1828800" y="1600200"/>
              <a:ext cx="6858000" cy="52578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Rectangle 9"/>
          <p:cNvSpPr/>
          <p:nvPr/>
        </p:nvSpPr>
        <p:spPr>
          <a:xfrm>
            <a:off x="0" y="0"/>
            <a:ext cx="777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5762-28D5-45F9-A73B-3A0F0ABB222B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Straight Connector 8" descr=""/>
          <p:cNvPicPr/>
          <p:nvPr/>
        </p:nvPicPr>
        <p:blipFill>
          <a:blip r:embed="rId3"/>
          <a:stretch/>
        </p:blipFill>
        <p:spPr>
          <a:xfrm>
            <a:off x="669960" y="-60480"/>
            <a:ext cx="189000" cy="69850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2"/>
          </p:nvPr>
        </p:nvSpPr>
        <p:spPr>
          <a:xfrm>
            <a:off x="65527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3"/>
          </p:nvPr>
        </p:nvSpPr>
        <p:spPr>
          <a:xfrm>
            <a:off x="18284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roup 6" descr=""/>
          <p:cNvPicPr/>
          <p:nvPr/>
        </p:nvPicPr>
        <p:blipFill>
          <a:blip r:embed="rId3"/>
          <a:stretch/>
        </p:blipFill>
        <p:spPr>
          <a:xfrm>
            <a:off x="676440" y="1146240"/>
            <a:ext cx="7797600" cy="9204120"/>
          </a:xfrm>
          <a:prstGeom prst="rect">
            <a:avLst/>
          </a:prstGeom>
          <a:ln w="0">
            <a:noFill/>
          </a:ln>
        </p:spPr>
      </p:pic>
      <p:pic>
        <p:nvPicPr>
          <p:cNvPr id="48" name="Straight Connector 10" descr=""/>
          <p:cNvPicPr/>
          <p:nvPr/>
        </p:nvPicPr>
        <p:blipFill>
          <a:blip r:embed="rId4"/>
          <a:stretch/>
        </p:blipFill>
        <p:spPr>
          <a:xfrm>
            <a:off x="2225520" y="3718080"/>
            <a:ext cx="4699080" cy="164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8669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11426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917D-A934-450E-B45F-09E54110DEEF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1143000"/>
            <a:ext cx="7772400" cy="2743200"/>
            <a:chOff x="0" y="1143000"/>
            <a:chExt cx="7772400" cy="2743200"/>
          </a:xfrm>
        </p:grpSpPr>
        <p:sp>
          <p:nvSpPr>
            <p:cNvPr id="91" name="Rectangle 8"/>
            <p:cNvSpPr/>
            <p:nvPr/>
          </p:nvSpPr>
          <p:spPr>
            <a:xfrm>
              <a:off x="0" y="1143000"/>
              <a:ext cx="7772400" cy="27432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0" y="1371600"/>
              <a:ext cx="7543800" cy="22860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0" y="1600200"/>
              <a:ext cx="7315200" cy="18288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9525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282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F507-1770-4E6B-A896-D3E71E34DA37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4"/>
          <p:cNvGrpSpPr/>
          <p:nvPr/>
        </p:nvGrpSpPr>
        <p:grpSpPr>
          <a:xfrm>
            <a:off x="1371600" y="1143000"/>
            <a:ext cx="7772400" cy="5715000"/>
            <a:chOff x="1371600" y="1143000"/>
            <a:chExt cx="7772400" cy="5715000"/>
          </a:xfrm>
        </p:grpSpPr>
        <p:sp>
          <p:nvSpPr>
            <p:cNvPr id="136" name="Rectangle 10"/>
            <p:cNvSpPr/>
            <p:nvPr/>
          </p:nvSpPr>
          <p:spPr>
            <a:xfrm>
              <a:off x="1371600" y="1143000"/>
              <a:ext cx="7772400" cy="57150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3"/>
            <p:cNvSpPr/>
            <p:nvPr/>
          </p:nvSpPr>
          <p:spPr>
            <a:xfrm>
              <a:off x="1600200" y="1371600"/>
              <a:ext cx="7315200" cy="54864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1828800" y="1600200"/>
              <a:ext cx="6858000" cy="52578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9"/>
          <p:cNvSpPr/>
          <p:nvPr/>
        </p:nvSpPr>
        <p:spPr>
          <a:xfrm>
            <a:off x="0" y="0"/>
            <a:ext cx="777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traight Connector 8" descr=""/>
          <p:cNvPicPr/>
          <p:nvPr/>
        </p:nvPicPr>
        <p:blipFill>
          <a:blip r:embed="rId3"/>
          <a:stretch/>
        </p:blipFill>
        <p:spPr>
          <a:xfrm>
            <a:off x="669960" y="-60480"/>
            <a:ext cx="189000" cy="6985080"/>
          </a:xfrm>
          <a:prstGeom prst="rect">
            <a:avLst/>
          </a:prstGeom>
          <a:ln w="0">
            <a:noFill/>
          </a:ln>
        </p:spPr>
      </p:pic>
      <p:pic>
        <p:nvPicPr>
          <p:cNvPr id="141" name="Straight Connector 9" descr=""/>
          <p:cNvPicPr/>
          <p:nvPr/>
        </p:nvPicPr>
        <p:blipFill>
          <a:blip r:embed="rId4"/>
          <a:stretch/>
        </p:blipFill>
        <p:spPr>
          <a:xfrm>
            <a:off x="2011320" y="2468520"/>
            <a:ext cx="6529320" cy="1652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18284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A9BB-9E42-4028-BA5D-DF69DB09531D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Group 11" descr=""/>
          <p:cNvPicPr/>
          <p:nvPr/>
        </p:nvPicPr>
        <p:blipFill>
          <a:blip r:embed="rId3"/>
          <a:stretch/>
        </p:blipFill>
        <p:spPr>
          <a:xfrm>
            <a:off x="-12600" y="0"/>
            <a:ext cx="9169200" cy="128620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8669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11426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9839-4F09-4E86-BC0B-40E63CA8133B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Group 7" descr=""/>
          <p:cNvPicPr/>
          <p:nvPr/>
        </p:nvPicPr>
        <p:blipFill>
          <a:blip r:embed="rId3"/>
          <a:stretch/>
        </p:blipFill>
        <p:spPr>
          <a:xfrm>
            <a:off x="1359000" y="1146240"/>
            <a:ext cx="7797600" cy="10569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2"/>
          <p:cNvSpPr/>
          <p:nvPr/>
        </p:nvSpPr>
        <p:spPr>
          <a:xfrm rot="5400000">
            <a:off x="3268440" y="-3268440"/>
            <a:ext cx="777960" cy="73152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Straight Connector 13" descr=""/>
          <p:cNvPicPr/>
          <p:nvPr/>
        </p:nvPicPr>
        <p:blipFill>
          <a:blip r:embed="rId4"/>
          <a:stretch/>
        </p:blipFill>
        <p:spPr>
          <a:xfrm>
            <a:off x="-60480" y="695160"/>
            <a:ext cx="7442280" cy="189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5527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8284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B59B-51C8-4F06-A127-B91B7ACCB56C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7"/>
          <p:cNvSpPr/>
          <p:nvPr/>
        </p:nvSpPr>
        <p:spPr>
          <a:xfrm rot="5400000">
            <a:off x="3268440" y="-3268440"/>
            <a:ext cx="777960" cy="73152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Straight Connector 18" descr=""/>
          <p:cNvPicPr/>
          <p:nvPr/>
        </p:nvPicPr>
        <p:blipFill>
          <a:blip r:embed="rId3"/>
          <a:stretch/>
        </p:blipFill>
        <p:spPr>
          <a:xfrm>
            <a:off x="-60480" y="695160"/>
            <a:ext cx="7442280" cy="189000"/>
          </a:xfrm>
          <a:prstGeom prst="rect">
            <a:avLst/>
          </a:prstGeom>
          <a:ln w="0">
            <a:noFill/>
          </a:ln>
        </p:spPr>
      </p:pic>
      <p:pic>
        <p:nvPicPr>
          <p:cNvPr id="271" name="Group 13" descr=""/>
          <p:cNvPicPr/>
          <p:nvPr/>
        </p:nvPicPr>
        <p:blipFill>
          <a:blip r:embed="rId4"/>
          <a:stretch/>
        </p:blipFill>
        <p:spPr>
          <a:xfrm>
            <a:off x="1359000" y="1146240"/>
            <a:ext cx="7797600" cy="105696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5527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8284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1C21-F6E1-4DC9-BF03-15EC1963838E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6"/>
          <p:cNvGrpSpPr/>
          <p:nvPr/>
        </p:nvGrpSpPr>
        <p:grpSpPr>
          <a:xfrm>
            <a:off x="0" y="1143000"/>
            <a:ext cx="7772400" cy="5715000"/>
            <a:chOff x="0" y="1143000"/>
            <a:chExt cx="7772400" cy="5715000"/>
          </a:xfrm>
        </p:grpSpPr>
        <p:sp>
          <p:nvSpPr>
            <p:cNvPr id="314" name="Rectangle 7"/>
            <p:cNvSpPr/>
            <p:nvPr/>
          </p:nvSpPr>
          <p:spPr>
            <a:xfrm>
              <a:off x="0" y="1143000"/>
              <a:ext cx="7772400" cy="57150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228600" y="1371600"/>
              <a:ext cx="7315200" cy="54864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"/>
            <p:cNvSpPr/>
            <p:nvPr/>
          </p:nvSpPr>
          <p:spPr>
            <a:xfrm>
              <a:off x="457200" y="1600200"/>
              <a:ext cx="6858000" cy="52578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Rectangle 10"/>
          <p:cNvSpPr/>
          <p:nvPr/>
        </p:nvSpPr>
        <p:spPr>
          <a:xfrm flipV="1">
            <a:off x="8366040" y="0"/>
            <a:ext cx="777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Straight Connector 11" descr=""/>
          <p:cNvPicPr/>
          <p:nvPr/>
        </p:nvPicPr>
        <p:blipFill>
          <a:blip r:embed="rId3"/>
          <a:stretch/>
        </p:blipFill>
        <p:spPr>
          <a:xfrm>
            <a:off x="8278920" y="-60480"/>
            <a:ext cx="188640" cy="698508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2057400" y="1828440"/>
            <a:ext cx="64008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1" marL="6825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2" marL="102384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3" marL="1378080" indent="-35424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4" marL="1719360" indent="-341280">
              <a:spcBef>
                <a:spcPts val="1500"/>
              </a:spcBef>
              <a:buClr>
                <a:srgbClr val="7f7f7f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5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  <a:p>
            <a:pPr lvl="6" marL="1719360" indent="-341280">
              <a:spcBef>
                <a:spcPts val="1500"/>
              </a:spcBef>
              <a:buClr>
                <a:srgbClr val="000000"/>
              </a:buClr>
              <a:buSzPct val="80000"/>
              <a:buFont typeface="Wingdings 2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 rot="16200000">
            <a:off x="-2659320" y="3006000"/>
            <a:ext cx="62481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5181120" y="657360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456840" y="6573600"/>
            <a:ext cx="289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8778960" y="6573600"/>
            <a:ext cx="36504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5CFB-99F9-462C-A5A9-013CAC10D84F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hyperlink" Target="http://www.pravmir.ru/aleksandr-nevskij-myslitel-filosof-strateg-svyatoj/" TargetMode="External"/><Relationship Id="rId4" Type="http://schemas.openxmlformats.org/officeDocument/2006/relationships/hyperlink" Target="http://fotki.yandex.ru/users/minaew-vasilij/view/494320/?page=0" TargetMode="External"/><Relationship Id="rId5" Type="http://schemas.openxmlformats.org/officeDocument/2006/relationships/hyperlink" Target="http://shkolazhizni.ru/archive/0/n-20834/" TargetMode="External"/><Relationship Id="rId6" Type="http://schemas.openxmlformats.org/officeDocument/2006/relationships/hyperlink" Target="http://www.olofmp3.ru/index.php/10-velikih-russkih-kompozitorov.-Chasty-2.html" TargetMode="External"/><Relationship Id="rId7" Type="http://schemas.openxmlformats.org/officeDocument/2006/relationships/hyperlink" Target="http://narodna.pravda.com.ua/rus/history/4f04d067cbc50/" TargetMode="External"/><Relationship Id="rId8" Type="http://schemas.openxmlformats.org/officeDocument/2006/relationships/hyperlink" Target="http://narodna.pravda.com.ua/rus/history/4f04d067cbc50/" TargetMode="External"/><Relationship Id="rId9" Type="http://schemas.openxmlformats.org/officeDocument/2006/relationships/hyperlink" Target="http://en.wikipedia.org/wiki/Ivan_Susanin" TargetMode="External"/><Relationship Id="rId10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Прямоугольник 1"/>
          <p:cNvSpPr/>
          <p:nvPr/>
        </p:nvSpPr>
        <p:spPr>
          <a:xfrm>
            <a:off x="2583000" y="1154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музыки, 3 клас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Е. Д. Критской, Г. П. Сергеевой, Т. С. Шмаг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996920" y="4508640"/>
            <a:ext cx="4789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Чиркунова Ольга Вячеслав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уз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Уршельская сош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сь-Хруст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Прямоугольник 4" descr=""/>
          <p:cNvPicPr/>
          <p:nvPr/>
        </p:nvPicPr>
        <p:blipFill>
          <a:blip r:embed="rId2"/>
          <a:stretch/>
        </p:blipFill>
        <p:spPr>
          <a:xfrm>
            <a:off x="1706400" y="2305080"/>
            <a:ext cx="576108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Прямоугольник 1" descr=""/>
          <p:cNvPicPr/>
          <p:nvPr/>
        </p:nvPicPr>
        <p:blipFill>
          <a:blip r:embed="rId2"/>
          <a:stretch/>
        </p:blipFill>
        <p:spPr>
          <a:xfrm>
            <a:off x="-92160" y="152280"/>
            <a:ext cx="9498240" cy="107316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468360" y="1413000"/>
            <a:ext cx="813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 Д. Критская, Г. П. Сергеева, Т. С. Шмагина. Программа «Музыка. Начальная школ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 Д. Критская, Г. П. Сергеева, Т. С. Шмагина. «Музыка. Рабочая тетрадь» 3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 Д. Критская, Г. П. Сергеева, Т. С. Шмагина. «Музыка». Учебник для  3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3"/>
              </a:rPr>
              <a:t>http://www.pravmir.ru/aleksandr-nevskij-myslitel-filosof-strateg-svyatoj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4"/>
              </a:rPr>
              <a:t>http://fotki.yandex.ru/users/minaew-vasilij/view/494320/?page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5"/>
              </a:rPr>
              <a:t>http://shkolazhizni.ru/archive/0/n-2083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6"/>
              </a:rPr>
              <a:t>http://www.olofmp3.ru/index.php/10-velikih-russkih-kompozitorov.-Chasty-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7"/>
              </a:rPr>
              <a:t>http://narodna.pravda.com.ua/rus/history/4f04d067cbc50</a:t>
            </a: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8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55d00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.wikipedia.org/wiki/Ivan_Susa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usbass.ru/vedern-foto-op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otki.yandex.ru/users/s-vailjewa/view/355203/?page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4" descr="nev.jpg"/>
          <p:cNvPicPr/>
          <p:nvPr/>
        </p:nvPicPr>
        <p:blipFill>
          <a:blip r:embed="rId2"/>
          <a:stretch/>
        </p:blipFill>
        <p:spPr>
          <a:xfrm>
            <a:off x="5219640" y="0"/>
            <a:ext cx="360684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5" descr=""/>
          <p:cNvPicPr/>
          <p:nvPr/>
        </p:nvPicPr>
        <p:blipFill>
          <a:blip r:embed="rId3"/>
          <a:stretch/>
        </p:blipFill>
        <p:spPr>
          <a:xfrm>
            <a:off x="487440" y="4913280"/>
            <a:ext cx="4029120" cy="1974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http://img-fotki.yandex.ru/get/4712/99684303.1/0_78af0_e4088e54_XL"/>
          <p:cNvPicPr/>
          <p:nvPr/>
        </p:nvPicPr>
        <p:blipFill>
          <a:blip r:embed="rId4"/>
          <a:stretch/>
        </p:blipFill>
        <p:spPr>
          <a:xfrm>
            <a:off x="798480" y="631800"/>
            <a:ext cx="3595680" cy="426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Прямоугольник 3" descr=""/>
          <p:cNvPicPr/>
          <p:nvPr/>
        </p:nvPicPr>
        <p:blipFill>
          <a:blip r:embed="rId2"/>
          <a:stretch/>
        </p:blipFill>
        <p:spPr>
          <a:xfrm>
            <a:off x="3852720" y="622440"/>
            <a:ext cx="5572440" cy="132228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4" descr=""/>
          <p:cNvPicPr/>
          <p:nvPr/>
        </p:nvPicPr>
        <p:blipFill>
          <a:blip r:embed="rId3"/>
          <a:stretch/>
        </p:blipFill>
        <p:spPr>
          <a:xfrm>
            <a:off x="317520" y="3565440"/>
            <a:ext cx="5302080" cy="3249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D:\РАЗНОЕ\СМАЙЛИКИ\Новая папка\Аним\2222368.gif"/>
          <p:cNvPicPr/>
          <p:nvPr/>
        </p:nvPicPr>
        <p:blipFill>
          <a:blip r:embed="rId4"/>
          <a:stretch/>
        </p:blipFill>
        <p:spPr>
          <a:xfrm>
            <a:off x="0" y="4211640"/>
            <a:ext cx="1154160" cy="2062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&amp;YUcy;. &amp;Pcy;&amp;acy;&amp;ncy;&amp;tcy;&amp;yucy;&amp;khcy;&amp;icy;&amp;ncy;. &amp;Acy;&amp;lcy;&amp;iecy;&amp;kcy;&amp;scy;&amp;acy;&amp;ncy;&amp;dcy;&amp;rcy; &amp;Ncy;&amp;iecy;&amp;vcy;&amp;scy;&amp;kcy;&amp;icy;&amp;jcy; "/>
          <p:cNvPicPr/>
          <p:nvPr/>
        </p:nvPicPr>
        <p:blipFill>
          <a:blip r:embed="rId5"/>
          <a:stretch/>
        </p:blipFill>
        <p:spPr>
          <a:xfrm>
            <a:off x="324000" y="446040"/>
            <a:ext cx="3848040" cy="3086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&amp;Scy;&amp;iecy;&amp;rcy;&amp;gcy;&amp;iecy;&amp;jcy; &amp;Scy;&amp;iecy;&amp;rcy;&amp;gcy;&amp;iecy;&amp;iecy;&amp;vcy;&amp;icy;&amp;chcy; &amp;Pcy;&amp;rcy;&amp;ocy;&amp;kcy;&amp;ocy;&amp;fcy;&amp;softcy;&amp;iecy;&amp;vcy;"/>
          <p:cNvPicPr/>
          <p:nvPr/>
        </p:nvPicPr>
        <p:blipFill>
          <a:blip r:embed="rId6"/>
          <a:stretch/>
        </p:blipFill>
        <p:spPr>
          <a:xfrm>
            <a:off x="5256360" y="1989000"/>
            <a:ext cx="3152520" cy="399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Прямоугольник 4" descr=""/>
          <p:cNvPicPr/>
          <p:nvPr/>
        </p:nvPicPr>
        <p:blipFill>
          <a:blip r:embed="rId2"/>
          <a:stretch/>
        </p:blipFill>
        <p:spPr>
          <a:xfrm>
            <a:off x="109440" y="49320"/>
            <a:ext cx="8974080" cy="119376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5"/>
          <p:cNvSpPr/>
          <p:nvPr/>
        </p:nvSpPr>
        <p:spPr>
          <a:xfrm>
            <a:off x="538200" y="1125360"/>
            <a:ext cx="831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Вставайте, люди русски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На славный бой, на смертный бой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Вставайте, люди вольны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За нашу землю честну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Живым бойцам почёт и честь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А мёртвым - слава вечная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За отчий дом, за русский край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Вставайте, люди русск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- Вставайте, люди русски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На славный бой, на смертный бой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Вставайте, люди вольные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За нашу землю честну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c0e752fcb2ed"/>
          <p:cNvPicPr/>
          <p:nvPr/>
        </p:nvPicPr>
        <p:blipFill>
          <a:blip r:embed="rId2"/>
          <a:stretch/>
        </p:blipFill>
        <p:spPr>
          <a:xfrm>
            <a:off x="-23760" y="55440"/>
            <a:ext cx="9191520" cy="657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5" descr="040601_1"/>
          <p:cNvPicPr/>
          <p:nvPr/>
        </p:nvPicPr>
        <p:blipFill>
          <a:blip r:embed="rId2"/>
          <a:stretch/>
        </p:blipFill>
        <p:spPr>
          <a:xfrm>
            <a:off x="901800" y="2809800"/>
            <a:ext cx="3054240" cy="368784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7" descr=""/>
          <p:cNvPicPr/>
          <p:nvPr/>
        </p:nvPicPr>
        <p:blipFill>
          <a:blip r:embed="rId3"/>
          <a:stretch/>
        </p:blipFill>
        <p:spPr>
          <a:xfrm>
            <a:off x="195120" y="55440"/>
            <a:ext cx="8961480" cy="3005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5292720" y="2847960"/>
            <a:ext cx="3024360" cy="3292560"/>
          </a:xfrm>
          <a:prstGeom prst="rect">
            <a:avLst/>
          </a:prstGeom>
          <a:ln w="50760">
            <a:solidFill>
              <a:srgbClr val="80008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4576680" y="404640"/>
            <a:ext cx="457200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да ты завел на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ях старый вскрич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да, куда нужн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санин сказ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бейте, замучьте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я здесь мог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знайте и рвитес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спас Миха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ателя, мни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 мне вы наш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 нет и не бу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русской зем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ей каждый Отчиз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младенчества лю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душу изме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ю не погу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ылеев, «Иван Сусан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5" descr="File:Susanin.jpg"/>
          <p:cNvPicPr/>
          <p:nvPr/>
        </p:nvPicPr>
        <p:blipFill>
          <a:blip r:embed="rId2"/>
          <a:stretch/>
        </p:blipFill>
        <p:spPr>
          <a:xfrm>
            <a:off x="747720" y="584280"/>
            <a:ext cx="345744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5"/>
          <p:cNvSpPr/>
          <p:nvPr/>
        </p:nvSpPr>
        <p:spPr>
          <a:xfrm>
            <a:off x="430200" y="577800"/>
            <a:ext cx="3168720" cy="70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уют правд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взойдёшь моя за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гляну в лицо тво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дняя зар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ло время мо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сподь, в нужде моей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не оставь м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ька моя судьб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жасная то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ралась в грудь мо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ъедает сердце скорб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страшно,  тяж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пытке умир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6"/>
          <p:cNvSpPr/>
          <p:nvPr/>
        </p:nvSpPr>
        <p:spPr>
          <a:xfrm>
            <a:off x="3797280" y="1916280"/>
            <a:ext cx="518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придешь, моя зар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гляну в лицо тво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дняя зар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тало время моё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х, горький час! Ох, страшный час! Господь меня ты укрепи, ты укреп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й горький час, мой страшный ч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й смертный час! Ты укрепи м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й смертный час, мой смертный ча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 укрепи мен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Прямоугольник 7" descr=""/>
          <p:cNvPicPr/>
          <p:nvPr/>
        </p:nvPicPr>
        <p:blipFill>
          <a:blip r:embed="rId2"/>
          <a:stretch/>
        </p:blipFill>
        <p:spPr>
          <a:xfrm>
            <a:off x="2266920" y="-146160"/>
            <a:ext cx="5754600" cy="1305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ve-susanin"/>
          <p:cNvPicPr/>
          <p:nvPr/>
        </p:nvPicPr>
        <p:blipFill>
          <a:blip r:embed="rId3"/>
          <a:stretch/>
        </p:blipFill>
        <p:spPr>
          <a:xfrm>
            <a:off x="6900840" y="1125360"/>
            <a:ext cx="2068560" cy="26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"/>
          <p:cNvSpPr/>
          <p:nvPr/>
        </p:nvSpPr>
        <p:spPr>
          <a:xfrm>
            <a:off x="297000" y="774720"/>
            <a:ext cx="849600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Солдатушки, бравы ребятушки, где же ваши де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и деды- славные поб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и д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и деды- славные поб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и д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Солдатушки, бравы ребятушки, где же ваши сёст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и сёстры- пики, сабли ос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и сёс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и сёстры- пики, сабли ос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и сёс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олдатушки, бравы ребятушки, где же ваша слав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а слава- Русская держ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а слав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а слава- Русская держ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т, где наша слав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Прямоугольник 2" descr=""/>
          <p:cNvPicPr/>
          <p:nvPr/>
        </p:nvPicPr>
        <p:blipFill>
          <a:blip r:embed="rId2"/>
          <a:stretch/>
        </p:blipFill>
        <p:spPr>
          <a:xfrm>
            <a:off x="-19080" y="-122400"/>
            <a:ext cx="9382320" cy="11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4:49:54Z</dcterms:created>
  <dc:creator>Ольга</dc:creator>
  <dc:description/>
  <dc:language>en-US</dc:language>
  <cp:lastModifiedBy>Мама</cp:lastModifiedBy>
  <dcterms:modified xsi:type="dcterms:W3CDTF">2012-11-04T11:17:53Z</dcterms:modified>
  <cp:revision>19</cp:revision>
  <dc:subject/>
  <dc:title>Презентация PowerPoint</dc:title>
</cp:coreProperties>
</file>