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7.png" ContentType="image/png"/>
  <Override PartName="/ppt/media/image24.png" ContentType="image/png"/>
  <Override PartName="/ppt/media/image23.jpeg" ContentType="image/jpeg"/>
  <Override PartName="/ppt/media/image21.png" ContentType="image/png"/>
  <Override PartName="/ppt/media/image19.png" ContentType="image/png"/>
  <Override PartName="/ppt/media/image16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png" ContentType="image/png"/>
  <Override PartName="/ppt/media/image3.png" ContentType="image/png"/>
  <Override PartName="/ppt/media/image26.png" ContentType="image/png"/>
  <Override PartName="/ppt/media/image17.jpeg" ContentType="image/jpeg"/>
  <Override PartName="/ppt/media/image25.jpeg" ContentType="image/jpeg"/>
  <Override PartName="/ppt/media/image2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DB6D8C-F444-4248-B4A7-54FB6D59E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1400" y="6553080"/>
            <a:ext cx="624816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057400" y="1828440"/>
            <a:ext cx="640080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057400" y="4202640"/>
            <a:ext cx="640080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42487D-E487-4C46-AAD7-B4B880FA9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1400" y="6553080"/>
            <a:ext cx="624816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057400" y="1828440"/>
            <a:ext cx="312336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337360" y="1828440"/>
            <a:ext cx="312336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057400" y="4202640"/>
            <a:ext cx="312336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337360" y="4202640"/>
            <a:ext cx="312336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1FBF70-DBCA-4793-9AAD-2B32FAF76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1400" y="6553080"/>
            <a:ext cx="624816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057400" y="1828440"/>
            <a:ext cx="206064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221360" y="1828440"/>
            <a:ext cx="206064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85680" y="1828440"/>
            <a:ext cx="206064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057400" y="4202640"/>
            <a:ext cx="206064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4221360" y="4202640"/>
            <a:ext cx="206064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85680" y="4202640"/>
            <a:ext cx="206064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993A90-7183-4196-B685-B1C8E7409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E83D6-8657-441F-A8E2-5C70DCD5F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1400" y="6553080"/>
            <a:ext cx="624816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2057400" y="1828440"/>
            <a:ext cx="6400800" cy="454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21112-A7EC-4B2A-A0EE-63FBB27CB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1400" y="6553080"/>
            <a:ext cx="624816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057400" y="1828440"/>
            <a:ext cx="6400800" cy="45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CC681-4181-422F-9155-1C8A28CED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1400" y="6553080"/>
            <a:ext cx="624816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057400" y="1828440"/>
            <a:ext cx="3123360" cy="45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337360" y="1828440"/>
            <a:ext cx="3123360" cy="45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8CE72-DCFF-4EF9-B9B8-F984D5CBD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1400" y="6553080"/>
            <a:ext cx="624816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6069B-C5E7-41E9-9BF7-6F7E918EE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1400" y="6553080"/>
            <a:ext cx="6248160" cy="39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E134F-B3ED-42CE-931B-EF089D34E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400" y="6553080"/>
            <a:ext cx="624816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057400" y="1828440"/>
            <a:ext cx="312336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37360" y="1828440"/>
            <a:ext cx="3123360" cy="45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057400" y="4202640"/>
            <a:ext cx="312336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DDA15-3255-426B-A971-DD2FA7FDB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400" y="6553080"/>
            <a:ext cx="624816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057400" y="1828440"/>
            <a:ext cx="6400800" cy="454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B7B3AD-4CDC-4121-B075-FEBBE49A9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400" y="6553080"/>
            <a:ext cx="624816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057400" y="1828440"/>
            <a:ext cx="3123360" cy="45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337360" y="1828440"/>
            <a:ext cx="312336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337360" y="4202640"/>
            <a:ext cx="312336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7B227-0A47-4961-AABC-802065727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1400" y="6553080"/>
            <a:ext cx="624816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057400" y="1828440"/>
            <a:ext cx="312336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337360" y="1828440"/>
            <a:ext cx="312336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057400" y="4202640"/>
            <a:ext cx="640080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F0981-2B37-4BC5-961D-AB1EC92C7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400" y="6553080"/>
            <a:ext cx="624816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057400" y="1828440"/>
            <a:ext cx="640080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057400" y="4202640"/>
            <a:ext cx="640080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0C795-DF04-40BA-93DD-E7DAF7199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1400" y="6553080"/>
            <a:ext cx="624816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057400" y="1828440"/>
            <a:ext cx="312336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337360" y="1828440"/>
            <a:ext cx="312336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2057400" y="4202640"/>
            <a:ext cx="312336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337360" y="4202640"/>
            <a:ext cx="312336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DD496-C6FD-4D84-BD78-005B04423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1400" y="6553080"/>
            <a:ext cx="624816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057400" y="1828440"/>
            <a:ext cx="206064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221360" y="1828440"/>
            <a:ext cx="206064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85680" y="1828440"/>
            <a:ext cx="206064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2057400" y="4202640"/>
            <a:ext cx="206064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4221360" y="4202640"/>
            <a:ext cx="206064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85680" y="4202640"/>
            <a:ext cx="206064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A7ABB-A78A-45BB-A8F9-AF764B4E1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857B7D-5A72-4259-988A-CC10E09A7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1400" y="6553080"/>
            <a:ext cx="624816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2057400" y="1828440"/>
            <a:ext cx="6400800" cy="454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EFB966-DF0C-4DD8-9ECA-590377A9E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1400" y="6553080"/>
            <a:ext cx="624816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057400" y="1828440"/>
            <a:ext cx="6400800" cy="45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AAAF17-78D3-40FB-A04A-F55F24EE2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1400" y="6553080"/>
            <a:ext cx="624816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057400" y="1828440"/>
            <a:ext cx="3123360" cy="45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337360" y="1828440"/>
            <a:ext cx="3123360" cy="45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920998-56F1-43E8-9963-C53AA69A6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1400" y="6553080"/>
            <a:ext cx="624816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9AF8C7-3E33-4112-9C44-E70C09D6A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1400" y="6553080"/>
            <a:ext cx="624816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057400" y="1828440"/>
            <a:ext cx="6400800" cy="45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B34AA6-BFA1-4314-A6A4-E4E8A6464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1400" y="6553080"/>
            <a:ext cx="6248160" cy="39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C69ED8-BCE5-4C98-91EC-96A528B2F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1400" y="6553080"/>
            <a:ext cx="624816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057400" y="1828440"/>
            <a:ext cx="312336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337360" y="1828440"/>
            <a:ext cx="3123360" cy="45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2057400" y="4202640"/>
            <a:ext cx="312336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F56C56-E83C-4753-9262-99C4CB95F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1400" y="6553080"/>
            <a:ext cx="624816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057400" y="1828440"/>
            <a:ext cx="3123360" cy="45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337360" y="1828440"/>
            <a:ext cx="312336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337360" y="4202640"/>
            <a:ext cx="312336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805C16-EEE3-40F8-AA76-3E2383A1B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1400" y="6553080"/>
            <a:ext cx="624816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057400" y="1828440"/>
            <a:ext cx="312336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337360" y="1828440"/>
            <a:ext cx="312336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2057400" y="4202640"/>
            <a:ext cx="640080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FC053C-09A0-4F77-9D8F-B3FDDF558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1400" y="6553080"/>
            <a:ext cx="624816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057400" y="1828440"/>
            <a:ext cx="640080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2057400" y="4202640"/>
            <a:ext cx="640080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E9EE84-3DB3-4759-8671-046885DF1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1400" y="6553080"/>
            <a:ext cx="624816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057400" y="1828440"/>
            <a:ext cx="312336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337360" y="1828440"/>
            <a:ext cx="312336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2057400" y="4202640"/>
            <a:ext cx="312336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5337360" y="4202640"/>
            <a:ext cx="312336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7FBF9C-513B-46E4-A4FA-4E4F36364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400" y="6553080"/>
            <a:ext cx="624816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057400" y="1828440"/>
            <a:ext cx="206064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21360" y="1828440"/>
            <a:ext cx="206064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385680" y="1828440"/>
            <a:ext cx="206064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2057400" y="4202640"/>
            <a:ext cx="206064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4221360" y="4202640"/>
            <a:ext cx="206064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385680" y="4202640"/>
            <a:ext cx="206064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D716F7-EBE5-49E2-9072-536BE85EA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C33BD0-9220-4C35-8764-1D5C20D69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1400" y="6553080"/>
            <a:ext cx="624816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2057400" y="1828440"/>
            <a:ext cx="6400800" cy="454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DD22A5-66EE-43A1-A32A-306BFFF09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1400" y="6553080"/>
            <a:ext cx="624816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057400" y="1828440"/>
            <a:ext cx="6400800" cy="45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A4202A-81DF-4DED-9D1F-BA14B5723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1400" y="6553080"/>
            <a:ext cx="624816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057400" y="1828440"/>
            <a:ext cx="3123360" cy="45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337360" y="1828440"/>
            <a:ext cx="3123360" cy="45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70C066-DD72-4D6A-B698-51F274CC6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400" y="6553080"/>
            <a:ext cx="624816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057400" y="1828440"/>
            <a:ext cx="3123360" cy="45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5337360" y="1828440"/>
            <a:ext cx="3123360" cy="45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9EF76D-6711-4435-881B-E975AED0F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1400" y="6553080"/>
            <a:ext cx="624816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8C731C-3265-498F-8252-71EBF2CB6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ubTitle"/>
          </p:nvPr>
        </p:nvSpPr>
        <p:spPr>
          <a:xfrm>
            <a:off x="41400" y="6553080"/>
            <a:ext cx="6248160" cy="39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66C9F8-C985-49A8-AB64-DC52CE6B9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1400" y="6553080"/>
            <a:ext cx="624816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057400" y="1828440"/>
            <a:ext cx="312336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337360" y="1828440"/>
            <a:ext cx="3123360" cy="45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2057400" y="4202640"/>
            <a:ext cx="312336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352D38-D047-48DD-BEC1-36F4814D0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1400" y="6553080"/>
            <a:ext cx="624816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057400" y="1828440"/>
            <a:ext cx="3123360" cy="45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5337360" y="1828440"/>
            <a:ext cx="312336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337360" y="4202640"/>
            <a:ext cx="312336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56F742-3411-42FC-A539-0CEE27BA3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1400" y="6553080"/>
            <a:ext cx="624816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057400" y="1828440"/>
            <a:ext cx="312336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5337360" y="1828440"/>
            <a:ext cx="312336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2057400" y="4202640"/>
            <a:ext cx="640080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F9387D-56DB-4EE9-B57F-C9225F522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1400" y="6553080"/>
            <a:ext cx="624816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057400" y="1828440"/>
            <a:ext cx="640080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2057400" y="4202640"/>
            <a:ext cx="640080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8CBCA6-2035-4011-87CD-D302FA866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1400" y="6553080"/>
            <a:ext cx="624816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057400" y="1828440"/>
            <a:ext cx="312336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5337360" y="1828440"/>
            <a:ext cx="312336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2057400" y="4202640"/>
            <a:ext cx="312336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5337360" y="4202640"/>
            <a:ext cx="312336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171FEC-616B-42AF-93E9-A7040A362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1400" y="6553080"/>
            <a:ext cx="624816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057400" y="1828440"/>
            <a:ext cx="206064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21360" y="1828440"/>
            <a:ext cx="206064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385680" y="1828440"/>
            <a:ext cx="206064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2057400" y="4202640"/>
            <a:ext cx="206064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81" name="PlaceHolder 6"/>
          <p:cNvSpPr>
            <a:spLocks noGrp="1"/>
          </p:cNvSpPr>
          <p:nvPr>
            <p:ph/>
          </p:nvPr>
        </p:nvSpPr>
        <p:spPr>
          <a:xfrm>
            <a:off x="4221360" y="4202640"/>
            <a:ext cx="206064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82" name="PlaceHolder 7"/>
          <p:cNvSpPr>
            <a:spLocks noGrp="1"/>
          </p:cNvSpPr>
          <p:nvPr>
            <p:ph/>
          </p:nvPr>
        </p:nvSpPr>
        <p:spPr>
          <a:xfrm>
            <a:off x="6385680" y="4202640"/>
            <a:ext cx="206064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C45C71-6A0A-4501-B304-98B496CB6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4570CC-878F-416B-BD3E-065A99DF0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1400" y="6553080"/>
            <a:ext cx="624816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AB89FA-85B4-40FC-BCE6-E2D13DE44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1400" y="6553080"/>
            <a:ext cx="624816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2057400" y="1828440"/>
            <a:ext cx="6400800" cy="454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B4275E-3F21-4006-847A-D641E7DDD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1400" y="6553080"/>
            <a:ext cx="624816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057400" y="1828440"/>
            <a:ext cx="6400800" cy="45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10A72D-C2DA-4F90-AF67-8BD2F8944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1400" y="6553080"/>
            <a:ext cx="624816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057400" y="1828440"/>
            <a:ext cx="3123360" cy="45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337360" y="1828440"/>
            <a:ext cx="3123360" cy="45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54E253-3238-4FDA-9658-BBC5203A0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1400" y="6553080"/>
            <a:ext cx="624816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838358-42A5-422E-A3BA-D135F1F8D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1400" y="6553080"/>
            <a:ext cx="6248160" cy="39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82984A-9263-4267-9FCF-D5D21ED94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1400" y="6553080"/>
            <a:ext cx="624816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057400" y="1828440"/>
            <a:ext cx="312336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337360" y="1828440"/>
            <a:ext cx="3123360" cy="45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2057400" y="4202640"/>
            <a:ext cx="312336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CC4D82-A13B-45A4-949D-FB849FA18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1400" y="6553080"/>
            <a:ext cx="624816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2057400" y="1828440"/>
            <a:ext cx="3123360" cy="45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5337360" y="1828440"/>
            <a:ext cx="312336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337360" y="4202640"/>
            <a:ext cx="312336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6FB0BB-A349-4536-83D1-77393BDD7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1400" y="6553080"/>
            <a:ext cx="624816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057400" y="1828440"/>
            <a:ext cx="312336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5337360" y="1828440"/>
            <a:ext cx="312336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2057400" y="4202640"/>
            <a:ext cx="640080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018C96-2BDF-460C-9B7B-A5ED05EF1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1400" y="6553080"/>
            <a:ext cx="624816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057400" y="1828440"/>
            <a:ext cx="640080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2057400" y="4202640"/>
            <a:ext cx="640080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F64083-0ECA-4C6D-A7B9-8750EB549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1400" y="6553080"/>
            <a:ext cx="624816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2057400" y="1828440"/>
            <a:ext cx="312336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5337360" y="1828440"/>
            <a:ext cx="312336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2057400" y="4202640"/>
            <a:ext cx="312336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337360" y="4202640"/>
            <a:ext cx="312336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6F1058-E55B-4076-A0C9-62F9972EA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1400" y="6553080"/>
            <a:ext cx="6248160" cy="39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2D7A2A-5DC3-48F6-8D57-19C05E3F7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1400" y="6553080"/>
            <a:ext cx="624816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057400" y="1828440"/>
            <a:ext cx="206064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221360" y="1828440"/>
            <a:ext cx="206064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385680" y="1828440"/>
            <a:ext cx="206064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2057400" y="4202640"/>
            <a:ext cx="206064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4221360" y="4202640"/>
            <a:ext cx="206064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385680" y="4202640"/>
            <a:ext cx="206064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FAFBB4-391B-4D84-B50F-CA543559A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DB43FF-8C4E-4016-AC32-D2CB09B09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1400" y="6553080"/>
            <a:ext cx="624816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2057400" y="1828440"/>
            <a:ext cx="6400800" cy="454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A24CA4-0DCB-422E-A9E9-8D17C69A0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1400" y="6553080"/>
            <a:ext cx="624816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057400" y="1828440"/>
            <a:ext cx="6400800" cy="45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E66E55-FE39-41EF-ABF2-24CA04F11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1400" y="6553080"/>
            <a:ext cx="624816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057400" y="1828440"/>
            <a:ext cx="3123360" cy="45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5337360" y="1828440"/>
            <a:ext cx="3123360" cy="45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E65485-A33A-4C21-A6B7-69E6AF76E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1400" y="6553080"/>
            <a:ext cx="624816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F95854-A340-4EA5-A23D-E69F9EB8C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41400" y="6553080"/>
            <a:ext cx="6248160" cy="39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E992F0-C4A3-4034-97F1-1B96555F2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1400" y="6553080"/>
            <a:ext cx="624816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2057400" y="1828440"/>
            <a:ext cx="312336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5337360" y="1828440"/>
            <a:ext cx="3123360" cy="45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2057400" y="4202640"/>
            <a:ext cx="312336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C84D32-0750-4626-811C-1016E11CE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1400" y="6553080"/>
            <a:ext cx="624816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2057400" y="1828440"/>
            <a:ext cx="3123360" cy="45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5337360" y="1828440"/>
            <a:ext cx="312336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337360" y="4202640"/>
            <a:ext cx="312336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5AB2B8-D85C-4984-8398-4A54EEE1E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1400" y="6553080"/>
            <a:ext cx="624816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2057400" y="1828440"/>
            <a:ext cx="312336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337360" y="1828440"/>
            <a:ext cx="312336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2057400" y="4202640"/>
            <a:ext cx="640080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4894D5-8CC3-4E60-9C3B-0A04E19E8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400" y="6553080"/>
            <a:ext cx="624816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057400" y="1828440"/>
            <a:ext cx="312336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337360" y="1828440"/>
            <a:ext cx="3123360" cy="45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057400" y="4202640"/>
            <a:ext cx="312336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F49F13-F22C-407E-BF8B-E5E776BFD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1400" y="6553080"/>
            <a:ext cx="624816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057400" y="1828440"/>
            <a:ext cx="640080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2057400" y="4202640"/>
            <a:ext cx="640080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D9786E-63C7-40ED-8E00-27BA3E7D4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1400" y="6553080"/>
            <a:ext cx="624816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2057400" y="1828440"/>
            <a:ext cx="312336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5337360" y="1828440"/>
            <a:ext cx="312336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2057400" y="4202640"/>
            <a:ext cx="312336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5337360" y="4202640"/>
            <a:ext cx="312336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77306F-10BD-475C-A7C3-923D8E359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1400" y="6553080"/>
            <a:ext cx="624816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2057400" y="1828440"/>
            <a:ext cx="206064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221360" y="1828440"/>
            <a:ext cx="206064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385680" y="1828440"/>
            <a:ext cx="206064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2057400" y="4202640"/>
            <a:ext cx="206064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4221360" y="4202640"/>
            <a:ext cx="206064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6385680" y="4202640"/>
            <a:ext cx="206064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1449CC-DEB3-4E5D-BC8B-028FD7AF7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7C51D2-297F-41AD-808E-FD73361FF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1400" y="6553080"/>
            <a:ext cx="624816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subTitle"/>
          </p:nvPr>
        </p:nvSpPr>
        <p:spPr>
          <a:xfrm>
            <a:off x="2057400" y="1828440"/>
            <a:ext cx="6400800" cy="454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6E85D8-AB8D-4E05-B3B5-71CF82460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1400" y="6553080"/>
            <a:ext cx="624816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057400" y="1828440"/>
            <a:ext cx="6400800" cy="45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0D75DD-AE67-43F4-BB6B-5262C1802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1400" y="6553080"/>
            <a:ext cx="624816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057400" y="1828440"/>
            <a:ext cx="3123360" cy="45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5337360" y="1828440"/>
            <a:ext cx="3123360" cy="45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50C3DD-C084-4ABF-909B-9D707F013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1400" y="6553080"/>
            <a:ext cx="624816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C55C5A-98DC-4448-9B38-24C8BA4F3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ubTitle"/>
          </p:nvPr>
        </p:nvSpPr>
        <p:spPr>
          <a:xfrm>
            <a:off x="41400" y="6553080"/>
            <a:ext cx="6248160" cy="39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1B3B1C-0E92-4858-AF50-BEDF816E2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1400" y="6553080"/>
            <a:ext cx="624816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057400" y="1828440"/>
            <a:ext cx="312336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337360" y="1828440"/>
            <a:ext cx="3123360" cy="45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2057400" y="4202640"/>
            <a:ext cx="312336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13057D-F53E-4E51-B6F2-AAE08D0B6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400" y="6553080"/>
            <a:ext cx="624816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057400" y="1828440"/>
            <a:ext cx="3123360" cy="45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337360" y="1828440"/>
            <a:ext cx="312336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337360" y="4202640"/>
            <a:ext cx="312336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1F3318-AE80-4BD7-8502-DE6E15523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1400" y="6553080"/>
            <a:ext cx="624816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2057400" y="1828440"/>
            <a:ext cx="3123360" cy="45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5337360" y="1828440"/>
            <a:ext cx="312336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337360" y="4202640"/>
            <a:ext cx="312336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F40C7E-ABA2-4A20-A688-731A755AA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1400" y="6553080"/>
            <a:ext cx="624816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2057400" y="1828440"/>
            <a:ext cx="312336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5337360" y="1828440"/>
            <a:ext cx="312336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2057400" y="4202640"/>
            <a:ext cx="640080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C1E6B5-3FE0-40E4-A367-E0EFA31B3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1400" y="6553080"/>
            <a:ext cx="624816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2057400" y="1828440"/>
            <a:ext cx="640080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2057400" y="4202640"/>
            <a:ext cx="640080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8C10B1-47FC-471F-9B3E-5CF9BF999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1400" y="6553080"/>
            <a:ext cx="624816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2057400" y="1828440"/>
            <a:ext cx="312336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5337360" y="1828440"/>
            <a:ext cx="312336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2057400" y="4202640"/>
            <a:ext cx="312336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5337360" y="4202640"/>
            <a:ext cx="312336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F050DD-9A55-46C7-8E94-8FD4AB367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1400" y="6553080"/>
            <a:ext cx="624816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2057400" y="1828440"/>
            <a:ext cx="206064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221360" y="1828440"/>
            <a:ext cx="206064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385680" y="1828440"/>
            <a:ext cx="206064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2057400" y="4202640"/>
            <a:ext cx="206064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311" name="PlaceHolder 6"/>
          <p:cNvSpPr>
            <a:spLocks noGrp="1"/>
          </p:cNvSpPr>
          <p:nvPr>
            <p:ph/>
          </p:nvPr>
        </p:nvSpPr>
        <p:spPr>
          <a:xfrm>
            <a:off x="4221360" y="4202640"/>
            <a:ext cx="206064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312" name="PlaceHolder 7"/>
          <p:cNvSpPr>
            <a:spLocks noGrp="1"/>
          </p:cNvSpPr>
          <p:nvPr>
            <p:ph/>
          </p:nvPr>
        </p:nvSpPr>
        <p:spPr>
          <a:xfrm>
            <a:off x="6385680" y="4202640"/>
            <a:ext cx="206064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55BAD3-19B6-4A85-802C-DD8518B6E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BB3F01-F889-45BB-9769-7110CA5EC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1400" y="6553080"/>
            <a:ext cx="624816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2057400" y="1828440"/>
            <a:ext cx="6400800" cy="454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A9A364-95BD-4009-9F80-00AE8CC09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1400" y="6553080"/>
            <a:ext cx="624816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2057400" y="1828440"/>
            <a:ext cx="6400800" cy="45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16019B-7525-49DE-9B4B-7CECD9DA9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1400" y="6553080"/>
            <a:ext cx="624816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2057400" y="1828440"/>
            <a:ext cx="3123360" cy="45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5337360" y="1828440"/>
            <a:ext cx="3123360" cy="45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6184CD-72F5-47F8-9BB4-056A0CDF7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1400" y="6553080"/>
            <a:ext cx="624816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39EDF6-E925-4D2F-8464-AC6CAA805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400" y="6553080"/>
            <a:ext cx="624816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057400" y="1828440"/>
            <a:ext cx="312336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37360" y="1828440"/>
            <a:ext cx="312336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057400" y="4202640"/>
            <a:ext cx="640080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5BECF5-6C5F-4EDF-931E-8B5EDFFD2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ubTitle"/>
          </p:nvPr>
        </p:nvSpPr>
        <p:spPr>
          <a:xfrm>
            <a:off x="41400" y="6553080"/>
            <a:ext cx="6248160" cy="39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0829B2-254D-47D1-9B5D-01E62DA93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1400" y="6553080"/>
            <a:ext cx="624816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2057400" y="1828440"/>
            <a:ext cx="312336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5337360" y="1828440"/>
            <a:ext cx="3123360" cy="45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2057400" y="4202640"/>
            <a:ext cx="312336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E58D81-69BC-4AE7-9164-678A8F807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1400" y="6553080"/>
            <a:ext cx="624816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2057400" y="1828440"/>
            <a:ext cx="3123360" cy="45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5337360" y="1828440"/>
            <a:ext cx="312336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337360" y="4202640"/>
            <a:ext cx="312336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4CEFB9-1A7A-4FA3-BEC1-F906A2D68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1400" y="6553080"/>
            <a:ext cx="624816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2057400" y="1828440"/>
            <a:ext cx="312336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5337360" y="1828440"/>
            <a:ext cx="312336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2057400" y="4202640"/>
            <a:ext cx="640080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D66D1B-DD7A-4542-850D-EA24D77D0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1400" y="6553080"/>
            <a:ext cx="624816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057400" y="1828440"/>
            <a:ext cx="640080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2057400" y="4202640"/>
            <a:ext cx="640080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E3FD58-1A26-49AB-93F4-B21074647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1400" y="6553080"/>
            <a:ext cx="624816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2057400" y="1828440"/>
            <a:ext cx="312336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5337360" y="1828440"/>
            <a:ext cx="312336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2057400" y="4202640"/>
            <a:ext cx="312336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5337360" y="4202640"/>
            <a:ext cx="312336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5FB27C-AF1A-4F5D-B7CE-5BA9ECF41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1400" y="6553080"/>
            <a:ext cx="624816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2057400" y="1828440"/>
            <a:ext cx="206064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221360" y="1828440"/>
            <a:ext cx="206064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6385680" y="1828440"/>
            <a:ext cx="206064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2057400" y="4202640"/>
            <a:ext cx="206064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/>
          </p:nvPr>
        </p:nvSpPr>
        <p:spPr>
          <a:xfrm>
            <a:off x="4221360" y="4202640"/>
            <a:ext cx="206064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359" name="PlaceHolder 7"/>
          <p:cNvSpPr>
            <a:spLocks noGrp="1"/>
          </p:cNvSpPr>
          <p:nvPr>
            <p:ph/>
          </p:nvPr>
        </p:nvSpPr>
        <p:spPr>
          <a:xfrm>
            <a:off x="6385680" y="4202640"/>
            <a:ext cx="206064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3883CB-03F8-42EC-8FFB-D0D646A97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4"/>
          <p:cNvGrpSpPr/>
          <p:nvPr/>
        </p:nvGrpSpPr>
        <p:grpSpPr>
          <a:xfrm>
            <a:off x="1371600" y="1143000"/>
            <a:ext cx="7772400" cy="5715000"/>
            <a:chOff x="1371600" y="1143000"/>
            <a:chExt cx="7772400" cy="5715000"/>
          </a:xfrm>
        </p:grpSpPr>
        <p:sp>
          <p:nvSpPr>
            <p:cNvPr id="1" name="Rectangle 10"/>
            <p:cNvSpPr/>
            <p:nvPr/>
          </p:nvSpPr>
          <p:spPr>
            <a:xfrm>
              <a:off x="1371600" y="1143000"/>
              <a:ext cx="7772400" cy="571500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Rectangle 13"/>
            <p:cNvSpPr/>
            <p:nvPr/>
          </p:nvSpPr>
          <p:spPr>
            <a:xfrm>
              <a:off x="1600200" y="1371600"/>
              <a:ext cx="7315200" cy="548640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Rectangle 11"/>
            <p:cNvSpPr/>
            <p:nvPr/>
          </p:nvSpPr>
          <p:spPr>
            <a:xfrm>
              <a:off x="1828800" y="1600200"/>
              <a:ext cx="6858000" cy="525780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Rectangle 9"/>
          <p:cNvSpPr/>
          <p:nvPr/>
        </p:nvSpPr>
        <p:spPr>
          <a:xfrm>
            <a:off x="0" y="0"/>
            <a:ext cx="777960" cy="6858000"/>
          </a:xfrm>
          <a:prstGeom prst="rect">
            <a:avLst/>
          </a:prstGeom>
          <a:gradFill rotWithShape="0">
            <a:gsLst>
              <a:gs pos="0">
                <a:srgbClr val="ffffff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body"/>
          </p:nvPr>
        </p:nvSpPr>
        <p:spPr>
          <a:xfrm>
            <a:off x="2057400" y="1828440"/>
            <a:ext cx="6400800" cy="45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7f7f7f"/>
              </a:buClr>
              <a:buSzPct val="80000"/>
              <a:buFont typeface="Wingdings 2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mbria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  <a:p>
            <a:pPr lvl="1" marL="682560" indent="-341280">
              <a:spcBef>
                <a:spcPts val="1500"/>
              </a:spcBef>
              <a:buClr>
                <a:srgbClr val="7f7f7f"/>
              </a:buClr>
              <a:buSzPct val="8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mbria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  <a:p>
            <a:pPr lvl="2" marL="1023840" indent="-341280">
              <a:spcBef>
                <a:spcPts val="1500"/>
              </a:spcBef>
              <a:buClr>
                <a:srgbClr val="7f7f7f"/>
              </a:buClr>
              <a:buSzPct val="80000"/>
              <a:buFont typeface="Wingdings 2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mbria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  <a:p>
            <a:pPr lvl="3" marL="1378080" indent="-354240">
              <a:spcBef>
                <a:spcPts val="1500"/>
              </a:spcBef>
              <a:buClr>
                <a:srgbClr val="7f7f7f"/>
              </a:buClr>
              <a:buSzPct val="8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mbria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  <a:p>
            <a:pPr lvl="4" marL="1719360" indent="-341280">
              <a:spcBef>
                <a:spcPts val="1500"/>
              </a:spcBef>
              <a:buClr>
                <a:srgbClr val="7f7f7f"/>
              </a:buClr>
              <a:buSzPct val="80000"/>
              <a:buFont typeface="Wingdings 2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mbria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  <a:p>
            <a:pPr lvl="5" marL="1719360" indent="-341280">
              <a:spcBef>
                <a:spcPts val="1500"/>
              </a:spcBef>
              <a:buClr>
                <a:srgbClr val="000000"/>
              </a:buClr>
              <a:buSzPct val="80000"/>
              <a:buFont typeface="Wingdings 2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mbria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  <a:p>
            <a:pPr lvl="6" marL="1719360" indent="-341280">
              <a:spcBef>
                <a:spcPts val="1500"/>
              </a:spcBef>
              <a:buClr>
                <a:srgbClr val="000000"/>
              </a:buClr>
              <a:buSzPct val="80000"/>
              <a:buFont typeface="Wingdings 2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mbria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ldNum" idx="1"/>
          </p:nvPr>
        </p:nvSpPr>
        <p:spPr>
          <a:xfrm>
            <a:off x="8778960" y="6573600"/>
            <a:ext cx="36504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743B1-D538-4196-9B35-ACE5F4D588D6}" type="slidenum"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Straight Connector 8" descr=""/>
          <p:cNvPicPr/>
          <p:nvPr/>
        </p:nvPicPr>
        <p:blipFill>
          <a:blip r:embed="rId3"/>
          <a:stretch/>
        </p:blipFill>
        <p:spPr>
          <a:xfrm>
            <a:off x="669960" y="-60480"/>
            <a:ext cx="189000" cy="69850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3"/>
          <p:cNvSpPr>
            <a:spLocks noGrp="1"/>
          </p:cNvSpPr>
          <p:nvPr>
            <p:ph type="dt" idx="2"/>
          </p:nvPr>
        </p:nvSpPr>
        <p:spPr>
          <a:xfrm>
            <a:off x="6552720" y="657360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3"/>
          </p:nvPr>
        </p:nvSpPr>
        <p:spPr>
          <a:xfrm>
            <a:off x="1828440" y="6573600"/>
            <a:ext cx="2895480" cy="2746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 rot="16200000">
            <a:off x="-2659320" y="3006000"/>
            <a:ext cx="624816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4040"/>
                </a:solidFill>
                <a:latin typeface="Cambria"/>
              </a:rPr>
              <a:t>Click to edit the title text format</a:t>
            </a:r>
            <a:endParaRPr b="0" lang="en-US" sz="4000" spc="-1" strike="noStrike">
              <a:solidFill>
                <a:srgbClr val="404040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Group 6" descr=""/>
          <p:cNvPicPr/>
          <p:nvPr/>
        </p:nvPicPr>
        <p:blipFill>
          <a:blip r:embed="rId3"/>
          <a:stretch/>
        </p:blipFill>
        <p:spPr>
          <a:xfrm>
            <a:off x="676440" y="1146240"/>
            <a:ext cx="7797600" cy="9204120"/>
          </a:xfrm>
          <a:prstGeom prst="rect">
            <a:avLst/>
          </a:prstGeom>
          <a:ln w="0">
            <a:noFill/>
          </a:ln>
        </p:spPr>
      </p:pic>
      <p:pic>
        <p:nvPicPr>
          <p:cNvPr id="48" name="Straight Connector 10" descr=""/>
          <p:cNvPicPr/>
          <p:nvPr/>
        </p:nvPicPr>
        <p:blipFill>
          <a:blip r:embed="rId4"/>
          <a:stretch/>
        </p:blipFill>
        <p:spPr>
          <a:xfrm>
            <a:off x="2225520" y="3718080"/>
            <a:ext cx="4699080" cy="1648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2057400" y="1828440"/>
            <a:ext cx="6400800" cy="45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7f7f7f"/>
              </a:buClr>
              <a:buSzPct val="80000"/>
              <a:buFont typeface="Wingdings 2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mbria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  <a:p>
            <a:pPr lvl="1" marL="682560" indent="-341280">
              <a:spcBef>
                <a:spcPts val="1500"/>
              </a:spcBef>
              <a:buClr>
                <a:srgbClr val="7f7f7f"/>
              </a:buClr>
              <a:buSzPct val="8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mbria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  <a:p>
            <a:pPr lvl="2" marL="1023840" indent="-341280">
              <a:spcBef>
                <a:spcPts val="1500"/>
              </a:spcBef>
              <a:buClr>
                <a:srgbClr val="7f7f7f"/>
              </a:buClr>
              <a:buSzPct val="80000"/>
              <a:buFont typeface="Wingdings 2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mbria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  <a:p>
            <a:pPr lvl="3" marL="1378080" indent="-354240">
              <a:spcBef>
                <a:spcPts val="1500"/>
              </a:spcBef>
              <a:buClr>
                <a:srgbClr val="7f7f7f"/>
              </a:buClr>
              <a:buSzPct val="8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mbria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  <a:p>
            <a:pPr lvl="4" marL="1719360" indent="-341280">
              <a:spcBef>
                <a:spcPts val="1500"/>
              </a:spcBef>
              <a:buClr>
                <a:srgbClr val="7f7f7f"/>
              </a:buClr>
              <a:buSzPct val="80000"/>
              <a:buFont typeface="Wingdings 2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mbria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  <a:p>
            <a:pPr lvl="5" marL="1719360" indent="-341280">
              <a:spcBef>
                <a:spcPts val="1500"/>
              </a:spcBef>
              <a:buClr>
                <a:srgbClr val="000000"/>
              </a:buClr>
              <a:buSzPct val="80000"/>
              <a:buFont typeface="Wingdings 2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mbria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  <a:p>
            <a:pPr lvl="6" marL="1719360" indent="-341280">
              <a:spcBef>
                <a:spcPts val="1500"/>
              </a:spcBef>
              <a:buClr>
                <a:srgbClr val="000000"/>
              </a:buClr>
              <a:buSzPct val="80000"/>
              <a:buFont typeface="Wingdings 2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mbria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 rot="16200000">
            <a:off x="-2659320" y="3006000"/>
            <a:ext cx="624816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4040"/>
                </a:solidFill>
                <a:latin typeface="Cambria"/>
              </a:rPr>
              <a:t>Click to edit the title text format</a:t>
            </a:r>
            <a:endParaRPr b="0" lang="en-US" sz="40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5866920" y="657360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1142640" y="6573600"/>
            <a:ext cx="2895480" cy="2746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778960" y="6573600"/>
            <a:ext cx="36504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49BCD-CD17-490B-A3B2-C4DE8A0A6894}" type="slidenum"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11"/>
          <p:cNvGrpSpPr/>
          <p:nvPr/>
        </p:nvGrpSpPr>
        <p:grpSpPr>
          <a:xfrm>
            <a:off x="0" y="1143000"/>
            <a:ext cx="7772400" cy="2743200"/>
            <a:chOff x="0" y="1143000"/>
            <a:chExt cx="7772400" cy="2743200"/>
          </a:xfrm>
        </p:grpSpPr>
        <p:sp>
          <p:nvSpPr>
            <p:cNvPr id="91" name="Rectangle 8"/>
            <p:cNvSpPr/>
            <p:nvPr/>
          </p:nvSpPr>
          <p:spPr>
            <a:xfrm>
              <a:off x="0" y="1143000"/>
              <a:ext cx="7772400" cy="274320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Rectangle 9"/>
            <p:cNvSpPr/>
            <p:nvPr/>
          </p:nvSpPr>
          <p:spPr>
            <a:xfrm>
              <a:off x="0" y="1371600"/>
              <a:ext cx="7543800" cy="228600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Rectangle 10"/>
            <p:cNvSpPr/>
            <p:nvPr/>
          </p:nvSpPr>
          <p:spPr>
            <a:xfrm>
              <a:off x="0" y="1600200"/>
              <a:ext cx="7315200" cy="182880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body"/>
          </p:nvPr>
        </p:nvSpPr>
        <p:spPr>
          <a:xfrm>
            <a:off x="2057400" y="1828440"/>
            <a:ext cx="6400800" cy="45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7f7f7f"/>
              </a:buClr>
              <a:buSzPct val="80000"/>
              <a:buFont typeface="Wingdings 2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mbria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  <a:p>
            <a:pPr lvl="1" marL="682560" indent="-341280">
              <a:spcBef>
                <a:spcPts val="1500"/>
              </a:spcBef>
              <a:buClr>
                <a:srgbClr val="7f7f7f"/>
              </a:buClr>
              <a:buSzPct val="8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mbria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  <a:p>
            <a:pPr lvl="2" marL="1023840" indent="-341280">
              <a:spcBef>
                <a:spcPts val="1500"/>
              </a:spcBef>
              <a:buClr>
                <a:srgbClr val="7f7f7f"/>
              </a:buClr>
              <a:buSzPct val="80000"/>
              <a:buFont typeface="Wingdings 2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mbria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  <a:p>
            <a:pPr lvl="3" marL="1378080" indent="-354240">
              <a:spcBef>
                <a:spcPts val="1500"/>
              </a:spcBef>
              <a:buClr>
                <a:srgbClr val="7f7f7f"/>
              </a:buClr>
              <a:buSzPct val="8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mbria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  <a:p>
            <a:pPr lvl="4" marL="1719360" indent="-341280">
              <a:spcBef>
                <a:spcPts val="1500"/>
              </a:spcBef>
              <a:buClr>
                <a:srgbClr val="7f7f7f"/>
              </a:buClr>
              <a:buSzPct val="80000"/>
              <a:buFont typeface="Wingdings 2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mbria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  <a:p>
            <a:pPr lvl="5" marL="1719360" indent="-341280">
              <a:spcBef>
                <a:spcPts val="1500"/>
              </a:spcBef>
              <a:buClr>
                <a:srgbClr val="000000"/>
              </a:buClr>
              <a:buSzPct val="80000"/>
              <a:buFont typeface="Wingdings 2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mbria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  <a:p>
            <a:pPr lvl="6" marL="1719360" indent="-341280">
              <a:spcBef>
                <a:spcPts val="1500"/>
              </a:spcBef>
              <a:buClr>
                <a:srgbClr val="000000"/>
              </a:buClr>
              <a:buSzPct val="80000"/>
              <a:buFont typeface="Wingdings 2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mbria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title"/>
          </p:nvPr>
        </p:nvSpPr>
        <p:spPr>
          <a:xfrm rot="16200000">
            <a:off x="-2659320" y="3006000"/>
            <a:ext cx="624816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4040"/>
                </a:solidFill>
                <a:latin typeface="Cambria"/>
              </a:rPr>
              <a:t>Click to edit the title text format</a:t>
            </a:r>
            <a:endParaRPr b="0" lang="en-US" sz="40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4952520" y="657360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228240" y="6573600"/>
            <a:ext cx="2895480" cy="2746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778960" y="6573600"/>
            <a:ext cx="36504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ADCDE-8F67-4215-89BA-99554F7724F6}" type="slidenum"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Group 14"/>
          <p:cNvGrpSpPr/>
          <p:nvPr/>
        </p:nvGrpSpPr>
        <p:grpSpPr>
          <a:xfrm>
            <a:off x="1371600" y="1143000"/>
            <a:ext cx="7772400" cy="5715000"/>
            <a:chOff x="1371600" y="1143000"/>
            <a:chExt cx="7772400" cy="5715000"/>
          </a:xfrm>
        </p:grpSpPr>
        <p:sp>
          <p:nvSpPr>
            <p:cNvPr id="136" name="Rectangle 10"/>
            <p:cNvSpPr/>
            <p:nvPr/>
          </p:nvSpPr>
          <p:spPr>
            <a:xfrm>
              <a:off x="1371600" y="1143000"/>
              <a:ext cx="7772400" cy="571500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Rectangle 13"/>
            <p:cNvSpPr/>
            <p:nvPr/>
          </p:nvSpPr>
          <p:spPr>
            <a:xfrm>
              <a:off x="1600200" y="1371600"/>
              <a:ext cx="7315200" cy="548640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Rectangle 11"/>
            <p:cNvSpPr/>
            <p:nvPr/>
          </p:nvSpPr>
          <p:spPr>
            <a:xfrm>
              <a:off x="1828800" y="1600200"/>
              <a:ext cx="6858000" cy="525780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Rectangle 9"/>
          <p:cNvSpPr/>
          <p:nvPr/>
        </p:nvSpPr>
        <p:spPr>
          <a:xfrm>
            <a:off x="0" y="0"/>
            <a:ext cx="777960" cy="6858000"/>
          </a:xfrm>
          <a:prstGeom prst="rect">
            <a:avLst/>
          </a:prstGeom>
          <a:gradFill rotWithShape="0">
            <a:gsLst>
              <a:gs pos="0">
                <a:srgbClr val="ffffff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Straight Connector 8" descr=""/>
          <p:cNvPicPr/>
          <p:nvPr/>
        </p:nvPicPr>
        <p:blipFill>
          <a:blip r:embed="rId3"/>
          <a:stretch/>
        </p:blipFill>
        <p:spPr>
          <a:xfrm>
            <a:off x="669960" y="-60480"/>
            <a:ext cx="189000" cy="6985080"/>
          </a:xfrm>
          <a:prstGeom prst="rect">
            <a:avLst/>
          </a:prstGeom>
          <a:ln w="0">
            <a:noFill/>
          </a:ln>
        </p:spPr>
      </p:pic>
      <p:pic>
        <p:nvPicPr>
          <p:cNvPr id="141" name="Straight Connector 9" descr=""/>
          <p:cNvPicPr/>
          <p:nvPr/>
        </p:nvPicPr>
        <p:blipFill>
          <a:blip r:embed="rId4"/>
          <a:stretch/>
        </p:blipFill>
        <p:spPr>
          <a:xfrm>
            <a:off x="2011320" y="2468520"/>
            <a:ext cx="6529320" cy="16524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 type="body"/>
          </p:nvPr>
        </p:nvSpPr>
        <p:spPr>
          <a:xfrm>
            <a:off x="2057400" y="1828440"/>
            <a:ext cx="6400800" cy="45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7f7f7f"/>
              </a:buClr>
              <a:buSzPct val="80000"/>
              <a:buFont typeface="Wingdings 2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mbria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  <a:p>
            <a:pPr lvl="1" marL="682560" indent="-341280">
              <a:spcBef>
                <a:spcPts val="1500"/>
              </a:spcBef>
              <a:buClr>
                <a:srgbClr val="7f7f7f"/>
              </a:buClr>
              <a:buSzPct val="8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mbria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  <a:p>
            <a:pPr lvl="2" marL="1023840" indent="-341280">
              <a:spcBef>
                <a:spcPts val="1500"/>
              </a:spcBef>
              <a:buClr>
                <a:srgbClr val="7f7f7f"/>
              </a:buClr>
              <a:buSzPct val="80000"/>
              <a:buFont typeface="Wingdings 2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mbria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  <a:p>
            <a:pPr lvl="3" marL="1378080" indent="-354240">
              <a:spcBef>
                <a:spcPts val="1500"/>
              </a:spcBef>
              <a:buClr>
                <a:srgbClr val="7f7f7f"/>
              </a:buClr>
              <a:buSzPct val="8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mbria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  <a:p>
            <a:pPr lvl="4" marL="1719360" indent="-341280">
              <a:spcBef>
                <a:spcPts val="1500"/>
              </a:spcBef>
              <a:buClr>
                <a:srgbClr val="7f7f7f"/>
              </a:buClr>
              <a:buSzPct val="80000"/>
              <a:buFont typeface="Wingdings 2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mbria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  <a:p>
            <a:pPr lvl="5" marL="1719360" indent="-341280">
              <a:spcBef>
                <a:spcPts val="1500"/>
              </a:spcBef>
              <a:buClr>
                <a:srgbClr val="000000"/>
              </a:buClr>
              <a:buSzPct val="80000"/>
              <a:buFont typeface="Wingdings 2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mbria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  <a:p>
            <a:pPr lvl="6" marL="1719360" indent="-341280">
              <a:spcBef>
                <a:spcPts val="1500"/>
              </a:spcBef>
              <a:buClr>
                <a:srgbClr val="000000"/>
              </a:buClr>
              <a:buSzPct val="80000"/>
              <a:buFont typeface="Wingdings 2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mbria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title"/>
          </p:nvPr>
        </p:nvSpPr>
        <p:spPr>
          <a:xfrm rot="16200000">
            <a:off x="-2659320" y="3006000"/>
            <a:ext cx="624816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4040"/>
                </a:solidFill>
                <a:latin typeface="Cambria"/>
              </a:rPr>
              <a:t>Click to edit the title text format</a:t>
            </a:r>
            <a:endParaRPr b="0" lang="en-US" sz="40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dt" idx="10"/>
          </p:nvPr>
        </p:nvSpPr>
        <p:spPr>
          <a:xfrm>
            <a:off x="6552720" y="657360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ftr" idx="11"/>
          </p:nvPr>
        </p:nvSpPr>
        <p:spPr>
          <a:xfrm>
            <a:off x="1828440" y="6573600"/>
            <a:ext cx="2895480" cy="2746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sldNum" idx="12"/>
          </p:nvPr>
        </p:nvSpPr>
        <p:spPr>
          <a:xfrm>
            <a:off x="8778960" y="6573600"/>
            <a:ext cx="36504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659EF-126E-45D3-AA7D-BC75277EAE2A}" type="slidenum"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Group 11" descr=""/>
          <p:cNvPicPr/>
          <p:nvPr/>
        </p:nvPicPr>
        <p:blipFill>
          <a:blip r:embed="rId3"/>
          <a:stretch/>
        </p:blipFill>
        <p:spPr>
          <a:xfrm>
            <a:off x="-12600" y="0"/>
            <a:ext cx="9169200" cy="12862080"/>
          </a:xfrm>
          <a:prstGeom prst="rect">
            <a:avLst/>
          </a:prstGeom>
          <a:ln w="0">
            <a:noFill/>
          </a:ln>
        </p:spPr>
      </p:pic>
      <p:sp>
        <p:nvSpPr>
          <p:cNvPr id="184" name="PlaceHolder 1"/>
          <p:cNvSpPr>
            <a:spLocks noGrp="1"/>
          </p:cNvSpPr>
          <p:nvPr>
            <p:ph type="body"/>
          </p:nvPr>
        </p:nvSpPr>
        <p:spPr>
          <a:xfrm>
            <a:off x="2057400" y="1828440"/>
            <a:ext cx="6400800" cy="45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7f7f7f"/>
              </a:buClr>
              <a:buSzPct val="80000"/>
              <a:buFont typeface="Wingdings 2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mbria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  <a:p>
            <a:pPr lvl="1" marL="682560" indent="-341280">
              <a:spcBef>
                <a:spcPts val="1500"/>
              </a:spcBef>
              <a:buClr>
                <a:srgbClr val="7f7f7f"/>
              </a:buClr>
              <a:buSzPct val="8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mbria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  <a:p>
            <a:pPr lvl="2" marL="1023840" indent="-341280">
              <a:spcBef>
                <a:spcPts val="1500"/>
              </a:spcBef>
              <a:buClr>
                <a:srgbClr val="7f7f7f"/>
              </a:buClr>
              <a:buSzPct val="80000"/>
              <a:buFont typeface="Wingdings 2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mbria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  <a:p>
            <a:pPr lvl="3" marL="1378080" indent="-354240">
              <a:spcBef>
                <a:spcPts val="1500"/>
              </a:spcBef>
              <a:buClr>
                <a:srgbClr val="7f7f7f"/>
              </a:buClr>
              <a:buSzPct val="8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mbria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  <a:p>
            <a:pPr lvl="4" marL="1719360" indent="-341280">
              <a:spcBef>
                <a:spcPts val="1500"/>
              </a:spcBef>
              <a:buClr>
                <a:srgbClr val="7f7f7f"/>
              </a:buClr>
              <a:buSzPct val="80000"/>
              <a:buFont typeface="Wingdings 2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mbria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  <a:p>
            <a:pPr lvl="5" marL="1719360" indent="-341280">
              <a:spcBef>
                <a:spcPts val="1500"/>
              </a:spcBef>
              <a:buClr>
                <a:srgbClr val="000000"/>
              </a:buClr>
              <a:buSzPct val="80000"/>
              <a:buFont typeface="Wingdings 2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mbria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  <a:p>
            <a:pPr lvl="6" marL="1719360" indent="-341280">
              <a:spcBef>
                <a:spcPts val="1500"/>
              </a:spcBef>
              <a:buClr>
                <a:srgbClr val="000000"/>
              </a:buClr>
              <a:buSzPct val="80000"/>
              <a:buFont typeface="Wingdings 2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mbria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title"/>
          </p:nvPr>
        </p:nvSpPr>
        <p:spPr>
          <a:xfrm rot="16200000">
            <a:off x="-2659320" y="3006000"/>
            <a:ext cx="624816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4040"/>
                </a:solidFill>
                <a:latin typeface="Cambria"/>
              </a:rPr>
              <a:t>Click to edit the title text format</a:t>
            </a:r>
            <a:endParaRPr b="0" lang="en-US" sz="40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dt" idx="13"/>
          </p:nvPr>
        </p:nvSpPr>
        <p:spPr>
          <a:xfrm>
            <a:off x="5866920" y="657360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ftr" idx="14"/>
          </p:nvPr>
        </p:nvSpPr>
        <p:spPr>
          <a:xfrm>
            <a:off x="1142640" y="6573600"/>
            <a:ext cx="2895480" cy="2746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sldNum" idx="15"/>
          </p:nvPr>
        </p:nvSpPr>
        <p:spPr>
          <a:xfrm>
            <a:off x="8778960" y="6573600"/>
            <a:ext cx="36504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AE715-B417-4B38-99F5-6FFA8F231BA3}" type="slidenum"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Group 7" descr=""/>
          <p:cNvPicPr/>
          <p:nvPr/>
        </p:nvPicPr>
        <p:blipFill>
          <a:blip r:embed="rId3"/>
          <a:stretch/>
        </p:blipFill>
        <p:spPr>
          <a:xfrm>
            <a:off x="1359000" y="1146240"/>
            <a:ext cx="7797600" cy="10569600"/>
          </a:xfrm>
          <a:prstGeom prst="rect">
            <a:avLst/>
          </a:prstGeom>
          <a:ln w="0">
            <a:noFill/>
          </a:ln>
        </p:spPr>
      </p:pic>
      <p:sp>
        <p:nvSpPr>
          <p:cNvPr id="226" name="Rectangle 12"/>
          <p:cNvSpPr/>
          <p:nvPr/>
        </p:nvSpPr>
        <p:spPr>
          <a:xfrm rot="5400000">
            <a:off x="3268440" y="-3268440"/>
            <a:ext cx="777960" cy="7315200"/>
          </a:xfrm>
          <a:prstGeom prst="rect">
            <a:avLst/>
          </a:prstGeom>
          <a:gradFill rotWithShape="0">
            <a:gsLst>
              <a:gs pos="0">
                <a:srgbClr val="ffffff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Straight Connector 13" descr=""/>
          <p:cNvPicPr/>
          <p:nvPr/>
        </p:nvPicPr>
        <p:blipFill>
          <a:blip r:embed="rId4"/>
          <a:stretch/>
        </p:blipFill>
        <p:spPr>
          <a:xfrm>
            <a:off x="-60480" y="695160"/>
            <a:ext cx="7442280" cy="189000"/>
          </a:xfrm>
          <a:prstGeom prst="rect">
            <a:avLst/>
          </a:prstGeom>
          <a:ln w="0">
            <a:noFill/>
          </a:ln>
        </p:spPr>
      </p:pic>
      <p:sp>
        <p:nvSpPr>
          <p:cNvPr id="228" name="PlaceHolder 1"/>
          <p:cNvSpPr>
            <a:spLocks noGrp="1"/>
          </p:cNvSpPr>
          <p:nvPr>
            <p:ph type="body"/>
          </p:nvPr>
        </p:nvSpPr>
        <p:spPr>
          <a:xfrm>
            <a:off x="2057400" y="1828440"/>
            <a:ext cx="6400800" cy="45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7f7f7f"/>
              </a:buClr>
              <a:buSzPct val="80000"/>
              <a:buFont typeface="Wingdings 2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mbria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  <a:p>
            <a:pPr lvl="1" marL="682560" indent="-341280">
              <a:spcBef>
                <a:spcPts val="1500"/>
              </a:spcBef>
              <a:buClr>
                <a:srgbClr val="7f7f7f"/>
              </a:buClr>
              <a:buSzPct val="8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mbria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  <a:p>
            <a:pPr lvl="2" marL="1023840" indent="-341280">
              <a:spcBef>
                <a:spcPts val="1500"/>
              </a:spcBef>
              <a:buClr>
                <a:srgbClr val="7f7f7f"/>
              </a:buClr>
              <a:buSzPct val="80000"/>
              <a:buFont typeface="Wingdings 2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mbria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  <a:p>
            <a:pPr lvl="3" marL="1378080" indent="-354240">
              <a:spcBef>
                <a:spcPts val="1500"/>
              </a:spcBef>
              <a:buClr>
                <a:srgbClr val="7f7f7f"/>
              </a:buClr>
              <a:buSzPct val="8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mbria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  <a:p>
            <a:pPr lvl="4" marL="1719360" indent="-341280">
              <a:spcBef>
                <a:spcPts val="1500"/>
              </a:spcBef>
              <a:buClr>
                <a:srgbClr val="7f7f7f"/>
              </a:buClr>
              <a:buSzPct val="80000"/>
              <a:buFont typeface="Wingdings 2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mbria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  <a:p>
            <a:pPr lvl="5" marL="1719360" indent="-341280">
              <a:spcBef>
                <a:spcPts val="1500"/>
              </a:spcBef>
              <a:buClr>
                <a:srgbClr val="000000"/>
              </a:buClr>
              <a:buSzPct val="80000"/>
              <a:buFont typeface="Wingdings 2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mbria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  <a:p>
            <a:pPr lvl="6" marL="1719360" indent="-341280">
              <a:spcBef>
                <a:spcPts val="1500"/>
              </a:spcBef>
              <a:buClr>
                <a:srgbClr val="000000"/>
              </a:buClr>
              <a:buSzPct val="80000"/>
              <a:buFont typeface="Wingdings 2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mbria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 rot="16200000">
            <a:off x="-2659320" y="3006000"/>
            <a:ext cx="624816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4040"/>
                </a:solidFill>
                <a:latin typeface="Cambria"/>
              </a:rPr>
              <a:t>Click to edit the title text format</a:t>
            </a:r>
            <a:endParaRPr b="0" lang="en-US" sz="40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dt" idx="16"/>
          </p:nvPr>
        </p:nvSpPr>
        <p:spPr>
          <a:xfrm>
            <a:off x="6552720" y="657360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 type="ftr" idx="17"/>
          </p:nvPr>
        </p:nvSpPr>
        <p:spPr>
          <a:xfrm>
            <a:off x="1828440" y="6573600"/>
            <a:ext cx="2895480" cy="2746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 type="sldNum" idx="18"/>
          </p:nvPr>
        </p:nvSpPr>
        <p:spPr>
          <a:xfrm>
            <a:off x="8778960" y="6573600"/>
            <a:ext cx="36504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12DBF-71F9-41D7-9FBB-9969A8F4C6FD}" type="slidenum"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17"/>
          <p:cNvSpPr/>
          <p:nvPr/>
        </p:nvSpPr>
        <p:spPr>
          <a:xfrm rot="5400000">
            <a:off x="3268440" y="-3268440"/>
            <a:ext cx="777960" cy="7315200"/>
          </a:xfrm>
          <a:prstGeom prst="rect">
            <a:avLst/>
          </a:prstGeom>
          <a:gradFill rotWithShape="0">
            <a:gsLst>
              <a:gs pos="0">
                <a:srgbClr val="ffffff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Straight Connector 18" descr=""/>
          <p:cNvPicPr/>
          <p:nvPr/>
        </p:nvPicPr>
        <p:blipFill>
          <a:blip r:embed="rId3"/>
          <a:stretch/>
        </p:blipFill>
        <p:spPr>
          <a:xfrm>
            <a:off x="-60480" y="695160"/>
            <a:ext cx="7442280" cy="189000"/>
          </a:xfrm>
          <a:prstGeom prst="rect">
            <a:avLst/>
          </a:prstGeom>
          <a:ln w="0">
            <a:noFill/>
          </a:ln>
        </p:spPr>
      </p:pic>
      <p:pic>
        <p:nvPicPr>
          <p:cNvPr id="271" name="Group 13" descr=""/>
          <p:cNvPicPr/>
          <p:nvPr/>
        </p:nvPicPr>
        <p:blipFill>
          <a:blip r:embed="rId4"/>
          <a:stretch/>
        </p:blipFill>
        <p:spPr>
          <a:xfrm>
            <a:off x="1359000" y="1146240"/>
            <a:ext cx="7797600" cy="10569600"/>
          </a:xfrm>
          <a:prstGeom prst="rect">
            <a:avLst/>
          </a:prstGeom>
          <a:ln w="0">
            <a:noFill/>
          </a:ln>
        </p:spPr>
      </p:pic>
      <p:sp>
        <p:nvSpPr>
          <p:cNvPr id="272" name="PlaceHolder 1"/>
          <p:cNvSpPr>
            <a:spLocks noGrp="1"/>
          </p:cNvSpPr>
          <p:nvPr>
            <p:ph type="body"/>
          </p:nvPr>
        </p:nvSpPr>
        <p:spPr>
          <a:xfrm>
            <a:off x="2057400" y="1828440"/>
            <a:ext cx="6400800" cy="45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7f7f7f"/>
              </a:buClr>
              <a:buSzPct val="80000"/>
              <a:buFont typeface="Wingdings 2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mbria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  <a:p>
            <a:pPr lvl="1" marL="682560" indent="-341280">
              <a:spcBef>
                <a:spcPts val="1500"/>
              </a:spcBef>
              <a:buClr>
                <a:srgbClr val="7f7f7f"/>
              </a:buClr>
              <a:buSzPct val="8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mbria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  <a:p>
            <a:pPr lvl="2" marL="1023840" indent="-341280">
              <a:spcBef>
                <a:spcPts val="1500"/>
              </a:spcBef>
              <a:buClr>
                <a:srgbClr val="7f7f7f"/>
              </a:buClr>
              <a:buSzPct val="80000"/>
              <a:buFont typeface="Wingdings 2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mbria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  <a:p>
            <a:pPr lvl="3" marL="1378080" indent="-354240">
              <a:spcBef>
                <a:spcPts val="1500"/>
              </a:spcBef>
              <a:buClr>
                <a:srgbClr val="7f7f7f"/>
              </a:buClr>
              <a:buSzPct val="8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mbria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  <a:p>
            <a:pPr lvl="4" marL="1719360" indent="-341280">
              <a:spcBef>
                <a:spcPts val="1500"/>
              </a:spcBef>
              <a:buClr>
                <a:srgbClr val="7f7f7f"/>
              </a:buClr>
              <a:buSzPct val="80000"/>
              <a:buFont typeface="Wingdings 2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mbria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  <a:p>
            <a:pPr lvl="5" marL="1719360" indent="-341280">
              <a:spcBef>
                <a:spcPts val="1500"/>
              </a:spcBef>
              <a:buClr>
                <a:srgbClr val="000000"/>
              </a:buClr>
              <a:buSzPct val="80000"/>
              <a:buFont typeface="Wingdings 2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mbria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  <a:p>
            <a:pPr lvl="6" marL="1719360" indent="-341280">
              <a:spcBef>
                <a:spcPts val="1500"/>
              </a:spcBef>
              <a:buClr>
                <a:srgbClr val="000000"/>
              </a:buClr>
              <a:buSzPct val="80000"/>
              <a:buFont typeface="Wingdings 2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mbria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title"/>
          </p:nvPr>
        </p:nvSpPr>
        <p:spPr>
          <a:xfrm rot="16200000">
            <a:off x="-2659320" y="3006000"/>
            <a:ext cx="624816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4040"/>
                </a:solidFill>
                <a:latin typeface="Cambria"/>
              </a:rPr>
              <a:t>Click to edit the title text format</a:t>
            </a:r>
            <a:endParaRPr b="0" lang="en-US" sz="40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 type="dt" idx="19"/>
          </p:nvPr>
        </p:nvSpPr>
        <p:spPr>
          <a:xfrm>
            <a:off x="6552720" y="657360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 type="ftr" idx="20"/>
          </p:nvPr>
        </p:nvSpPr>
        <p:spPr>
          <a:xfrm>
            <a:off x="1828440" y="6573600"/>
            <a:ext cx="2895480" cy="2746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 type="sldNum" idx="21"/>
          </p:nvPr>
        </p:nvSpPr>
        <p:spPr>
          <a:xfrm>
            <a:off x="8778960" y="6573600"/>
            <a:ext cx="36504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67620-517E-4FA5-90E9-5902EDE4657F}" type="slidenum"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3" name="Group 6"/>
          <p:cNvGrpSpPr/>
          <p:nvPr/>
        </p:nvGrpSpPr>
        <p:grpSpPr>
          <a:xfrm>
            <a:off x="0" y="1143000"/>
            <a:ext cx="7772400" cy="5715000"/>
            <a:chOff x="0" y="1143000"/>
            <a:chExt cx="7772400" cy="5715000"/>
          </a:xfrm>
        </p:grpSpPr>
        <p:sp>
          <p:nvSpPr>
            <p:cNvPr id="314" name="Rectangle 7"/>
            <p:cNvSpPr/>
            <p:nvPr/>
          </p:nvSpPr>
          <p:spPr>
            <a:xfrm>
              <a:off x="0" y="1143000"/>
              <a:ext cx="7772400" cy="571500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Rectangle 8"/>
            <p:cNvSpPr/>
            <p:nvPr/>
          </p:nvSpPr>
          <p:spPr>
            <a:xfrm>
              <a:off x="228600" y="1371600"/>
              <a:ext cx="7315200" cy="548640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Rectangle 9"/>
            <p:cNvSpPr/>
            <p:nvPr/>
          </p:nvSpPr>
          <p:spPr>
            <a:xfrm>
              <a:off x="457200" y="1600200"/>
              <a:ext cx="6858000" cy="525780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7" name="Rectangle 10"/>
          <p:cNvSpPr/>
          <p:nvPr/>
        </p:nvSpPr>
        <p:spPr>
          <a:xfrm flipV="1">
            <a:off x="8366040" y="0"/>
            <a:ext cx="777960" cy="6858000"/>
          </a:xfrm>
          <a:prstGeom prst="rect">
            <a:avLst/>
          </a:prstGeom>
          <a:gradFill rotWithShape="0">
            <a:gsLst>
              <a:gs pos="0">
                <a:srgbClr val="ffffff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Straight Connector 11" descr=""/>
          <p:cNvPicPr/>
          <p:nvPr/>
        </p:nvPicPr>
        <p:blipFill>
          <a:blip r:embed="rId3"/>
          <a:stretch/>
        </p:blipFill>
        <p:spPr>
          <a:xfrm>
            <a:off x="8278920" y="-60480"/>
            <a:ext cx="188640" cy="6985080"/>
          </a:xfrm>
          <a:prstGeom prst="rect">
            <a:avLst/>
          </a:prstGeom>
          <a:ln w="0">
            <a:noFill/>
          </a:ln>
        </p:spPr>
      </p:pic>
      <p:sp>
        <p:nvSpPr>
          <p:cNvPr id="319" name="PlaceHolder 1"/>
          <p:cNvSpPr>
            <a:spLocks noGrp="1"/>
          </p:cNvSpPr>
          <p:nvPr>
            <p:ph type="body"/>
          </p:nvPr>
        </p:nvSpPr>
        <p:spPr>
          <a:xfrm>
            <a:off x="2057400" y="1828440"/>
            <a:ext cx="6400800" cy="45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7f7f7f"/>
              </a:buClr>
              <a:buSzPct val="80000"/>
              <a:buFont typeface="Wingdings 2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mbria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  <a:p>
            <a:pPr lvl="1" marL="682560" indent="-341280">
              <a:spcBef>
                <a:spcPts val="1500"/>
              </a:spcBef>
              <a:buClr>
                <a:srgbClr val="7f7f7f"/>
              </a:buClr>
              <a:buSzPct val="8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mbria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  <a:p>
            <a:pPr lvl="2" marL="1023840" indent="-341280">
              <a:spcBef>
                <a:spcPts val="1500"/>
              </a:spcBef>
              <a:buClr>
                <a:srgbClr val="7f7f7f"/>
              </a:buClr>
              <a:buSzPct val="80000"/>
              <a:buFont typeface="Wingdings 2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mbria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  <a:p>
            <a:pPr lvl="3" marL="1378080" indent="-354240">
              <a:spcBef>
                <a:spcPts val="1500"/>
              </a:spcBef>
              <a:buClr>
                <a:srgbClr val="7f7f7f"/>
              </a:buClr>
              <a:buSzPct val="8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mbria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  <a:p>
            <a:pPr lvl="4" marL="1719360" indent="-341280">
              <a:spcBef>
                <a:spcPts val="1500"/>
              </a:spcBef>
              <a:buClr>
                <a:srgbClr val="7f7f7f"/>
              </a:buClr>
              <a:buSzPct val="80000"/>
              <a:buFont typeface="Wingdings 2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mbria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  <a:p>
            <a:pPr lvl="5" marL="1719360" indent="-341280">
              <a:spcBef>
                <a:spcPts val="1500"/>
              </a:spcBef>
              <a:buClr>
                <a:srgbClr val="000000"/>
              </a:buClr>
              <a:buSzPct val="80000"/>
              <a:buFont typeface="Wingdings 2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mbria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  <a:p>
            <a:pPr lvl="6" marL="1719360" indent="-341280">
              <a:spcBef>
                <a:spcPts val="1500"/>
              </a:spcBef>
              <a:buClr>
                <a:srgbClr val="000000"/>
              </a:buClr>
              <a:buSzPct val="80000"/>
              <a:buFont typeface="Wingdings 2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mbria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title"/>
          </p:nvPr>
        </p:nvSpPr>
        <p:spPr>
          <a:xfrm rot="16200000">
            <a:off x="-2659320" y="3006000"/>
            <a:ext cx="624816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4040"/>
                </a:solidFill>
                <a:latin typeface="Cambria"/>
              </a:rPr>
              <a:t>Click to edit the title text format</a:t>
            </a:r>
            <a:endParaRPr b="0" lang="en-US" sz="40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dt" idx="22"/>
          </p:nvPr>
        </p:nvSpPr>
        <p:spPr>
          <a:xfrm>
            <a:off x="5181120" y="657360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ftr" idx="23"/>
          </p:nvPr>
        </p:nvSpPr>
        <p:spPr>
          <a:xfrm>
            <a:off x="456840" y="6573600"/>
            <a:ext cx="2895480" cy="2746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sldNum" idx="24"/>
          </p:nvPr>
        </p:nvSpPr>
        <p:spPr>
          <a:xfrm>
            <a:off x="8778960" y="6573600"/>
            <a:ext cx="36504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C3DBC-3515-4A02-8D81-AE039A3F9D82}" type="slidenum"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hyperlink" Target="http://www.pravmir.ru/aleksandr-nevskij-myslitel-filosof-strateg-svyatoj/" TargetMode="External"/><Relationship Id="rId4" Type="http://schemas.openxmlformats.org/officeDocument/2006/relationships/hyperlink" Target="http://fotki.yandex.ru/users/minaew-vasilij/view/494320/?page=0" TargetMode="External"/><Relationship Id="rId5" Type="http://schemas.openxmlformats.org/officeDocument/2006/relationships/hyperlink" Target="http://shkolazhizni.ru/archive/0/n-20834/" TargetMode="External"/><Relationship Id="rId6" Type="http://schemas.openxmlformats.org/officeDocument/2006/relationships/hyperlink" Target="http://www.olofmp3.ru/index.php/10-velikih-russkih-kompozitorov.-Chasty-2.html" TargetMode="External"/><Relationship Id="rId7" Type="http://schemas.openxmlformats.org/officeDocument/2006/relationships/hyperlink" Target="http://narodna.pravda.com.ua/rus/history/4f04d067cbc50/" TargetMode="External"/><Relationship Id="rId8" Type="http://schemas.openxmlformats.org/officeDocument/2006/relationships/hyperlink" Target="http://narodna.pravda.com.ua/rus/history/4f04d067cbc50/" TargetMode="External"/><Relationship Id="rId9" Type="http://schemas.openxmlformats.org/officeDocument/2006/relationships/hyperlink" Target="http://en.wikipedia.org/wiki/Ivan_Susanin" TargetMode="External"/><Relationship Id="rId10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gif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Прямоугольник 1"/>
          <p:cNvSpPr/>
          <p:nvPr/>
        </p:nvSpPr>
        <p:spPr>
          <a:xfrm>
            <a:off x="2583000" y="115416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рок музыки, 3 класс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грамма Е. Д. Критской, Г. П. Сергеевой, Т. С. Шмагин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3"/>
          <p:cNvSpPr/>
          <p:nvPr/>
        </p:nvSpPr>
        <p:spPr>
          <a:xfrm>
            <a:off x="1996920" y="4508640"/>
            <a:ext cx="47898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тор: Чиркунова Ольга Вячеславовн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 музы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БОУ Уршельская сош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усь-Хрустального район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ладимирской обл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2" name="Прямоугольник 4" descr=""/>
          <p:cNvPicPr/>
          <p:nvPr/>
        </p:nvPicPr>
        <p:blipFill>
          <a:blip r:embed="rId2"/>
          <a:stretch/>
        </p:blipFill>
        <p:spPr>
          <a:xfrm>
            <a:off x="1706400" y="2305080"/>
            <a:ext cx="5761080" cy="1981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Прямоугольник 1" descr=""/>
          <p:cNvPicPr/>
          <p:nvPr/>
        </p:nvPicPr>
        <p:blipFill>
          <a:blip r:embed="rId2"/>
          <a:stretch/>
        </p:blipFill>
        <p:spPr>
          <a:xfrm>
            <a:off x="-92160" y="152280"/>
            <a:ext cx="9498240" cy="1073160"/>
          </a:xfrm>
          <a:prstGeom prst="rect">
            <a:avLst/>
          </a:prstGeom>
          <a:ln w="0">
            <a:noFill/>
          </a:ln>
        </p:spPr>
      </p:pic>
      <p:sp>
        <p:nvSpPr>
          <p:cNvPr id="386" name="TextBox 2"/>
          <p:cNvSpPr/>
          <p:nvPr/>
        </p:nvSpPr>
        <p:spPr>
          <a:xfrm>
            <a:off x="468360" y="1413000"/>
            <a:ext cx="81360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. Д. Критская, Г. П. Сергеева, Т. С. Шмагина. Программа «Музыка. Начальная школа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. Д. Критская, Г. П. Сергеева, Т. С. Шмагина. «Музыка. Рабочая тетрадь» 3 клас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. Д. Критская, Г. П. Сергеева, Т. С. Шмагина. «Музыка». Учебник для  3 класс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755d00"/>
                </a:solidFill>
                <a:uFillTx/>
                <a:latin typeface="Arial"/>
                <a:hlinkClick r:id="rId3"/>
              </a:rPr>
              <a:t>http://www.pravmir.ru/aleksandr-nevskij-myslitel-filosof-strateg-svyatoj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755d00"/>
                </a:solidFill>
                <a:uFillTx/>
                <a:latin typeface="Arial"/>
                <a:hlinkClick r:id="rId4"/>
              </a:rPr>
              <a:t>http://fotki.yandex.ru/users/minaew-vasilij/view/494320/?page=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755d00"/>
                </a:solidFill>
                <a:uFillTx/>
                <a:latin typeface="Arial"/>
                <a:hlinkClick r:id="rId5"/>
              </a:rPr>
              <a:t>http://shkolazhizni.ru/archive/0/n-20834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755d00"/>
                </a:solidFill>
                <a:uFillTx/>
                <a:latin typeface="Arial"/>
                <a:hlinkClick r:id="rId6"/>
              </a:rPr>
              <a:t>http://www.olofmp3.ru/index.php/10-velikih-russkih-kompozitorov.-Chasty-2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755d00"/>
                </a:solidFill>
                <a:uFillTx/>
                <a:latin typeface="Arial"/>
                <a:hlinkClick r:id="rId7"/>
              </a:rPr>
              <a:t>http://narodna.pravda.com.ua/rus/history/4f04d067cbc50</a:t>
            </a:r>
            <a:r>
              <a:rPr b="0" lang="en-US" sz="1800" spc="-1" strike="noStrike" u="sng">
                <a:solidFill>
                  <a:srgbClr val="755d00"/>
                </a:solidFill>
                <a:uFillTx/>
                <a:latin typeface="Arial"/>
                <a:hlinkClick r:id="rId8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755d00"/>
                </a:solidFill>
                <a:uFillTx/>
                <a:latin typeface="Arial"/>
                <a:hlinkClick r:id="rId9"/>
              </a:rPr>
              <a:t>http://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.wikipedia.org/wiki/Ivan_Susan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rusbass.ru/vedern-foto-oper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fotki.yandex.ru/users/s-vailjewa/view/355203/?page=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Рисунок 4" descr="nev.jpg"/>
          <p:cNvPicPr/>
          <p:nvPr/>
        </p:nvPicPr>
        <p:blipFill>
          <a:blip r:embed="rId2"/>
          <a:stretch/>
        </p:blipFill>
        <p:spPr>
          <a:xfrm>
            <a:off x="5219640" y="0"/>
            <a:ext cx="3606840" cy="6858000"/>
          </a:xfrm>
          <a:prstGeom prst="rect">
            <a:avLst/>
          </a:prstGeom>
          <a:ln w="0">
            <a:noFill/>
          </a:ln>
        </p:spPr>
      </p:pic>
      <p:pic>
        <p:nvPicPr>
          <p:cNvPr id="364" name="Прямоугольник 5" descr=""/>
          <p:cNvPicPr/>
          <p:nvPr/>
        </p:nvPicPr>
        <p:blipFill>
          <a:blip r:embed="rId3"/>
          <a:stretch/>
        </p:blipFill>
        <p:spPr>
          <a:xfrm>
            <a:off x="487440" y="4913280"/>
            <a:ext cx="4029120" cy="197496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6" descr="http://img-fotki.yandex.ru/get/4712/99684303.1/0_78af0_e4088e54_XL"/>
          <p:cNvPicPr/>
          <p:nvPr/>
        </p:nvPicPr>
        <p:blipFill>
          <a:blip r:embed="rId4"/>
          <a:stretch/>
        </p:blipFill>
        <p:spPr>
          <a:xfrm>
            <a:off x="798480" y="631800"/>
            <a:ext cx="3595680" cy="4262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Прямоугольник 3" descr=""/>
          <p:cNvPicPr/>
          <p:nvPr/>
        </p:nvPicPr>
        <p:blipFill>
          <a:blip r:embed="rId2"/>
          <a:stretch/>
        </p:blipFill>
        <p:spPr>
          <a:xfrm>
            <a:off x="3852720" y="622440"/>
            <a:ext cx="5572440" cy="1322280"/>
          </a:xfrm>
          <a:prstGeom prst="rect">
            <a:avLst/>
          </a:prstGeom>
          <a:ln w="0">
            <a:noFill/>
          </a:ln>
        </p:spPr>
      </p:pic>
      <p:pic>
        <p:nvPicPr>
          <p:cNvPr id="367" name="Прямоугольник 4" descr=""/>
          <p:cNvPicPr/>
          <p:nvPr/>
        </p:nvPicPr>
        <p:blipFill>
          <a:blip r:embed="rId3"/>
          <a:stretch/>
        </p:blipFill>
        <p:spPr>
          <a:xfrm>
            <a:off x="317520" y="3565440"/>
            <a:ext cx="5302080" cy="324972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2" descr="D:\РАЗНОЕ\СМАЙЛИКИ\Новая папка\Аним\2222368.gif"/>
          <p:cNvPicPr/>
          <p:nvPr/>
        </p:nvPicPr>
        <p:blipFill>
          <a:blip r:embed="rId4"/>
          <a:stretch/>
        </p:blipFill>
        <p:spPr>
          <a:xfrm>
            <a:off x="0" y="4211640"/>
            <a:ext cx="1154160" cy="206208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8" descr="&amp;YUcy;. &amp;Pcy;&amp;acy;&amp;ncy;&amp;tcy;&amp;yucy;&amp;khcy;&amp;icy;&amp;ncy;. &amp;Acy;&amp;lcy;&amp;iecy;&amp;kcy;&amp;scy;&amp;acy;&amp;ncy;&amp;dcy;&amp;rcy; &amp;Ncy;&amp;iecy;&amp;vcy;&amp;scy;&amp;kcy;&amp;icy;&amp;jcy; "/>
          <p:cNvPicPr/>
          <p:nvPr/>
        </p:nvPicPr>
        <p:blipFill>
          <a:blip r:embed="rId5"/>
          <a:stretch/>
        </p:blipFill>
        <p:spPr>
          <a:xfrm>
            <a:off x="324000" y="446040"/>
            <a:ext cx="3848040" cy="308628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10" descr="&amp;Scy;&amp;iecy;&amp;rcy;&amp;gcy;&amp;iecy;&amp;jcy; &amp;Scy;&amp;iecy;&amp;rcy;&amp;gcy;&amp;iecy;&amp;iecy;&amp;vcy;&amp;icy;&amp;chcy; &amp;Pcy;&amp;rcy;&amp;ocy;&amp;kcy;&amp;ocy;&amp;fcy;&amp;softcy;&amp;iecy;&amp;vcy;"/>
          <p:cNvPicPr/>
          <p:nvPr/>
        </p:nvPicPr>
        <p:blipFill>
          <a:blip r:embed="rId6"/>
          <a:stretch/>
        </p:blipFill>
        <p:spPr>
          <a:xfrm>
            <a:off x="5256360" y="1989000"/>
            <a:ext cx="3152520" cy="3992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Прямоугольник 4" descr=""/>
          <p:cNvPicPr/>
          <p:nvPr/>
        </p:nvPicPr>
        <p:blipFill>
          <a:blip r:embed="rId2"/>
          <a:stretch/>
        </p:blipFill>
        <p:spPr>
          <a:xfrm>
            <a:off x="109440" y="49320"/>
            <a:ext cx="8974080" cy="1193760"/>
          </a:xfrm>
          <a:prstGeom prst="rect">
            <a:avLst/>
          </a:prstGeom>
          <a:ln w="0">
            <a:noFill/>
          </a:ln>
        </p:spPr>
      </p:pic>
      <p:sp>
        <p:nvSpPr>
          <p:cNvPr id="372" name="Прямоугольник 5"/>
          <p:cNvSpPr/>
          <p:nvPr/>
        </p:nvSpPr>
        <p:spPr>
          <a:xfrm>
            <a:off x="538200" y="1125360"/>
            <a:ext cx="83167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- Вставайте, люди русские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На славный бой, на смертный бой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Вставайте, люди вольные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За нашу землю честную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- Живым бойцам почёт и честь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А мёртвым - слава вечная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За отчий дом, за русский край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Вставайте, люди русские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- Вставайте, люди русские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На славный бой, на смертный бой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Вставайте, люди вольные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За нашу землю честную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Picture 4" descr="c0e752fcb2ed"/>
          <p:cNvPicPr/>
          <p:nvPr/>
        </p:nvPicPr>
        <p:blipFill>
          <a:blip r:embed="rId2"/>
          <a:stretch/>
        </p:blipFill>
        <p:spPr>
          <a:xfrm>
            <a:off x="-23760" y="55440"/>
            <a:ext cx="9191520" cy="657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Picture 5" descr="040601_1"/>
          <p:cNvPicPr/>
          <p:nvPr/>
        </p:nvPicPr>
        <p:blipFill>
          <a:blip r:embed="rId2"/>
          <a:stretch/>
        </p:blipFill>
        <p:spPr>
          <a:xfrm>
            <a:off x="901800" y="2809800"/>
            <a:ext cx="3054240" cy="3687840"/>
          </a:xfrm>
          <a:prstGeom prst="rect">
            <a:avLst/>
          </a:prstGeom>
          <a:ln w="0">
            <a:noFill/>
          </a:ln>
        </p:spPr>
      </p:pic>
      <p:pic>
        <p:nvPicPr>
          <p:cNvPr id="375" name="Прямоугольник 7" descr=""/>
          <p:cNvPicPr/>
          <p:nvPr/>
        </p:nvPicPr>
        <p:blipFill>
          <a:blip r:embed="rId3"/>
          <a:stretch/>
        </p:blipFill>
        <p:spPr>
          <a:xfrm>
            <a:off x="195120" y="55440"/>
            <a:ext cx="8961480" cy="300528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5" descr=""/>
          <p:cNvPicPr/>
          <p:nvPr/>
        </p:nvPicPr>
        <p:blipFill>
          <a:blip r:embed="rId4"/>
          <a:stretch/>
        </p:blipFill>
        <p:spPr>
          <a:xfrm>
            <a:off x="5292720" y="2847960"/>
            <a:ext cx="3024360" cy="3292560"/>
          </a:xfrm>
          <a:prstGeom prst="rect">
            <a:avLst/>
          </a:prstGeom>
          <a:ln w="50760">
            <a:solidFill>
              <a:srgbClr val="800080"/>
            </a:solidFill>
            <a:miter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Прямоугольник 1"/>
          <p:cNvSpPr/>
          <p:nvPr/>
        </p:nvSpPr>
        <p:spPr>
          <a:xfrm>
            <a:off x="4576680" y="404640"/>
            <a:ext cx="4572000" cy="62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уда ты завел нас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ях старый вскрича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уда, куда нужно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усанин сказа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бейте, замучьте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оя здесь могила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о знайте и рвитесь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я спас Михаила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едателя, мнил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 мне вы нашл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х нет и не буде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 русской земли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ней каждый Отчизн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 младенчества люби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 душу измен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вою не погуби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Рылеев, «Иван Сусанин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Picture 5" descr="File:Susanin.jpg"/>
          <p:cNvPicPr/>
          <p:nvPr/>
        </p:nvPicPr>
        <p:blipFill>
          <a:blip r:embed="rId2"/>
          <a:stretch/>
        </p:blipFill>
        <p:spPr>
          <a:xfrm>
            <a:off x="747720" y="584280"/>
            <a:ext cx="3457440" cy="570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Прямоугольник 5"/>
          <p:cNvSpPr/>
          <p:nvPr/>
        </p:nvSpPr>
        <p:spPr>
          <a:xfrm>
            <a:off x="430200" y="577800"/>
            <a:ext cx="3168720" cy="70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Чуют правду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Ты взойдёшь моя зар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згляну в лицо твоё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следняя зар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астало время моё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Господь, в нужде моей,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ты не оставь мен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Горька моя судьба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Ужасная тоск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закралась в грудь мою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ъедает сердце скорб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ак страшно,  тяжел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а пытке умира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Прямоугольник 6"/>
          <p:cNvSpPr/>
          <p:nvPr/>
        </p:nvSpPr>
        <p:spPr>
          <a:xfrm>
            <a:off x="3797280" y="1916280"/>
            <a:ext cx="518472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Ты придешь, моя заря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згляну в лицо твое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следняя заря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астало время моё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Ох, горький час! Ох, страшный час! Господь меня ты укрепи, ты укрепи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Мой горький час, мой страшный час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Мой смертный час! Ты укрепи мен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Мой смертный час, мой смертный час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Ты укрепи меня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Прямоугольник 7" descr=""/>
          <p:cNvPicPr/>
          <p:nvPr/>
        </p:nvPicPr>
        <p:blipFill>
          <a:blip r:embed="rId2"/>
          <a:stretch/>
        </p:blipFill>
        <p:spPr>
          <a:xfrm>
            <a:off x="2266920" y="-146160"/>
            <a:ext cx="5754600" cy="130500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7" descr="ve-susanin"/>
          <p:cNvPicPr/>
          <p:nvPr/>
        </p:nvPicPr>
        <p:blipFill>
          <a:blip r:embed="rId3"/>
          <a:stretch/>
        </p:blipFill>
        <p:spPr>
          <a:xfrm>
            <a:off x="6900840" y="1125360"/>
            <a:ext cx="2068560" cy="2694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Прямоугольник 1"/>
          <p:cNvSpPr/>
          <p:nvPr/>
        </p:nvSpPr>
        <p:spPr>
          <a:xfrm>
            <a:off x="297000" y="774720"/>
            <a:ext cx="8496000" cy="58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.Солдатушки, бравы ребятушки, где же ваши деды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Наши деды- славные побед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Вот, где наши дед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Наши деды- славные побед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Вот, где наши дед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. Солдатушки, бравы ребятушки, где же ваши сёстры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Наши сёстры- пики, сабли остр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Вот, где наши сёстр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Наши сёстры- пики, сабли остр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Вот, где наши сёстр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. Солдатушки, бравы ребятушки, где же ваша слава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Наша слава- Русская держа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Вот, где наша слава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Наша слава- Русская держа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Вот, где наша слава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4" name="Прямоугольник 2" descr=""/>
          <p:cNvPicPr/>
          <p:nvPr/>
        </p:nvPicPr>
        <p:blipFill>
          <a:blip r:embed="rId2"/>
          <a:stretch/>
        </p:blipFill>
        <p:spPr>
          <a:xfrm>
            <a:off x="-19080" y="-122400"/>
            <a:ext cx="9382320" cy="11955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0T04:49:54Z</dcterms:created>
  <dc:creator>Ольга</dc:creator>
  <dc:description/>
  <dc:language>en-US</dc:language>
  <cp:lastModifiedBy>Мама</cp:lastModifiedBy>
  <dcterms:modified xsi:type="dcterms:W3CDTF">2012-11-04T11:17:53Z</dcterms:modified>
  <cp:revision>19</cp:revision>
  <dc:subject/>
  <dc:title>Презентация PowerPoint</dc:title>
</cp:coreProperties>
</file>