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A27-09B4-48ED-9AFB-343FB0D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1D4-6EEB-459F-990E-3AF3711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F76-79B8-4DFC-9B54-45D8CCDF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398-F2F1-42D4-9480-396C00C0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7BE-1930-4574-9FFF-FEAE6E96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07D-9FD6-4D3A-9E20-FC973A65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6D7-12DB-4352-BD0D-B8532253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B2B-026E-4781-AB2D-C348CF4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5CC-06F3-476F-98FB-AB6FE94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714-9934-48C0-AD77-54AD023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1D9-12D1-4EFC-B68B-EE84B39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0E3-CB2A-4183-AA94-8D3A45C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CDD-4DF7-42A0-A1D3-7BDEBCDC1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НЕВМОКОНИ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Хроническое заболевание легких, возникающее вследствие  длительного вдыхания  и отложения в  легких  пыли и характеризующееся развитием диффузного фиброз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невмокониоз - профессиональный пылевой пневмофиб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хронического брон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ЕЛЬ ОТ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 ДО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1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  ЛЕТ ДАВНОСТИ, СУХОЙ ИЗ-ЗА РАЗДРАЖЕНИЯ ПЫЛЬЮ СЛИЗИСТОЙ, А ЗАТЕМ С МОКРОТОЙ ВСЛЕДСТВИЕ НАРУШЕНИЯ ДРЕНАЖНОЙ ФУНКЦИИ И ПРИСОЕДИНЕНИЯ ИНФЕКЦИИ. НЕОБХОДИМО ОБРАТИТЬ ВНИМАНИЕ НА ЦВЕТ МОКРОТЫ, КОЛИЧЕСТВО, ЗАПАХ, СКОЛЬКО КАШЛЕВЫХ ТОЛЧКОВ НАДО СДЕЛАТЬ  БОЛЬНОМУ, ЧТОБЫ МОКРОТА ОТОШ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УХИЕ ХРИПЫ, КОГДА ПРОЦЕСС ЕЩЁ ЛОКАЛИЗУЕТСЯ В КРУПНЫХ БРОНХАХ. ЕСЛИ ПРОЦЕСС ЗАХВАТЫВАЕТ МЕЛКИЕ БРОНХИ, ПОЯВЛЯЮТСЯ ВЛАЖНЫЕ МЕЛКОПУЗЫРЧАТЫ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  ДОПОЛНИТЕЛЬНЫХ МЕТОДОВ ИССЛЕДОВАНИЯ - НЕОБХОДИМ АНАЛИЗ МОКРО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РОНХОСПАСТИЧЕСКИЙ СИНДР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ЭКСПИРАТОРНОГО ХАРАКТЕРА. В 50% СЛУЧАЕВ ОДЫШКА  ВОЗНИКАЕТ ПРИСТУПО- ОБРАЗНО В  ПОКОЕ, НОЧЬЮ И ПРОВОЦИРУЕТСЯ  НЕБЛАГОПРИЯТНЫМИ МЕТЕОРОЛОГИЧЕСКИМИ УСЛОВ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. УДЛИНЕНИЕ ВЫДОХА ПРИ ПРОБЕ НА ВЫДОХ, ПОЯВЛЕНИЕ В ГРУДИ  ХРИПОВ  НА ВЫДОХЕ ИЛИ УСИЛЕНИЯ  ИХ В КОНЦЕ ВЫДО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НИЖЕНИЕ ПРОБЫ ТИФФНО (ФОРСИРО- ВАННОЙ ЖЕЛ) МЕНЕЕ 75%,  ПРИ ПНЕВМО ТА ХОМЕТРИИ МЕНЯЕТСЯ СООТНОШЕНИЕ ФОР СИРОВАННОГО ВДОХА И ФОРСИРОВАН- НОГО ВЫДОХА (В НОРМЕ 1:1) ДО 1: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НДРОМ ЭМФИЗЕМЫ ЛЕГК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ПОСТОЯННЫЕ НОЮЩИЕ БОЛИ ПОД ЛОПАТКАМИ ИЗ-ЗА ОПУЩЕНИЯ ДИАФРАГ- МЫ И УЩЕМЛЕНИЯ ДИАФРАГМАЛЬНОГО НЕР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ОСМОТР- ВЫБУХАНИЕ НАДКЛЮЧИЧНЫХ И ПОДКЛЮЧИЧНЫХ  ЯМОК, БОЧКООБРАЗНАЯ ГРУДНАЯ  КЛЕТКА. ПРИ ПЕРКУССИИ - КОРО БОЧНЫЙ  ЗВУК, ГРАНИЦЫ ЛЁГКИХ ОПУЩЕ НЫ ДО11-12 РЕБРА ПО ЛОПАТОЧНОЙ ЛИНИИ, ОГРАНИЧЕНА ПОДВИЖНОСТЬ НИЖНЕГО ЛЕГОЧНОГО КРАЯ. ПРИ АУСКУЛЬТАЦИИ - ОСЛАБЛЕННОЕ ВЕЗИКУЛЯРНОЕ ДЫХ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ИНДРОМ  ДИФФУЗНОГО  ПНЕВМОСКЛЕР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БОЛИ В РАЗЛИЧНЫХ ОТДЕЛАХ ГРУДНОЙ КЛЕТКИ СНАЧАЛА   НОЮЩИЕ, ЗАТЕМ СЖИМАЮЩЕГО ХАРАКТЕР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 ОСМОТРЕ - ЗАПАДЕНИЕ И  ВТЯНУТОСТЬ НАД И ПОДКЛЮЧИЧНЫХ  ЯМОК ,ПРИ ПЕРКУССИИ -ПРИТУПЛЕНИЕ ПЕРКУТОРНОГО ЗВУКА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ЖНИЕ ГРАНИЦЫ  ЛЕГКИХ ПОДНЯТЫ ,ОГРАНИЧЕНА ПОДВИЖНОСТЬ  ЛЁГОЧНОГО КРАЯ. ПРИ АУСКУЛЬТАЦИИ - ЖЕСТКОЕ ДЫХАНИЕ, ВЛАЖНЫЕ ТРЕСКУЧИЕ ХРИ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. НА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НТГЕНОГРАММЕ ЛЕГКИХ ОПРЕДЕЛЯЮТСЯ БРОНХИ С УПЛОТНЕННЫМИ СТЕНКАМИ ЯЧЕИСТОСТЬ, СЕТЧАТОСТЪ ЛЕГОЧНОГО РИСУНКА; СИЛИКОТИЧЕСКИЕ УЗЕЛКИ, ОБРУБЛЕННОСТЬ КОРНЕЙ, ВОЛНИСТОСТЬ КУПОЛА ДИАФРАГ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сердечно-легочной недостаточ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ОДЫШКА СМЕШАНН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К ВЕЧЕРУ БОЛЬНОМУ СТАНОВЯТСЯ ТЕСНЫМИ ТУФЛИ  3.НЕПРИЯТНЫЕ ОЩУЩЕНИЯ В ПРАВОМ ПОДРЕБЕРЬЕ ВСЛЕДСТВИЕ УВЕЛИЧЕНИЯ ПЕЧЕНИ. ОБЪЕКТИВНО ПРИ ОСМОТРЕ – ЦИАНОЗ ГУБ, КОНЧИКА НОСА, УШЕЙ, КИСТЕЙ РУК. НАБУХАНИЕ ШЕЙНЫХ ВЕН ВНАЧАЛЕ В ГОРИЗОНТАЛЬНОМ ПОЛОЖЕНИИ, ЗАТЕМ В ВЕРТИКАЛЬНОМ. ПАСТОЗНОСТЬ  ГОЛЕНЕЙ,  УВЕЛИЧЕНИЕ ПЕЧ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5724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СНИЖАЕТСЯ ВЕЛИЧИНА МВЛ (МИНУТНАЯ ВЕНТИЛЯЦИЯ ЛЕГКИХ), КОГДА БОЛЬНОЙ ДЫШИТ ГЛУБОКО И МАКСИМАЛЬНО БЫСТРО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ЖЕ СНИЖЕТС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УВЕЛИЧЕНИЕ ОСТАТОЧНОГО ОБЪЕМА ЛЕГКИХ - ПРИЗНАК ЭМФИЗЕМЫ. ОКСИГЕМОМЕТРИЯ – ОПРЕДЕЛЕНИЕ ПРОЦЕНТА НАСЫЩЕНИЯ КИСЛОРОДОМ АРТЕРИАЛЬНОЙ КРОВИ, ПОКАЗАТЕЛИ СНИЖАЮТСЯ. УДАРНЫЙ ОБЪЕМ СЕРДЦА ТАКЖЕ СНИЖ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ифференциальный диагн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РКОКОИДОЗ ( ХАРАКТЕРНА ПОЛИОРГАННОСТЬ ПОРАЖЕНИ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ФФУЗНЫЙ ПРОГРЕССИРУЮЩИЙ ИНТЕРСТИЦИАЛЬНЫЙ ПНЕВМОФИБРОЗ – СИНДРОМ ХАМАНА-РИЧ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АРДИОГЕННЫЙ ПНЕВМОСКЛЕРОЗ (ГЕМОСИДЕРОЗ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МИЛЛИАРНЫЙ КАРЦИНОМАТО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ЗМЕНЕНИЯ В ЛЕГКИХ ПРИ РЕВМАТИЗМЕ И ЗАБОЛЕВАНИЯХ СОЕДИНИТЕЛЬНОЙ ТКА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УПНОУЗЕЛКОВЫЙ СИЛИКОЗ ДИФФЕРЕНЦИРУЮТ С ПЕРВИЧНЫМ       РАКОМ ЛЁГ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АЛОБЫ НА ОДЫШКУ ПРИ ЗНАЧИТЕЛЬНОЙ ФИЗИЧЕСКОЙ НАГРУЗКЕ, БОЛИ В ГРУДНОЙ КЛЕТКЕ ПЕРИОДИЧЕСКИЕ, КОЛЮЩЕГО ХАРАКТЕРА, НЕПОСТОЯННЫЙ СУХОЙ КАШЕЛЬ. ОБЪЕКТИВНО ВЫЯВЛЯЕТСЯ ЭМФИЗЕМА В НИЖНЕБОКОВЫХ ОТДЕЛАХ ГРУДНОЙ КЛЕТКИ, КОРОБОЧНЫЙ ОТТЕНОК ЗВУКА, ОСЛАБЛЕННОЕ ВЕЗИКУЛЯРНОЕ ДЫХАНИЕ, МОГУТ БЫТЬ СУХИ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УНКЦИЯ ВНЕШНЕГО ДЫХАНИЯ - ЖЕЛ  В НОРМЕ, КОМПЕНСАТОРНОЕ УВЕЛИЧЕНИЕ МОД. ПРИ РЕНТГЕНОГРАФИИ СИММЕТРИЧНОЕ УСИЛЕНИЕ СОСУДИСТО-БРОНХИАЛЬНОГО РИСУНКА, ЕГО ДЕФОРМАЦИЯ. В СРЕДНЕЙ ЧАСТИ ЛЕГОЧНЫХ  ПОЛЕЙ НЕБОЛЬШОЕ КОЛИЧЕСТВО УЗЕЛКОВ, ПРИБЛИЗИТЕЛЬНО 1ММ В ДИАМЕТРЕ. ИЗМЕНЕНИЕ МЕЖДОЛЕВОЙ ПЛЕВРЫ В ВИДЕ ЛИНЕЙНЫХ ТЕ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ОДЫШКА ПРИ ХОДЬБЕ, БОЛИ В ГРУДНОЙ КЛЕТКЕ ПОСТОЯННЫЕ, СЖИМАЮЩЕГО ХАРАКТЕРА, КАШЕЛЬ СУХОЙ ИЛИ С МОКРО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ОБЪЕКТИВНО - ЭМФИЗЕМА БОЛЕЕ ВЫРАЖЕНА ПРЕИМУЩЕСТВЕННО В БАЗАЛЬНЫХ ОТДЕЛАХ, ОГРАНИЧЕННАЯ ПОДВИЖНОСТЬ НИЖНЕГО КРАЯ ЛЁГКИХ. ФВД - СНИЖЕНИЕ Ж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 РЕНТГЕНОГРАММЕ УСИЛЕНИЕ СЕТЧАТОСТИ ЛЕГОЧНЫХ ПОЛЕЙ, УВЕЛИЧЕНИЕ КОЛИЧЕСТВА И РАЗМЕРА УЗЕЛКОВ (2-4ММ) ПРЕИМУЩЕСТВЕННО В СРЕДНИХ И НИЖНИХ ОТДЕЛАХ. ПРИ УЗЕЛКОВОЙ ФОРМЕ КАРТИНА НАПОМИНАЕТ ДИССЕМИНИРОВАННЫЙ МИЛИАРНЫЙ ТУБЕРКУЛЁЗ (КАРТИНА "СНЕЖНОЙ БУРИ). КОРНИ ИМЕЮТ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Y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ЛЕННЫЙ ВИД. ЛИМФАТИЧЕСКИЕ УЗЛЫ В КОРНЯХ ЛЕГКИХ УПЛОТНЕНЫ. ТЕНЬ МЕЖДОЛЕВОЙ ПЛЕВРЫ СТАНОВИТСЯ БОЛЕЕ ВЫРАЖЕННОЙ. ПРИ ИНТЕРСТИ ЦИАЛЬНОЙ ФОРМЕ ЛЕГОЧНОЙ РИСУНОК РЕЗКО ДЕФОРМИРОВАН И УСИЛЕН, КОРНИ УПЛОТНЕНЫ, УЗЕЛКОВ НЕМНОГО ИЛИ ОНИ ОТСУТСТВУ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ИЛИК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СИЛИКАТОЗЫ  - АСБЕСТОЗ, ТАЛЬКОЗ, ЦЕМЕНТНЫЙ ,СЛЮДЯНОЙ, КАОЛИН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МЕТАЛЛОКОНИОЗЫ (МЕТАЛЛИЧЕСКАЯ  ПЫЛЬ) - БЕРИЛЛИОЗ, СИДЕРОЗ, АЛЮМИНОЗ, БАРИТОЗ, ПНЕВМОКОНИОЗ ОТ РЕДКОЗЕМЕЛЬНЫХ И ТЯЖЕЛЫХ СПЛАВ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КАРБОКОНИОЗЫ - АНТРАКОЗ, ГРАФИТОЗ, САЖЕВЫЙ ПНЕВМОКОНИ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В ПОКОЕ, БОЛИ В ГРУДНОЙ КЛЕТКЕ ПОСТОЯННОГО, СЖИМАЮЩЕГО ХАРАКТЕРА, КАШЕЛЬ С МОКРОТОЙ, ВОЗМОЖНЫ ПРИСТУПЫ УДУШЬ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БЪЕКТИВНО: ПРИ ПЕРКУССИИ ОПРЕДЕЛЯЕТСЯ ЧЕРЕДОВАНИЕ ПРИТУПЛЕННОГО ПЕРКУТОРНОГО ЗВУКА С КОРОБОЧНЫМ , ПРИ АУСКУЛЬТАЦИИ ЧЕРЕДОВАНИЕ ЖЕСТКОГО И ОСЛАБЛЕННОГО ДЫХ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ЫЯВЛЯЮТСЯ СИМПТОМЫ ПРАВОЖЕЛУДОЧКОВОЙ СЕРДЕЧНОЙ НЕДОСТАТОЧНОСТИ В ВИДЕ ЛЕГОЧНОГО СЕРДЦА. ПРИ ИССЛЕДОВАНИИ ФВД РЕЗКОЕ СНИЖЕНИЕ ЖЕЛ, СНИЖЕНИЕ МОД И МВ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 рентгенографии определяется чередование фиброза и эмфиземы, слияние узелков в крупные конгломераты, массивные плевральные спайки, утолщение междолевой плевр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чение силикоз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РАЗЛИЧАЮТ МЕДЛЕННО РАЗВИВАЮЩИЙСЯ СИЛИКОЗ, КОГДА ДО НАЧАЛА ЗАБОЛЕВАНИЯ ПРОХОДИТ БОЛЕЕ 5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БЫСТРО РАЗВИВАЮЩИЙСЯ  С ЭКСПОЗИЦИЕЙ В 2-3 ГОДА И ДАЖЕ 6 МЕСЯЦЕВ. ВСТРЕЧАЕТСЯ У ЛИЦ ОСОБО ОПАСНЫХ ПРОФЕССИЙ: ПЕСКОСТРУЙЩИКИ, ПРОХОДЧИКИ ТОННЕЛЕЙ, ШЛИФОВАЛЬЩИКИ ЛИН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ПОЗДНИЙ ПНЕВОМОКОНИОЗ ВОЗНИКАЕТ СПУСТЯ НЕСКОЛЬКО ЛЕТ ПОСЛЕ ПРЕКРАЩЕНИЯ КОНТАКТА С ПЫЛ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орфологические вариа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ЕЛКОВ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ТЕРСТИЦИАЛЬН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ЛОВ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сложнения пневмокониоз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ГОЧНО-СЕРДЕЧНАЯ НЕДОСТАТОЧНОСТЬ ("ЛЕГОЧНОЕ СЕРДЦЕ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ФЕССИОНАЛЬНАЯ БРОНХИАЛЬНАЯ АСТ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ОНТАННЫЙ ПНЕВМОТОРАК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РОНХОЭКТА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К ЛЕГК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УБЕРКУЛЕ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офилактика пневмокониоз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БЩЕГОСУДАРСТВЕННЫЕ МЕРОПРИЯТ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ОКРАЩЕНИЕ РАБОЧЕГО ДНЯ, 2.УДЛИНЕНИЕ ОТПУСКО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ПЕНСИИ ПО СТАРОСТИ – ЖЕНЩИНАМ С 45 ЛЕТ, МУЖЧИНАМ С 50 ЛЕТ, 5.ПРЕИМУЩЕСТВЕННОЕ ПРАВО НА САНАТОРНО-КУРОРТНОЕ Л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ческие и сан-гигиениче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НИЖЕНИЕ ЗАПЫЛЕННОСТИ ВОЗДУХА ( ГЕРМЕТИЗАЦИЯ АГРЕГАТОВ, 2.МЕХАНИЗАЦИЯ ПРОИЗВОДСТВЕННЫХ ПРОЦЕССОВ, ПЕРЕХОД С СУХОГО НА МОКРОЕ БУРЕНИЕ, ВЕНТИЛЯЦИОННЫЕ И ПЫЛЕУЛАВЛИВАЮЩИЕ УСТРОЙСТВА), 3.ПРИМЕНЕНИЕ СКАФАНДРОВ, РЕСПИРАТОРОВ, СПЕЦИАЛЬНОЙ ОДЕЖ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ЕДИЦИНСКИЕ МЕРОПРИ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ДЕНИ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ЕДВАРИТЕЛЬНЫХ МЕДОСМОТР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ДЛЯ ВЫЯВЛЕНИЯ ПРОТИВОПОКАЗАНИЙ К ПРИЕМУ НА РАБО -ТУ С ПЫЛЬЮ:1.ВСЕ ФОРМЫ ТУБЕРКУЛЕЗ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ЗАБОЛЕВАНИЯ ВЕРХНИХ ДЫХАТЕЛЬНЫХ ПУТЕЙ И БРОНХ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ОРГАНИЧЕСКИЕ ЗАБОЛЕВАНИЯ СЕРДЕ ЧНО-СОСУДИСТОЙ СИСТЕМЫ (ПОРОКИ, ГБ, ИБС);В ШАХТЫ И НА РАБОТУ ПЕСКО СТРУЙЩИКОМ НЕ ПРИНИМАЮТСЯ ЖЕН ЩИНЫ, А ТАКЖЕ МУЖЧИНЫ МОЛОЖЕ 18 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иодические медосмот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ШАХТЕРОВ И ПЕСКОСТРУЙЩИКОВ 1 РАЗ В ГОД, ПРИ ПОДЗЕМНЫХ РАБОТАХ В ТОННЕЛЯХ, ПРИ СУХОМ БУРЕНИИ 1 РАЗ В 6 МЕСЯЦЕВ. В ОСМОТРАХ УЧАСТВУЮТ ТЕРАПЕВТ, РЕНТГЕНОЛОГ, ФТИЗИАТР И ОТОЛЯРИНГОЛОГ. ОБЯЗАТЕЛЬНА РЕНТГЕНОГРАММА ГРУДНОЙ КЛЕТКИ, АНАЛИЗ КРОВИ, АНАЛИЗ МОКРОТЫ НА МИКОБАКТЕРИИ ТУБЕРКУЛЕ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ИЕТА БОЛЬНЫХ ПНЕВМОКОНИОЗОМ ДОЛЖНА БЫТЬ ПОЛНОЦЕННОЙ, БОГАТОЙ БЕЛКАМИ И ВИТАМИН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ЭТИОТРОПНОЕ ЛЕЧЕНИЕ ЗАКЛЮЧАЕТСЯ В ПРЕКРАЩЕНИИ КОНТАКТА С ПЫЛЬЮ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НЕВМОКОНИОЗЫ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МЕШАННОЙ П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).ПНЕВМОКОНИОЗ, СОДЕРЖАЩЕЙ СВОБОД -НУЮ ДВУОКИСЬ КРЕМНИЯ: АНТРОКОСИЛИКОЗ, СИДЕРОСИЛИКОЗ, СИЛИКОСИЛИКАТО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) НЕ СОДЕРЖАЩЕЙ СВОБОДНОЙ ДВУОКИСИ  КРЕМНИЯ ИЛИ  С НЕЗНАЧИТЕЛЬНЫМ СОДЕРЖАНИЕМ ЕЁ - ПНЕВМОКОНИОЗ ШЛИФОВЩИКОВ, ЭЛЕКТРОСВАРЩИКОВ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УГ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ПНЕВМОКОНИОЗЫ ОТ ОРГАНИЧЕСКОЙ ПЫЛИ -ХЛОПКОВАЯ  ПЫЛЬ, ЗЕРНОВАЯ, ПРОБКОВАЯ ,ЛЬНЯНАЯ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ПРИМЕНЕНИЕ ГЛЮКОКОРТИКОИДОВ ,КОТОРЫЕ ЗАМЕДЛЯЮТ РАЗВИТИЕ СИЛИКОЗА, ПРЕДУПРЕЖДАЮТ АУТОЛИЗ КОНИОФАГОВ, НО ПРИМЕНЯЮТСЯ ОНИ С БОЛЬШОЙ ОСТОРОЖНОСТЬЮ, ГЛАВНЫМ ОБРАЗОМ ПРИ ОСТРОМ СИЛИКОЗЕ. ВО ВСЕХ СЛУЧАЯХ ГОРМОНЫ СОЧЕТАЮТСЯ С НАЗНАЧЕНИЕМ ПРОТИВОТУБЕРКУЛЕЗНЫХ ПРЕПАРАТОВ (ИЗОНИАЗИД И ДР.). ДОЗА ПРЕДНИЗОЛОНА 20-25 МГ В СУТКИ 10-12 ДНЕЙ С ПОСЛЕДУЮЩИМ ПОСТЕПЕННЫМ СНИЖЕНИЕМ. КУРСЫ 1,5-2 МЕСЯ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РОМЕ ЭТОГО ВОЗМОЖНО ИНГАЛЯЦИОННОЕ ПРИМЕНЕНИЕ ГЛЮКОКОРТИКОСТЕРОИДОВ (БЕКОТИД, АЛЬДАЦИН) ПО 3 ИНГАЛЯЦИИ В СУ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 ДЕЛАГИЛ В ТАБЛЕТКАХ ПО 0,25 В СУТКИ ДЛЯ СТАБИЛИЗАЦИИ ЛИЗОСОМАЛЬНЫХ ФЕР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 ПОЛИВИНИЛПИРИДОНОКСИ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 Д-ПЕНИЦИЛЛАМИН(КУПРЕНИЛ) ПО 0,15-0,25 ДО 1 ГРАММА В СУТ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 КИСЛОРОДОТЕРАП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.ЛЕЧЕНИЕ ХРОНИЧЕСКОГО БРОНХИТА ВСЛЕДСТВИЕ ПРИСОЕДИНЕНИЯ ИНФЕКЦИИ: АНТИБИОТИКИ ШИРОКОГО СПЕКТРА ДЕЙСТВИЯ, ОТХАРКИВАЮЩИЕ СРЕДСТВА (ТЕРМОПСИС, ИОДИСТЫЙ КАЛИЙ 3%), МУКОРЕГУЛЯТОРЫ (АМБРОКСОЛ, АЦЕТИЛЦИСТЕИН, КАРБОЦИСТЕИ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ЛЕЧЕНИЕ НАРУШЕНИЙ БРОНХИАЛЬНОЙ ПРОХОДИМОСТИ (ФЕНОТЕРОЛ, ИПРАТРОПИУМ БРОМИД, СОЛЬБУТАМОЛ, БЕРОДУАЛ В ИНГАЛЯЦИЯХ И ДЛЯ НЕБУЛАЙЗЕРНОЙ ТЕРАПИИ), ТЕОФИЛИНЫ В/В ИЛИ В ТАБЛЕТК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.ЛЕЧЕНИЕ ЛЕГОЧНО-СЕРДЕЧНОЙ НЕДОСТАТОЧНОСТИ ПРИ ЛЕГОЧНОМ СЕРДЦЕ (КОРГЛИКОН, СТРОФАНТИН, МОЧЕГОННЫЕ, ИНГИБИТОРЫ АПФ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4.ВИТАМИНОТЕРАПИЯ ( ВИТА -МИНЫ ГРУППЫ В, С, НИКОТИНОВАЯ КИСЛО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ИЗИО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ИМЕНЯЕТСЯ ЛФК, УФО ДЛЯ ПОВЫШЕНИЯ СОПРОТИВЛЯЕМОСТИ ОРГАНИЗМА, ИНГАЛЯЦИИ, ДИАТЕРМИЯ, ГАЛОКАМЕРА, ГИПОКСИТЕРАПИЯ, БРОНХОЗАЛИВКИ С ФИЗРАСТВОРОМ И ДРУГИЕ МЕТ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НАТОРИИ "ГОРНЯК" С КУМЫСОЛЕЧЕНИЕМ В СТЕПНОЙ ЗОНЕ ВОСТОЧНОГО КАЗАХСТАНА, САНАТОРИИ В ХАРЬКОВСКОЙ ОБЛАСТИ И В КРЫМУ. БОЛЬНЫЕ С СИЛИКОТУБЕРКУЛЕЗОМ НАПРАВЛЯЮТСЯ В ПРОТИВОТУБЕРКУЛЕЗНЫЕ САНАТ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экспертиза трудоспособ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 1 СТАДИИ СИЛИК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А РАБОТА С ПЫЛЬЮ, В НЕБЛАГОПРИЯТНЫХ МЕТЕОРОЛОГИЧЕСКИХ УСЛОВИЯХ. НЕОБХОДИМО ТРУДОУСТРОЙСТВО. ЕСЛИ ПЕРЕВОД НА ДРУГУЮ РАБОТУ СВЯЗАН СО СНИЖЕНИЕМ КВАЛИФИКАЦИИ, ТО БОЛЬНЫЕ НАПРАВЛЯЮТСЯ НА МСЭК ДЛЯ ОПРЕДЕЛЕНИЯ ГРУППЫ ИНВАЛИДНОСТИ И ПРОЦЕНТА УТРАТЫ ТРУДОСПОСОБ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4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ЛОДЫМ ЛИЦАМ В ВОЗРАСТЕ ДО 40 ЛЕТ НЕОБХОДИМО СОЗДАТЬ УСЛОВИЯ ДЛЯ ПЕРЕОБУЧЕНИЯ И ПЕРЕКВАЛИФИКАЦИИ, ЧТО ПОЗВОЛИТ В ДАЛЬНЕЙШЕМ СНЯТЬ С НИХ ИНВАЛИДНОСТЬ (ТРУДОВАЯ РЕАБИЛИТАЦ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РУППА ИНВАЛИДНОСТИ УСТАНАВЛИВАЕТСЯ ПРИ ПРОГРЕССИРОВАНИИ ЗАБОЛЕВАНИЯ, НАРАСТАНИИ БРОНХОСПАСТИЧЕСКОГО СИНДРОМА, ЛЕГОЧНО-СЕРДЕЧНОЙ НЕДОСТАТОЧ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СТРОТА  РАЗВИТИЯ ПК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ВИДА ПЫ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ДЛИТЕЛЬНОСТИ  ЭКСПОЗИЦИИ: СИЛИКОЗ ЧАЩЕ РАЗВИВАЕТСЯ ЧЕРЕЗ 5ЛЕТ, А ОСТ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ЫЕ ПНЕВМОКОНИОЗЫ ЧЕРЕЗ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 8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- 10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Л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КОНЦЕНТРАЦ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ДИСПЕРСНОСТИ ЧАСТИЦ: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ДО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0,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 МИКРОН  САМЫЕ ОПАС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ОТ ВЕЛИЧИНЫ МОД, КОТОРАЯ ЗАВИСИТ ОТ СТЕПЕНИ ТЯЖЕСТИ 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ОТ ВОЗРАСТА У  МОЛОДЫХ ПРОТЕКАЕТ  ТЯЖЕЛЕ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7.ОТ  НАЛИЧИЯ  У РАБОЧЕГО  ДРУГИХ  ЗАБОЛ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АНИЙ, ОСОБЕННО ОРГАНОВ ДЫХ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ВНЕШНЯЯ ЗАЩИТА</a:t>
            </a:r>
            <a:r>
              <a:rPr b="1" sz="32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ЭТО  ОСЕДАНИЕ ПЫЛИ В ПОЛОСТИ НОСА И ЕЕ УДАЛЕНИЕ ПРИ ЧИХАНИИ И  ДЕЯТЕЛЬНОСТЬ МЕРЦАТЕЛЬНОГО ЭПИТЕЛИЯ  БРОНХОВ ПО  ВЫВЕДЕНИЮ  ПЫЛИ  И  УДАЛЕНИЮ ЕЁ С КАШ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ВНУТРЕННЯЯ ЗАЩИТА - ЭТО МЕХАНИЗМ  ФАГОЦИТОЗА ПЫЛИНОК ТУЧНЫМИ КЛЕТКАМИ, ЛИМФОЦИТАМИ, КЛЕТКАМИ АЛЬВЕОЛЯРНОГО ЭПИТЕЛИЯ С ОБРАЗОВАНИЕМ КОНИОФАГ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ПРИ ВОЗДЕЙСТВИИ ПЫЛИ ГИБНУТ ФАГОЦИТЫ, ПЫЛЬ ПОПАДАЕТ В ИНТЕРСТИЦИЙ, ЛИМФАТИЧЕСКИЕ ЩЕЛИ, ЛИМФОУЗЛЫ. ВСЛЕДСВИЕ ЭТОГО РАЗВИВАЕТСЯ СКЛЕ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ОРИИ ПНЕВМОСКЛЕ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ММУНОБИОЛОГИЧЕСКАЯ ТЕОР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ГЛАСНО ЭТОЙ ТЕОРИИ СИЛИКОТИЧЕСКИЙ УЗЕЛОК -СВОЕОБРАЗНОЕ ДЕПО АНТИТЕЛ ВОКРУГ АНТИГЕНОВ. КОТОРЫЕ В СВОЮ ОЧЕРЕДЬ ЛОКАЛИЗУЮТСЯ  ВБЛИЗИ КРИСТАЛЛОВ  КВАРЦА. АНТИГЕНОМ ЯВЛЯЕТСЯ БЕЛОК, СТРУКТУРА КОТОРОГО  ИЗМЕНЕНА В РЕЗУЛЬТАТЕ АБСОРБЦИИ ДВУОКИСИ КРЕМ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ХАНИЧЕСКАЯ ТЕОРИЯ: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) РАССМАТРИВАЮТСЯ ИЗМЕНЕНИЯ В ЛЕГКИХ КАК РЕЗУЛЬТАТ МЕХАНИЧЕСКОЙ ТРАВМАТИЗАЦИИ  ЛЕГОЧНОЙ ТКАНИ ПЫЛЬЮ, А ПЫЛЬ ДЕЙСТВУЕТ, КАК ИНОРОДНОЕ АСЕПТИЧЕСКОЕ ТЕЛО, ПОЯВЛЯЮТСЯ РЕТИКУЛИНОВЫЕ ВОЛОКНА, НЕМНОГО  КОЛЛАГЕНОВЫХ, СЛАБАЯ КЛЕТОЧНАЯ РЕАК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) ИМЕЕТ  ЗНАЧЕНИЕ И ЛИМФОСТАЗ  ВСЛЕДСТВИЕ ЗАКУПОРКИ ЛИМФАТИЧЕСКИХ ПРОТОКОВ  КОНИОФАГАМИ  И ПЫ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КСИКО-ХИМИЧЕСКАЯ ТЕОРИЯ ИЛИ ТЕ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ТВОР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ВУОКИСЬ КРЕМНИЯ В ПРИСУТСТВИИ ТКАН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Х ЖИДКОСТЕЙ ОБРАЗУЕТ ХИМИЧЕСКИ АКТИВНЫЙ  РАСТВОР КРЕМНЕВОЙ  КИСЛОТЫ, КОТОРАЯ  ВЫЗЫВАЕТ КОАГУЛЯЦИОННЫЙ НЕКРОЗ ЦИТОПЛАЗМЫ И ПОСЛЕДУЮЩЕЕ РАЗВИТИЕ СОЕДИНИТЕЛЬНОЙ ТКАНИ. ИМЕЕТ ЗНАЧЕНИЕ ЦИТОТОКСИЧНОСТЬ КВАРЦА, КОТОРЫЙ ВЫЗЫВАЕТ ГИБЕЛЬ МАКРОФАГОВ С ВЫДЕЛЕНИЕМ ЛИЗОСОМАЛЬНЫХ ФЕРМЕНТОВ И РАЗВИТИЕМ СВОБОДНО-РАДИКАЛЬНЫХ ПРОЦЕССОВ. ВЫДЕЛЯЕТСЯ И ФИБРОГЕННЫЙ ФАКТОО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8:42:58Z</dcterms:created>
  <dc:creator>Кузнецов Ю.А.</dc:creator>
  <dc:description/>
  <dc:language>en-US</dc:language>
  <cp:lastModifiedBy>Admin</cp:lastModifiedBy>
  <dcterms:modified xsi:type="dcterms:W3CDTF">2011-02-21T09:45:53Z</dcterms:modified>
  <cp:revision>37</cp:revision>
  <dc:subject/>
  <dc:title>ПНЕВМОКОНИОЗ </dc:title>
</cp:coreProperties>
</file>