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72AB-3418-4FE3-B6FE-AF2C6F96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D5DC-82FF-4B7E-BFE3-0456D3F0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C792-4BC4-4C6D-AD72-172DC0D8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3B49-4AC2-4DB3-A6F2-4FEE1B29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3041-8005-488A-AE39-16D26D86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C5DC-07E6-4810-9920-4F1405B4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C9B0-4C68-4908-965A-3D1F16E9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DB55-92B1-4D5B-9662-92714287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65E-025C-42B6-B0E3-2B2D5EAC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96D2-634F-427F-BB5D-8D23EE56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2CFA-BEDC-4ACC-85CC-18019230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BB74-EEA5-4A76-AE83-1F5E7C65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AD30-878B-4047-A161-0D26D83B24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8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НЕВМОКОНИОЗ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380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Хроническое заболевание легких, возникающее вследствие  длительного вдыхания  и отложения в  легких  пыли и характеризующееся развитием диффузного фиброза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невмокониоз - профессиональный пылевой пневмофиброз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индром хронического бронхи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АШЕЛЬ ОТ</a:t>
            </a:r>
            <a:r>
              <a:rPr b="1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 ДО</a:t>
            </a:r>
            <a:r>
              <a:rPr b="1" sz="2400" spc="-1" strike="noStrike">
                <a:solidFill>
                  <a:srgbClr val="ffff00"/>
                </a:solidFill>
                <a:latin typeface="Times New Roman"/>
              </a:rPr>
              <a:t> 1,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5  ЛЕТ ДАВНОСТИ, СУХОЙ ИЗ-ЗА РАЗДРАЖЕНИЯ ПЫЛЬЮ СЛИЗИСТОЙ, А ЗАТЕМ С МОКРОТОЙ ВСЛЕДСТВИЕ НАРУШЕНИЯ ДРЕНАЖНОЙ ФУНКЦИИ И ПРИСОЕДИНЕНИЯ ИНФЕКЦИИ. НЕОБХОДИМО ОБРАТИТЬ ВНИМАНИЕ НА ЦВЕТ МОКРОТЫ, КОЛИЧЕСТВО, ЗАПАХ, СКОЛЬКО КАШЛЕВЫХ ТОЛЧКОВ НАДО СДЕЛАТЬ  БОЛЬНОМУ, ЧТОБЫ МОКРОТА ОТОШ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УХИЕ ХРИПЫ, КОГДА ПРОЦЕСС ЕЩЁ ЛОКАЛИЗУЕТСЯ В КРУПНЫХ БРОНХАХ. ЕСЛИ ПРОЦЕСС ЗАХВАТЫВАЕТ МЕЛКИЕ БРОНХИ, ПОЯВЛЯЮТСЯ ВЛАЖНЫЕ МЕЛКОПУЗЫРЧАТЫЕ ХРИП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ИЗ  ДОПОЛНИТЕЛЬНЫХ МЕТОДОВ ИССЛЕДОВАНИЯ - НЕОБХОДИМ АНАЛИЗ МОКРОТ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БРОНХОСПАСТИЧЕСКИЙ СИНДРО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ОДЫШКА ЭКСПИРАТОРНОГО ХАРАКТЕРА. В 50% СЛУЧАЕВ ОДЫШКА  ВОЗНИКАЕТ ПРИСТУПО- ОБРАЗНО В  ПОКОЕ, НОЧЬЮ И ПРОВОЦИРУЕТСЯ  НЕБЛАГОПРИЯТНЫМИ МЕТЕОРОЛОГИЧЕСКИМИ УСЛОВИЯ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2. УДЛИНЕНИЕ ВЫДОХА ПРИ ПРОБЕ НА ВЫДОХ, ПОЯВЛЕНИЕ В ГРУДИ  ХРИПОВ  НА ВЫДОХЕ ИЛИ УСИЛЕНИЯ  ИХ В КОНЦЕ ВЫДОХ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НИЖЕНИЕ ПРОБЫ ТИФФНО (ФОРСИРО- ВАННОЙ ЖЕЛ) МЕНЕЕ 75%,  ПРИ ПНЕВМО ТА ХОМЕТРИИ МЕНЯЕТСЯ СООТНОШЕНИЕ ФОР СИРОВАННОГО ВДОХА И ФОРСИРОВАН- НОГО ВЫДОХА (В НОРМЕ 1:1) ДО 1: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ИНДРОМ ЭМФИЗЕМЫ ЛЕГКИ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1.ЖАЛОБЫ НА ПОСТОЯННЫЕ НОЮЩИЕ БОЛИ ПОД ЛОПАТКАМИ ИЗ-ЗА ОПУЩЕНИЯ ДИАФРАГ- МЫ И УЩЕМЛЕНИЯ ДИАФРАГМАЛЬНОГО НЕР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.ОСМОТР- ВЫБУХАНИЕ НАДКЛЮЧИЧНЫХ И ПОДКЛЮЧИЧНЫХ  ЯМОК, БОЧКООБРАЗНАЯ ГРУДНАЯ  КЛЕТКА. ПРИ ПЕРКУССИИ - КОРО БОЧНЫЙ  ЗВУК, ГРАНИЦЫ ЛЁГКИХ ОПУЩЕ НЫ ДО11-12 РЕБРА ПО ЛОПАТОЧНОЙ ЛИНИИ, ОГРАНИЧЕНА ПОДВИЖНОСТЬ НИЖНЕГО ЛЕГОЧНОГО КРАЯ. ПРИ АУСКУЛЬТАЦИИ - ОСЛАБЛЕННОЕ ВЕЗИКУЛЯРНОЕ ДЫХАНИЕ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524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ИНДРОМ  ДИФФУЗНОГО  ПНЕВМОСКЛЕРО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1.ЖАЛОБЫ НА БОЛИ В РАЗЛИЧНЫХ ОТДЕЛАХ ГРУДНОЙ КЛЕТКИ СНАЧАЛА   НОЮЩИЕ, ЗАТЕМ СЖИМАЮЩЕГО ХАРАКТЕР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И  ОСМОТРЕ - ЗАПАДЕНИЕ И  ВТЯНУТОСТЬ НАД И ПОДКЛЮЧИЧНЫХ  ЯМОК ,ПРИ ПЕРКУССИИ -ПРИТУПЛЕНИЕ ПЕРКУТОРНОГО ЗВУКА,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ИЖНИЕ ГРАНИЦЫ  ЛЕГКИХ ПОДНЯТЫ ,ОГРАНИЧЕНА ПОДВИЖНОСТЬ  ЛЁГОЧНОГО КРАЯ. ПРИ АУСКУЛЬТАЦИИ - ЖЕСТКОЕ ДЫХАНИЕ, ВЛАЖНЫЕ ТРЕСКУЧИЕ ХРИП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3. НА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ЕНТГЕНОГРАММЕ ЛЕГКИХ ОПРЕДЕЛЯЮТСЯ БРОНХИ С УПЛОТНЕННЫМИ СТЕНКАМИ ЯЧЕИСТОСТЬ, СЕТЧАТОСТЪ ЛЕГОЧНОГО РИСУНКА; СИЛИКОТИЧЕСКИЕ УЗЕЛКИ, ОБРУБЛЕННОСТЬ КОРНЕЙ, ВОЛНИСТОСТЬ КУПОЛА ДИАФРАГ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индром сердечно-легочной недостаточ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1.ОДЫШКА СМЕШАННОГО ХАРАКТЕ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2.К ВЕЧЕРУ БОЛЬНОМУ СТАНОВЯТСЯ ТЕСНЫМИ ТУФЛИ  3.НЕПРИЯТНЫЕ ОЩУЩЕНИЯ В ПРАВОМ ПОДРЕБЕРЬЕ ВСЛЕДСТВИЕ УВЕЛИЧЕНИЯ ПЕЧЕНИ. ОБЪЕКТИВНО ПРИ ОСМОТРЕ – ЦИАНОЗ ГУБ, КОНЧИКА НОСА, УШЕЙ, КИСТЕЙ РУК. НАБУХАНИЕ ШЕЙНЫХ ВЕН ВНАЧАЛЕ В ГОРИЗОНТАЛЬНОМ ПОЛОЖЕНИИ, ЗАТЕМ В ВЕРТИКАЛЬНОМ. ПАСТОЗНОСТЬ  ГОЛЕНЕЙ,  УВЕЛИЧЕНИЕ ПЕЧ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5724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4.СНИЖАЕТСЯ ВЕЛИЧИНА МВЛ (МИНУТНАЯ ВЕНТИЛЯЦИЯ ЛЕГКИХ), КОГДА БОЛЬНОЙ ДЫШИТ ГЛУБОКО И МАКСИМАЛЬНО БЫСТРО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КЖЕ СНИЖЕТСЯ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5.УВЕЛИЧЕНИЕ ОСТАТОЧНОГО ОБЪЕМА ЛЕГКИХ - ПРИЗНАК ЭМФИЗЕМЫ. ОКСИГЕМОМЕТРИЯ – ОПРЕДЕЛЕНИЕ ПРОЦЕНТА НАСЫЩЕНИЯ КИСЛОРОДОМ АРТЕРИАЛЬНОЙ КРОВИ, ПОКАЗАТЕЛИ СНИЖАЮТСЯ. УДАРНЫЙ ОБЪЕМ СЕРДЦА ТАКЖЕ СНИЖАЕ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Дифференциальный диагноз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АРКОКОИДОЗ ( ХАРАКТЕРНА ПОЛИОРГАННОСТЬ ПОРАЖЕНИЯ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ДИФФУЗНЫЙ ПРОГРЕССИРУЮЩИЙ ИНТЕРСТИЦИАЛЬНЫЙ ПНЕВМОФИБРОЗ – СИНДРОМ ХАМАНА-РИЧ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КАРДИОГЕННЫЙ ПНЕВМОСКЛЕРОЗ (ГЕМОСИДЕРОЗ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МИЛЛИАРНЫЙ КАРЦИНОМАТОЗ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ИЗМЕНЕНИЯ В ЛЕГКИХ ПРИ РЕВМАТИЗМЕ И ЗАБОЛЕВАНИЯХ СОЕДИНИТЕЛЬНОЙ ТКАН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КРУПНОУЗЕЛКОВЫЙ СИЛИКОЗ ДИФФЕРЕНЦИРУЮТ С ПЕРВИЧНЫМ       РАКОМ ЛЁГК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 СТАД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ЖАЛОБЫ НА ОДЫШКУ ПРИ ЗНАЧИТЕЛЬНОЙ ФИЗИЧЕСКОЙ НАГРУЗКЕ, БОЛИ В ГРУДНОЙ КЛЕТКЕ ПЕРИОДИЧЕСКИЕ, КОЛЮЩЕГО ХАРАКТЕРА, НЕПОСТОЯННЫЙ СУХОЙ КАШЕЛЬ. ОБЪЕКТИВНО ВЫЯВЛЯЕТСЯ ЭМФИЗЕМА В НИЖНЕБОКОВЫХ ОТДЕЛАХ ГРУДНОЙ КЛЕТКИ, КОРОБОЧНЫЙ ОТТЕНОК ЗВУКА, ОСЛАБЛЕННОЕ ВЕЗИКУЛЯРНОЕ ДЫХАНИЕ, МОГУТ БЫТЬ СУХИЕ ХРИП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ФУНКЦИЯ ВНЕШНЕГО ДЫХАНИЯ - ЖЕЛ  В НОРМЕ, КОМПЕНСАТОРНОЕ УВЕЛИЧЕНИЕ МОД. ПРИ РЕНТГЕНОГРАФИИ СИММЕТРИЧНОЕ УСИЛЕНИЕ СОСУДИСТО-БРОНХИАЛЬНОГО РИСУНКА, ЕГО ДЕФОРМАЦИЯ. В СРЕДНЕЙ ЧАСТИ ЛЕГОЧНЫХ  ПОЛЕЙ НЕБОЛЬШОЕ КОЛИЧЕСТВО УЗЕЛКОВ, ПРИБЛИЗИТЕЛЬНО 1ММ В ДИАМЕТРЕ. ИЗМЕНЕНИЕ МЕЖДОЛЕВОЙ ПЛЕВРЫ В ВИДЕ ЛИНЕЙНЫХ ТЕ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I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тад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ОДЫШКА ПРИ ХОДЬБЕ, БОЛИ В ГРУДНОЙ КЛЕТКЕ ПОСТОЯННЫЕ, СЖИМАЮЩЕГО ХАРАКТЕРА, КАШЕЛЬ СУХОЙ ИЛИ С МОКРОТ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2.ОБЪЕКТИВНО - ЭМФИЗЕМА БОЛЕЕ ВЫРАЖЕНА ПРЕИМУЩЕСТВЕННО В БАЗАЛЬНЫХ ОТДЕЛАХ, ОГРАНИЧЕННАЯ ПОДВИЖНОСТЬ НИЖНЕГО КРАЯ ЛЁГКИХ. ФВД - СНИЖЕНИЕ ЖЕ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419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А РЕНТГЕНОГРАММЕ УСИЛЕНИЕ СЕТЧАТОСТИ ЛЕГОЧНЫХ ПОЛЕЙ, УВЕЛИЧЕНИЕ КОЛИЧЕСТВА И РАЗМЕРА УЗЕЛКОВ (2-4ММ) ПРЕИМУЩЕСТВЕННО В СРЕДНИХ И НИЖНИХ ОТДЕЛАХ. ПРИ УЗЕЛКОВОЙ ФОРМЕ КАРТИНА НАПОМИНАЕТ ДИССЕМИНИРОВАННЫЙ МИЛИАРНЫЙ ТУБЕРКУЛЁЗ (КАРТИНА "СНЕЖНОЙ БУРИ). КОРНИ ИМЕЮТ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Y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6ЛЕННЫЙ ВИД. ЛИМФАТИЧЕСКИЕ УЗЛЫ В КОРНЯХ ЛЕГКИХ УПЛОТНЕНЫ. ТЕНЬ МЕЖДОЛЕВОЙ ПЛЕВРЫ СТАНОВИТСЯ БОЛЕЕ ВЫРАЖЕННОЙ. ПРИ ИНТЕРСТИ ЦИАЛЬНОЙ ФОРМЕ ЛЕГОЧНОЙ РИСУНОК РЕЗКО ДЕФОРМИРОВАН И УСИЛЕН, КОРНИ УПЛОТНЕНЫ, УЗЕЛКОВ НЕМНОГО ИЛИ ОНИ ОТСУТСТВУЮ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КЛАССИФИКАЦИЯ   ПНЕВМОКОНИО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СИЛИКО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2СИЛИКАТОЗЫ  - АСБЕСТОЗ, ТАЛЬКОЗ, ЦЕМЕНТНЫЙ ,СЛЮДЯНОЙ, КАОЛИНО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3.МЕТАЛЛОКОНИОЗЫ (МЕТАЛЛИЧЕСКАЯ  ПЫЛЬ) - БЕРИЛЛИОЗ, СИДЕРОЗ, АЛЮМИНОЗ, БАРИТОЗ, ПНЕВМОКОНИОЗ ОТ РЕДКОЗЕМЕЛЬНЫХ И ТЯЖЕЛЫХ СПЛАВ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КАРБОКОНИОЗЫ - АНТРАКОЗ, ГРАФИТОЗ, САЖЕВЫЙ ПНЕВМОКОНИО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II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тад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ОДЫШКА В ПОКОЕ, БОЛИ В ГРУДНОЙ КЛЕТКЕ ПОСТОЯННОГО, СЖИМАЮЩЕГО ХАРАКТЕРА, КАШЕЛЬ С МОКРОТОЙ, ВОЗМОЖНЫ ПРИСТУПЫ УДУШЬ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ОБЪЕКТИВНО: ПРИ ПЕРКУССИИ ОПРЕДЕЛЯЕТСЯ ЧЕРЕДОВАНИЕ ПРИТУПЛЕННОГО ПЕРКУТОРНОГО ЗВУКА С КОРОБОЧНЫМ , ПРИ АУСКУЛЬТАЦИИ ЧЕРЕДОВАНИЕ ЖЕСТКОГО И ОСЛАБЛЕННОГО ДЫХА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ЫЯВЛЯЮТСЯ СИМПТОМЫ ПРАВОЖЕЛУДОЧКОВОЙ СЕРДЕЧНОЙ НЕДОСТАТОЧНОСТИ В ВИДЕ ЛЕГОЧНОГО СЕРДЦА. ПРИ ИССЛЕДОВАНИИ ФВД РЕЗКОЕ СНИЖЕНИЕ ЖЕЛ, СНИЖЕНИЕ МОД И МВ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и рентгенографии определяется чередование фиброза и эмфиземы, слияние узелков в крупные конгломераты, массивные плевральные спайки, утолщение междолевой плевры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Течение силикоз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1.РАЗЛИЧАЮТ МЕДЛЕННО РАЗВИВАЮЩИЙСЯ СИЛИКОЗ, КОГДА ДО НАЧАЛА ЗАБОЛЕВАНИЯ ПРОХОДИТ БОЛЕЕ 5 Л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.БЫСТРО РАЗВИВАЮЩИЙСЯ  С ЭКСПОЗИЦИЕЙ В 2-3 ГОДА И ДАЖЕ 6 МЕСЯЦЕВ. ВСТРЕЧАЕТСЯ У ЛИЦ ОСОБО ОПАСНЫХ ПРОФЕССИЙ: ПЕСКОСТРУЙЩИКИ, ПРОХОДЧИКИ ТОННЕЛЕЙ, ШЛИФОВАЛЬЩИКИ ЛИНЗ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3.ПОЗДНИЙ ПНЕВОМОКОНИОЗ ВОЗНИКАЕТ СПУСТЯ НЕСКОЛЬКО ЛЕТ ПОСЛЕ ПРЕКРАЩЕНИЯ КОНТАКТА С ПЫЛЬ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Морфологические вариан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УЗЕЛКОВЫЙ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ИНТЕРСТИЦИАЛЬНЫЙ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УЗЛОВ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Осложнения пневмокониозов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ЛЕГОЧНО-СЕРДЕЧНАЯ НЕДОСТАТОЧНОСТЬ ("ЛЕГОЧНОЕ СЕРДЦЕ"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ОФЕССИОНАЛЬНАЯ БРОНХИАЛЬНАЯ АСТМ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ПОНТАННЫЙ ПНЕВМОТОРАК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БРОНХОЭКТАЗ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РАК ЛЕГКИ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ТУБЕРКУЛЕ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рофилактика пневмокониоз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БЩЕГОСУДАРСТВЕННЫЕ МЕРОПРИЯТИЯ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СОКРАЩЕНИЕ РАБОЧЕГО ДНЯ, 2.УДЛИНЕНИЕ ОТПУСКОВ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3. ПЕНСИИ ПО СТАРОСТИ – ЖЕНЩИНАМ С 45 ЛЕТ, МУЖЧИНАМ С 50 ЛЕТ, 5.ПРЕИМУЩЕСТВЕННОЕ ПРАВО НА САНАТОРНО-КУРОРТНОЕ ЛЕЧ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Технические и сан-гигиеническ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СНИЖЕНИЕ ЗАПЫЛЕННОСТИ ВОЗДУХА ( ГЕРМЕТИЗАЦИЯ АГРЕГАТОВ, 2.МЕХАНИЗАЦИЯ ПРОИЗВОДСТВЕННЫХ ПРОЦЕССОВ, ПЕРЕХОД С СУХОГО НА МОКРОЕ БУРЕНИЕ, ВЕНТИЛЯЦИОННЫЕ И ПЫЛЕУЛАВЛИВАЮЩИЕ УСТРОЙСТВА), 3.ПРИМЕНЕНИЕ СКАФАНДРОВ, РЕСПИРАТОРОВ, СПЕЦИАЛЬНОЙ ОДЕЖ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МЕДИЦИНСКИЕ МЕРОПРИ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ПРОВЕДЕНИЕ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ЕДВАРИТЕЛЬНЫХ МЕДОСМОТРОВ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ДЛЯ ВЫЯВЛЕНИЯ ПРОТИВОПОКАЗАНИЙ К ПРИЕМУ НА РАБО -ТУ С ПЫЛЬЮ:1.ВСЕ ФОРМЫ ТУБЕРКУЛЕЗА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2.ЗАБОЛЕВАНИЯ ВЕРХНИХ ДЫХАТЕЛЬНЫХ ПУТЕЙ И БРОНХ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3.ОРГАНИЧЕСКИЕ ЗАБОЛЕВАНИЯ СЕРДЕ ЧНО-СОСУДИСТОЙ СИСТЕМЫ (ПОРОКИ, ГБ, ИБС);В ШАХТЫ И НА РАБОТУ ПЕСКО СТРУЙЩИКОМ НЕ ПРИНИМАЮТСЯ ЖЕН ЩИНЫ, А ТАКЖЕ МУЖЧИНЫ МОЛОЖЕ 18 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ериодические медосмотр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ЛЯ ШАХТЕРОВ И ПЕСКОСТРУЙЩИКОВ 1 РАЗ В ГОД, ПРИ ПОДЗЕМНЫХ РАБОТАХ В ТОННЕЛЯХ, ПРИ СУХОМ БУРЕНИИ 1 РАЗ В 6 МЕСЯЦЕВ. В ОСМОТРАХ УЧАСТВУЮТ ТЕРАПЕВТ, РЕНТГЕНОЛОГ, ФТИЗИАТР И ОТОЛЯРИНГОЛОГ. ОБЯЗАТЕЛЬНА РЕНТГЕНОГРАММА ГРУДНОЙ КЛЕТКИ, АНАЛИЗ КРОВИ, АНАЛИЗ МОКРОТЫ НА МИКОБАКТЕРИИ ТУБЕРКУЛЕЗ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ЛЕЧ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3808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ДИЕТА БОЛЬНЫХ ПНЕВМОКОНИОЗОМ ДОЛЖНА БЫТЬ ПОЛНОЦЕННОЙ, БОГАТОЙ БЕЛКАМИ И ВИТАМИНАМ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ЭТИОТРОПНОЕ ЛЕЧЕНИЕ ЗАКЛЮЧАЕТСЯ В ПРЕКРАЩЕНИИ КОНТАКТА С ПЫЛЬЮ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КЛАССИФИКАЦИЯ   ПНЕВМОКОНИО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5. ПНЕВМОКОНИОЗЫ ОТ</a:t>
            </a:r>
            <a:r>
              <a:rPr b="1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МЕШАННОЙ ПЫ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А).ПНЕВМОКОНИОЗ, СОДЕРЖАЩЕЙ СВОБОД -НУЮ ДВУОКИСЬ КРЕМНИЯ: АНТРОКОСИЛИКОЗ, СИДЕРОСИЛИКОЗ, СИЛИКОСИЛИКАТО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) НЕ СОДЕРЖАЩЕЙ СВОБОДНОЙ ДВУОКИСИ  КРЕМНИЯ ИЛИ  С НЕЗНАЧИТЕЛЬНЫМ СОДЕРЖАНИЕМ ЕЁ - ПНЕВМОКОНИОЗ ШЛИФОВЩИКОВ, ЭЛЕКТРОСВАРЩИКОВ 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ДРУГИ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6. ПНЕВМОКОНИОЗЫ ОТ ОРГАНИЧЕСКОЙ ПЫЛИ -ХЛОПКОВАЯ  ПЫЛЬ, ЗЕРНОВАЯ, ПРОБКОВАЯ ,ЛЬНЯНАЯ.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атогенетическая терапи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1.ПРИМЕНЕНИЕ ГЛЮКОКОРТИКОИДОВ ,КОТОРЫЕ ЗАМЕДЛЯЮТ РАЗВИТИЕ СИЛИКОЗА, ПРЕДУПРЕЖДАЮТ АУТОЛИЗ КОНИОФАГОВ, НО ПРИМЕНЯЮТСЯ ОНИ С БОЛЬШОЙ ОСТОРОЖНОСТЬЮ, ГЛАВНЫМ ОБРАЗОМ ПРИ ОСТРОМ СИЛИКОЗЕ. ВО ВСЕХ СЛУЧАЯХ ГОРМОНЫ СОЧЕТАЮТСЯ С НАЗНАЧЕНИЕМ ПРОТИВОТУБЕРКУЛЕЗНЫХ ПРЕПАРАТОВ (ИЗОНИАЗИД И ДР.). ДОЗА ПРЕДНИЗОЛОНА 20-25 МГ В СУТКИ 10-12 ДНЕЙ С ПОСЛЕДУЮЩИМ ПОСТЕПЕННЫМ СНИЖЕНИЕМ. КУРСЫ 1,5-2 МЕСЯЦ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атогенетическая терап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РОМЕ ЭТОГО ВОЗМОЖНО ИНГАЛЯЦИОННОЕ ПРИМЕНЕНИЕ ГЛЮКОКОРТИКОСТЕРОИДОВ (БЕКОТИД, АЛЬДАЦИН) ПО 3 ИНГАЛЯЦИИ В СУТ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2. ДЕЛАГИЛ В ТАБЛЕТКАХ ПО 0,25 В СУТКИ ДЛЯ СТАБИЛИЗАЦИИ ЛИЗОСОМАЛЬНЫХ ФЕРМЕН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3. ПОЛИВИНИЛПИРИДОНОКСИ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4. Д-ПЕНИЦИЛЛАМИН(КУПРЕНИЛ) ПО 0,15-0,25 ДО 1 ГРАММА В СУТ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5. КИСЛОРОДОТЕРАП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СИМПТОМАТИЧЕСКАЯ ТЕРАП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380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1..ЛЕЧЕНИЕ ХРОНИЧЕСКОГО БРОНХИТА ВСЛЕДСТВИЕ ПРИСОЕДИНЕНИЯ ИНФЕКЦИИ: АНТИБИОТИКИ ШИРОКОГО СПЕКТРА ДЕЙСТВИЯ, ОТХАРКИВАЮЩИЕ СРЕДСТВА (ТЕРМОПСИС, ИОДИСТЫЙ КАЛИЙ 3%), МУКОРЕГУЛЯТОРЫ (АМБРОКСОЛ, АЦЕТИЛЦИСТЕИН, КАРБОЦИСТЕИН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СИМПТОМАТИЧЕСКАЯ ТЕРАП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380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2.ЛЕЧЕНИЕ НАРУШЕНИЙ БРОНХИАЛЬНОЙ ПРОХОДИМОСТИ (ФЕНОТЕРОЛ, ИПРАТРОПИУМ БРОМИД, СОЛЬБУТАМОЛ, БЕРОДУАЛ В ИНГАЛЯЦИЯХ И ДЛЯ НЕБУЛАЙЗЕРНОЙ ТЕРАПИИ), ТЕОФИЛИНЫ В/В ИЛИ В ТАБЛЕТКАХ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СИМПТОМАТИЧЕСКАЯ ТЕРАП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380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3.ЛЕЧЕНИЕ ЛЕГОЧНО-СЕРДЕЧНОЙ НЕДОСТАТОЧНОСТИ ПРИ ЛЕГОЧНОМ СЕРДЦЕ (КОРГЛИКОН, СТРОФАНТИН, МОЧЕГОННЫЕ, ИНГИБИТОРЫ АПФ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4.ВИТАМИНОТЕРАПИЯ ( ВИТА -МИНЫ ГРУППЫ В, С, НИКОТИНОВАЯ КИСЛОТА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ФИЗИОТЕРАП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ПРИМЕНЯЕТСЯ ЛФК, УФО ДЛЯ ПОВЫШЕНИЯ СОПРОТИВЛЯЕМОСТИ ОРГАНИЗМА, ИНГАЛЯЦИИ, ДИАТЕРМИЯ, ГАЛОКАМЕРА, ГИПОКСИТЕРАПИЯ, БРОНХОЗАЛИВКИ С ФИЗРАСТВОРОМ И ДРУГИЕ МЕТОД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САНАТОРНО-КУРОРТНОЕ ЛЕЧ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АНАТОРИИ "ГОРНЯК" С КУМЫСОЛЕЧЕНИЕМ В СТЕПНОЙ ЗОНЕ ВОСТОЧНОГО КАЗАХСТАНА, САНАТОРИИ В ХАРЬКОВСКОЙ ОБЛАСТИ И В КРЫМУ. БОЛЬНЫЕ С СИЛИКОТУБЕРКУЛЕЗОМ НАПРАВЛЯЮТСЯ В ПРОТИВОТУБЕРКУЛЕЗНЫЕ САНАТОР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экспертиза трудоспособно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И 1 СТАДИИ СИЛИКО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ОТИВОПОКАЗАНА РАБОТА С ПЫЛЬЮ, В НЕБЛАГОПРИЯТНЫХ МЕТЕОРОЛОГИЧЕСКИХ УСЛОВИЯХ. НЕОБХОДИМО ТРУДОУСТРОЙСТВО. ЕСЛИ ПЕРЕВОД НА ДРУГУЮ РАБОТУ СВЯЗАН СО СНИЖЕНИЕМ КВАЛИФИКАЦИИ, ТО БОЛЬНЫЕ НАПРАВЛЯЮТСЯ НА МСЭК ДЛЯ ОПРЕДЕЛЕНИЯ ГРУППЫ ИНВАЛИДНОСТИ И ПРОЦЕНТА УТРАТЫ ТРУДОСПОСОБНОСТИ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45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МОЛОДЫМ ЛИЦАМ В ВОЗРАСТЕ ДО 40 ЛЕТ НЕОБХОДИМО СОЗДАТЬ УСЛОВИЯ ДЛЯ ПЕРЕОБУЧЕНИЯ И ПЕРЕКВАЛИФИКАЦИИ, ЧТО ПОЗВОЛИТ В ДАЛЬНЕЙШЕМ СНЯТЬ С НИХ ИНВАЛИДНОСТЬ (ТРУДОВАЯ РЕАБИЛИТАЦИЯ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I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ГРУППА ИНВАЛИДНОСТИ УСТАНАВЛИВАЕТСЯ ПРИ ПРОГРЕССИРОВАНИИ ЗАБОЛЕВАНИЯ, НАРАСТАНИИ БРОНХОСПАСТИЧЕСКОГО СИНДРОМА, ЛЕГОЧНО-СЕРДЕЧНОЙ НЕДОСТАТОЧ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БЫСТРОТА  РАЗВИТИЯ ПК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60948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1.ВИДА ПЫЛ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.ДЛИТЕЛЬНОСТИ  ЭКСПОЗИЦИИ: СИЛИКОЗ ЧАЩЕ РАЗВИВАЕТСЯ ЧЕРЕЗ 5ЛЕТ, А ОСТА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ЫЕ ПНЕВМОКОНИОЗЫ ЧЕРЕЗ</a:t>
            </a:r>
            <a:r>
              <a:rPr b="1" sz="2800" spc="-1" strike="noStrike">
                <a:solidFill>
                  <a:srgbClr val="ffff00"/>
                </a:solidFill>
                <a:latin typeface="Times New Roman"/>
              </a:rPr>
              <a:t>  8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sz="2800" spc="-1" strike="noStrike">
                <a:solidFill>
                  <a:srgbClr val="ffff00"/>
                </a:solidFill>
                <a:latin typeface="Times New Roman"/>
              </a:rPr>
              <a:t>- 10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Л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3.КОНЦЕНТРАЦИ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4.ДИСПЕРСНОСТИ ЧАСТИЦ: ОТ</a:t>
            </a:r>
            <a:r>
              <a:rPr b="1" sz="2800" spc="-1" strike="noStrike">
                <a:solidFill>
                  <a:srgbClr val="ffff00"/>
                </a:solidFill>
                <a:latin typeface="Times New Roman"/>
              </a:rPr>
              <a:t> 2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ДО</a:t>
            </a:r>
            <a:r>
              <a:rPr b="1" sz="2800" spc="-1" strike="noStrike">
                <a:solidFill>
                  <a:srgbClr val="ffff00"/>
                </a:solidFill>
                <a:latin typeface="Times New Roman"/>
              </a:rPr>
              <a:t> 0,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5 МИКРОН  САМЫЕ ОПАСНЫ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5.ОТ ВЕЛИЧИНЫ МОД, КОТОРАЯ ЗАВИСИТ ОТ СТЕПЕНИ ТЯЖЕСТИ РАБОТ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6.ОТ ВОЗРАСТА У  МОЛОДЫХ ПРОТЕКАЕТ  ТЯЖЕЛЕ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7.ОТ  НАЛИЧИЯ  У РАБОЧЕГО  ДРУГИХ  ЗАБОЛЕ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АНИЙ, ОСОБЕННО ОРГАНОВ ДЫХ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АТОГЕНЕ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 ВНЕШНЯЯ ЗАЩИТА</a:t>
            </a:r>
            <a:r>
              <a:rPr b="1" sz="3200" spc="-1" strike="noStrike">
                <a:solidFill>
                  <a:srgbClr val="ffff00"/>
                </a:solidFill>
                <a:latin typeface="Times New Roman"/>
              </a:rPr>
              <a:t> -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ЭТО  ОСЕДАНИЕ ПЫЛИ В ПОЛОСТИ НОСА И ЕЕ УДАЛЕНИЕ ПРИ ЧИХАНИИ И  ДЕЯТЕЛЬНОСТЬ МЕРЦАТЕЛЬНОГО ЭПИТЕЛИЯ  БРОНХОВ ПО  ВЫВЕДЕНИЮ  ПЫЛИ  И  УДАЛЕНИЮ ЕЁ С КАШЛ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2.ВНУТРЕННЯЯ ЗАЩИТА - ЭТО МЕХАНИЗМ  ФАГОЦИТОЗА ПЫЛИНОК ТУЧНЫМИ КЛЕТКАМИ, ЛИМФОЦИТАМИ, КЛЕТКАМИ АЛЬВЕОЛЯРНОГО ЭПИТЕЛИЯ С ОБРАЗОВАНИЕМ КОНИОФАГ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АТОГЕНЕ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1.ПРИ ВОЗДЕЙСТВИИ ПЫЛИ ГИБНУТ ФАГОЦИТЫ, ПЫЛЬ ПОПАДАЕТ В ИНТЕРСТИЦИЙ, ЛИМФАТИЧЕСКИЕ ЩЕЛИ, ЛИМФОУЗЛЫ. ВСЛЕДСВИЕ ЭТОГО РАЗВИВАЕТСЯ СКЛЕРОЗ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ТЕОРИИ ПНЕВМОСКЛЕРО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190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ММУНОБИОЛОГИЧЕСКАЯ ТЕОРИЯ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ОГЛАСНО ЭТОЙ ТЕОРИИ СИЛИКОТИЧЕСКИЙ УЗЕЛОК -СВОЕОБРАЗНОЕ ДЕПО АНТИТЕЛ ВОКРУГ АНТИГЕНОВ. КОТОРЫЕ В СВОЮ ОЧЕРЕДЬ ЛОКАЛИЗУЮТСЯ  ВБЛИЗИ КРИСТАЛЛОВ  КВАРЦА. АНТИГЕНОМ ЯВЛЯЕТСЯ БЕЛОК, СТРУКТУРА КОТОРОГО  ИЗМЕНЕНА В РЕЗУЛЬТАТЕ АБСОРБЦИИ ДВУОКИСИ КРЕМ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419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МЕХАНИЧЕСКАЯ ТЕОРИЯ: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А) РАССМАТРИВАЮТСЯ ИЗМЕНЕНИЯ В ЛЕГКИХ КАК РЕЗУЛЬТАТ МЕХАНИЧЕСКОЙ ТРАВМАТИЗАЦИИ  ЛЕГОЧНОЙ ТКАНИ ПЫЛЬЮ, А ПЫЛЬ ДЕЙСТВУЕТ, КАК ИНОРОДНОЕ АСЕПТИЧЕСКОЕ ТЕЛО, ПОЯВЛЯЮТСЯ РЕТИКУЛИНОВЫЕ ВОЛОКНА, НЕМНОГО  КОЛЛАГЕНОВЫХ, СЛАБАЯ КЛЕТОЧНАЯ РЕАКЦ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Б) ИМЕЕТ  ЗНАЧЕНИЕ И ЛИМФОСТАЗ  ВСЛЕДСТВИЕ ЗАКУПОРКИ ЛИМФАТИЧЕСКИХ ПРОТОКОВ  КОНИОФАГАМИ  И ПЫЛ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43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ТОКСИКО-ХИМИЧЕСКАЯ ТЕОРИЯ ИЛИ ТЕОР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АСТВОРИМ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ДВУОКИСЬ КРЕМНИЯ В ПРИСУТСТВИИ ТКАНЕ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ЫХ ЖИДКОСТЕЙ ОБРАЗУЕТ ХИМИЧЕСКИ АКТИВНЫЙ  РАСТВОР КРЕМНЕВОЙ  КИСЛОТЫ, КОТОРАЯ  ВЫЗЫВАЕТ КОАГУЛЯЦИОННЫЙ НЕКРОЗ ЦИТОПЛАЗМЫ И ПОСЛЕДУЮЩЕЕ РАЗВИТИЕ СОЕДИНИТЕЛЬНОЙ ТКАНИ. ИМЕЕТ ЗНАЧЕНИЕ ЦИТОТОКСИЧНОСТЬ КВАРЦА, КОТОРЫЙ ВЫЗЫВАЕТ ГИБЕЛЬ МАКРОФАГОВ С ВЫДЕЛЕНИЕМ ЛИЗОСОМАЛЬНЫХ ФЕРМЕНТОВ И РАЗВИТИЕМ СВОБОДНО-РАДИКАЛЬНЫХ ПРОЦЕССОВ. ВЫДЕЛЯЕТСЯ И ФИБРОГЕННЫЙ ФАКТОО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678880" y="639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08:42:58Z</dcterms:created>
  <dc:creator>Кузнецов Ю.А.</dc:creator>
  <dc:description/>
  <dc:language>en-US</dc:language>
  <cp:lastModifiedBy>Admin</cp:lastModifiedBy>
  <dcterms:modified xsi:type="dcterms:W3CDTF">2011-02-21T09:45:53Z</dcterms:modified>
  <cp:revision>37</cp:revision>
  <dc:subject/>
  <dc:title>ПНЕВМОКОНИОЗ </dc:title>
</cp:coreProperties>
</file>