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835-B477-4A89-9113-0FA9613C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8A2-87CD-4C19-ADE7-6090312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1AF-B263-4270-AB66-478EE3A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BEE-92D2-4839-B91E-D94A7C6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DB45-C61C-46E0-BCA3-7E206C5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2A8B-3498-4421-AC51-FB058A27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FC0E-4B02-4011-95E4-9977BDE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7C02-1E2A-4B05-A8AF-732CC035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66F6-FED4-4FF7-9654-F56034BE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4D4E-5BF7-4324-97D5-5DE8AA2D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9073-829A-4409-A647-1167716F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1C9-A2A7-4A5A-8884-609FCB57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DA5E-D34C-4FB7-81C5-43CE937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66FD-FF20-43F3-AA64-83EED54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4DAC-B031-4690-8756-CA803A3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07B-57E9-4D77-BA1D-1432C7EA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9348-BD68-4A76-9A98-5421384C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245-4AEF-4BB8-984F-2E3487F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DFC3-E1C5-494C-8D4E-F4EBA4F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F75-78DE-415A-B354-76D0B78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8A4-66D2-432D-A5A5-1BC2C36D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34F-1A03-45E1-8C95-2589826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212-74A1-4312-AEB4-16F440BC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A88-6340-4DB2-A76B-E5D39EF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5A32-E2E0-44ED-A7B6-F6CBB149E7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CB8A-72F6-4F06-85A7-B0A771425E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«Мостовые методы измерения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ahoma"/>
              </a:rPr>
              <a:t>Электронно-измерительный прибор по схеме моста (термометр)- автоматический уравновешенный мост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47640" y="2049480"/>
            <a:ext cx="62643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боту выполнил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жной Андр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аков Бор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рия создан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века началось бурное развитие техники: прокладывались проводные телеграфные и телефонные линии связи. Постоянные обрывы и различные повреждения были в те годы обычным явлением. И для выявления этих повреждений нужен был прибор, который мог бы выявить их. Этим прибором стал мостик Уинстона, впервые предложенный  английским физиком Чарльзом Уинстоном (1802 - 1875), который является одним из создателей телеграфного аппар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елитель напря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0" y="1557360"/>
            <a:ext cx="390996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щ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292360" y="404640"/>
            <a:ext cx="360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делителе действуют те же отношения, только то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ит из двух токов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о Кирхгоф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095480" y="4635360"/>
            <a:ext cx="736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67280" y="256536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 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то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2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82800" y="4365720"/>
            <a:ext cx="52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51577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сюда следует важный практический вывод: между точками 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нет напряжения. Очевидно, это напряжение появится если в одном из резисторов сопротивления будут не рав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остик Уинсто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тик Уинстона представляет собой схему, употребляемую для сравнения некоторого неизвестного сопротивлен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 известным сопротивлением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32944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бор для измерения неизвестного сопротивления с помощью (мост Уинстона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27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действия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1" action="ppaction://hlinksldjump"/>
              </a:rPr>
              <a:t>моста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 action="ppaction://hlinksldjump"/>
              </a:rPr>
              <a:t>Сотти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 action="ppaction://hlinksldjump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ой же как и моста Уинстона: условие равновесия моста достигается пр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6622920" y="1197000"/>
                <a:ext cx="2521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эт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250920" y="1916280"/>
            <a:ext cx="83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я, что С1 = С2, получаем Сэт = Сх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 (мост Сотти), индикатором является громкоговоритель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Экспериментальный емкостной мост, индикатором являются головные телефо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76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4:36:20Z</dcterms:created>
  <dc:creator>Andrey Berezchnoy</dc:creator>
  <dc:description/>
  <dc:language>en-US</dc:language>
  <cp:lastModifiedBy>Andrey Berezchnoy</cp:lastModifiedBy>
  <dcterms:modified xsi:type="dcterms:W3CDTF">2007-01-30T18:06:25Z</dcterms:modified>
  <cp:revision>7</cp:revision>
  <dc:subject/>
  <dc:title>«Мостовые методы измерения»</dc:title>
</cp:coreProperties>
</file>