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CA5-582F-40D1-B93F-FC2A7D39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C79-284C-4BAD-B8ED-9EAC0EF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8A3-EC10-4DCC-A138-8A174F78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E37-91A0-4121-AA27-01C8F7C3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AF5A-D5CF-4497-8267-EC3CF438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6836-2357-456D-9A90-3E62845B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22E5-4D8A-4F45-A136-D359AD97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1D04-988E-45CE-AC73-C27524AF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B3E6-AEFF-49BB-A16A-F72A67F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D704-45B1-4604-AB8F-C983D8E9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092F-B36C-4DFA-B42A-474E10E9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F3D-3409-41DC-82FB-33405E82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BADB-9F28-4818-B84B-0D7FE09A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07BA-1344-4604-9B97-50794885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7155-BADB-4227-91C6-CE524E07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4636-DFA1-4986-909D-7AE0B969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FFC2-FEB6-4E8E-81CF-1E0B9AFC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4BB-C8BC-4333-BCA8-45C1FB0A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FB5-7A35-43DE-B19F-50418872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DED-9382-4B08-AB2C-F401A5B6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DC2-A249-493B-A76D-769F3C5E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EFF-987A-4258-9924-070E8177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868-A560-466C-A684-0B90C97C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224-3F32-4C28-844B-0F9E4067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A147-FA44-4B17-A8E2-83C1BEF753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FCC5-43C4-4EB5-8349-DF3414FF7F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«Мостовые методы измерения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Электронно-измерительный прибор по схеме моста (термометр)- автоматический уравновешенный мост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547640" y="2049480"/>
            <a:ext cx="62643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боту выполнил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жной Андр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умаков Бор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тория созда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 века началось бурное развитие техники: прокладывались проводные телеграфные и телефонные линии связи. Постоянные обрывы и различные повреждения были в те годы обычным явлением. И для выявления этих повреждений нужен был прибор, который мог бы выявить их. Этим прибором стал мостик Уинстона, впервые предложенный  английским физиком Чарльзом Уинстоном (1802 - 1875), который является одним из создателей телеграфного аппара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елитель напря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90996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I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I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U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2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5292360" y="404640"/>
            <a:ext cx="360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м делителе действуют те же отношения, только то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щ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ит из двух токов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ло Кирхгоф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608720" cy="3816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095480" y="4635360"/>
            <a:ext cx="736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67280" y="256536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 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2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82800" y="4365720"/>
            <a:ext cx="52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51577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юда следует важный практический вывод: между точками 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нет напряжения. Очевидно, это напряжение появится если в одном из резисторов сопротивления будут не рав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остик Уинсто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стик Уинстона представляет собой схему, употребляемую для сравнения некоторого неизвестного сопротивлени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 известным сопротивлением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329440" cy="34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ибор для измерения неизвестного сопротивления с помощью (мост Уинстона)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7273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действия 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моста 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Сотти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ой же как и моста Уинстона: условие равновесия моста достигается пр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622920" y="1197000"/>
                <a:ext cx="2521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250920" y="191628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я, что С1 = С2, получаем Сэт = Сх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Экспериментальный емкостной мост (мост Сотти), индикатором является громкоговоритель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Экспериментальный емкостной мост, индикатором являются головные телефон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7676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4:36:20Z</dcterms:created>
  <dc:creator>Andrey Berezchnoy</dc:creator>
  <dc:description/>
  <dc:language>en-US</dc:language>
  <cp:lastModifiedBy>Andrey Berezchnoy</cp:lastModifiedBy>
  <dcterms:modified xsi:type="dcterms:W3CDTF">2007-01-30T18:06:25Z</dcterms:modified>
  <cp:revision>7</cp:revision>
  <dc:subject/>
  <dc:title>«Мостовые методы измерения»</dc:title>
</cp:coreProperties>
</file>