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163-1783-47CE-8EF1-F1EC058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177-6AAA-4F33-9E5C-31B94417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7CC-A910-4C78-AEA8-5735D37D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02E-99E5-4C43-9EAC-9E4A3AB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1883-F3A7-489C-9E63-DDCE112D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53E3-6E07-4481-8A5A-3AD8685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9189-7922-43C2-AAD5-130DEDF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832-AED8-41E7-AB56-7A376FC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09F-81F6-4111-880E-4D5F3934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C6C5-B401-4B1D-80B0-DC07A8A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8B97-9D35-4F88-88FC-B63669B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77D-459D-443E-8C18-EE204BA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D54-5D2B-4EB3-B047-5C9DB201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B2D6-128A-46A4-BD21-8104CB9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9490-ADC4-47AC-B859-ADFDB5C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0FB-E70F-4FB5-AB06-E89A579F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306-6E10-43DE-918A-F0D61726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549-CBA1-4CAF-9C67-AE0B6572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379-1DC4-4A38-A5BE-07F6577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8D1-7C68-4B68-88B9-EB2CC8B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73C-4EC1-4907-90AC-D12E6D8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E0C-2891-4876-92D8-B18066D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BA5-91BC-4F8D-BFD2-EDC5CF3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A60-80F7-4B75-A055-CCF0BC4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3DC-6A62-454F-A9AB-5E1EEDF6B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5FD5-7A77-4487-993A-CDF059AA24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Мостовые методы измерения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Электронно-измерительный прибор по схеме моста (термометр)- автоматический уравновешенный м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47640" y="2049480"/>
            <a:ext cx="62643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у выполнил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ной Андр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аков Бор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рия созда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века началось бурное развитие техники: прокладывались проводные телеграфные и телефонные линии связи. Постоянные обрывы и различные повреждения были в те годы обычным явлением. И для выявления этих повреждений нужен был прибор, который мог бы выявить их. Этим прибором стал мостик Уинстона, впервые предложенный  английским физиком Чарльзом Уинстоном (1802 - 1875), который является одним из создателей телеграфного аппар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елитель напря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90996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292360" y="404640"/>
            <a:ext cx="360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делителе действуют те же отношения, только то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ит из двух токов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о Кирхгоф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95480" y="4635360"/>
            <a:ext cx="736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67280" y="2565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82800" y="4365720"/>
            <a:ext cx="52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51577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юда следует важный практический вывод: между точками 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т напряжения. Очевидно, это напряжение появится если в одном из резисторов сопротивления будут не ра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остик Уинсто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тик Уинстона представляет собой схему, употребляемую для сравнения некоторого неизвестного сопротивле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 известным сопротивлением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32944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бор для измерения неизвестного сопротивления с помощью (мост Уинстона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27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действия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моста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Сотти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ой же как и моста Уинстона: условие равновесия моста достигается пр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622920" y="1197000"/>
                <a:ext cx="2521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250920" y="191628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я, что С1 = С2, получаем Сэт = С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 (мост Сотти), индикатором является громкоговорит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, индикатором являются головные телефо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36:20Z</dcterms:created>
  <dc:creator>Andrey Berezchnoy</dc:creator>
  <dc:description/>
  <dc:language>en-US</dc:language>
  <cp:lastModifiedBy>Andrey Berezchnoy</cp:lastModifiedBy>
  <dcterms:modified xsi:type="dcterms:W3CDTF">2007-01-30T18:06:25Z</dcterms:modified>
  <cp:revision>7</cp:revision>
  <dc:subject/>
  <dc:title>«Мостовые методы измерения»</dc:title>
</cp:coreProperties>
</file>