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76F-FF66-4B29-A438-55DAFF47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094-17E9-4D25-9D9E-0B9EB384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B8B-84B7-4F0A-AFB5-8731B4CA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42B-5237-4F8D-B0F3-BA96A27D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D24-5265-4354-B38B-1F926576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1FF-FD46-4938-9C45-33D6C3D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48D-7B49-4125-8900-EA3DE358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CB5-C3D6-41A7-9964-B8330BE6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C61-8696-4DFD-95BB-02832C5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305-AB1D-4EA2-8825-50B7BA4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3AE-EDE6-4651-B93E-7693FE7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D96-5B2C-499C-AE98-4FBE66C9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3A1-3403-4C51-A28D-5A2BD0068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пособы передачи 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чужой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пособию О. Загоровской и О.В. Григоренко «Русский язык. Готовимся к ЕГЭ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оставьте несколько предложений с косвенной речь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71280" y="2133360"/>
            <a:ext cx="778644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Успеем ли мы приехать на вокзал? 2. Времени у нас достаточ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Его друг с нами не поед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Им можно позавидов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 Эти места лучше Кры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 Когда они приеду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 Как они отдохну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ерепишите текст, заменяя прямую речь косвен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Нравится наш город?» — спросили дети. «Нравится, особенно его украшают цветы», — сказал я. «У нас уже пятьдесят тысяч розовых кустов. В будущем году выполним план». — «И тут план», — удивился я. «А как же? Сколько жителей в городе — столько и должно цвести кустов!» — «Кто же такое придумал?» — «Иван Иванович». «А кто он, этот Иван Иванович?» — поинтересовался я. «Он один из первых строителей города, — гордо объявила девочка. — Он сам цветы сажае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Цитаты и знаки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пинания при ни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итат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дословные выдержки из высказываний и сочинений кого-либо, приводимые для подтверждения или пояснения своей мысл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   Цитаты могут стоять при словах автора и представлять собой прямую речь. В этом случае знаки препинания при цитатах ставятся, как в предложениях с прямой речью.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. Г. Белинский писал: «Стих Пушкина благороден, изящно прост, национально верен духу язы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4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цитата может вводить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авторскую речь и 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как часть предложе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Тогда она выделяется кавычками и пишется со строчной букв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Например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ысль Л. Н. Толстого «время есть отношение движения своей жизни к движению других существ», высказанная в его дневнике, имеет глубокое философское содержан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 словам Ф. И. Шаляпина, искусство может переживать времена упадка, но «оно вечно, как сама жизнь»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оставьте и запишите по правилам пунктуации предложения с данными цитатами, сопровождая их словами ав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213336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   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..Сам необыкновенный язык наш есть еще тайна (Гоголь)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лингвистическом смысле народ составляют все люди, говорящие одним языком (Чернышевский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раткость — сестра таланта (Чехов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Тестовые зад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280" y="134136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Наполеон однажды заметил, что «я могу проиграть эту битву, но не могу потерять минуту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б) 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адам, вам завернуть или так полетите?» — спросил продавец женщину, два с лишним часа выбиравшую в магазине метлу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  в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По словам Мопассана, «любовь сильна, как смерть, зато хрупка, как стекло»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7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«Талант! Талант! — говорил он. — Несомненный талант. Ты положительно будешь иметь успех!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)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дорóво, парень, — сказала она печально. — Как живешь?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 б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тарик шел и, спотыкаясь о траву, повторял: «Какой аромат, граждане! Какой упоительный аромат!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По мысли Антуана де Сент-Экзюпери: «Зорко одно лишь сердце: самого главного глазами не увидишь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Он хотел узнать у кучера, куда они заех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каком предложении чужая речь неправильно оформл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а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В письме А. С. Суворину А. П. Чехов писал о своей пьесе «Чайка», что она «...написана вопреки всем правилам драматического искусства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б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Как утверждал П. И. Чайковский, что «вдохновение рождается только из труда и во время труда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в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По словам Л. Н. Толстого, «искусство — высочайшее проявление могущества в человеке»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г)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Искусство, по мысли Ф. М. Достоевского, «есть такая же потребность для человека, как есть и пить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280" y="1341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ямая реч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— точно воспроизведенная чужая речь, переданная от лица того, кто ее произнес (вслух или мысленно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хемы расстановки знаков препинания в предложениях с прямой речь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42920" y="1916280"/>
            <a:ext cx="352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»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?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!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: «П...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16000" y="2491920"/>
            <a:ext cx="403884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»,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?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!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П...» —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хемы расстановки знаков препинания в предложениях с прямой речь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0920" y="1915920"/>
            <a:ext cx="4392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, — а,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,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?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! — а. — П»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... — а. — П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03280" y="2565000"/>
            <a:ext cx="374508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»,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?»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: «П!» — 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Arial"/>
              </a:rPr>
              <a:t>Составьте схемы предложе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000" y="1125000"/>
            <a:ext cx="813564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Хозяйка очень часто обращалась к Чичикову со словами: «Вы очень мало взяли».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Лесть и трусость — самые дурные пороки», — громко промолвила Ася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Не пишешь ли ты стихов?» — вдруг спросил Петр Иванови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А ты меня не пугай...» — равнодушно попросила она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Сегодня, — сказала сестра, — нам нужно уезжать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«Нам придется здесь ночевать, — сказал он. — В такую метель через горы не переедешь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епишите предложения с прямой речью, расставляя знаки препин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170028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 Замолчи строго сказал Красильщиков. 2. Я хочу послезавтра пообедать с вами в «Праге» сказала она Никогда там не была и вообще очень неопытна Воображаю что вы обо мне думаете А на самом деле вы моя первая любовь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 Вы со мной говорите уже на «вы» задыхаясь сказал я вы могли бы хоть при мне не говорить с ним на «ты» Почему     спросила она подняв брови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ерепишите предложения с прямой речью, расставляя знаки препинани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1844280"/>
            <a:ext cx="80136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Наконец Соня говорила Ну спать и простясь с ними я шел к себе... 5. Когда я подбежал к ним он взглянув на меня успел весело крикнуть А доктор здравствуйте в то время как она побледнела до гробовой синевы... 6. Как блестят глаза сказал он Тебе не холо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ставьте предложения с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ямой речью, использу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анные репли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560" y="1844640"/>
            <a:ext cx="79311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 Мы не опозда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 Да нет, не дума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 Дело в том, что я не пое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 Ну что ж. Мне даже завидно. 5. В общем, мне здесь, признаться,    будет лучше, чем в Крыму. 6. 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едложение с косвенной речь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128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я с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свенной речь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ат для передачи чужой речи от лица говорящего, а не того, кто ее на самом деле произнес. В отличие от предложений с прямой речью они передают только содержание чужой речи, но не могут передать все особенности ее формы и интон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Предложения с косвенной речью представляют собой сложноподчиненные предложения, состоящие из двух частей (слов автора и косвенной речи), которые соединяются союзам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, будто, чтобы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местоимениями и наречиями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, что, какой, как, где, когда, поче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 частице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08:35:29Z</dcterms:created>
  <dc:creator>Татьяна</dc:creator>
  <dc:description/>
  <dc:language>en-US</dc:language>
  <cp:lastModifiedBy>Татьяна</cp:lastModifiedBy>
  <dcterms:modified xsi:type="dcterms:W3CDTF">2011-05-06T09:18:34Z</dcterms:modified>
  <cp:revision>5</cp:revision>
  <dc:subject/>
  <dc:title>Способы передачи  чужой речи</dc:title>
</cp:coreProperties>
</file>