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D2F-9B15-404B-A7A1-D8774598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41F-5E33-48B2-B033-C8A3A0E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68B-4AEF-4BC1-96EE-B2518F4D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7B2-F43D-48DB-BB26-2349DCAB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C6B-9727-4297-BEB2-92B254B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04A-9D7A-485E-9386-7822134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63C-2586-4826-890A-CA478C76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9F7-0284-45D1-AA29-D1B9635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702-7C15-473D-A514-E4AF62DE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B7D-CF8B-4D72-8AF3-FD501F8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AEE-FB65-4A0B-B8A8-0EBB3DA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56F-4E2E-4E92-89C7-CF1BDC5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792-5DDF-4B45-9D26-4549DDC8E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пособы передачи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чужой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особию О. Загоровской и О.В. Григоренко «Русский язык. Готовимся к ЕГЭ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ьте несколько предложений с косвенной речь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280" y="2133360"/>
            <a:ext cx="77864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Успеем ли мы приехать на вокзал? 2. Времени у нас достаточ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Его друг с нами не поед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Им можно позавидо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 Эти места лучше Кры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 Когда они приеду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 Как они отдохну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репишите текст, заменяя прямую речь косвен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равится наш город?» — спросили дети. «Нравится, особенно его украшают цветы», — сказал я. «У нас уже пятьдесят тысяч розовых кустов. В будущем году выполним план». — «И тут план», — удивился я. «А как же? Сколько жителей в городе — столько и должно цвести кустов!» — «Кто же такое придумал?» — «Иван Иванович». «А кто он, этот Иван Иванович?» — поинтересовался я. «Он один из первых строителей города, — гордо объявила девочка. — Он сам цветы сажае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Цитаты и знак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пинания при ни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итат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дословные выдержки из высказываний и сочинений кого-либо, приводимые для подтверждения или пояснения своей мысл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Цитаты могут стоять при словах автора и представлять собой прямую речь. В этом случае знаки препинания при цитатах ставятся, как в предложениях с прямой речью.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 Г. Белинский писал: «Стих Пушкина благороден, изящно прост, национально верен духу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цитата может вводить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авторскую речь и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как часть предлож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Тогда она выделяется кавычками и пишется со строчной букв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Например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ысль Л. Н. Толстого «время есть отношение движения своей жизни к движению других существ», высказанная в его дневнике, имеет глубокое философское содерж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 словам Ф. И. Шаляпина, искусство может переживать времена упадка, но «оно вечно, как сама жизнь»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ставьте и запишите по правилам пунктуации предложения с данными цитатами, сопровождая их словам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1333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   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..Сам необыкновенный язык наш есть еще тайна (Гоголь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лингвистическом смысле народ составляют все люди, говорящие одним языком (Чернышевск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аткость — сестра таланта (Чехов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стовые зад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280" y="134136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Наполеон однажды заметил, что «я могу проиграть эту битву, но не могу потерять минуту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) 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адам, вам завернуть или так полетите?» — спросил продавец женщину, два с лишним часа выбиравшую в магазине метл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  в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По словам Мопассана, «любовь сильна, как смерть, зато хрупка, как стекло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«Талант! Талант! — говорил он. — Несомненный талант. Ты положительно будешь иметь успех!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óво, парень, — сказала она печально. — Как живешь?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 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тарик шел и, спотыкаясь о траву, повторял: «Какой аромат, граждане! Какой упоительный аромат!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 мысли Антуана де Сент-Экзюпери: «Зорко одно лишь сердце: самого главного глазами не увидишь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 хотел узнать у кучера, куда они заех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В письме А. С. Суворину А. П. Чехов писал о своей пьесе «Чайка», что она «...написана вопреки всем правилам драматического искусств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б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Как утверждал П. И. Чайковский, что «вдохновение рождается только из труда и во время труд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По словам Л. Н. Толстого, «искусство — высочайшее проявление могущества в человеке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Искусство, по мысли Ф. М. Достоевского, «есть такая же потребность для человека, как есть и пить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280" y="1341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ямая реч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— точно воспроизведенная чужая речь, переданная от лица того, кто ее произнес (вслух или мысленно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916280"/>
            <a:ext cx="352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?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!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...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000" y="2491920"/>
            <a:ext cx="403884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»,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?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!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...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0920" y="1915920"/>
            <a:ext cx="4392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,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?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!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... — а. — П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280" y="2565000"/>
            <a:ext cx="37450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»,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?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!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Arial"/>
              </a:rPr>
              <a:t>Составьте схемы предлож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125000"/>
            <a:ext cx="813564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Хозяйка очень часто обращалась к Чичикову со словами: «Вы очень мало взяли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Лесть и трусость — самые дурные пороки», — громко промолвила Ася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е пишешь ли ты стихов?» — вдруг спросил Петр Иванови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А ты меня не пугай...» — равнодушно попросила она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Сегодня, — сказала сестра, — нам нужно уезжат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ам придется здесь ночевать, — сказал он. — В такую метель через горы не переедеш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70028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 Замолчи строго сказал Красильщиков. 2. Я хочу послезавтра пообедать с вами в «Праге» сказала она Никогда там не была и вообще очень неопытна Воображаю что вы обо мне думаете А на самом деле вы моя первая любов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 Вы со мной говорите уже на «вы» задыхаясь сказал я вы могли бы хоть при мне не говорить с ним на «ты» Почему     спросила она подняв бров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1844280"/>
            <a:ext cx="8013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аконец Соня говорила Ну спать и простясь с ними я шел к себе... 5. Когда я подбежал к ним он взглянув на меня успел весело крикнуть А доктор здравствуйте в то время как она побледнела до гробовой синевы... 6. Как блестят глаза сказал он Тебе не холо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ьте предложения с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ямой речью, использу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анные репли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560" y="1844640"/>
            <a:ext cx="79311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Мы не опозда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 Да нет, не дума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Дело в том, что я не по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у что ж. Мне даже завидно. 5. В общем, мне здесь, признаться,    будет лучше, чем в Крыму. 6. 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ложение с косвенной речь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я с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свенной речь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ат для передачи чужой речи от лица говорящего, а не того, кто ее на самом деле произнес. В отличие от предложений с прямой речью они передают только содержание чужой речи, но не могут передать все особенности ее формы и интон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Предложения с косвенной речью представляют собой сложноподчиненные предложения, состоящие из двух частей (слов автора и косвенной речи), которые соединяются союза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, будто, чтоб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естоимениями и наречия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, что, какой, как, где, когда, поче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 частице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8:35:29Z</dcterms:created>
  <dc:creator>Татьяна</dc:creator>
  <dc:description/>
  <dc:language>en-US</dc:language>
  <cp:lastModifiedBy>Татьяна</cp:lastModifiedBy>
  <dcterms:modified xsi:type="dcterms:W3CDTF">2011-05-06T09:18:34Z</dcterms:modified>
  <cp:revision>5</cp:revision>
  <dc:subject/>
  <dc:title>Способы передачи  чужой речи</dc:title>
</cp:coreProperties>
</file>