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711-5758-422E-8D41-14B5ED6D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8BC-5FFC-4565-99C4-13DB85A1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7A8-23DB-418B-BE4C-F109EC5B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A29-C304-4B16-BDB5-CD22E790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86F-0111-4090-939C-3EB5711A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FA2-1BD7-47AE-B148-65BDE0C2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62B-5BE4-4301-B5C1-3882E51C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D4E-5A4B-4EE0-899E-B5218B65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D0F-6015-4EF5-99AA-F9FDAAAB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AB8-B7A4-45FD-8603-83D1EF2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8A0-9917-4256-96D3-89A1C937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60F-CB76-4A3A-9DC5-BE2B96B7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914E-7700-4CAC-851B-8CE6B0E47C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42960" y="35712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5bb0"/>
                </a:solidFill>
                <a:latin typeface="Times New Roman"/>
              </a:rPr>
              <a:t>Тема.    Чудный мир поэз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57120" y="192888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“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 есть на свете кроме России всяких хороших государств и         земель, но одна у человека родная мать – одна у него родина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476360" y="5445000"/>
            <a:ext cx="69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ОУ СОШ с. Иванырс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нинского района, Пензенской обла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щикова Нина Анатоль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Шишкин Рожь"/>
          <p:cNvPicPr/>
          <p:nvPr/>
        </p:nvPicPr>
        <p:blipFill>
          <a:blip r:embed="rId1"/>
          <a:stretch/>
        </p:blipFill>
        <p:spPr>
          <a:xfrm>
            <a:off x="500040" y="285840"/>
            <a:ext cx="39830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00040" y="285768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ван    Иванович  Шишки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Рож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Маковский Константин Егорович, Дети, бегущие от грозы"/>
          <p:cNvPicPr/>
          <p:nvPr/>
        </p:nvPicPr>
        <p:blipFill>
          <a:blip r:embed="rId2"/>
          <a:stretch/>
        </p:blipFill>
        <p:spPr>
          <a:xfrm>
            <a:off x="4929120" y="214200"/>
            <a:ext cx="3424320" cy="5597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857240" y="592920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овский Константин Егорови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и, бегущие от грозы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Box 2" descr=""/>
          <p:cNvPicPr/>
          <p:nvPr/>
        </p:nvPicPr>
        <p:blipFill>
          <a:blip r:embed="rId1"/>
          <a:stretch/>
        </p:blipFill>
        <p:spPr>
          <a:xfrm>
            <a:off x="1779480" y="-347760"/>
            <a:ext cx="5085000" cy="210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User\Рабочий стол\осень.JPG"/>
          <p:cNvPicPr/>
          <p:nvPr/>
        </p:nvPicPr>
        <p:blipFill>
          <a:blip r:embed="rId2"/>
          <a:stretch/>
        </p:blipFill>
        <p:spPr>
          <a:xfrm>
            <a:off x="1500120" y="1714680"/>
            <a:ext cx="60962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User\Рабочий стол\дождь.jpeg"/>
          <p:cNvPicPr/>
          <p:nvPr/>
        </p:nvPicPr>
        <p:blipFill>
          <a:blip r:embed="rId1"/>
          <a:stretch/>
        </p:blipFill>
        <p:spPr>
          <a:xfrm>
            <a:off x="785880" y="785880"/>
            <a:ext cx="325260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User\Рабочий стол\лист.jpeg"/>
          <p:cNvPicPr/>
          <p:nvPr/>
        </p:nvPicPr>
        <p:blipFill>
          <a:blip r:embed="rId2"/>
          <a:stretch/>
        </p:blipFill>
        <p:spPr>
          <a:xfrm>
            <a:off x="2857680" y="3643200"/>
            <a:ext cx="3286080" cy="2489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User\Рабочий стол\урожай.jpeg"/>
          <p:cNvPicPr/>
          <p:nvPr/>
        </p:nvPicPr>
        <p:blipFill>
          <a:blip r:embed="rId3"/>
          <a:stretch/>
        </p:blipFill>
        <p:spPr>
          <a:xfrm>
            <a:off x="5429160" y="785880"/>
            <a:ext cx="322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User\Рабочий стол\пушкин.jpg"/>
          <p:cNvPicPr/>
          <p:nvPr/>
        </p:nvPicPr>
        <p:blipFill>
          <a:blip r:embed="rId1"/>
          <a:stretch/>
        </p:blipFill>
        <p:spPr>
          <a:xfrm>
            <a:off x="1214280" y="571680"/>
            <a:ext cx="2643480" cy="3076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785880" y="4500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C:\Documents and Settings\User\Рабочий стол\тютчев.jpeg"/>
          <p:cNvPicPr/>
          <p:nvPr/>
        </p:nvPicPr>
        <p:blipFill>
          <a:blip r:embed="rId2"/>
          <a:stretch/>
        </p:blipFill>
        <p:spPr>
          <a:xfrm>
            <a:off x="5143680" y="571680"/>
            <a:ext cx="2508120" cy="3071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5000760" y="450072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ёдор Иванович Тютч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928800" y="857160"/>
            <a:ext cx="3071880" cy="29289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4786200" y="928800"/>
            <a:ext cx="3143520" cy="3000240"/>
          </a:xfrm>
          <a:prstGeom prst="smileyFace">
            <a:avLst>
              <a:gd name="adj" fmla="val -4652"/>
            </a:avLst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785880" y="414324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ru-RU" sz="6000" spc="-1" strike="noStrike">
                <a:solidFill>
                  <a:srgbClr val="0070c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00040" y="171468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ea9"/>
                </a:solidFill>
                <a:latin typeface="Times New Roman"/>
              </a:rPr>
              <a:t>Зелёная берёза стоит в лесу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ea9"/>
                </a:solidFill>
                <a:latin typeface="Times New Roman"/>
              </a:rPr>
              <a:t>Зоя под берёзой поймала стрекозу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857160" y="1428840"/>
            <a:ext cx="250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Снег,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357720" y="150012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метель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000080" y="30002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оловодье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357880" y="30002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мороз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-493560"/>
            <a:ext cx="6589800" cy="217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User\Рабочий стол\зима.JPG"/>
          <p:cNvPicPr/>
          <p:nvPr/>
        </p:nvPicPr>
        <p:blipFill>
          <a:blip r:embed="rId2"/>
          <a:stretch/>
        </p:blipFill>
        <p:spPr>
          <a:xfrm>
            <a:off x="1928880" y="1714680"/>
            <a:ext cx="5352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m2-tub.yandex.net/i?id=33232709&amp;tov=2"/>
          <p:cNvPicPr/>
          <p:nvPr/>
        </p:nvPicPr>
        <p:blipFill>
          <a:blip r:embed="rId1"/>
          <a:stretch/>
        </p:blipFill>
        <p:spPr>
          <a:xfrm>
            <a:off x="428760" y="357120"/>
            <a:ext cx="2271600" cy="3071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91080"/>
            <a:ext cx="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714840" y="785880"/>
            <a:ext cx="264312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берез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моим ок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крылась снег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серебр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шистых ветк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ою кайм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тились кис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й бахромо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 берез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нной тишин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рят снежин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лотом ог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ря, ленив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я круг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ыпает вет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м серебр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714840" y="3571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3ea9"/>
                </a:solidFill>
                <a:latin typeface="Times New Roman"/>
                <a:ea typeface="Times New Roman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im8-tub.yandex.net/i?id=56040477&amp;tov=8"/>
          <p:cNvPicPr/>
          <p:nvPr/>
        </p:nvPicPr>
        <p:blipFill>
          <a:blip r:embed="rId2"/>
          <a:stretch/>
        </p:blipFill>
        <p:spPr>
          <a:xfrm>
            <a:off x="6286680" y="3429000"/>
            <a:ext cx="2652480" cy="1857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285840" y="37148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Александрович Есени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1714680" y="571680"/>
            <a:ext cx="557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Гимнастика для гл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User\Рабочий стол\портрет чайковского.jpg"/>
          <p:cNvPicPr/>
          <p:nvPr/>
        </p:nvPicPr>
        <p:blipFill>
          <a:blip r:embed="rId1"/>
          <a:stretch/>
        </p:blipFill>
        <p:spPr>
          <a:xfrm>
            <a:off x="2857680" y="500040"/>
            <a:ext cx="3000240" cy="3328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214280" y="4286160"/>
            <a:ext cx="67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ётр Ильич Чайковск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im8-tub.yandex.net/i?id=4603382&amp;tov=8"/>
          <p:cNvPicPr/>
          <p:nvPr/>
        </p:nvPicPr>
        <p:blipFill>
          <a:blip r:embed="rId1"/>
          <a:stretch/>
        </p:blipFill>
        <p:spPr>
          <a:xfrm>
            <a:off x="642960" y="1571760"/>
            <a:ext cx="3319560" cy="25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2-tub.yandex.net/i?id=43935637&amp;tov=2"/>
          <p:cNvPicPr/>
          <p:nvPr/>
        </p:nvPicPr>
        <p:blipFill>
          <a:blip r:embed="rId2"/>
          <a:stretch/>
        </p:blipFill>
        <p:spPr>
          <a:xfrm>
            <a:off x="3643200" y="4143240"/>
            <a:ext cx="1667160" cy="248472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4" descr=""/>
          <p:cNvPicPr/>
          <p:nvPr/>
        </p:nvPicPr>
        <p:blipFill>
          <a:blip r:embed="rId3"/>
          <a:stretch/>
        </p:blipFill>
        <p:spPr>
          <a:xfrm>
            <a:off x="853920" y="-633240"/>
            <a:ext cx="7583760" cy="248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User\Рабочий стол\пчела.jpg"/>
          <p:cNvPicPr/>
          <p:nvPr/>
        </p:nvPicPr>
        <p:blipFill>
          <a:blip r:embed="rId4"/>
          <a:stretch/>
        </p:blipFill>
        <p:spPr>
          <a:xfrm>
            <a:off x="4714920" y="1643040"/>
            <a:ext cx="3917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Box 1" descr=""/>
          <p:cNvPicPr/>
          <p:nvPr/>
        </p:nvPicPr>
        <p:blipFill>
          <a:blip r:embed="rId1"/>
          <a:stretch/>
        </p:blipFill>
        <p:spPr>
          <a:xfrm>
            <a:off x="1133640" y="-341280"/>
            <a:ext cx="6443640" cy="218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8-tub.yandex.net/i?id=17013514&amp;tov=8"/>
          <p:cNvPicPr/>
          <p:nvPr/>
        </p:nvPicPr>
        <p:blipFill>
          <a:blip r:embed="rId2"/>
          <a:stretch/>
        </p:blipFill>
        <p:spPr>
          <a:xfrm>
            <a:off x="785880" y="2286000"/>
            <a:ext cx="3341520" cy="25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.yandex.net/i?id=50300102&amp;tov=5"/>
          <p:cNvPicPr/>
          <p:nvPr/>
        </p:nvPicPr>
        <p:blipFill>
          <a:blip r:embed="rId3"/>
          <a:stretch/>
        </p:blipFill>
        <p:spPr>
          <a:xfrm>
            <a:off x="4667400" y="2286000"/>
            <a:ext cx="3538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1:14:57Z</dcterms:created>
  <dc:creator>User (IVANIRS)</dc:creator>
  <dc:description/>
  <dc:language>en-US</dc:language>
  <cp:lastModifiedBy>евгений</cp:lastModifiedBy>
  <dcterms:modified xsi:type="dcterms:W3CDTF">2011-03-02T19:40:05Z</dcterms:modified>
  <cp:revision>32</cp:revision>
  <dc:subject/>
  <dc:title>Слайд 1</dc:title>
</cp:coreProperties>
</file>