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010-E81B-4140-A42B-1E687E3F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E8B-1E55-48A7-9FA0-6DC6D0ED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D03-E967-4308-A50E-DFB062D4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C07-06B2-4411-9C90-08CF0107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129E-BED7-4319-A4C1-D3D779F3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6001-1FA0-4BC5-94A7-A4C839A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33B9-6A50-40CA-96D8-FA61A72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D07-3813-48CA-976A-7E2A22E7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0AF-01F4-48CA-8D92-BCC3B447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DAA-289F-4DEB-B72B-DF94DA57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E710-6BBB-477C-9CAA-107682F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952-F9D7-4612-B72E-6D54D2E0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9EA9-C546-42B0-A4AE-4517FDB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A5DF-613C-41D4-886F-629331B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DB03-4BFC-42FF-B7C9-92039CF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454-9DA2-421F-ABA8-55F5C5E9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5994-B5CD-4409-80C5-6E044063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DEFE8-7278-496E-931A-545EF4CB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C3B9-3201-44E5-B60E-56AAB40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2F4B-5AEF-4D41-B1D9-55C378A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182A-4238-4645-9E18-2C2010D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8CC5-941C-4F39-A3E2-B5385EC7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B5A-2C68-4C40-B814-23E2C2B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CCB9-7665-4429-85DC-0405907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A3B3-1B8D-4EEC-BDBD-A4E5C883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CBD8-E219-4D54-A4C9-FAD09CE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D31AF-4395-44C3-8AB5-2ED8F6C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0B9D-3433-4F6E-ACA4-CC01C17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6CFD-EDD0-4BDA-9D2E-928227C9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8EC9-E728-462F-AC5A-F25882D1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1DE9-88B0-490E-816C-4A532DFC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C89E-B7A8-4341-B44C-57760963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4D0D-BA82-4006-8989-FFF7284F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C13-2140-4FC7-A788-1739BBF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631E-3D14-427B-99B4-78AFEA1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3A6B-EE9A-4AE0-8754-93C1546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FFF6-1375-4EF8-90B2-1C5E70C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A476-4BB3-48C8-A74E-7CBDAEC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58CA-7102-4A3C-810F-1B3F103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0212-916E-4696-A2EF-60D92FC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8F913-5C3D-4E2B-95DB-DBBDF8E6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676C-6C62-44D0-9231-D8650D54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3FEB-4981-46C5-9DEC-1BAE286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CC74-AFC0-47C2-A240-D9FF0D47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C7B-196E-4C10-8A5B-C26F2414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E2DC-07C6-488A-B805-32EBED5E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BB66-D0BD-4E70-AEE1-693D1571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66B3-FEC3-4C25-A454-48BD65FC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2470-6771-4F92-8789-16FA54D3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4392-9D6F-4823-9C53-C6F343D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375C-4EC1-46CB-B65E-0C087A7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91738-4AB4-4075-9A26-FCC1D7C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C1E88-099D-4321-ABB7-4F2EEAA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8A1C-D90D-4C8C-9E89-7FE4ED89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EFFE-54BE-4C59-91DF-DB20BE40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1A6-78C8-4596-814F-138D30B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12AA-3476-4302-9245-B80CB270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27FF-233A-44A3-9270-69A13F85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08423-8BB2-4FB9-B05F-0FA4FC5D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BD78-26C2-4471-BF78-C583CF8F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5C544-5D0F-4FCE-8853-07CDB32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462B-A79D-42A9-BF20-F138D26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E1D5-682D-45A8-A3FC-C0EA298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02487-DC32-4BC5-B861-CC59BE1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FEFD-0C1F-44F3-AF49-DFF4BCB8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22A5-532E-4B0D-A433-4E0AF947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A55-0D75-4D5A-90C7-66C4DC4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433C2-6310-4D74-B3DB-3247D79C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E8779-A117-4CFD-92B3-7D647976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7762-42BD-4A84-A76E-2E8074D3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12FB-6B9A-4F1C-96DD-F99CEA64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786D-38E3-4A53-82F9-FC44D40E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B7D8-15D0-4E69-89D3-A742ADF8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EEAC-9B9D-41B6-9497-081D338C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6639-D400-4A23-9C35-E726A88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12CB-00BB-4E7C-9019-D7BC0AE4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DD94-FFFE-4A79-B6B0-BD28D3C5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2DA-F2AE-4B1F-88EB-5C04FB24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E22F-9C71-421E-96E3-653B5F7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5D93C-E8FA-4C28-807B-765F6563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4BFE-D530-4A09-97C9-CC0FFFDC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E767-87EC-449F-9308-28B1C53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F02F-BEA0-4A73-9966-BDEA4D61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3B8-0C8E-403B-ABBF-3FB96EA2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D17-D872-4CDE-9A23-2B473D280F5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8ED0-269E-4817-B2C8-861B6F4F5A2B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20A-A19A-4379-96FB-1F2069F0708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BE8-9CA1-4EDC-B20C-ED52C04CC21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EC59-F8B8-4011-96F8-1BECCCEABA8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C78-5627-40D7-A768-765DF7C9F87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CD7A-A18E-472F-A511-454D8C92CCA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Правила и приёмы, помогающие успешному взаимодействию с подростком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вас стратегия воспитания ребёнка сложилась. Лучше понаблюдайте за ребёнком, его интересами, ежедневными занятиями. Уточните направление воспитательных воздействий – это поможет лучше вкладывать ваше время и силы. Вы, иногда, препятствуете реализации собственных интересов и интересов ребёнка, личных его отношений, тормозите развитие умения воспринимать себя, как человека уверенного и самостоятельн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ша воспитательная стратегия строится не всегда оптимально. Задумайтесь о двустороннем развитии отношений между детьми и родителями. Ведь часто дети преподносят взрослым достойные уроки, серьёзно влияют на развитие личности и характера взрослого. Советуем упор перенести с контроля за результатом, на предваряющую и оперативную помощь. Меньше следует брать проблемы ребёнка на себ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м следует глубоко задуматься о взаимоотношении с ребёнком. Вы осуществляете воспитание по модели вседозволенности «Делай, как хочешь». Ребёнок и родители разобщены. Дети испытывают тревожность, одиночество, переживают незащищённость. Нарушено доверие к взрослым, контакты устанавливаются с трудом, дети испытывают трудности во взаимоотношениях с товарищ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3" descr=""/>
          <p:cNvPicPr/>
          <p:nvPr/>
        </p:nvPicPr>
        <p:blipFill>
          <a:blip r:embed="rId1"/>
          <a:stretch/>
        </p:blipFill>
        <p:spPr>
          <a:xfrm>
            <a:off x="317520" y="146160"/>
            <a:ext cx="8375760" cy="1261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чему всё должна делать я? (обид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ы выполнил свои домашние задани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ты перестанешь поздно приходить домой? Где ты был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бе всё равно, что я дума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не нужна твоя помощь… (без обид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ня беспокоит твоя алгебра. Может ты устал в школе, и я могу тебе чем-то помоч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всегда волнуюсь, когда ты задерживаешь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6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06" name="Содержимое 8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255600" y="-158760"/>
            <a:ext cx="8534520" cy="1616040"/>
          </a:xfrm>
          <a:prstGeom prst="rect">
            <a:avLst/>
          </a:prstGeom>
          <a:ln w="0">
            <a:noFill/>
          </a:ln>
        </p:spPr>
      </p:pic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457200" y="171468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85840" y="-122400"/>
            <a:ext cx="8437320" cy="161640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3" descr=""/>
          <p:cNvPicPr/>
          <p:nvPr/>
        </p:nvPicPr>
        <p:blipFill>
          <a:blip r:embed="rId1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ст: Стили семейного воспита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2 – абсолютно верно (сильно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 – да, верно (средне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 – ни да, ни нет (сомнен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1 – в общем, нет (среднее н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2 – нет, неверно (сильное несоглас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ша стратегия воспитания правильная. Отношения с ребёнком дружеские. Вам следует несколько охладить воспитательный пыл, предоставить большую свободу себе и ребёнку. У вас опасность «парникового воспитания». Необходимо дать ребёнку больше самостоятельности и права на ошиб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дрей</cp:lastModifiedBy>
  <dcterms:modified xsi:type="dcterms:W3CDTF">2011-11-24T11:56:04Z</dcterms:modified>
  <cp:revision>11</cp:revision>
  <dc:subject/>
  <dc:title>Ощущаешь ли ты потребность в общении со взрослыми?</dc:title>
</cp:coreProperties>
</file>