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B92-56D1-4F76-A79B-17B39E31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CF9-BCBF-4AF8-AAF5-E4CAF1FE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5EA-1622-486A-9D9F-0CE19D64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E8C-2ED5-4B12-A1AE-57EF7BAD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7BFD-668D-4E3B-B44C-A90AC716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4D22-B24B-4DC9-B4DB-84AA9BA4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B430-F5A9-47A3-A04B-B7B8443F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4575-49C1-4200-8CE5-DCA89045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33E0-088F-46DE-ADF1-D7517070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591B-57F8-4784-8A67-6DA9BEE8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4043-EE9D-4C04-A71E-6662D88C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8F5-2610-4D27-A633-003C1B3B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73DB-69EC-416F-9095-7A5D70CB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791F-8989-46ED-B6C6-694693B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FC30-AC19-416E-B3D8-933BD0DA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F6D3-4FB5-42F4-BA7F-70A5D915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E9E4-20EE-487F-BE3A-A8DD36D6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D698-2C14-4B52-A6AB-B94EE296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2D71-EA5D-411E-B6FB-CBCB3437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0719-BAB9-4A75-9B65-2B8946B1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3821-E853-45CF-A3C7-1A874818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DEC4-032C-42EB-BDCB-7D89F7D8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342-9480-4C43-A3C4-094FAE46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FAC4-07E4-4931-ABAD-CB10867C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754B-4563-4EE4-9CE5-C8548991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8692-BFA9-44BD-AADC-11237D09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674C-8E49-4CBA-8412-95041F5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A193-B8CF-442C-9FA0-330C3CB8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B74A-1C9B-448D-95CD-A28E24A0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3AF3-0FD8-4467-A71C-AB7C4986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FC97-3310-40FB-9D25-DE17F35A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64579-3F5B-4639-A770-2417DB34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FC211-A6FF-4157-9F6B-E41E29B3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310-586D-47E2-B668-8E728B9A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5E1E-C492-4B09-9D03-BD646A11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259C-A99C-4B9C-A6E8-A40EC82B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EC4C-2416-4050-BC7F-856BC41B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5B1E-37A5-44DC-929B-E35295E9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95CB-9C2E-4891-A9A7-6A710331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9985-64E3-4B31-B4AD-74C7982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8715-E596-47E0-9DF0-A35292DC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D2EC-0A5C-4B51-8ACA-ED861132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A3D3E-CF1E-42D5-ADDC-088E8CCD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9D6F-616B-47BA-A116-1B6712AF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F13-1F41-4125-B460-4A8708DE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750B8-EA7D-4972-A19D-A1E795F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752C-B6D7-4FEF-81D3-2D184BF7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C6E2F-AE64-46D4-ACEB-8BEAC4D8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25470-E49E-4817-8B71-79D0EB08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7A56C-3B1F-4E80-8A02-953DC705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E55A-D807-4564-B052-D3C7CB80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73D9A-D0F5-4C45-95F0-63F0AD8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C109-62DD-41E9-987E-5440265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16C35-918E-4225-B83B-F1D16F7F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7DA1-026D-453C-84CE-1281417F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E0A-AB75-408D-BCA8-0BA763F5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9F3F-E4AD-403E-B739-0174E363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9234-FBC4-476E-89F4-5730757B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B07D9-050B-40ED-8816-B82091B3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1037-1D7B-4C2E-9D5B-A8F60022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9DB06-D3F8-4CD4-BD25-5DEAE3C5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B80E4-A7A2-4070-A2F3-5C95ED69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362A-B5FD-4BCA-A5A2-101A9F70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0E096-E99F-422D-9E6B-8526D76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6DE90-D017-4899-9E7D-C5A5EC0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759E-FDD5-4641-A9EA-FAF510E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EBA-9910-4E0B-922A-8A4CA03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CBFCD-5365-4D99-A32D-01130FB1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44372-6C45-474C-A7E1-51B6224C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E80CD-A444-432A-8041-17D6D41A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E82D6-A7D7-4DD6-856E-D860CCBB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8B94B-AE6B-4C69-912B-466B66C6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D0CD-ADCB-4A07-B3FE-6D3D257D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47907-A538-4387-B949-417FB5A4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F91F-A20C-4CBE-AB13-68810A81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1EB84-BD54-4614-81FE-EF517C97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B508B-5245-4999-BB67-DD4449E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032-DE71-4239-9DB5-49723CBD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35A95-4664-434C-9546-5711861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BC06E-D012-4CC1-B465-9E12E00F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99C1-655E-4D8B-BC74-1450DA8C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0CF4D-EB77-4DEE-B2C3-988111E8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32AC-478E-43B6-B19C-D611675D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906-ADD6-4A82-9421-726BB905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7BEC-BB2F-4817-876A-85CAA0D79C1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0A3E-A501-4002-AC77-BEF7E490974A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634A-02B3-4A91-A75E-2602CA3FA9A4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14C9-9AAC-4E28-87CF-190368305CA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1A28-84BA-4D9D-8E30-BA0FF2CD1DC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1F2A-1BD6-45E9-9F50-C7FA589FF81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4842-04B2-4FCA-9823-B9643557A13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3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Правила и приёмы, помогающие успешному взаимодействию с подростком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вас стратегия воспитания ребёнка сложилась. Лучше понаблюдайте за ребёнком, его интересами, ежедневными занятиями. Уточните направление воспитательных воздействий – это поможет лучше вкладывать ваше время и силы. Вы, иногда, препятствуете реализации собственных интересов и интересов ребёнка, личных его отношений, тормозите развитие умения воспринимать себя, как человека уверенного и самостоятельно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ша воспитательная стратегия строится не всегда оптимально. Задумайтесь о двустороннем развитии отношений между детьми и родителями. Ведь часто дети преподносят взрослым достойные уроки, серьёзно влияют на развитие личности и характера взрослого. Советуем упор перенести с контроля за результатом, на предваряющую и оперативную помощь. Меньше следует брать проблемы ребёнка на себ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м следует глубоко задуматься о взаимоотношении с ребёнком. Вы осуществляете воспитание по модели вседозволенности «Делай, как хочешь». Ребёнок и родители разобщены. Дети испытывают тревожность, одиночество, переживают незащищённость. Нарушено доверие к взрослым, контакты устанавливаются с трудом, дети испытывают трудности во взаимоотношениях с товарищ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3" descr=""/>
          <p:cNvPicPr/>
          <p:nvPr/>
        </p:nvPicPr>
        <p:blipFill>
          <a:blip r:embed="rId1"/>
          <a:stretch/>
        </p:blipFill>
        <p:spPr>
          <a:xfrm>
            <a:off x="317520" y="146160"/>
            <a:ext cx="8375760" cy="1261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чему всё должна делать я? (обид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ы выполнил свои домашние задания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гда ты перестанешь поздно приходить домой? Где ты был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бе всё равно, что я дума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не нужна твоя помощь… (без обид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ня беспокоит твоя алгебра. Может ты устал в школе, и я могу тебе чем-то помочь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 всегда волнуюсь, когда ты задерживаешь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6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pic>
        <p:nvPicPr>
          <p:cNvPr id="306" name="Содержимое 8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255600" y="-158760"/>
            <a:ext cx="8534520" cy="1616040"/>
          </a:xfrm>
          <a:prstGeom prst="rect">
            <a:avLst/>
          </a:prstGeom>
          <a:ln w="0">
            <a:noFill/>
          </a:ln>
        </p:spPr>
      </p:pic>
      <p:pic>
        <p:nvPicPr>
          <p:cNvPr id="308" name="Содержимое 4" descr=""/>
          <p:cNvPicPr/>
          <p:nvPr/>
        </p:nvPicPr>
        <p:blipFill>
          <a:blip r:embed="rId2"/>
          <a:stretch/>
        </p:blipFill>
        <p:spPr>
          <a:xfrm>
            <a:off x="457200" y="171468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85840" y="-122400"/>
            <a:ext cx="8437320" cy="1616400"/>
          </a:xfrm>
          <a:prstGeom prst="rect">
            <a:avLst/>
          </a:prstGeom>
          <a:ln w="0">
            <a:noFill/>
          </a:ln>
        </p:spPr>
      </p:pic>
      <p:pic>
        <p:nvPicPr>
          <p:cNvPr id="310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pic>
        <p:nvPicPr>
          <p:cNvPr id="314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3" descr=""/>
          <p:cNvPicPr/>
          <p:nvPr/>
        </p:nvPicPr>
        <p:blipFill>
          <a:blip r:embed="rId1"/>
          <a:stretch/>
        </p:blipFill>
        <p:spPr>
          <a:xfrm>
            <a:off x="390600" y="3157560"/>
            <a:ext cx="8381880" cy="18781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ст: Стили семейного воспита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2 – абсолютно верно (сильное соглас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1 – да, верно (среднее соглас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 – ни да, ни нет (сомнен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- 1 – в общем, нет (среднее не соглас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- 2 – нет, неверно (сильное несоглас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3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ша стратегия воспитания правильная. Отношения с ребёнком дружеские. Вам следует несколько охладить воспитательный пыл, предоставить большую свободу себе и ребёнку. У вас опасность «парникового воспитания». Необходимо дать ребёнку больше самостоятельности и права на ошиб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Андрей</cp:lastModifiedBy>
  <dcterms:modified xsi:type="dcterms:W3CDTF">2011-11-24T11:56:04Z</dcterms:modified>
  <cp:revision>11</cp:revision>
  <dc:subject/>
  <dc:title>Ощущаешь ли ты потребность в общении со взрослыми?</dc:title>
</cp:coreProperties>
</file>