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4AC3-6F1B-4DB3-9BF8-CC0BB9FC6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2660-9B99-4614-89BB-A20394AF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327B-E5A0-44E6-A5F9-715AD7587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4E04-2E51-402F-9AEF-B5BB31033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FD3B2-0909-48DE-8789-C1FCF6ABA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0DD7-E13B-45A5-BD55-35B1769B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C0653-D6EB-41BE-8FF2-AC7838BC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8E91-6BB2-4C62-8039-DCA9776A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C5C0-8B38-4D41-A826-8FCBBDAB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F891-6DB8-4407-9E45-E8474F74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4461-8C89-4D38-A9EE-C7CD5D7A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CBA4-C96E-4694-BFAD-26718E0A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00A9-AAB6-4985-9280-059F0158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C1CA-BDD8-447A-B082-888CF7BC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AB03-7401-455D-B2B8-954B335B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913C-8AAB-4312-BA34-FB76B827E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6E5E-6206-4AB4-92B9-5EAA87773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196E3-1D9A-4B9D-B22A-BEBED4EAC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1C56B-BC76-4F30-BC46-84D8B092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7019F-07C3-4F2B-9BF1-CD5BC75B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75C70-8032-441E-B562-E7C8BB69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690B2-DA35-4A85-B043-E6595307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F781-E51A-4AE2-8239-753560BF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D9493-73C1-4F8B-ABE1-8708E6F1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21B5E-1982-4CBC-B27A-076C9DE0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7BDBF-347D-4C33-B2A9-6B766AB0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D62FC-B2C3-4A71-A7D6-4DF3FB0C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2F566-0CF5-4936-B717-04949696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BF1A8-31D4-4152-8B1E-EB3550993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BAC7E-5301-473A-AD24-425BE779A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5AD27-800D-43E4-BF13-12F24E1CF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4973F-FCB3-4EF1-88A3-244B6240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84246-E5A5-4745-8054-C0525B30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D480-8729-4DEB-A3A6-838B37B9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41A8A-2D18-4ED2-893F-592BE7D1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A08AD-96A6-42E1-A65E-80149874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8C672-83BD-4BDF-B9E3-49BD58AE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78739-9313-488F-A441-EE46A01C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18823-4276-4405-A0AA-37792BE9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01D4C-E90E-40B9-9DD0-62EB9367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565BD-583F-49EA-9D61-313C90C7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5387E-C1DE-48E3-B9A0-E00685CCA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65233-1C3F-4B28-BFB8-21640F2A0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66C64-877F-466A-B396-078E7D554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1434-A380-46BE-82D8-D8319AF6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3765D-EEC8-40C9-B95A-27337EA7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AEFCE-6B92-4420-BEB3-F5BCF2C8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357C6-7CF4-4255-BCA3-D4BF0A30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E4C3E-7061-4C69-B216-8BA4449E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0E1AA-442F-4EE5-BC5E-2604EB8C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35921-DD3E-4383-B002-D244040C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03002-9DB6-48B5-9098-92EC4267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67C01-353F-46FD-AC96-B9265B95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44C53-3DF1-40CA-9923-7CA64068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B1AB6-9343-4252-9902-A8E54393E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CCD2-C8AB-4A26-83F3-C07956C1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1C517-CF10-46A1-886D-9B6AF997A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83727-757B-4F06-869A-C8C4E4C8D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F60FC-56D4-4690-980C-F83E2F6F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77161-EC29-4BA1-A225-B07F4884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91C15-A5CF-4263-A317-7B6A7214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B8C90-D4DD-4C50-BDFA-3F27E47D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A9FDF-14F3-492E-9DCB-0D655AA3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E9230-75BB-44CD-B54A-FD2D97B5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24C46-A9A6-45BA-A151-11AB00EB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3786B-343A-4A34-8387-E8665BA7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5354-5D15-4BC5-B29C-AAFADFDC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C6B8E-C982-4A81-9B57-665E848B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76D40-3CA9-4A2A-9978-5501398ED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9B0A8-37B7-49C8-96BD-6DFE01104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D7821-49BD-4674-A604-1D61322DD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B23A7-CAA5-4D78-BCDC-48531962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7B3DE-7BB0-4BFD-BDBE-0B662C6A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382C8-DF49-4D72-910B-723A781C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A27F8-BEA3-4FE8-B630-5ED7B865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CAFA4-2BAA-4496-968A-E0AF5166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EFDC9-768E-4542-82C5-33DCE9E1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B0F9-A645-4DB9-BFDB-EBEBD56E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30C15-974F-4B53-A342-F347B9CF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D0553-BF10-4B4A-9BC9-89E16B0F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6E26F-1707-4A98-B769-94B29AAF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92BCB-CFA7-4B41-AB13-F091DD4AE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0173A-19C7-4181-AB9F-A94357E2D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8F53-1F41-4281-9981-36EE708C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84DA-29DA-46CE-8C33-DD0C08319613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C5D2-790D-4F25-81E4-0CBED26D8926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6DDD-5C93-49D7-BE42-2AC8AAA05932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11F5-9E6C-484D-A60D-B45B518EA8AB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6722-B141-42B3-B949-BA5FFB7301F8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B034-9AFD-47A8-A0CB-16076B40C222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437A-63E5-4A4A-BCC7-6F9254E0E1E8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3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solidFill>
            <a:srgbClr val="fff0c9"/>
          </a:solidFill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ctr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rbel"/>
              </a:rPr>
              <a:t>Правила и приёмы, помогающие успешному взаимодействию с подростком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Заголовок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solidFill>
            <a:srgbClr val="fff0c9"/>
          </a:solidFill>
          <a:ln w="0">
            <a:noFill/>
          </a:ln>
        </p:spPr>
        <p:txBody>
          <a:bodyPr lIns="54720" rIns="90000" tIns="91440" bIns="46800" anchor="t">
            <a:normAutofit fontScale="94000"/>
          </a:bodyPr>
          <a:p>
            <a:pPr marL="411480" indent="-29952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У вас стратегия воспитания ребёнка сложилась. Лучше понаблюдайте за ребёнком, его интересами, ежедневными занятиями. Уточните направление воспитательных воздействий – это поможет лучше вкладывать ваше время и силы. Вы, иногда, препятствуете реализации собственных интересов и интересов ребёнка, личных его отношений, тормозите развитие умения воспринимать себя, как человека уверенного и самостоятельного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Заголовок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solidFill>
            <a:srgbClr val="fff0c9"/>
          </a:solidFill>
          <a:ln w="0">
            <a:noFill/>
          </a:ln>
        </p:spPr>
        <p:txBody>
          <a:bodyPr lIns="54720" rIns="90000" tIns="91440" bIns="46800" anchor="t">
            <a:normAutofit fontScale="95000"/>
          </a:bodyPr>
          <a:p>
            <a:pPr marL="416160" indent="-30276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аша воспитательная стратегия строится не всегда оптимально. Задумайтесь о двустороннем развитии отношений между детьми и родителями. Ведь часто дети преподносят взрослым достойные уроки, серьёзно влияют на развитие личности и характера взрослого. Советуем упор перенести с контроля за результатом, на предваряющую и оперативную помощь. Меньше следует брать проблемы ребёнка на себ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Заголовок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solidFill>
            <a:srgbClr val="fff0c9"/>
          </a:solidFill>
          <a:ln w="0">
            <a:noFill/>
          </a:ln>
        </p:spPr>
        <p:txBody>
          <a:bodyPr lIns="54720" rIns="90000" tIns="91440" bIns="46800" anchor="t">
            <a:normAutofit fontScale="95000"/>
          </a:bodyPr>
          <a:p>
            <a:pPr marL="416160" indent="-30276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ам следует глубоко задуматься о взаимоотношении с ребёнком. Вы осуществляете воспитание по модели вседозволенности «Делай, как хочешь». Ребёнок и родители разобщены. Дети испытывают тревожность, одиночество, переживают незащищённость. Нарушено доверие к взрослым, контакты устанавливаются с трудом, дети испытывают трудности во взаимоотношениях с товарищам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Заголовок 3" descr=""/>
          <p:cNvPicPr/>
          <p:nvPr/>
        </p:nvPicPr>
        <p:blipFill>
          <a:blip r:embed="rId1"/>
          <a:stretch/>
        </p:blipFill>
        <p:spPr>
          <a:xfrm>
            <a:off x="317520" y="146160"/>
            <a:ext cx="8375760" cy="12618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773000"/>
            <a:ext cx="4038480" cy="4624200"/>
          </a:xfrm>
          <a:prstGeom prst="rect">
            <a:avLst/>
          </a:prstGeom>
          <a:solidFill>
            <a:srgbClr val="fff0c9"/>
          </a:solidFill>
          <a:ln w="0">
            <a:noFill/>
          </a:ln>
        </p:spPr>
        <p:txBody>
          <a:bodyPr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чему всё должна делать я? (обида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Ты выполнил свои домашние задания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огда ты перестанешь поздно приходить домой? Где ты был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Тебе всё равно, что я думаю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648320" y="1773000"/>
            <a:ext cx="4038480" cy="4624200"/>
          </a:xfrm>
          <a:prstGeom prst="rect">
            <a:avLst/>
          </a:prstGeom>
          <a:solidFill>
            <a:srgbClr val="fff0c9"/>
          </a:solidFill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Мне нужна твоя помощь… (без обиды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Меня беспокоит твоя алгебра. Может ты устал в школе, и я могу тебе чем-то помочь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Я всегда волнуюсь, когда ты задерживаешьс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6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437680" cy="1335240"/>
          </a:xfrm>
          <a:prstGeom prst="rect">
            <a:avLst/>
          </a:prstGeom>
          <a:ln w="0">
            <a:noFill/>
          </a:ln>
        </p:spPr>
      </p:pic>
      <p:pic>
        <p:nvPicPr>
          <p:cNvPr id="306" name="Содержимое 8" descr=""/>
          <p:cNvPicPr/>
          <p:nvPr/>
        </p:nvPicPr>
        <p:blipFill>
          <a:blip r:embed="rId2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Заголовок 1" descr=""/>
          <p:cNvPicPr/>
          <p:nvPr/>
        </p:nvPicPr>
        <p:blipFill>
          <a:blip r:embed="rId1"/>
          <a:stretch/>
        </p:blipFill>
        <p:spPr>
          <a:xfrm>
            <a:off x="255600" y="-158760"/>
            <a:ext cx="8534520" cy="1616040"/>
          </a:xfrm>
          <a:prstGeom prst="rect">
            <a:avLst/>
          </a:prstGeom>
          <a:ln w="0">
            <a:noFill/>
          </a:ln>
        </p:spPr>
      </p:pic>
      <p:pic>
        <p:nvPicPr>
          <p:cNvPr id="308" name="Содержимое 4" descr=""/>
          <p:cNvPicPr/>
          <p:nvPr/>
        </p:nvPicPr>
        <p:blipFill>
          <a:blip r:embed="rId2"/>
          <a:stretch/>
        </p:blipFill>
        <p:spPr>
          <a:xfrm>
            <a:off x="457200" y="1714680"/>
            <a:ext cx="8229600" cy="4411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Заголовок 1" descr=""/>
          <p:cNvPicPr/>
          <p:nvPr/>
        </p:nvPicPr>
        <p:blipFill>
          <a:blip r:embed="rId1"/>
          <a:stretch/>
        </p:blipFill>
        <p:spPr>
          <a:xfrm>
            <a:off x="285840" y="-122400"/>
            <a:ext cx="8437320" cy="1616400"/>
          </a:xfrm>
          <a:prstGeom prst="rect">
            <a:avLst/>
          </a:prstGeom>
          <a:ln w="0">
            <a:noFill/>
          </a:ln>
        </p:spPr>
      </p:pic>
      <p:pic>
        <p:nvPicPr>
          <p:cNvPr id="310" name="Содержимое 3" descr=""/>
          <p:cNvPicPr/>
          <p:nvPr/>
        </p:nvPicPr>
        <p:blipFill>
          <a:blip r:embed="rId2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Заголовок 1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437680" cy="1335240"/>
          </a:xfrm>
          <a:prstGeom prst="rect">
            <a:avLst/>
          </a:prstGeom>
          <a:ln w="0">
            <a:noFill/>
          </a:ln>
        </p:spPr>
      </p:pic>
      <p:pic>
        <p:nvPicPr>
          <p:cNvPr id="312" name="Содержимое 3" descr=""/>
          <p:cNvPicPr/>
          <p:nvPr/>
        </p:nvPicPr>
        <p:blipFill>
          <a:blip r:embed="rId2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437680" cy="1335240"/>
          </a:xfrm>
          <a:prstGeom prst="rect">
            <a:avLst/>
          </a:prstGeom>
          <a:ln w="0">
            <a:noFill/>
          </a:ln>
        </p:spPr>
      </p:pic>
      <p:pic>
        <p:nvPicPr>
          <p:cNvPr id="314" name="Содержимое 3" descr=""/>
          <p:cNvPicPr/>
          <p:nvPr/>
        </p:nvPicPr>
        <p:blipFill>
          <a:blip r:embed="rId2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Заголовок 3" descr=""/>
          <p:cNvPicPr/>
          <p:nvPr/>
        </p:nvPicPr>
        <p:blipFill>
          <a:blip r:embed="rId1"/>
          <a:stretch/>
        </p:blipFill>
        <p:spPr>
          <a:xfrm>
            <a:off x="390600" y="3157560"/>
            <a:ext cx="8381880" cy="187812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Тест: Стили семейного воспитания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Заголовок 3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solidFill>
            <a:srgbClr val="fff0c9"/>
          </a:solidFill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2 – абсолютно верно (сильное согласие)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1 – да, верно (среднее согласие)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0 – ни да, ни нет (сомнение)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- 1 – в общем, нет (среднее не согласие)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- 2 – нет, неверно (сильное несогласие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Заголовок 3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solidFill>
            <a:srgbClr val="fff0c9"/>
          </a:solidFill>
          <a:ln w="0">
            <a:noFill/>
          </a:ln>
        </p:spPr>
        <p:txBody>
          <a:bodyPr lIns="54720" rIns="90000" tIns="91440" bIns="46800" anchor="t">
            <a:normAutofit fontScale="95000"/>
          </a:bodyPr>
          <a:p>
            <a:pPr marL="416160" indent="-30276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аша стратегия воспитания правильная. Отношения с ребёнком дружеские. Вам следует несколько охладить воспитательный пыл, предоставить большую свободу себе и ребёнку. У вас опасность «парникового воспитания». Необходимо дать ребёнку больше самостоятельности и права на ошибк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ндрей</dc:creator>
  <dc:description/>
  <dc:language>en-US</dc:language>
  <cp:lastModifiedBy>Андрей</cp:lastModifiedBy>
  <dcterms:modified xsi:type="dcterms:W3CDTF">2011-11-24T11:56:04Z</dcterms:modified>
  <cp:revision>11</cp:revision>
  <dc:subject/>
  <dc:title>Ощущаешь ли ты потребность в общении со взрослыми?</dc:title>
</cp:coreProperties>
</file>