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0FF-4749-4269-BBB6-DB1DD9BD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195-9F5C-45E0-BDD2-8B4F177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B78-6247-4CB1-97D0-D0E2BFDD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301-85F4-4CF3-9028-C2B2C66D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0C8-B336-4323-8F03-FAFF7E9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F59D-B724-4A9D-874A-69AC11B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E69-A363-4FDD-B385-D6CDD04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8F9-377B-49B1-9FB9-A22AD66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5E1-F8CF-4F37-858A-31D260D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C07-12BC-4888-917E-8228FB20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1871-C06E-4644-AA90-192F9AA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505-912A-4576-B636-9254C30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CE04-7F89-4793-803D-5100EE7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51E-CFBB-435E-80E4-ECADAC0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69D-76E4-4AB4-B988-8F68B2C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5C9-1553-438B-98C1-8E9D3AD2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1CD7-EE57-45BB-935E-81D0B4A6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C326-946C-457E-B41A-49C45D8E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6009-F597-48A6-9474-A23F3961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6841-9E64-4382-8998-5670603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DB6E-0E4A-459A-A96A-2CB12162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4ADB-B407-4F5C-BF2E-0A501A1A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DD1-BBB1-4D27-92DE-51C5B97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F0D1-477C-485C-A602-AACA100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EE0B-1C6D-4AE4-8473-D608FA7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B776-3196-4944-8FF5-877ACB9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BE01-AD46-4820-8060-3961101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5F14-25D1-4E10-A0BA-C66A4FA0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92C0-1652-4485-9AD5-F017AD3D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EDFC-A5FE-4C42-9CB3-1727F91C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8A95-278E-41F0-B076-E62D6B40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3026-44BB-480B-9EDA-BE5D780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A19A-AAA2-4CD7-A275-82258DD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C9F-ABBE-4C4D-85D1-71576CB4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60F5-1D6C-4722-AB62-3811F204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6E15-D3F8-4415-87D4-6C90EBA3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50B5-B646-447C-8B22-74104A2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BAC7-3EED-4848-BFC3-50F9191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8121-159D-434A-80C2-7AB4E2B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F972-FA73-4A2C-AC29-5501CD0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08B7-8654-4C21-B28C-C6855A9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4742-78BC-4C88-8507-DE5EB58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4988-687B-4214-8DB7-0668C742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F9A6-BE3A-4426-8480-D1CD6C3F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CE4-9378-4D4B-9103-CC2578E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1A07-C975-4926-A09D-1472E3A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3933-DDEE-4902-9AAF-593BC35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6D74-D3FF-4197-94F8-DCA12C3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384E-9207-45AD-A668-72CE7872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9BAD-0CA9-460D-9CF8-E542155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45D7-2D3B-4835-9BDC-EE922AD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7073E-4AE0-4454-ABB2-E8F927C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8931-2C8E-4A07-88B4-30A0B53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DE39-2687-4BF4-8097-33DD6492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62AE-EBA2-49C5-9BBA-131C54C7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0C0-68BD-4E17-A664-75FBC96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25A5-8041-4D66-BF8D-7712F25F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802-7B12-454E-ABFA-40825DF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9A0-4EA5-4A64-8E76-8D6F7B5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763-F232-451C-A30F-AA1EE859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F933-D6AA-4625-A53E-ECE876FB20D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22CF-A400-47D9-BD11-BEAD12CA7C2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CD8-CFC6-4391-BE26-FE62FF35E04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FCF-7C84-4342-B89B-39CDA40194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24AF-52D3-429E-9CAD-B265DDF1E1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692360" y="333360"/>
            <a:ext cx="56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А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250920" y="2421000"/>
            <a:ext cx="871380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их примене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1908000" y="3068640"/>
            <a:ext cx="47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ек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79280" y="260280"/>
            <a:ext cx="849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хема предлагаемого маршрута школьного автобуса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971640" y="148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324000" y="83664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азия №2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84328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2771640" y="836640"/>
            <a:ext cx="11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сталь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2916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421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284720" y="765000"/>
            <a:ext cx="968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жб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4284720" y="1484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5940360" y="1413000"/>
            <a:ext cx="7164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20"/>
          <p:cNvSpPr txBox="1"/>
          <p:nvPr/>
        </p:nvSpPr>
        <p:spPr>
          <a:xfrm>
            <a:off x="5651640" y="76500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ход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6012000" y="148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745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25"/>
          <p:cNvSpPr txBox="1"/>
          <p:nvPr/>
        </p:nvSpPr>
        <p:spPr>
          <a:xfrm>
            <a:off x="7524720" y="836640"/>
            <a:ext cx="11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к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 flipH="1">
            <a:off x="7451280" y="148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27"/>
          <p:cNvSpPr/>
          <p:nvPr/>
        </p:nvSpPr>
        <p:spPr>
          <a:xfrm>
            <a:off x="7451640" y="1484280"/>
            <a:ext cx="505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7956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7885080" y="249228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32"/>
          <p:cNvSpPr txBox="1"/>
          <p:nvPr/>
        </p:nvSpPr>
        <p:spPr>
          <a:xfrm>
            <a:off x="8028000" y="2060640"/>
            <a:ext cx="11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вед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795672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4"/>
          <p:cNvSpPr/>
          <p:nvPr/>
        </p:nvSpPr>
        <p:spPr>
          <a:xfrm>
            <a:off x="7885080" y="32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35"/>
          <p:cNvSpPr txBox="1"/>
          <p:nvPr/>
        </p:nvSpPr>
        <p:spPr>
          <a:xfrm>
            <a:off x="8028000" y="299736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ьница</a:t>
            </a:r>
            <a:endParaRPr b="1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Line 36"/>
          <p:cNvSpPr/>
          <p:nvPr/>
        </p:nvSpPr>
        <p:spPr>
          <a:xfrm>
            <a:off x="7956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>
            <a:off x="795672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42"/>
          <p:cNvSpPr/>
          <p:nvPr/>
        </p:nvSpPr>
        <p:spPr>
          <a:xfrm flipV="1">
            <a:off x="6659640" y="4149000"/>
            <a:ext cx="129708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6588000" y="4508640"/>
            <a:ext cx="71640" cy="7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45"/>
          <p:cNvSpPr txBox="1"/>
          <p:nvPr/>
        </p:nvSpPr>
        <p:spPr>
          <a:xfrm>
            <a:off x="6588000" y="4653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 д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 flipH="1">
            <a:off x="529272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47"/>
          <p:cNvSpPr/>
          <p:nvPr/>
        </p:nvSpPr>
        <p:spPr>
          <a:xfrm flipH="1">
            <a:off x="5076720" y="4581360"/>
            <a:ext cx="21600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8"/>
          <p:cNvSpPr/>
          <p:nvPr/>
        </p:nvSpPr>
        <p:spPr>
          <a:xfrm>
            <a:off x="5003640" y="508464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9"/>
          <p:cNvSpPr txBox="1"/>
          <p:nvPr/>
        </p:nvSpPr>
        <p:spPr>
          <a:xfrm>
            <a:off x="5148360" y="486900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 быт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507672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1"/>
          <p:cNvSpPr/>
          <p:nvPr/>
        </p:nvSpPr>
        <p:spPr>
          <a:xfrm>
            <a:off x="5003640" y="595008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2"/>
          <p:cNvSpPr txBox="1"/>
          <p:nvPr/>
        </p:nvSpPr>
        <p:spPr>
          <a:xfrm>
            <a:off x="5148360" y="5950080"/>
            <a:ext cx="93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ток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 flipH="1">
            <a:off x="385092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4"/>
          <p:cNvSpPr/>
          <p:nvPr/>
        </p:nvSpPr>
        <p:spPr>
          <a:xfrm>
            <a:off x="3851280" y="587700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5"/>
          <p:cNvSpPr txBox="1"/>
          <p:nvPr/>
        </p:nvSpPr>
        <p:spPr>
          <a:xfrm>
            <a:off x="3851280" y="6021360"/>
            <a:ext cx="9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птек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H="1">
            <a:off x="2627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58"/>
          <p:cNvSpPr txBox="1"/>
          <p:nvPr/>
        </p:nvSpPr>
        <p:spPr>
          <a:xfrm>
            <a:off x="2124000" y="609300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импий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59"/>
          <p:cNvSpPr/>
          <p:nvPr/>
        </p:nvSpPr>
        <p:spPr>
          <a:xfrm flipH="1">
            <a:off x="2268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0"/>
          <p:cNvSpPr/>
          <p:nvPr/>
        </p:nvSpPr>
        <p:spPr>
          <a:xfrm>
            <a:off x="2268360" y="587700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2268360" y="5950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4"/>
          <p:cNvSpPr/>
          <p:nvPr/>
        </p:nvSpPr>
        <p:spPr>
          <a:xfrm>
            <a:off x="2124000" y="50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65"/>
          <p:cNvSpPr txBox="1"/>
          <p:nvPr/>
        </p:nvSpPr>
        <p:spPr>
          <a:xfrm>
            <a:off x="1187280" y="5013360"/>
            <a:ext cx="765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щ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2124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70"/>
          <p:cNvSpPr/>
          <p:nvPr/>
        </p:nvSpPr>
        <p:spPr>
          <a:xfrm flipH="1" flipV="1">
            <a:off x="2123280" y="5084640"/>
            <a:ext cx="14436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71"/>
          <p:cNvSpPr/>
          <p:nvPr/>
        </p:nvSpPr>
        <p:spPr>
          <a:xfrm>
            <a:off x="2124000" y="5084640"/>
            <a:ext cx="71640" cy="7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72"/>
          <p:cNvSpPr/>
          <p:nvPr/>
        </p:nvSpPr>
        <p:spPr>
          <a:xfrm>
            <a:off x="1258920" y="5013360"/>
            <a:ext cx="865080" cy="71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73"/>
          <p:cNvSpPr/>
          <p:nvPr/>
        </p:nvSpPr>
        <p:spPr>
          <a:xfrm flipH="1" flipV="1">
            <a:off x="971640" y="4723560"/>
            <a:ext cx="28728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 flipV="1">
            <a:off x="97164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75"/>
          <p:cNvSpPr/>
          <p:nvPr/>
        </p:nvSpPr>
        <p:spPr>
          <a:xfrm flipH="1">
            <a:off x="2483640" y="6093000"/>
            <a:ext cx="71640" cy="7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9"/>
          <p:cNvSpPr/>
          <p:nvPr/>
        </p:nvSpPr>
        <p:spPr>
          <a:xfrm flipV="1">
            <a:off x="971640" y="148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3"/>
          <p:cNvSpPr/>
          <p:nvPr/>
        </p:nvSpPr>
        <p:spPr>
          <a:xfrm>
            <a:off x="468360" y="1268280"/>
            <a:ext cx="50328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84"/>
          <p:cNvSpPr txBox="1"/>
          <p:nvPr/>
        </p:nvSpPr>
        <p:spPr>
          <a:xfrm>
            <a:off x="539640" y="1268280"/>
            <a:ext cx="3603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AutoShape 85"/>
          <p:cNvSpPr/>
          <p:nvPr/>
        </p:nvSpPr>
        <p:spPr>
          <a:xfrm>
            <a:off x="2627280" y="1268280"/>
            <a:ext cx="5778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6"/>
          <p:cNvSpPr txBox="1"/>
          <p:nvPr/>
        </p:nvSpPr>
        <p:spPr>
          <a:xfrm>
            <a:off x="277164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AutoShape 87"/>
          <p:cNvSpPr/>
          <p:nvPr/>
        </p:nvSpPr>
        <p:spPr>
          <a:xfrm>
            <a:off x="3995640" y="1268280"/>
            <a:ext cx="57636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88"/>
          <p:cNvSpPr txBox="1"/>
          <p:nvPr/>
        </p:nvSpPr>
        <p:spPr>
          <a:xfrm>
            <a:off x="406728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89"/>
          <p:cNvSpPr/>
          <p:nvPr/>
        </p:nvSpPr>
        <p:spPr>
          <a:xfrm>
            <a:off x="5651640" y="1268280"/>
            <a:ext cx="5760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90"/>
          <p:cNvSpPr txBox="1"/>
          <p:nvPr/>
        </p:nvSpPr>
        <p:spPr>
          <a:xfrm>
            <a:off x="5867280" y="134136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7236000" y="1268280"/>
            <a:ext cx="5299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92"/>
          <p:cNvSpPr txBox="1"/>
          <p:nvPr/>
        </p:nvSpPr>
        <p:spPr>
          <a:xfrm>
            <a:off x="7380360" y="1341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AutoShape 93"/>
          <p:cNvSpPr/>
          <p:nvPr/>
        </p:nvSpPr>
        <p:spPr>
          <a:xfrm>
            <a:off x="7885080" y="2492280"/>
            <a:ext cx="71640" cy="73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4"/>
          <p:cNvSpPr/>
          <p:nvPr/>
        </p:nvSpPr>
        <p:spPr>
          <a:xfrm>
            <a:off x="7451640" y="2276640"/>
            <a:ext cx="5302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95"/>
          <p:cNvSpPr txBox="1"/>
          <p:nvPr/>
        </p:nvSpPr>
        <p:spPr>
          <a:xfrm>
            <a:off x="7596360" y="2349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AutoShape 96"/>
          <p:cNvSpPr/>
          <p:nvPr/>
        </p:nvSpPr>
        <p:spPr>
          <a:xfrm>
            <a:off x="7885080" y="3357720"/>
            <a:ext cx="71640" cy="71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451640" y="306864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98"/>
          <p:cNvSpPr txBox="1"/>
          <p:nvPr/>
        </p:nvSpPr>
        <p:spPr>
          <a:xfrm>
            <a:off x="7596360" y="314172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6372360" y="4076640"/>
            <a:ext cx="50472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00"/>
          <p:cNvSpPr txBox="1"/>
          <p:nvPr/>
        </p:nvSpPr>
        <p:spPr>
          <a:xfrm>
            <a:off x="6516720" y="4149720"/>
            <a:ext cx="2872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AutoShape 101"/>
          <p:cNvSpPr/>
          <p:nvPr/>
        </p:nvSpPr>
        <p:spPr>
          <a:xfrm>
            <a:off x="4572000" y="4797360"/>
            <a:ext cx="5284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102"/>
          <p:cNvSpPr txBox="1"/>
          <p:nvPr/>
        </p:nvSpPr>
        <p:spPr>
          <a:xfrm>
            <a:off x="4716360" y="4941720"/>
            <a:ext cx="268560" cy="3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05"/>
          <p:cNvSpPr/>
          <p:nvPr/>
        </p:nvSpPr>
        <p:spPr>
          <a:xfrm>
            <a:off x="4643280" y="558972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106"/>
          <p:cNvSpPr txBox="1"/>
          <p:nvPr/>
        </p:nvSpPr>
        <p:spPr>
          <a:xfrm>
            <a:off x="4788000" y="5661000"/>
            <a:ext cx="215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AutoShape 107"/>
          <p:cNvSpPr/>
          <p:nvPr/>
        </p:nvSpPr>
        <p:spPr>
          <a:xfrm>
            <a:off x="3708360" y="5445000"/>
            <a:ext cx="5047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108"/>
          <p:cNvSpPr txBox="1"/>
          <p:nvPr/>
        </p:nvSpPr>
        <p:spPr>
          <a:xfrm>
            <a:off x="3851280" y="551664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AutoShape 109"/>
          <p:cNvSpPr/>
          <p:nvPr/>
        </p:nvSpPr>
        <p:spPr>
          <a:xfrm>
            <a:off x="2124000" y="5516640"/>
            <a:ext cx="5050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10"/>
          <p:cNvSpPr txBox="1"/>
          <p:nvPr/>
        </p:nvSpPr>
        <p:spPr>
          <a:xfrm>
            <a:off x="2268360" y="558972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AutoShape 111"/>
          <p:cNvSpPr/>
          <p:nvPr/>
        </p:nvSpPr>
        <p:spPr>
          <a:xfrm>
            <a:off x="1476360" y="4508640"/>
            <a:ext cx="528480" cy="5284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12"/>
          <p:cNvSpPr txBox="1"/>
          <p:nvPr/>
        </p:nvSpPr>
        <p:spPr>
          <a:xfrm>
            <a:off x="1619280" y="4581360"/>
            <a:ext cx="28872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4"/>
          <p:cNvSpPr txBox="1"/>
          <p:nvPr/>
        </p:nvSpPr>
        <p:spPr>
          <a:xfrm>
            <a:off x="250920" y="26028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ведение маршрута школьного автобус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1042920" y="1989000"/>
            <a:ext cx="72010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меньшит детский травматизм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79280" y="2133720"/>
            <a:ext cx="289080" cy="28728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179280" y="3357720"/>
            <a:ext cx="287280" cy="28872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755640" y="3273480"/>
            <a:ext cx="8137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аст возможность выезжать учащимся нашей гимназии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755640" y="4292640"/>
            <a:ext cx="8209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в туристические поездки, соревнования, олимпиады и т.д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95280" y="189000"/>
            <a:ext cx="820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 о кенигсберских мост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24" name="Picture 5" descr="333"/>
          <p:cNvPicPr/>
          <p:nvPr/>
        </p:nvPicPr>
        <p:blipFill>
          <a:blip r:embed="rId3"/>
          <a:stretch/>
        </p:blipFill>
        <p:spPr>
          <a:xfrm>
            <a:off x="324000" y="907920"/>
            <a:ext cx="8496000" cy="3025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7"/>
          <p:cNvSpPr txBox="1"/>
          <p:nvPr/>
        </p:nvSpPr>
        <p:spPr>
          <a:xfrm>
            <a:off x="1187280" y="4076640"/>
            <a:ext cx="712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Формулировка 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237960" y="4869000"/>
            <a:ext cx="8906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ожно ли непрерывно обой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мосты,проходя только однаж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через каждый мо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124000" y="69228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61928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1"/>
          <p:cNvSpPr/>
          <p:nvPr/>
        </p:nvSpPr>
        <p:spPr>
          <a:xfrm>
            <a:off x="2050920" y="4581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 flipV="1">
            <a:off x="2050920" y="2420640"/>
            <a:ext cx="158436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3635280" y="2421000"/>
            <a:ext cx="3384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2050920" y="4581360"/>
            <a:ext cx="22338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 flipV="1">
            <a:off x="4284720" y="2852640"/>
            <a:ext cx="187164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6"/>
          <p:cNvSpPr/>
          <p:nvPr/>
        </p:nvSpPr>
        <p:spPr>
          <a:xfrm>
            <a:off x="6156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7"/>
          <p:cNvSpPr/>
          <p:nvPr/>
        </p:nvSpPr>
        <p:spPr>
          <a:xfrm>
            <a:off x="6156360" y="285264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63840" y="3860640"/>
            <a:ext cx="48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1527120" y="42210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"/>
          <p:cNvSpPr/>
          <p:nvPr/>
        </p:nvSpPr>
        <p:spPr>
          <a:xfrm>
            <a:off x="1547640" y="4292640"/>
            <a:ext cx="4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1490760" y="4076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3506760" y="1844640"/>
            <a:ext cx="633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940360" y="234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 flipV="1">
            <a:off x="7020000" y="43711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7020000" y="4076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6156360" y="602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4156200" y="6165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мметро2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6"/>
          <p:cNvSpPr txBox="1"/>
          <p:nvPr/>
        </p:nvSpPr>
        <p:spPr>
          <a:xfrm>
            <a:off x="611280" y="476280"/>
            <a:ext cx="79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и и задачи проект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250920" y="1628640"/>
            <a:ext cx="8424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оздание  схемы маршрут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школьного автоб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468360" y="620640"/>
            <a:ext cx="83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.Разработать оптимальный маршру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едования школьного автобус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468360" y="249228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2. Исследовать потенциальные возможности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объема перевозок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95280" y="4437000"/>
            <a:ext cx="8497800" cy="151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3. Дать  анализ  оптимально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стоимости проезд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611280" y="26028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ужен ли гимназии свой автоб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3" name="Object 14"/>
          <p:cNvGraphicFramePr/>
          <p:nvPr/>
        </p:nvGraphicFramePr>
        <p:xfrm>
          <a:off x="12600" y="963720"/>
          <a:ext cx="9131400" cy="589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0" y="963720"/>
                    <a:ext cx="91314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вы относитесь к и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оздания школьного автобус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60480" y="1168560"/>
          <a:ext cx="9083520" cy="568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0" y="1168560"/>
                    <a:ext cx="90835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4"/>
          <p:cNvGraphicFramePr/>
          <p:nvPr/>
        </p:nvGraphicFramePr>
        <p:xfrm>
          <a:off x="0" y="927000"/>
          <a:ext cx="8904240" cy="59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7000"/>
                    <a:ext cx="890424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WordArt 5"/>
          <p:cNvSpPr txBox="1"/>
          <p:nvPr/>
        </p:nvSpPr>
        <p:spPr>
          <a:xfrm>
            <a:off x="250920" y="260280"/>
            <a:ext cx="871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Будете ли вы пользоваться школьным автобусо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7:11:32Z</dcterms:created>
  <dc:creator>Ольга Ивановна</dc:creator>
  <dc:description/>
  <dc:language>en-US</dc:language>
  <cp:lastModifiedBy>User</cp:lastModifiedBy>
  <dcterms:modified xsi:type="dcterms:W3CDTF">2008-07-10T09:14:03Z</dcterms:modified>
  <cp:revision>35</cp:revision>
  <dc:subject/>
  <dc:title>Слайд 1</dc:title>
</cp:coreProperties>
</file>