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110-F958-4D24-8992-24025AD3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2AC-6FED-4F79-904B-17BB37C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67A-9A42-40CC-8CB3-E9CFF183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B36-3BDE-43C4-846F-824E6FEB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2AE-ECD9-4C88-A140-90660E6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47F-F9B5-4656-B95B-32A41E6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9194-FEF1-4F26-96F2-7037635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0EA4-A2C1-4DF2-8DA4-7C8689BE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D0C7-BA9D-4F77-9FF6-150C7699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CF65-CF8B-4684-AB22-0D95434E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6461-D74A-413B-AC15-2234986F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E75-7B2B-48F5-A114-ECD3BFC9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AE8C-361C-41AD-B4E7-488D3649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B2F8-6F18-4AC9-856F-D25C7A5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3DA-C188-494D-B8A6-B253ACE3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8F90-C8ED-4473-BFDE-2BE3B360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BA24-7752-4060-A70A-594A59FF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424-002F-41DB-923D-C6AEDAF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004-FC1D-4DDB-83C9-E5A8446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DF0-7E08-441D-8179-9E3DECD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214-27F2-4A6C-8C1C-119C96D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B27-FECB-4BCD-8905-28F2D25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FF2-246F-4B22-9345-488B340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1CB-751D-4DEB-8731-A20E21D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DDEB-1493-466D-BB6E-2B3803EC9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F0C9-2AE6-467F-97FE-1911243F2C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ложения М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3866760"/>
            <a:ext cx="64008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олекулярная физ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914400" cy="9144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1341360"/>
            <a:ext cx="914400" cy="9144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95640" y="5373720"/>
            <a:ext cx="91440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857240" cy="1514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04000" y="4581360"/>
            <a:ext cx="1833480" cy="174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36720" cy="14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положения М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се вещества состоят из мельчайших частиц(молекул, атомов ,элементарных част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астицы движу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астицы взаимодей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1249560" cy="1833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20000" y="2924280"/>
            <a:ext cx="183816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ещество состоит из час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венные доказ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и сжатие при изменении температуры или де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19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912600" cy="65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00360" y="5013360"/>
            <a:ext cx="214452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ещество состоит из час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доказ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параметров молекул по форму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=v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880920" cy="887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227664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1414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непрерывно движу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уновское движение (1827 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скоростей молекул (1920г-эксперименты Штер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140360" y="314172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084720" y="242100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140360" y="220500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084720" y="3213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взаимодействую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а- электромагнитное взаимодействие электронов и ядер соседних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ого прит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ого отталк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51640" y="2997360"/>
            <a:ext cx="327168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взаимодействую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ипание свинцовых цилин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ипание стекла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ротивление растяжению и сжа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ая сжимаемость твёрдых и жидких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96360" y="3492360"/>
            <a:ext cx="18288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42:51Z</dcterms:created>
  <dc:creator>Мария </dc:creator>
  <dc:description/>
  <dc:language>en-US</dc:language>
  <cp:lastModifiedBy>Мария </cp:lastModifiedBy>
  <dcterms:modified xsi:type="dcterms:W3CDTF">2009-11-30T20:09:51Z</dcterms:modified>
  <cp:revision>2</cp:revision>
  <dc:subject/>
  <dc:title>Основы МКТ</dc:title>
</cp:coreProperties>
</file>