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F20-E607-43AB-97ED-2822C719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F7B-AAAC-4A3A-8D8E-638A6ABB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EE93-B838-4FD6-A185-88974F47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770-D839-40C2-8B2E-39C28E94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81C3-C22F-4357-A85D-3ABFD08D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1D06-0D71-4327-B690-98BE14AA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5627-8562-41D2-B8DB-A816AE08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B1F4-A483-43D0-A402-9D14AB06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5AB6-7A83-4028-91BD-28A67498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21C8-ED0C-4C00-84D4-442C61FC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90F4-810A-488A-9671-6721C27D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537-7CD4-4F27-9F29-9BF47B13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6657-04D2-4FA0-B793-0B47E931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96E4-9A7C-472C-9275-5D294557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63F5-0D66-42E3-A610-6F242D92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66FA-9B30-45E5-9DD2-8508062D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233E-DF36-4948-836B-A9EF4D71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168-03FF-4263-B28D-964662C9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8D6-82C4-4787-9E8F-93154774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B43-8F1E-4F62-8768-3B027B5B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B64-5418-4B9E-B301-A314D133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944E-AF8F-4C7C-AE4E-9754A32C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18A-943D-4512-8991-5CDDB60B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DD2F-FDB2-43D3-A9F8-93E75AB1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42B9-D245-440A-A2D2-B07E1E3A50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DEFC-6D7E-4281-BBFF-E5F3EEA15D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положения М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360" y="3866760"/>
            <a:ext cx="640080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молекулярная физ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341360"/>
            <a:ext cx="914400" cy="9144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67640" y="1341360"/>
            <a:ext cx="914400" cy="9144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95640" y="5373720"/>
            <a:ext cx="914400" cy="706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4653000"/>
            <a:ext cx="1857240" cy="1514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804000" y="4581360"/>
            <a:ext cx="1833480" cy="1741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24360" y="692280"/>
            <a:ext cx="1836720" cy="14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сновные положения МК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Все вещества состоят из мельчайших частиц(молекул, атомов ,элементарных части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Частицы движутс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Частицы взаимодейству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19640" y="2708280"/>
            <a:ext cx="1249560" cy="1833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20000" y="2924280"/>
            <a:ext cx="183816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ещество состоит из части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свенные доказатель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об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ширение и сжатие при изменении температуры или де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372360" y="1916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03640" y="3429000"/>
            <a:ext cx="912600" cy="658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700360" y="5013360"/>
            <a:ext cx="214452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ещество состоит из части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 доказатель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параметров молекул по форму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=v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51280" y="2781360"/>
            <a:ext cx="880920" cy="887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24360" y="2276640"/>
            <a:ext cx="1414440" cy="1828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995640" y="2133720"/>
            <a:ext cx="1414440" cy="1828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995640" y="2205000"/>
            <a:ext cx="14144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Частицы непрерывно движутс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оуновское движение (1827 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ффу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ение скоростей молекул (1920г-эксперименты Штер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48360" y="2781360"/>
            <a:ext cx="920520" cy="593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111560" y="3132000"/>
            <a:ext cx="920880" cy="594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111560" y="3132000"/>
            <a:ext cx="920880" cy="594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111560" y="3132000"/>
            <a:ext cx="920880" cy="594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111560" y="3132000"/>
            <a:ext cx="920880" cy="594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4140360" y="3141720"/>
            <a:ext cx="920520" cy="593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084720" y="2421000"/>
            <a:ext cx="920880" cy="59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4140360" y="2205000"/>
            <a:ext cx="920520" cy="593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6084720" y="3213000"/>
            <a:ext cx="920880" cy="594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4111560" y="3132000"/>
            <a:ext cx="920880" cy="5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Частицы взаимодействую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чина- электромагнитное взаимодействие электронов и ядер соседних молеку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заимного притя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заимного отталк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651640" y="2997360"/>
            <a:ext cx="3271680" cy="34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Частицы взаимодействую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ипание свинцовых цилинд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липание стекла к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противление растяжению и сжат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лая сжимаемость твёрдых и жидких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96360" y="3492360"/>
            <a:ext cx="182880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8:42:51Z</dcterms:created>
  <dc:creator>Мария </dc:creator>
  <dc:description/>
  <dc:language>en-US</dc:language>
  <cp:lastModifiedBy>Мария </cp:lastModifiedBy>
  <dcterms:modified xsi:type="dcterms:W3CDTF">2009-11-30T20:09:51Z</dcterms:modified>
  <cp:revision>2</cp:revision>
  <dc:subject/>
  <dc:title>Основы МКТ</dc:title>
</cp:coreProperties>
</file>