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C5E-F6EF-4497-9DFA-02ADE74C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AEF-7DBB-4D1D-B114-DE75675F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282-2347-4C6F-85E2-73F64020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ECA-ACD6-4DDE-9FB6-9B693DCC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1DE4-6816-4A3F-8492-83398878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9DD1-DC84-4BE9-81FC-D7702C13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AFD2-DCC5-4E8F-9424-F2D41F4E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9E86-594C-40E8-87AC-D6AFDD4C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EBAF-AA0C-4980-ADC4-5D3BDC7E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4B23-C6A8-4B1B-9753-395ADEDD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AF48-F8D7-421F-A987-75FE6742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56B-24D0-4BC9-B4E7-C1965917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6AF1-DDEB-4D75-B495-7251F2EA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123B-E69B-4ABC-8EF0-DDA182C3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0344-D520-41D1-8874-1215CFE3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EA58-FA04-47D2-B082-088C047D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732D-DD30-4901-AFF8-7B753954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161-FB74-4469-BE2F-27B51C3C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351-B1CC-4A4C-A828-1B2A442A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1FA-EDD3-42D7-B017-299C47A0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A03-3CBA-4512-AAA4-793FF555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F1A-0701-4BBF-934A-C1939805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EBF-1B1A-4989-A5AF-668C9AC2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22C-02BE-4BE6-AA86-CBD90498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847A-B320-4804-8BA3-BEF3C6E02D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13D7-CECF-474A-B0C0-88F1EC651C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положения М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360" y="3866760"/>
            <a:ext cx="640080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молекулярная физ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341360"/>
            <a:ext cx="914400" cy="9144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7640" y="1341360"/>
            <a:ext cx="914400" cy="914400"/>
          </a:xfrm>
          <a:prstGeom prst="irregularSeal1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95640" y="5373720"/>
            <a:ext cx="914400" cy="706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1857240" cy="1514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804000" y="4581360"/>
            <a:ext cx="1833480" cy="1741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24360" y="692280"/>
            <a:ext cx="1836720" cy="14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сновные положения МК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Все вещества состоят из мельчайших частиц(молекул, атомов ,элементарных части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Частицы движутс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Частицы взаимодейств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1249560" cy="1833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20000" y="2924280"/>
            <a:ext cx="183816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ещество состоит из части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свенные доказатель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об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ширение и сжатие при изменении температуры или де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72360" y="1916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03640" y="3429000"/>
            <a:ext cx="912600" cy="658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700360" y="5013360"/>
            <a:ext cx="214452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Вещество состоит из части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доказатель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параметров молекул по форму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=v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51280" y="2781360"/>
            <a:ext cx="880920" cy="887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24360" y="2276640"/>
            <a:ext cx="1414440" cy="1828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995640" y="2133720"/>
            <a:ext cx="1414440" cy="1828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995640" y="2205000"/>
            <a:ext cx="14144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Частицы непрерывно движутс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роуновское движение (1827 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ффу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е скоростей молекул (1920г-эксперименты Штер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48360" y="2781360"/>
            <a:ext cx="920520" cy="593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111560" y="3132000"/>
            <a:ext cx="920880" cy="59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111560" y="3132000"/>
            <a:ext cx="920880" cy="594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111560" y="3132000"/>
            <a:ext cx="920880" cy="59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111560" y="3132000"/>
            <a:ext cx="920880" cy="59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4140360" y="3141720"/>
            <a:ext cx="920520" cy="593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084720" y="2421000"/>
            <a:ext cx="920880" cy="59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4140360" y="2205000"/>
            <a:ext cx="920520" cy="593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6084720" y="3213000"/>
            <a:ext cx="920880" cy="594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4111560" y="3132000"/>
            <a:ext cx="920880" cy="5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Частицы взаимодействую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ина- электромагнитное взаимодействие электронов и ядер соседних молеку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заимного притя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заимного отталк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651640" y="2997360"/>
            <a:ext cx="3271680" cy="34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Частицы взаимодействую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ипание свинцовых цилинд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липание стекла к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противление растяжению и сжат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ая сжимаемость твёрдых и жидких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96360" y="3492360"/>
            <a:ext cx="182880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8:42:51Z</dcterms:created>
  <dc:creator>Мария </dc:creator>
  <dc:description/>
  <dc:language>en-US</dc:language>
  <cp:lastModifiedBy>Мария </cp:lastModifiedBy>
  <dcterms:modified xsi:type="dcterms:W3CDTF">2009-11-30T20:09:51Z</dcterms:modified>
  <cp:revision>2</cp:revision>
  <dc:subject/>
  <dc:title>Основы МКТ</dc:title>
</cp:coreProperties>
</file>