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4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29.wmf" ContentType="image/x-wmf"/>
  <Override PartName="/ppt/media/image11.png" ContentType="image/png"/>
  <Override PartName="/ppt/media/image31.wmf" ContentType="image/x-wmf"/>
  <Override PartName="/ppt/media/image28.png" ContentType="image/png"/>
  <Override PartName="/ppt/media/image13.wmf" ContentType="image/x-wmf"/>
  <Override PartName="/ppt/media/image30.wmf" ContentType="image/x-wmf"/>
  <Override PartName="/ppt/media/image32.wmf" ContentType="image/x-wmf"/>
  <Override PartName="/ppt/media/image7.wmf" ContentType="image/x-wmf"/>
  <Override PartName="/ppt/media/image33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3.jpeg" ContentType="image/jpeg"/>
  <Override PartName="/ppt/media/image36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2EC2-BBD4-4CAC-817C-15725540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666-85B5-4D1D-B48B-84BE90A0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8A3-9193-4E57-99DD-520569D6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A45-FDF2-42CF-9842-89F5A876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92A-52BE-48FD-81AE-C8EE5AD9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D0E-6F84-42A7-8605-18E6BD3B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AD9-2054-4BA9-9101-BBF2AE28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F33-2746-480A-974D-16D87672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C0E-3B85-4741-967F-F6DB512B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2DA-FB7B-4BD7-8C19-D8C2D3D3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0DB-862E-4A04-AB05-BD78511B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0F0-BF70-4590-AF69-D71CDBEE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C141-26DC-42FA-A2B9-455A05E4D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905120"/>
            <a:ext cx="5448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99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описание корня слова</a:t>
            </a:r>
            <a:endParaRPr b="0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99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rcRect l="0" t="4040" r="0" b="71311"/>
          <a:stretch/>
        </p:blipFill>
        <p:spPr>
          <a:xfrm>
            <a:off x="457200" y="1600200"/>
            <a:ext cx="8229600" cy="3479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819520" y="533520"/>
            <a:ext cx="4419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 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819520" y="533520"/>
            <a:ext cx="4419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 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28695" r="0" b="50013"/>
          <a:stretch/>
        </p:blipFill>
        <p:spPr>
          <a:xfrm>
            <a:off x="457200" y="1600200"/>
            <a:ext cx="82296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819520" y="533520"/>
            <a:ext cx="4419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 3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48827" r="0" b="24236"/>
          <a:stretch/>
        </p:blipFill>
        <p:spPr>
          <a:xfrm>
            <a:off x="380880" y="1676520"/>
            <a:ext cx="830592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05120" y="457200"/>
            <a:ext cx="6629400" cy="928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7315200" cy="4222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19920" y="2895480"/>
            <a:ext cx="114300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200400"/>
            <a:ext cx="304920" cy="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666880" y="5867280"/>
            <a:ext cx="405792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341280"/>
            <a:ext cx="6858000" cy="100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8229600" cy="1782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981080" y="4343400"/>
            <a:ext cx="470880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7400" y="328680"/>
            <a:ext cx="6629400" cy="1035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8229600" cy="2711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514600" y="4876920"/>
            <a:ext cx="38401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666880" y="380880"/>
            <a:ext cx="55976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" y="1662120"/>
            <a:ext cx="8229600" cy="4400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895480" y="6095880"/>
            <a:ext cx="356868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905120" y="353880"/>
            <a:ext cx="6781680" cy="984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0" b="666"/>
          <a:stretch/>
        </p:blipFill>
        <p:spPr>
          <a:xfrm>
            <a:off x="380880" y="1447920"/>
            <a:ext cx="6950160" cy="4495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828800" y="5943600"/>
            <a:ext cx="41655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4600" y="374760"/>
            <a:ext cx="6172200" cy="942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" y="2328840"/>
            <a:ext cx="8229600" cy="3068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895480" y="5791320"/>
            <a:ext cx="37864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33720" y="290520"/>
            <a:ext cx="6553080" cy="1111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8229600" cy="1574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848720" y="2819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666880" y="4191120"/>
            <a:ext cx="35686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362320" y="457200"/>
            <a:ext cx="617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описание гласных в корне слов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050" r="0" b="0"/>
          <a:stretch/>
        </p:blipFill>
        <p:spPr>
          <a:xfrm>
            <a:off x="2590920" y="1523880"/>
            <a:ext cx="4135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7400" y="341280"/>
            <a:ext cx="662940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8229600" cy="3279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438280" y="5486400"/>
            <a:ext cx="405792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91960"/>
            <a:ext cx="6629400" cy="110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8229600" cy="1805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828800" y="4495680"/>
            <a:ext cx="530532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57400" y="274680"/>
            <a:ext cx="662292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3520" y="1752480"/>
            <a:ext cx="8229600" cy="269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676520" y="5181480"/>
            <a:ext cx="525132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ПРАВОПИСАНИЕ КОРН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езударные глас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ряются сильной позицией (под ударением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ОМНИТЬ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ДЛЯ проверки корневой о нельзя использовать формы глаголов несовершенного вида на -ыва-, -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ле шипящих ж, Ш, Щ, 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шется ~ при чередовании с е в однокоренных словах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ОМНИ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КРblЖОВНИК, шов, шоколад, шофёр, жонглёр, шок, жокей, шоссе, изжога, обжора, чохом, ШОРbl, ШОРТbI, шорох, трущоба, ЧОПОРНblЙ, джоуль, джонка, пижон, чащоба, трещотка, шоу, Шотландия, боржоми, джокер, шорник, капюшон, чокаться, анчоус, шомпол, ж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ле Ц в корне и словах на -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шется и; в остальных случаях 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ОМНИТЬ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цыган, Цblплёнок, ЦblПОЧки, цыкнуть, ЦЬ/П-ЦblП, МЦbl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ротитель кроткий затопить но: затапл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ёпот -шептать жёдудь желуд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bl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цисс лекц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УРИЦbl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16002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8195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0292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382240" cy="465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124080" y="685800"/>
            <a:ext cx="4191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дующиеся корн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редование ин/в, им/я на              стыке корня и суффикс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им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ня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ин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има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я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описание согласных в корнях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3525" t="7974" r="0" b="3554"/>
          <a:stretch/>
        </p:blipFill>
        <p:spPr>
          <a:xfrm>
            <a:off x="533520" y="1711440"/>
            <a:ext cx="6781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мнительные согласны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cc33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Пишется та же согласная, что и в сильной позиции (перед сонорным звуком или гласной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фствовать -шеф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вственно -ная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ства –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 уздцы -уз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ный -вкус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ррик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амма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лл -пятибал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уппа -групп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: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колонка (колонн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9880" y="609480"/>
            <a:ext cx="7229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Удвоенные согласные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1828800"/>
            <a:ext cx="30477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ловах, образов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слов с двой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828800"/>
            <a:ext cx="25909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стыках частей с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чинающихся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канчив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динаковой соглас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1828800"/>
            <a:ext cx="213372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ор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языч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80" y="3236760"/>
            <a:ext cx="34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вр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ссчёт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828800" y="11430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143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24680" y="11430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жнение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75438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оя</cp:lastModifiedBy>
  <dcterms:modified xsi:type="dcterms:W3CDTF">2010-10-20T18:08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