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wmf" ContentType="image/x-wmf"/>
  <Override PartName="/ppt/media/image26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6.jpeg" ContentType="image/jpeg"/>
  <Override PartName="/ppt/media/image4.jpeg" ContentType="image/jpeg"/>
  <Override PartName="/ppt/media/image10.wmf" ContentType="image/x-wmf"/>
  <Override PartName="/ppt/media/image2.png" ContentType="image/png"/>
  <Override PartName="/ppt/media/image25.png" ContentType="image/png"/>
  <Override PartName="/ppt/media/image29.wmf" ContentType="image/x-wmf"/>
  <Override PartName="/ppt/media/image11.png" ContentType="image/png"/>
  <Override PartName="/ppt/media/image31.wmf" ContentType="image/x-wmf"/>
  <Override PartName="/ppt/media/image28.png" ContentType="image/png"/>
  <Override PartName="/ppt/media/image13.wmf" ContentType="image/x-wmf"/>
  <Override PartName="/ppt/media/image30.wmf" ContentType="image/x-wmf"/>
  <Override PartName="/ppt/media/image32.wmf" ContentType="image/x-wmf"/>
  <Override PartName="/ppt/media/image7.wmf" ContentType="image/x-wmf"/>
  <Override PartName="/ppt/media/image33.wmf" ContentType="image/x-wmf"/>
  <Override PartName="/ppt/media/image34.png" ContentType="image/png"/>
  <Override PartName="/ppt/media/image17.wmf" ContentType="image/x-wmf"/>
  <Override PartName="/ppt/media/image35.wmf" ContentType="image/x-wmf"/>
  <Override PartName="/ppt/media/image3.jpeg" ContentType="image/jpeg"/>
  <Override PartName="/ppt/media/image36.wmf" ContentType="image/x-wmf"/>
  <Override PartName="/ppt/media/image12.wmf" ContentType="image/x-wmf"/>
  <Override PartName="/ppt/media/image8.png" ContentType="image/png"/>
  <Override PartName="/ppt/media/image16.wmf" ContentType="image/x-wmf"/>
  <Override PartName="/ppt/media/image9.wmf" ContentType="image/x-wmf"/>
  <Override PartName="/ppt/media/image5.jpeg" ContentType="image/jpeg"/>
  <Override PartName="/ppt/media/image18.wmf" ContentType="image/x-wmf"/>
  <Override PartName="/ppt/media/image20.wmf" ContentType="image/x-wmf"/>
  <Override PartName="/ppt/media/image1.jpeg" ContentType="image/jpeg"/>
  <Override PartName="/ppt/media/image15.wmf" ContentType="image/x-wmf"/>
  <Override PartName="/ppt/media/image14.wmf" ContentType="image/x-wmf"/>
  <Override PartName="/ppt/media/image1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0583-CF92-4396-AA2B-1A2236FC6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7124-8405-4582-A76B-5C8F8118D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5A1E-7A78-42F6-B85B-424BFEAD7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8043-555E-447C-A5EF-8BD296559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07F9-8A5E-425D-8204-CCE0017BD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FA9E-BC31-4A94-8588-5572860AF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D3D9-901B-4B64-9330-3BC20EE69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4FAD-9B1C-4B65-802A-5169720D4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65F5-7E58-4EB7-A115-BCD0815F2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60CC-01A6-4337-91C5-4E839CA70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8AFA-BDA1-49C6-822F-4C0CD2E81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02C1-B60D-4EDF-8227-995E3C9BB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00D3C-27AA-4B3E-B801-E7CDC11CCE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image" Target="../media/image11.png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26.wmf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image" Target="../media/image29.wmf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wmf"/><Relationship Id="rId3" Type="http://schemas.openxmlformats.org/officeDocument/2006/relationships/image" Target="../media/image32.wmf"/><Relationship Id="rId4" Type="http://schemas.openxmlformats.org/officeDocument/2006/relationships/image" Target="../media/image33.wmf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image" Target="../media/image35.wmf"/><Relationship Id="rId4" Type="http://schemas.openxmlformats.org/officeDocument/2006/relationships/image" Target="../media/image36.wmf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дготовка к ГИ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676520" y="1905120"/>
            <a:ext cx="54482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8000"/>
                  </a:solidFill>
                  <a:miter/>
                </a:ln>
                <a:solidFill>
                  <a:srgbClr val="99cc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равописание корня слова</a:t>
            </a:r>
            <a:endParaRPr b="0" lang="en-US" sz="1800" spc="1" strike="noStrike">
              <a:ln w="9360">
                <a:solidFill>
                  <a:srgbClr val="808000"/>
                </a:solidFill>
                <a:miter/>
              </a:ln>
              <a:solidFill>
                <a:srgbClr val="99cc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rcRect l="0" t="4040" r="0" b="71311"/>
          <a:stretch/>
        </p:blipFill>
        <p:spPr>
          <a:xfrm>
            <a:off x="457200" y="1600200"/>
            <a:ext cx="8229600" cy="34797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 txBox="1"/>
          <p:nvPr/>
        </p:nvSpPr>
        <p:spPr>
          <a:xfrm>
            <a:off x="2819520" y="533520"/>
            <a:ext cx="441936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АДАНИЕ 1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2819520" y="533520"/>
            <a:ext cx="441936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АДАНИЕ 2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rcRect l="0" t="28695" r="0" b="50013"/>
          <a:stretch/>
        </p:blipFill>
        <p:spPr>
          <a:xfrm>
            <a:off x="457200" y="1600200"/>
            <a:ext cx="8229600" cy="30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2819520" y="533520"/>
            <a:ext cx="441936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АДАНИЕ 3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rcRect l="0" t="48827" r="0" b="24236"/>
          <a:stretch/>
        </p:blipFill>
        <p:spPr>
          <a:xfrm>
            <a:off x="380880" y="1676520"/>
            <a:ext cx="8305920" cy="38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1905120" y="457200"/>
            <a:ext cx="6629400" cy="9288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304920" y="1600200"/>
            <a:ext cx="7315200" cy="42228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6019920" y="2895480"/>
            <a:ext cx="1143000" cy="0"/>
          </a:xfrm>
          <a:prstGeom prst="line">
            <a:avLst/>
          </a:prstGeom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57200" y="3200400"/>
            <a:ext cx="304920" cy="0"/>
          </a:xfrm>
          <a:prstGeom prst="line">
            <a:avLst/>
          </a:prstGeom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2666880" y="5867280"/>
            <a:ext cx="4057920" cy="7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828800" y="341280"/>
            <a:ext cx="6858000" cy="10080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457200" y="1905120"/>
            <a:ext cx="8229600" cy="17827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1981080" y="4343400"/>
            <a:ext cx="470880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057400" y="328680"/>
            <a:ext cx="6629400" cy="10350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457200" y="1905120"/>
            <a:ext cx="8229600" cy="27111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2514600" y="4876920"/>
            <a:ext cx="3840120" cy="8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666880" y="380880"/>
            <a:ext cx="5597640" cy="11430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457200" y="1662120"/>
            <a:ext cx="8229600" cy="44006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2895480" y="6095880"/>
            <a:ext cx="3568680" cy="5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905120" y="353880"/>
            <a:ext cx="6781680" cy="9842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rcRect l="0" t="0" r="0" b="666"/>
          <a:stretch/>
        </p:blipFill>
        <p:spPr>
          <a:xfrm>
            <a:off x="380880" y="1447920"/>
            <a:ext cx="6950160" cy="44956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1828800" y="5943600"/>
            <a:ext cx="4165560" cy="5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2514600" y="374760"/>
            <a:ext cx="6172200" cy="9428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457200" y="2328840"/>
            <a:ext cx="8229600" cy="30686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2895480" y="5791320"/>
            <a:ext cx="378648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2133720" y="290520"/>
            <a:ext cx="6553080" cy="11113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457200" y="1676520"/>
            <a:ext cx="8229600" cy="15746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7848720" y="281952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2666880" y="4191120"/>
            <a:ext cx="356868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2362320" y="457200"/>
            <a:ext cx="617220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авописание гласных в корне слова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050" r="0" b="0"/>
          <a:stretch/>
        </p:blipFill>
        <p:spPr>
          <a:xfrm>
            <a:off x="2590920" y="1523880"/>
            <a:ext cx="413532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2057400" y="341280"/>
            <a:ext cx="6629400" cy="10098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457200" y="1828800"/>
            <a:ext cx="8229600" cy="32796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2438280" y="5486400"/>
            <a:ext cx="4057920" cy="62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2057400" y="291960"/>
            <a:ext cx="6629400" cy="11066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457200" y="1752480"/>
            <a:ext cx="8229600" cy="18050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1828800" y="4495680"/>
            <a:ext cx="5305320" cy="6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2057400" y="274680"/>
            <a:ext cx="6622920" cy="11430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533520" y="1752480"/>
            <a:ext cx="8229600" cy="26942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1676520" y="5181480"/>
            <a:ext cx="5251320" cy="6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ПРАВОПИСАНИЕ КОРНЕЙ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5410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Безударные гласны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роверяются сильной позицией (под ударением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ЗАПОМНИТЬ: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ДЛЯ проверки корневой о нельзя использовать формы глаголов несовершенного вида на -ыва-, -и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После шипящих ж, Ш, Щ, Ч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ишется ~ при чередовании с е в однокоренных словах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ЗАПОМНИТЬ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: КРblЖОВНИК, шов, шоколад, шофёр, жонглёр, шок, жокей, шоссе, изжога, обжора, чохом, ШОРbl, ШОРТbI, шорох, трущоба, ЧОПОРНblЙ, джоуль, джонка, пижон, чащоба, трещотка, шоу, Шотландия, боржоми, джокер, шорник, капюшон, чокаться, анчоус, шомпол, ж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.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После Ц в корне и словах на -ц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ишется и; в остальных случаях –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ЗАПОМНИТЬ: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цыган, Цblплёнок, ЦblПОЧки, цыкнуть, ЦЬ/П-ЦblП, МЦbl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790960" y="1600200"/>
            <a:ext cx="2895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кротитель кроткий затопить но: затаплив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шёпот -шептать жёдудь желудё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bl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рцисс лекция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УРИЦbl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ини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791320" y="160020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2819520"/>
            <a:ext cx="8534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502920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380880" y="1676520"/>
            <a:ext cx="8382240" cy="4653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3124080" y="685800"/>
            <a:ext cx="41911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Чередующиеся корни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Чередование ин/в, им/я на              стыке корня и суффикс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нимать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нять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чинать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чать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нимать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нять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равописание согласных в корнях сл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rcRect l="3525" t="7974" r="0" b="3554"/>
          <a:stretch/>
        </p:blipFill>
        <p:spPr>
          <a:xfrm>
            <a:off x="533520" y="1711440"/>
            <a:ext cx="6781680" cy="47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омнительные согласные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-228600">
              <a:spcBef>
                <a:spcPts val="499"/>
              </a:spcBef>
              <a:buClr>
                <a:srgbClr val="cc33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cc3300"/>
                </a:solidFill>
                <a:uFillTx/>
                <a:latin typeface="Arial"/>
              </a:rPr>
              <a:t>Пишется та же согласная, что и в сильной позиции (перед сонорным звуком или гласной)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шефствовать -шеф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явственно -наяв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яства –е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д уздцы -узд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кусный -вкусе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 algn="r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аррикад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 algn="r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граммати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алл -пятибалльны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группа -групп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о: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колонка (колонна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39880" y="609480"/>
            <a:ext cx="72291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4" marL="1828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Удвоенные согласные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48120" y="1828800"/>
            <a:ext cx="304776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словах, образован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 слов с двойны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гласны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828800"/>
            <a:ext cx="259092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а стыках частей сло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ачинающихся 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заканчивающихс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динаковой согласн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553080" y="1828800"/>
            <a:ext cx="213372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корн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ноязычных с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4080" y="3236760"/>
            <a:ext cx="343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главврач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ессчётн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1828800" y="1143000"/>
            <a:ext cx="9144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1430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924680" y="1143000"/>
            <a:ext cx="4572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Упражнение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380880" y="1676520"/>
            <a:ext cx="7543800" cy="44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Зоя</cp:lastModifiedBy>
  <dcterms:modified xsi:type="dcterms:W3CDTF">2010-10-20T18:08:3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