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1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30.wmf" ContentType="image/x-wmf"/>
  <Override PartName="/ppt/media/image32.wmf" ContentType="image/x-wmf"/>
  <Override PartName="/ppt/media/image7.wmf" ContentType="image/x-wmf"/>
  <Override PartName="/ppt/media/image3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3.jpeg" ContentType="image/jpeg"/>
  <Override PartName="/ppt/media/image36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128-6472-45B7-87A5-C18DB3F7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801-A541-49E8-8D36-451CCD0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52C-77B2-444B-8733-95790CF2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097-B2F1-4620-93DE-24469DFD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02E-C9F6-48B7-848A-E7C26854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C88-B991-4D6A-83AA-664EF093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502-BEE0-4757-974E-C7AD1EEC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DB8-77CF-43DF-B866-86C43DF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9C0-E826-4D6B-B8D9-9DF0ABA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05A-2B38-488F-8CD8-131EA91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510-6953-4494-99C4-D45E56D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11-E88B-4DBF-8ED7-A166D3A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851-79B0-40F1-94AE-C45A7F56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905120"/>
            <a:ext cx="54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корня слова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4040" r="0" b="71311"/>
          <a:stretch/>
        </p:blipFill>
        <p:spPr>
          <a:xfrm>
            <a:off x="457200" y="1600200"/>
            <a:ext cx="8229600" cy="3479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28695" r="0" b="50013"/>
          <a:stretch/>
        </p:blipFill>
        <p:spPr>
          <a:xfrm>
            <a:off x="457200" y="1600200"/>
            <a:ext cx="82296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48827" r="0" b="24236"/>
          <a:stretch/>
        </p:blipFill>
        <p:spPr>
          <a:xfrm>
            <a:off x="380880" y="1676520"/>
            <a:ext cx="83059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6629400" cy="928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7315200" cy="4222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9920" y="2895480"/>
            <a:ext cx="1143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20040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66880" y="5867280"/>
            <a:ext cx="40579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341280"/>
            <a:ext cx="6858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178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81080" y="4343400"/>
            <a:ext cx="470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328680"/>
            <a:ext cx="6629400" cy="103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271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14600" y="4876920"/>
            <a:ext cx="3840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5976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1662120"/>
            <a:ext cx="8229600" cy="4400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895480" y="6095880"/>
            <a:ext cx="3568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353880"/>
            <a:ext cx="6781680" cy="984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0" b="666"/>
          <a:stretch/>
        </p:blipFill>
        <p:spPr>
          <a:xfrm>
            <a:off x="380880" y="1447920"/>
            <a:ext cx="695016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828800" y="5943600"/>
            <a:ext cx="4165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374760"/>
            <a:ext cx="6172200" cy="942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2328840"/>
            <a:ext cx="8229600" cy="306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895480" y="5791320"/>
            <a:ext cx="37864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33720" y="290520"/>
            <a:ext cx="6553080" cy="1111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8229600" cy="157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848720" y="2819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666880" y="4191120"/>
            <a:ext cx="35686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362320" y="457200"/>
            <a:ext cx="617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писание гласных в корне слов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050" r="0" b="0"/>
          <a:stretch/>
        </p:blipFill>
        <p:spPr>
          <a:xfrm>
            <a:off x="2590920" y="1523880"/>
            <a:ext cx="4135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7400" y="341280"/>
            <a:ext cx="662940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229600" cy="327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38280" y="5486400"/>
            <a:ext cx="40579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91960"/>
            <a:ext cx="6629400" cy="110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8229600" cy="1805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828800" y="4495680"/>
            <a:ext cx="5305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274680"/>
            <a:ext cx="662292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8229600" cy="269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676520" y="5181480"/>
            <a:ext cx="52513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АВОПИСАНИЕ КОРН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ударные глас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ются сильной позицией (под ударение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ДЛЯ проверки корневой о нельзя использовать формы глаголов несовершенного вида на -ыва-, -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шипящих ж, Ш, Щ, 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~ при чередовании с е в однокоренных слова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КРblЖОВНИК, шов, шоколад, шофёр, жонглёр, шок, жокей, шоссе, изжога, обжора, чохом, ШОРbl, ШОРТbI, шорох, трущоба, ЧОПОРНblЙ, джоуль, джонка, пижон, чащоба, трещотка, шоу, Шотландия, боржоми, джокер, шорник, капюшон, чокаться, анчоус, шомпол, ж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Ц в корне и словах на -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и; в остальных случаях 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цыган, Цblплёнок, ЦblПОЧки, цыкнуть, ЦЬ/П-ЦblП, МЦbl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отитель кроткий затопить но: затапл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ёпот -шептать жёдудь желуд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bl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цисс лекц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ИЦbl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819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029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82240" cy="465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6858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дующиеся кор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редование ин/в, им/я на              стыке корня и суффик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им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им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описание согласных в корня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525" t="7974" r="0" b="3554"/>
          <a:stretch/>
        </p:blipFill>
        <p:spPr>
          <a:xfrm>
            <a:off x="533520" y="1711440"/>
            <a:ext cx="6781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мнительные соглас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Пишется та же согласная, что и в сильной позиции (перед сонорным звуком или гласной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фствовать -шеф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ственно -ная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ства –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уздцы -уз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ный -вкус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ррик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мма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лл -пятибал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а -групп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олонка (колон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9880" y="609480"/>
            <a:ext cx="7229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Удвоенные согласные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828800"/>
            <a:ext cx="3047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овах,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слов с двой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2590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тыках частей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инающихс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анчив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инаковой согла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1828800"/>
            <a:ext cx="2133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р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языч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80" y="3236760"/>
            <a:ext cx="34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ссчё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800" y="1143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11430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75438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10-10-20T18:08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