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35.jpeg" ContentType="image/jpeg"/>
  <Override PartName="/ppt/media/image10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D01-BDB6-43FD-8E9B-69587D35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EB2-79C7-48FD-9EF0-687CE0C4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BC6-7117-4AD6-8E09-91B3E7EF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0A8-8CF4-4459-A010-3BB6202A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2A0E-147A-49B1-8393-7DB619CB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FA8A-13FD-43D5-A3B4-1BE77F6D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55B-9259-4D55-8429-5434BD49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9C71-0383-4020-9FF8-01126EE6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90CB-D762-4BA0-BD44-07A151D5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9CC0-5EA0-435C-85FA-BAFA854B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C7A9-9221-45CB-9823-7CB8769D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FD4-12CB-4357-957C-855A23EC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520E-2276-4239-AD74-E0B1A39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8FB3-CF50-455B-99A2-96743B34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35D0-26AC-4C92-93E6-FE7F6667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08B6-C81D-4485-8051-4A4063A1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BE07-AA50-4BF6-AC78-FA4B7287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43F-833F-499C-85A3-8D506A65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EF5-6C6F-495C-B790-0D92CACF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E59-28FE-4E5C-A1FA-F11FF27C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531-0042-4D5E-9F65-8AE74F8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18F-00F6-4AAE-A882-BE762FF3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86E-7EF6-4883-B069-C83090F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F4A-FF24-4BE4-BAFB-7608E772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D54E-DA53-4814-A324-8AC2C37D36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3C45-95B2-4903-A165-A4B2A98F6D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42788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</a:rPr>
              <a:t>Природные свойства нервной систем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укнрва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987640" y="907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419640" y="33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020000" y="14842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6300720" y="49417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реч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348000" y="602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предел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02520" y="4869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69800" y="14842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3708360" y="3213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лир"/>
          <p:cNvPicPr/>
          <p:nvPr/>
        </p:nvPicPr>
        <p:blipFill>
          <a:blip r:embed="rId1"/>
          <a:stretch/>
        </p:blipFill>
        <p:spPr>
          <a:xfrm>
            <a:off x="1979640" y="3933720"/>
            <a:ext cx="2274840" cy="292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ARPENTE"/>
          <p:cNvPicPr/>
          <p:nvPr/>
        </p:nvPicPr>
        <p:blipFill>
          <a:blip r:embed="rId2"/>
          <a:stretch/>
        </p:blipFill>
        <p:spPr>
          <a:xfrm>
            <a:off x="-181080" y="620640"/>
            <a:ext cx="3237120" cy="3457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CHI_039"/>
          <p:cNvPicPr/>
          <p:nvPr/>
        </p:nvPicPr>
        <p:blipFill>
          <a:blip r:embed="rId3"/>
          <a:stretch/>
        </p:blipFill>
        <p:spPr>
          <a:xfrm>
            <a:off x="4500720" y="1052640"/>
            <a:ext cx="3779640" cy="5805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Различают 4-е группы важных свойств (черт) характера, выражающих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человека коллективу, други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к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к самому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к природе, вещ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UMPKIN2"/>
          <p:cNvPicPr/>
          <p:nvPr/>
        </p:nvPicPr>
        <p:blipFill>
          <a:blip r:embed="rId4"/>
          <a:stretch/>
        </p:blipFill>
        <p:spPr>
          <a:xfrm>
            <a:off x="5796000" y="3511440"/>
            <a:ext cx="3348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560" y="304920"/>
            <a:ext cx="6840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2b2b2"/>
                </a:solidFill>
                <a:latin typeface="Arial Black"/>
              </a:rPr>
              <a:t>Они холе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6372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643800" y="83664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воров А.В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7020000" y="1341360"/>
            <a:ext cx="1800000" cy="223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572080" y="4357800"/>
            <a:ext cx="1873440" cy="2233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873080" cy="2233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194472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4"/>
          <p:cNvSpPr/>
          <p:nvPr/>
        </p:nvSpPr>
        <p:spPr>
          <a:xfrm>
            <a:off x="395280" y="836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ётр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5143680" y="3860640"/>
            <a:ext cx="26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нделеев Д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714680" y="392904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ушкин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5"/>
          <a:stretch/>
        </p:blipFill>
        <p:spPr>
          <a:xfrm>
            <a:off x="3780000" y="1628640"/>
            <a:ext cx="1771560" cy="2160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9"/>
          <p:cNvSpPr/>
          <p:nvPr/>
        </p:nvSpPr>
        <p:spPr>
          <a:xfrm>
            <a:off x="3643200" y="112536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авлов И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000"/>
                            </p:stCondLst>
                            <p:childTnLst>
                              <p:par>
                                <p:cTn id="4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Они флегмат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"/>
          <a:stretch/>
        </p:blipFill>
        <p:spPr>
          <a:xfrm>
            <a:off x="3817800" y="1920960"/>
            <a:ext cx="2097360" cy="2876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3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2303640" cy="2808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4" descr=""/>
          <p:cNvPicPr/>
          <p:nvPr/>
        </p:nvPicPr>
        <p:blipFill>
          <a:blip r:embed="rId3"/>
          <a:stretch/>
        </p:blipFill>
        <p:spPr>
          <a:xfrm>
            <a:off x="6372360" y="3573360"/>
            <a:ext cx="2303280" cy="2808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8"/>
          <p:cNvSpPr/>
          <p:nvPr/>
        </p:nvSpPr>
        <p:spPr>
          <a:xfrm>
            <a:off x="3780000" y="496584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утузов М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826920" y="26370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рылов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6443640" y="2852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. Нью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490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Arial Black"/>
              </a:rPr>
              <a:t>Они сангви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6443640" y="2565360"/>
            <a:ext cx="2305080" cy="288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2376360" cy="287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304720" cy="2879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651672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онапарт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6836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ерцен А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429000" y="3230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омарше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68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cc99"/>
                </a:solidFill>
                <a:latin typeface="Arial Black"/>
              </a:rPr>
              <a:t>Они меланхол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804000" y="4071960"/>
            <a:ext cx="1911240" cy="2500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1914480" cy="2378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2500200" y="4143240"/>
            <a:ext cx="2016360" cy="244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395280" y="1700280"/>
            <a:ext cx="1944720" cy="2376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4284720" y="12682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Лермонтов М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572160" y="3645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айковский П.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68360" y="119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оголь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2627280" y="357192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лок А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50"/>
                            </p:stCondLst>
                            <p:childTnLst>
                              <p:par>
                                <p:cTn id="5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950"/>
                            </p:stCondLst>
                            <p:childTnLst>
                              <p:par>
                                <p:cTn id="5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50"/>
                            </p:stCondLst>
                            <p:childTnLst>
                              <p:par>
                                <p:cTn id="6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50"/>
                            </p:stCondLst>
                            <p:childTnLst>
                              <p:par>
                                <p:cTn id="6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900"/>
                            </p:stCondLst>
                            <p:childTnLst>
                              <p:par>
                                <p:cTn id="6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мушкетеры"/>
          <p:cNvPicPr/>
          <p:nvPr/>
        </p:nvPicPr>
        <p:blipFill>
          <a:blip r:embed="rId1"/>
          <a:stretch/>
        </p:blipFill>
        <p:spPr>
          <a:xfrm>
            <a:off x="179280" y="-458640"/>
            <a:ext cx="8748720" cy="77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мушкетеры4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SWScan00019"/>
          <p:cNvPicPr/>
          <p:nvPr/>
        </p:nvPicPr>
        <p:blipFill>
          <a:blip r:embed="rId1"/>
          <a:stretch/>
        </p:blipFill>
        <p:spPr>
          <a:xfrm>
            <a:off x="104292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 понятия «темперамент», «характ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определять тип темпера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с проявлением в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TI"/>
          <p:cNvPicPr/>
          <p:nvPr/>
        </p:nvPicPr>
        <p:blipFill>
          <a:blip r:embed="rId1"/>
          <a:stretch/>
        </p:blipFill>
        <p:spPr>
          <a:xfrm>
            <a:off x="6804000" y="52560"/>
            <a:ext cx="2340000" cy="157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9"/>
          <p:cNvPicPr/>
          <p:nvPr/>
        </p:nvPicPr>
        <p:blipFill>
          <a:blip r:embed="rId2"/>
          <a:stretch/>
        </p:blipFill>
        <p:spPr>
          <a:xfrm>
            <a:off x="1258920" y="4518000"/>
            <a:ext cx="25923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мперамент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индивидуальных особенностей личности, характеризующих динамическую и эмоциональную сторону её деятельности и 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ACTOR1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Холер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11" descr="MANH05"/>
          <p:cNvPicPr/>
          <p:nvPr/>
        </p:nvPicPr>
        <p:blipFill>
          <a:blip r:embed="rId1"/>
          <a:stretch/>
        </p:blipFill>
        <p:spPr>
          <a:xfrm>
            <a:off x="395280" y="2852640"/>
            <a:ext cx="1305000" cy="174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ANH06"/>
          <p:cNvPicPr/>
          <p:nvPr/>
        </p:nvPicPr>
        <p:blipFill>
          <a:blip r:embed="rId2"/>
          <a:stretch/>
        </p:blipFill>
        <p:spPr>
          <a:xfrm>
            <a:off x="7867800" y="5162400"/>
            <a:ext cx="1276200" cy="1695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MANH08"/>
          <p:cNvPicPr/>
          <p:nvPr/>
        </p:nvPicPr>
        <p:blipFill>
          <a:blip r:embed="rId3"/>
          <a:stretch/>
        </p:blipFill>
        <p:spPr>
          <a:xfrm>
            <a:off x="395280" y="1197000"/>
            <a:ext cx="128592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2124000" y="170028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йствия холерика обычно порывисты, он отличается повышенной возбудимостью, большой эмоциона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979640" y="350028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олерический темперамент проявляется в инициативности, энергичности,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0" y="450864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скольку потребность в общении у холериков повышена, они часто выбирают профессии, связанные с общением, — сфера обслуживания, юриспруденция, политика, администрирование. А это как раз те виды деятельности, которые требуют от человека умения эффективно общ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ангвин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5" descr="MANH01"/>
          <p:cNvPicPr/>
          <p:nvPr/>
        </p:nvPicPr>
        <p:blipFill>
          <a:blip r:embed="rId1"/>
          <a:stretch/>
        </p:blipFill>
        <p:spPr>
          <a:xfrm>
            <a:off x="539640" y="1557360"/>
            <a:ext cx="1257480" cy="1438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ANH02"/>
          <p:cNvPicPr/>
          <p:nvPr/>
        </p:nvPicPr>
        <p:blipFill>
          <a:blip r:embed="rId2"/>
          <a:stretch/>
        </p:blipFill>
        <p:spPr>
          <a:xfrm>
            <a:off x="7858080" y="3789360"/>
            <a:ext cx="128592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ANH11"/>
          <p:cNvPicPr/>
          <p:nvPr/>
        </p:nvPicPr>
        <p:blipFill>
          <a:blip r:embed="rId3"/>
          <a:stretch/>
        </p:blipFill>
        <p:spPr>
          <a:xfrm>
            <a:off x="7885080" y="5305320"/>
            <a:ext cx="1258920" cy="1552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2124000" y="184464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a606"/>
                </a:solidFill>
                <a:latin typeface="Arial"/>
              </a:rPr>
              <a:t>Сангвиник быстро приспосабливается к новым условиям, сходится с людьми, общи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332000" y="3141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a606"/>
                </a:solidFill>
                <a:latin typeface="Arial"/>
              </a:rPr>
              <a:t>Человеку с преобладанием сангвинического темперамента свойственна открытость и доступ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4724280"/>
            <a:ext cx="77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Сангвинический темперамент не накладывает никак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ограничений на выбор профе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легмат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6" descr="MANH07"/>
          <p:cNvPicPr/>
          <p:nvPr/>
        </p:nvPicPr>
        <p:blipFill>
          <a:blip r:embed="rId1"/>
          <a:stretch/>
        </p:blipFill>
        <p:spPr>
          <a:xfrm>
            <a:off x="0" y="2565360"/>
            <a:ext cx="1368360" cy="163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ANH10"/>
          <p:cNvPicPr/>
          <p:nvPr/>
        </p:nvPicPr>
        <p:blipFill>
          <a:blip r:embed="rId2"/>
          <a:stretch/>
        </p:blipFill>
        <p:spPr>
          <a:xfrm>
            <a:off x="7953480" y="5181480"/>
            <a:ext cx="1190520" cy="167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ANH01"/>
          <p:cNvPicPr/>
          <p:nvPr/>
        </p:nvPicPr>
        <p:blipFill>
          <a:blip r:embed="rId3"/>
          <a:stretch/>
        </p:blipFill>
        <p:spPr>
          <a:xfrm>
            <a:off x="0" y="1125360"/>
            <a:ext cx="1368360" cy="1438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1403280" y="112536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95e7"/>
                </a:solidFill>
                <a:latin typeface="Arial"/>
              </a:rPr>
              <a:t>Флегматик редко выходит из себя, ровен и спокоен в общении. Обычно это вдумчивый, миролюбивый, старательный и размеренный человек, но в некоторых случаях могут проявляться пассивность, вялость и безучастность к окружающему, лень и безвол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124000" y="393372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95e7"/>
                </a:solidFill>
                <a:latin typeface="Arial"/>
              </a:rPr>
              <a:t>Новые формы поведения формируются медленно, но являются стой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0" y="5013360"/>
            <a:ext cx="79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У флегматиков есть склонность к систематической работе, умение концентрироваться на поставленной задаче, вдумчивость — необходимые профессиональные качества ученого, исследовател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ланхол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6" descr="MANH03"/>
          <p:cNvPicPr/>
          <p:nvPr/>
        </p:nvPicPr>
        <p:blipFill>
          <a:blip r:embed="rId1"/>
          <a:stretch/>
        </p:blipFill>
        <p:spPr>
          <a:xfrm>
            <a:off x="7812000" y="522936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ANH04"/>
          <p:cNvPicPr/>
          <p:nvPr/>
        </p:nvPicPr>
        <p:blipFill>
          <a:blip r:embed="rId2"/>
          <a:stretch/>
        </p:blipFill>
        <p:spPr>
          <a:xfrm>
            <a:off x="7867800" y="3573360"/>
            <a:ext cx="1276200" cy="165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ANH01"/>
          <p:cNvPicPr/>
          <p:nvPr/>
        </p:nvPicPr>
        <p:blipFill>
          <a:blip r:embed="rId3"/>
          <a:stretch/>
        </p:blipFill>
        <p:spPr>
          <a:xfrm>
            <a:off x="611280" y="1557360"/>
            <a:ext cx="1257120" cy="1438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2268360" y="1557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ca8"/>
                </a:solidFill>
                <a:latin typeface="Arial"/>
              </a:rPr>
              <a:t>Меланхолики, как правило, малообщительные, тревожные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116000" y="314172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ca8"/>
                </a:solidFill>
                <a:latin typeface="Arial"/>
              </a:rPr>
              <a:t>Людей с меланхолическим типом темперамента отличает повышенная чувствительность, сдержанность и обсто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0" y="515772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 привычной и спокойной обстановке люди с таким темпераментом работают очень продукти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ип темперамента и выдающиеся исторические лич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557360"/>
          <a:ext cx="9144000" cy="4940280"/>
        </p:xfrm>
        <a:graphic>
          <a:graphicData uri="http://schemas.openxmlformats.org/drawingml/2006/table">
            <a:tbl>
              <a:tblPr/>
              <a:tblGrid>
                <a:gridCol w="2484360"/>
                <a:gridCol w="2087640"/>
                <a:gridCol w="2087640"/>
                <a:gridCol w="2484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гви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ер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егма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анхо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еон Бонапа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И. Герц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В. Сув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ел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Пав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И.Куту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А. Кры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В. Го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И.Чайков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, энергичный, жизнерадостный, легкомысленный, беззабот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энергичный, вспыльчивый, эмоциональныйнапористый, чувст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, серьезный, надежный, спокой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кнутый, ранимый, сдержанный, задумчивый, груст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арактеро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ывается индивидуальное сочетание устойчивых психических особенностей человека, которые определяют типичный для него способ поведения. Характер не приобретается по наследству, он формируется в процессе всей жизни человека под влиянием обучения и воспи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8:02:29Z</dcterms:created>
  <dc:creator>ХАЛАИМОВА</dc:creator>
  <dc:description/>
  <dc:language>en-US</dc:language>
  <cp:lastModifiedBy>дом</cp:lastModifiedBy>
  <dcterms:modified xsi:type="dcterms:W3CDTF">2012-02-13T15:57:46Z</dcterms:modified>
  <cp:revision>17</cp:revision>
  <dc:subject/>
  <dc:title>Природные свойства нервной системы.</dc:title>
</cp:coreProperties>
</file>