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35.jpeg" ContentType="image/jpeg"/>
  <Override PartName="/ppt/media/image10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DF4-9444-4EA3-99F2-3F9AF80D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F31-669E-4C8D-BC07-A5DF46FF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FC7-F027-4417-A539-89C26760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1A3-625F-4B99-8F90-C5E4A28D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5E84-E84A-4857-AE0C-6C878134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191F-F86D-43DD-A9E8-4C7A3306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5E82-0DC2-4597-89A7-5B579190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FF45-FA2C-48D1-A7B2-E2E93513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BBDF-1E1E-47FF-8FA0-70A315E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A069-1E0E-49A6-8B55-203408F0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EE79-F6F8-4504-9BA4-BCBA80CF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766-9AAC-45D4-9B46-CA5EDAB8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514C-3E78-41C8-A1D8-49657E99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BA4D-7130-468F-BC18-42B7778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41E7-CBCF-4675-A897-86E47E34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B29-5E85-4904-BF6F-94E16A62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BA5E-7947-443E-A047-2EAE6E53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EB6-DC36-43A9-88E6-4D813048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4BF-C612-4BFC-91C5-49DA971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1479-2E34-4834-8983-6BE1ACCF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03D-7880-47A4-9C8C-362C354B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F83-0292-412F-BC18-BCAFE305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CD2-D957-453C-8BAD-3087506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378-DC9D-463A-B172-615301F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5B4-2A95-4EC6-B835-8D4B7E994A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99D3-337D-42EA-B3E1-4E5AF891D6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42788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</a:rPr>
              <a:t>Природные свойства нервной систем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укнрва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987640" y="907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419640" y="33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020000" y="148428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300720" y="4941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348000" y="6021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преде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02520" y="48690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69800" y="1484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3708360" y="321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лир"/>
          <p:cNvPicPr/>
          <p:nvPr/>
        </p:nvPicPr>
        <p:blipFill>
          <a:blip r:embed="rId1"/>
          <a:stretch/>
        </p:blipFill>
        <p:spPr>
          <a:xfrm>
            <a:off x="1979640" y="3933720"/>
            <a:ext cx="2274840" cy="292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ARPENTE"/>
          <p:cNvPicPr/>
          <p:nvPr/>
        </p:nvPicPr>
        <p:blipFill>
          <a:blip r:embed="rId2"/>
          <a:stretch/>
        </p:blipFill>
        <p:spPr>
          <a:xfrm>
            <a:off x="-181080" y="620640"/>
            <a:ext cx="3237120" cy="3457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CHI_039"/>
          <p:cNvPicPr/>
          <p:nvPr/>
        </p:nvPicPr>
        <p:blipFill>
          <a:blip r:embed="rId3"/>
          <a:stretch/>
        </p:blipFill>
        <p:spPr>
          <a:xfrm>
            <a:off x="4500720" y="1052640"/>
            <a:ext cx="3779640" cy="58053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Различают 4-е группы важных свойств (черт) характера, выражающих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человека коллективу, други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самому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ff21"/>
                </a:solidFill>
                <a:latin typeface="Arial"/>
              </a:rPr>
              <a:t>Отношение к природе, вещ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UMPKIN2"/>
          <p:cNvPicPr/>
          <p:nvPr/>
        </p:nvPicPr>
        <p:blipFill>
          <a:blip r:embed="rId4"/>
          <a:stretch/>
        </p:blipFill>
        <p:spPr>
          <a:xfrm>
            <a:off x="5796000" y="3511440"/>
            <a:ext cx="3348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560" y="304920"/>
            <a:ext cx="684036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b2b2b2"/>
                </a:solidFill>
                <a:latin typeface="Arial Black"/>
              </a:rPr>
              <a:t>Они холе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1280" y="1699920"/>
            <a:ext cx="6372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643800" y="83664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воров А.В.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7020000" y="1341360"/>
            <a:ext cx="1800000" cy="223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572080" y="4357800"/>
            <a:ext cx="1873440" cy="2233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873080" cy="2233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1944720" cy="23050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4"/>
          <p:cNvSpPr/>
          <p:nvPr/>
        </p:nvSpPr>
        <p:spPr>
          <a:xfrm>
            <a:off x="395280" y="83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ётр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143680" y="3860640"/>
            <a:ext cx="26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нделеев Д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714680" y="3929040"/>
            <a:ext cx="22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ушкин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"/>
          <p:cNvPicPr/>
          <p:nvPr/>
        </p:nvPicPr>
        <p:blipFill>
          <a:blip r:embed="rId5"/>
          <a:stretch/>
        </p:blipFill>
        <p:spPr>
          <a:xfrm>
            <a:off x="3780000" y="1628640"/>
            <a:ext cx="1771560" cy="216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9"/>
          <p:cNvSpPr/>
          <p:nvPr/>
        </p:nvSpPr>
        <p:spPr>
          <a:xfrm>
            <a:off x="3643200" y="112536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авлов И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 Black"/>
              </a:rPr>
              <a:t>Они флегма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22" descr=""/>
          <p:cNvPicPr/>
          <p:nvPr/>
        </p:nvPicPr>
        <p:blipFill>
          <a:blip r:embed="rId1"/>
          <a:stretch/>
        </p:blipFill>
        <p:spPr>
          <a:xfrm>
            <a:off x="3817800" y="1920960"/>
            <a:ext cx="2097360" cy="2876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2303640" cy="2808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4" descr=""/>
          <p:cNvPicPr/>
          <p:nvPr/>
        </p:nvPicPr>
        <p:blipFill>
          <a:blip r:embed="rId3"/>
          <a:stretch/>
        </p:blipFill>
        <p:spPr>
          <a:xfrm>
            <a:off x="6372360" y="3573360"/>
            <a:ext cx="2303280" cy="2808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8"/>
          <p:cNvSpPr/>
          <p:nvPr/>
        </p:nvSpPr>
        <p:spPr>
          <a:xfrm>
            <a:off x="3780000" y="496584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утузов М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826920" y="26370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рылов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6443640" y="2852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.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490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Arial Black"/>
              </a:rPr>
              <a:t>Они сангвин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443640" y="2565360"/>
            <a:ext cx="2305080" cy="288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2376360" cy="287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304720" cy="2879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651672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напарт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6836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ерцен А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429000" y="3230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омарше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3682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cc99"/>
                </a:solidFill>
                <a:latin typeface="Arial Black"/>
              </a:rPr>
              <a:t>Они меланхол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89000"/>
            <a:ext cx="8540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6804000" y="4071960"/>
            <a:ext cx="1911240" cy="2500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1914480" cy="2378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3"/>
          <a:stretch/>
        </p:blipFill>
        <p:spPr>
          <a:xfrm>
            <a:off x="2500200" y="4143240"/>
            <a:ext cx="2016360" cy="244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4"/>
          <a:stretch/>
        </p:blipFill>
        <p:spPr>
          <a:xfrm>
            <a:off x="395280" y="1700280"/>
            <a:ext cx="1944720" cy="2376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284720" y="12682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Лермонтов М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572160" y="36450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Чайковский П.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68360" y="1197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Гоголь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2627280" y="357192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Блок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950"/>
                            </p:stCondLst>
                            <p:childTnLst>
                              <p:par>
                                <p:cTn id="5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950"/>
                            </p:stCondLst>
                            <p:childTnLst>
                              <p:par>
                                <p:cTn id="5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50"/>
                            </p:stCondLst>
                            <p:childTnLst>
                              <p:par>
                                <p:cTn id="6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50"/>
                            </p:stCondLst>
                            <p:childTnLst>
                              <p:par>
                                <p:cTn id="6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900"/>
                            </p:stCondLst>
                            <p:childTnLst>
                              <p:par>
                                <p:cTn id="6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90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мушкетеры"/>
          <p:cNvPicPr/>
          <p:nvPr/>
        </p:nvPicPr>
        <p:blipFill>
          <a:blip r:embed="rId1"/>
          <a:stretch/>
        </p:blipFill>
        <p:spPr>
          <a:xfrm>
            <a:off x="179280" y="-458640"/>
            <a:ext cx="8748720" cy="77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мушкетеры4"/>
          <p:cNvPicPr/>
          <p:nvPr/>
        </p:nvPicPr>
        <p:blipFill>
          <a:blip r:embed="rId1"/>
          <a:stretch/>
        </p:blipFill>
        <p:spPr>
          <a:xfrm>
            <a:off x="0" y="0"/>
            <a:ext cx="9144000" cy="70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WScan00019"/>
          <p:cNvPicPr/>
          <p:nvPr/>
        </p:nvPicPr>
        <p:blipFill>
          <a:blip r:embed="rId1"/>
          <a:stretch/>
        </p:blipFill>
        <p:spPr>
          <a:xfrm>
            <a:off x="104292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490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 понятия «темперамент», «характе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 определять тип темпера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комить с проявлением в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TI"/>
          <p:cNvPicPr/>
          <p:nvPr/>
        </p:nvPicPr>
        <p:blipFill>
          <a:blip r:embed="rId1"/>
          <a:stretch/>
        </p:blipFill>
        <p:spPr>
          <a:xfrm>
            <a:off x="6804000" y="52560"/>
            <a:ext cx="2340000" cy="157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9"/>
          <p:cNvPicPr/>
          <p:nvPr/>
        </p:nvPicPr>
        <p:blipFill>
          <a:blip r:embed="rId2"/>
          <a:stretch/>
        </p:blipFill>
        <p:spPr>
          <a:xfrm>
            <a:off x="1258920" y="4518000"/>
            <a:ext cx="2592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мперамент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94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ь индивидуальных особенностей личности, характеризующих динамическую и эмоциональную сторону её деятельности и 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ACTOR1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Холер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11" descr="MANH05"/>
          <p:cNvPicPr/>
          <p:nvPr/>
        </p:nvPicPr>
        <p:blipFill>
          <a:blip r:embed="rId1"/>
          <a:stretch/>
        </p:blipFill>
        <p:spPr>
          <a:xfrm>
            <a:off x="395280" y="2852640"/>
            <a:ext cx="130500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ANH06"/>
          <p:cNvPicPr/>
          <p:nvPr/>
        </p:nvPicPr>
        <p:blipFill>
          <a:blip r:embed="rId2"/>
          <a:stretch/>
        </p:blipFill>
        <p:spPr>
          <a:xfrm>
            <a:off x="7867800" y="5162400"/>
            <a:ext cx="127620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MANH08"/>
          <p:cNvPicPr/>
          <p:nvPr/>
        </p:nvPicPr>
        <p:blipFill>
          <a:blip r:embed="rId3"/>
          <a:stretch/>
        </p:blipFill>
        <p:spPr>
          <a:xfrm>
            <a:off x="395280" y="1197000"/>
            <a:ext cx="1285920" cy="1647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2124000" y="170028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йствия холерика обычно порывисты, он отличается повышенной возбудимостью, большой эмоциона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979640" y="350028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олерический темперамент проявляется в инициативности, энергичности,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450864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оскольку потребность в общении у холериков повышена, они часто выбирают профессии, связанные с общением, — сфера обслуживания, юриспруденция, политика, администрирование. А это как раз те виды деятельности, которые требуют от человека умения эффективно общ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ангвин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MANH01"/>
          <p:cNvPicPr/>
          <p:nvPr/>
        </p:nvPicPr>
        <p:blipFill>
          <a:blip r:embed="rId1"/>
          <a:stretch/>
        </p:blipFill>
        <p:spPr>
          <a:xfrm>
            <a:off x="539640" y="1557360"/>
            <a:ext cx="1257480" cy="1438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ANH02"/>
          <p:cNvPicPr/>
          <p:nvPr/>
        </p:nvPicPr>
        <p:blipFill>
          <a:blip r:embed="rId2"/>
          <a:stretch/>
        </p:blipFill>
        <p:spPr>
          <a:xfrm>
            <a:off x="7858080" y="3789360"/>
            <a:ext cx="128592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MANH11"/>
          <p:cNvPicPr/>
          <p:nvPr/>
        </p:nvPicPr>
        <p:blipFill>
          <a:blip r:embed="rId3"/>
          <a:stretch/>
        </p:blipFill>
        <p:spPr>
          <a:xfrm>
            <a:off x="7885080" y="5305320"/>
            <a:ext cx="1258920" cy="1552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2124000" y="184464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Сангвиник быстро приспосабливается к новым условиям, сходится с людьми, общи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332000" y="3141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6a606"/>
                </a:solidFill>
                <a:latin typeface="Arial"/>
              </a:rPr>
              <a:t>Человеку с преобладанием сангвинического темперамента свойственна открытость и доступ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0" y="4724280"/>
            <a:ext cx="77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Сангвинический темперамент не накладывает никак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ограничений на выбор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Флегмат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6" descr="MANH07"/>
          <p:cNvPicPr/>
          <p:nvPr/>
        </p:nvPicPr>
        <p:blipFill>
          <a:blip r:embed="rId1"/>
          <a:stretch/>
        </p:blipFill>
        <p:spPr>
          <a:xfrm>
            <a:off x="0" y="2565360"/>
            <a:ext cx="1368360" cy="1638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ANH10"/>
          <p:cNvPicPr/>
          <p:nvPr/>
        </p:nvPicPr>
        <p:blipFill>
          <a:blip r:embed="rId2"/>
          <a:stretch/>
        </p:blipFill>
        <p:spPr>
          <a:xfrm>
            <a:off x="7953480" y="5181480"/>
            <a:ext cx="119052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ANH01"/>
          <p:cNvPicPr/>
          <p:nvPr/>
        </p:nvPicPr>
        <p:blipFill>
          <a:blip r:embed="rId3"/>
          <a:stretch/>
        </p:blipFill>
        <p:spPr>
          <a:xfrm>
            <a:off x="0" y="1125360"/>
            <a:ext cx="1368360" cy="1438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1403280" y="1125360"/>
            <a:ext cx="77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Флегматик редко выходит из себя, ровен и спокоен в общении. Обычно это вдумчивый, миролюбивый, старательный и размеренный человек, но в некоторых случаях могут проявляться пассивность, вялость и безучастность к окружающему, лень и безвол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124000" y="393372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95e7"/>
                </a:solidFill>
                <a:latin typeface="Arial"/>
              </a:rPr>
              <a:t>Новые формы поведения формируются медленно, но являются стой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0" y="501336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У флегматиков есть склонность к систематической работе, умение концентрироваться на поставленной задаче, вдумчивость — необходимые профессиональные качества ученого, исследовател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ланхолический тип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6" descr="MANH03"/>
          <p:cNvPicPr/>
          <p:nvPr/>
        </p:nvPicPr>
        <p:blipFill>
          <a:blip r:embed="rId1"/>
          <a:stretch/>
        </p:blipFill>
        <p:spPr>
          <a:xfrm>
            <a:off x="7812000" y="522936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ANH04"/>
          <p:cNvPicPr/>
          <p:nvPr/>
        </p:nvPicPr>
        <p:blipFill>
          <a:blip r:embed="rId2"/>
          <a:stretch/>
        </p:blipFill>
        <p:spPr>
          <a:xfrm>
            <a:off x="7867800" y="3573360"/>
            <a:ext cx="1276200" cy="165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ANH01"/>
          <p:cNvPicPr/>
          <p:nvPr/>
        </p:nvPicPr>
        <p:blipFill>
          <a:blip r:embed="rId3"/>
          <a:stretch/>
        </p:blipFill>
        <p:spPr>
          <a:xfrm>
            <a:off x="611280" y="1557360"/>
            <a:ext cx="1257120" cy="143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2268360" y="1557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Меланхолики, как правило, малообщительные, тревожные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116000" y="314172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1ca8"/>
                </a:solidFill>
                <a:latin typeface="Arial"/>
              </a:rPr>
              <a:t>Людей с меланхолическим типом темперамента отличает повышенная чувствительность, сдержанность и обсто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0" y="515772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 привычной и спокойной обстановке люди с таким темпераментом работают очень продукти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ип темперамента и выдающиеся исторические личност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1557360"/>
          <a:ext cx="9144000" cy="494028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087640"/>
                <a:gridCol w="2484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гви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ер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ег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анхол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Бонапа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И. Герц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В. Суво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С. Пушк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П.Пав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И.Куту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А. Крыл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В. Гог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.И.Чайков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ый, энергичный, жизнерадостный, легкомысленный, беззаботн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энергичный, вспыльчивый, эмоциональныйнапористый, чувст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, серьезный, надежный, спокой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кнутый, ранимый, сдержанный, задумчивый, груст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Характером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зывается индивидуальное сочетание устойчивых психических особенностей человека, которые определяют типичный для него способ поведения. Характер не приобретается по наследству, он формируется в процессе всей жизни человека под влиянием обучения и воспи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02:29Z</dcterms:created>
  <dc:creator>ХАЛАИМОВА</dc:creator>
  <dc:description/>
  <dc:language>en-US</dc:language>
  <cp:lastModifiedBy>дом</cp:lastModifiedBy>
  <dcterms:modified xsi:type="dcterms:W3CDTF">2012-02-13T15:57:46Z</dcterms:modified>
  <cp:revision>17</cp:revision>
  <dc:subject/>
  <dc:title>Природные свойства нервной системы.</dc:title>
</cp:coreProperties>
</file>