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028-38E2-4CDF-8572-9B1E078C1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CD1-712A-4FE3-99B2-95830441B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73F-C4E2-4F71-9D90-5E7AAD66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0C3-62D5-4FD1-B9F0-BF9C703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EA5-43E8-466A-BEE6-94E09EC1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F75-4467-46B2-9225-3886F3E6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32AB-2B43-42A6-9256-8792D034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A469-4912-415F-88B2-0EA63776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9C31-A658-4A9A-B954-066EFE40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40D9-965F-4D5B-96C0-FB4A3B6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E5E9-24E0-4431-B05C-D66464AD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CED7-47B4-4E82-99F6-6DCDAB71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95D-15A9-438F-9495-D4EF138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39A-ED11-4E39-AC96-AE8C36D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04E2-C6AD-4439-A916-9332997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EC7-9157-4C1A-8D3A-D5A39F6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3D47-7971-469B-8094-AE4F799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92AB-931E-4F0D-8466-BE47C877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E15-7125-4E10-8CB7-C83064EA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BB4-EA7E-4717-B4F8-D253A66A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315-EF3C-4F02-A2B4-156D61ED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145-D21B-40B3-8E45-2C19659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471-7E81-4CDA-9F48-7E462E47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4BA-3D0A-4B64-BA12-A90B31D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FE2-6AEE-4B57-826F-3E0BB08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B1E-EB7F-45AC-A33A-B6B9982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F72-338D-46B7-A1F9-824FFDD060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4A84-798B-4AC0-82D2-03A4A6F2B0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irdina@inecon.ru" TargetMode="External"/><Relationship Id="rId2" Type="http://schemas.openxmlformats.org/officeDocument/2006/relationships/hyperlink" Target="mailto:kirdina@inecon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7892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b7"/>
                </a:solidFill>
                <a:latin typeface="Arial"/>
              </a:rPr>
              <a:t>Институциональная самоорганизация экономики: теория и моделировани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842000"/>
            <a:ext cx="7129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 молодых исследователей эволюционной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Волгоград, 15-20 сентября 2008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номические институ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268280"/>
          <a:ext cx="8435880" cy="5583240"/>
        </p:xfrm>
        <a:graphic>
          <a:graphicData uri="http://schemas.openxmlformats.org/drawingml/2006/table">
            <a:tbl>
              <a:tblPr/>
              <a:tblGrid>
                <a:gridCol w="4546440"/>
                <a:gridCol w="38894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-эконом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эконом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ховная условная соб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 соб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истрибуция (аккумуляция-согласование-распределение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мен (купля-продажа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опера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жебный тру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емный тру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ие издерже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-эффективность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ание прибы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эффективность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B2B-75AF-4678-9242-013C6331A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"/>
              </a:rPr>
              <a:t>Спасибо за внимани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ww.kirdina.r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FDA-D38C-4BBE-92F5-C91A82C23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Отрасли убывающей отдачи – устойчивое рыночное равновес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287800" y="2676600"/>
            <a:ext cx="4725000" cy="2972160"/>
            <a:chOff x="2287800" y="2676600"/>
            <a:chExt cx="4725000" cy="2972160"/>
          </a:xfrm>
        </p:grpSpPr>
        <p:sp>
          <p:nvSpPr>
            <p:cNvPr id="181" name=""/>
            <p:cNvSpPr/>
            <p:nvPr/>
          </p:nvSpPr>
          <p:spPr>
            <a:xfrm>
              <a:off x="4293000" y="5143680"/>
              <a:ext cx="43020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440" y="5142600"/>
              <a:ext cx="4294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287800" y="2676600"/>
              <a:ext cx="720" cy="246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87800" y="5142240"/>
              <a:ext cx="39654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7120" y="4834800"/>
              <a:ext cx="715680" cy="427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7800" y="4746240"/>
              <a:ext cx="2974320" cy="902520"/>
            </a:xfrm>
            <a:custGeom>
              <a:avLst/>
              <a:gdLst/>
              <a:ahLst/>
              <a:rect l="l" t="t" r="r" b="b"/>
              <a:pathLst>
                <a:path w="3471" h="1054">
                  <a:moveTo>
                    <a:pt x="0" y="463"/>
                  </a:moveTo>
                  <a:cubicBezTo>
                    <a:pt x="136" y="397"/>
                    <a:pt x="545" y="128"/>
                    <a:pt x="816" y="64"/>
                  </a:cubicBezTo>
                  <a:cubicBezTo>
                    <a:pt x="1087" y="0"/>
                    <a:pt x="1343" y="11"/>
                    <a:pt x="1626" y="79"/>
                  </a:cubicBezTo>
                  <a:cubicBezTo>
                    <a:pt x="1909" y="147"/>
                    <a:pt x="2210" y="308"/>
                    <a:pt x="2517" y="470"/>
                  </a:cubicBezTo>
                  <a:cubicBezTo>
                    <a:pt x="2824" y="632"/>
                    <a:pt x="3272" y="932"/>
                    <a:pt x="3471" y="1054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1520" y="2676960"/>
              <a:ext cx="1080720" cy="462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7080" y="2676960"/>
              <a:ext cx="720" cy="2465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7440" y="5297400"/>
              <a:ext cx="925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01880" y="5297400"/>
              <a:ext cx="92448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59280" y="3601440"/>
              <a:ext cx="617040" cy="606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0400" y="3601440"/>
              <a:ext cx="616320" cy="606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A83-C20A-48E0-9E3E-BC3D502570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Отрасли возрастающей отдачи – неустойчивое равновес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7720" y="2603160"/>
            <a:ext cx="80074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855160" y="3670200"/>
            <a:ext cx="3502080" cy="2171520"/>
            <a:chOff x="2855160" y="3670200"/>
            <a:chExt cx="3502080" cy="2171520"/>
          </a:xfrm>
        </p:grpSpPr>
        <p:sp>
          <p:nvSpPr>
            <p:cNvPr id="197" name=""/>
            <p:cNvSpPr/>
            <p:nvPr/>
          </p:nvSpPr>
          <p:spPr>
            <a:xfrm>
              <a:off x="4309200" y="5523840"/>
              <a:ext cx="318960" cy="317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855160" y="3784320"/>
              <a:ext cx="360" cy="171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855520" y="5498640"/>
              <a:ext cx="29390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6960" y="5270400"/>
              <a:ext cx="530280" cy="317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55520" y="4928040"/>
              <a:ext cx="2151360" cy="866520"/>
            </a:xfrm>
            <a:custGeom>
              <a:avLst/>
              <a:gdLst/>
              <a:ahLst/>
              <a:rect l="l" t="t" r="r" b="b"/>
              <a:pathLst>
                <a:path w="3387" h="1365">
                  <a:moveTo>
                    <a:pt x="0" y="901"/>
                  </a:moveTo>
                  <a:cubicBezTo>
                    <a:pt x="150" y="963"/>
                    <a:pt x="620" y="1208"/>
                    <a:pt x="897" y="1275"/>
                  </a:cubicBezTo>
                  <a:cubicBezTo>
                    <a:pt x="1174" y="1342"/>
                    <a:pt x="1392" y="1365"/>
                    <a:pt x="1662" y="1305"/>
                  </a:cubicBezTo>
                  <a:cubicBezTo>
                    <a:pt x="1932" y="1245"/>
                    <a:pt x="2230" y="1135"/>
                    <a:pt x="2517" y="917"/>
                  </a:cubicBezTo>
                  <a:cubicBezTo>
                    <a:pt x="2804" y="699"/>
                    <a:pt x="3206" y="191"/>
                    <a:pt x="338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3670200"/>
              <a:ext cx="914400" cy="34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5720" y="3670200"/>
              <a:ext cx="360" cy="182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5800" y="5613840"/>
              <a:ext cx="685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0560" y="5613840"/>
              <a:ext cx="6850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7200" y="4356000"/>
              <a:ext cx="457920" cy="448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7760" y="4356000"/>
              <a:ext cx="456480" cy="449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B61-4F10-4EEE-B83F-5A2CB2669E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Стабилизация экономики отрасленй возрастающей отдачи при фиксированных ценах и зарплат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9640" y="5949720"/>
            <a:ext cx="7797960" cy="1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57160" y="2120760"/>
            <a:ext cx="3772800" cy="3108600"/>
            <a:chOff x="2657160" y="2120760"/>
            <a:chExt cx="3772800" cy="3108600"/>
          </a:xfrm>
        </p:grpSpPr>
        <p:sp>
          <p:nvSpPr>
            <p:cNvPr id="212" name=""/>
            <p:cNvSpPr/>
            <p:nvPr/>
          </p:nvSpPr>
          <p:spPr>
            <a:xfrm flipH="1" flipV="1">
              <a:off x="2657160" y="2196000"/>
              <a:ext cx="720" cy="255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57160" y="4749480"/>
              <a:ext cx="3166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8640" y="4431240"/>
              <a:ext cx="571320" cy="443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7160" y="3905280"/>
              <a:ext cx="2471760" cy="1178640"/>
            </a:xfrm>
            <a:custGeom>
              <a:avLst/>
              <a:gdLst/>
              <a:ahLst/>
              <a:rect l="l" t="t" r="r" b="b"/>
              <a:pathLst>
                <a:path w="3612" h="1329">
                  <a:moveTo>
                    <a:pt x="0" y="953"/>
                  </a:moveTo>
                  <a:cubicBezTo>
                    <a:pt x="147" y="1007"/>
                    <a:pt x="605" y="1221"/>
                    <a:pt x="882" y="1275"/>
                  </a:cubicBezTo>
                  <a:cubicBezTo>
                    <a:pt x="1159" y="1329"/>
                    <a:pt x="1389" y="1328"/>
                    <a:pt x="1662" y="1275"/>
                  </a:cubicBezTo>
                  <a:cubicBezTo>
                    <a:pt x="1935" y="1222"/>
                    <a:pt x="2192" y="1172"/>
                    <a:pt x="2517" y="960"/>
                  </a:cubicBezTo>
                  <a:cubicBezTo>
                    <a:pt x="2842" y="748"/>
                    <a:pt x="3384" y="200"/>
                    <a:pt x="3612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0280" y="3951720"/>
              <a:ext cx="493560" cy="48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1200" y="2675160"/>
              <a:ext cx="720" cy="239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96240" y="2834640"/>
              <a:ext cx="494280" cy="626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7520" y="2834640"/>
              <a:ext cx="492120" cy="627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7160" y="3625560"/>
              <a:ext cx="1947600" cy="1284480"/>
            </a:xfrm>
            <a:custGeom>
              <a:avLst/>
              <a:gdLst/>
              <a:ahLst/>
              <a:rect l="l" t="t" r="r" b="b"/>
              <a:pathLst>
                <a:path w="2847" h="1449">
                  <a:moveTo>
                    <a:pt x="0" y="1268"/>
                  </a:moveTo>
                  <a:cubicBezTo>
                    <a:pt x="149" y="1294"/>
                    <a:pt x="670" y="1401"/>
                    <a:pt x="897" y="1425"/>
                  </a:cubicBezTo>
                  <a:cubicBezTo>
                    <a:pt x="1124" y="1449"/>
                    <a:pt x="1212" y="1437"/>
                    <a:pt x="1362" y="1410"/>
                  </a:cubicBezTo>
                  <a:cubicBezTo>
                    <a:pt x="1512" y="1383"/>
                    <a:pt x="1652" y="1352"/>
                    <a:pt x="1797" y="1260"/>
                  </a:cubicBezTo>
                  <a:cubicBezTo>
                    <a:pt x="1942" y="1168"/>
                    <a:pt x="2057" y="1065"/>
                    <a:pt x="2232" y="855"/>
                  </a:cubicBezTo>
                  <a:cubicBezTo>
                    <a:pt x="2407" y="645"/>
                    <a:pt x="2719" y="178"/>
                    <a:pt x="284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9080" y="4111200"/>
              <a:ext cx="720" cy="11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05040" y="3312720"/>
              <a:ext cx="492120" cy="48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'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9360" y="4271400"/>
              <a:ext cx="344160" cy="443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0800" y="4785120"/>
              <a:ext cx="343440" cy="444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4120" y="2120760"/>
              <a:ext cx="984960" cy="480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D41-C98B-4A95-97A6-14F8A5D17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99ff66"/>
                </a:solidFill>
                <a:latin typeface="Arial"/>
              </a:rPr>
              <a:t>ww</a:t>
            </a:r>
            <a:r>
              <a:rPr b="0" lang="en-US" sz="3600" spc="-1" strike="noStrike">
                <a:solidFill>
                  <a:srgbClr val="99ff66"/>
                </a:solidFill>
                <a:latin typeface="Arial"/>
              </a:rPr>
              <a:t>w</a:t>
            </a:r>
            <a:r>
              <a:rPr b="0" lang="ru-RU" sz="3600" spc="-1" strike="noStrike">
                <a:solidFill>
                  <a:srgbClr val="99ff66"/>
                </a:solidFill>
                <a:latin typeface="Arial"/>
              </a:rPr>
              <a:t>.kirdina.ru</a:t>
            </a:r>
            <a:br>
              <a:rPr sz="3600"/>
            </a:b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kirdina@in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con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B93-05A4-4F65-860A-276247D9B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ля чего и с помощью чего  изучать экономику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AAE-EA9E-4176-9C06-EB577C9DC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деи самоорганизации -  новая «эпистема эпох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пистема - общая,  характерная для конкретного исторического периода система мышления, научного теоретизирования   (Фуко, 200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ние сложности и неравновесности мира, понимание несводимости микро- и макроуровней, нелинейности протекающих процессов вызывает появление принципиально новых теорий. Они «декларируют и изучают нелинейную социокультурную динамику, процессы самоорганизации  социума, обеспечивающие возникновение порядка из хаоса» (Кравченко, 2007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40D-0593-49BE-B547-31CD52D93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О теори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существует только в наших умах и не имеет иной реальности. Любая теория хороша, если она удовлетворяет двум требованиям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чно описывает большой класс наблюдений на основе модели, содержащей всего несколько произвольных эле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делать точные предсказания о результатах будущих наблюдений» (Хокинг,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20A-1710-4335-982D-22749AD563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Экономика как структура институ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а понимается  как  самоорганизующаяся  структура, целью которой является воспроизводство  социальной  жизни в природном окружении.  Поскольку экономика представляет собой систему с участием человека, т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ханизм ее самоорганизации отражается в структуре институтов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 есть в исторически формирующихся устойчивых  правилах социальных взаимодействий хозяйствующих субъе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6EC-4E39-4579-8787-83B9ED2084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В точке равновесия  суммарный эффект для производителя и потребителя максимален (случай отраслей   с убывающей отдачей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2440440" y="-98640"/>
            <a:ext cx="12549960" cy="6058080"/>
            <a:chOff x="-2440440" y="-98640"/>
            <a:chExt cx="12549960" cy="6058080"/>
          </a:xfrm>
        </p:grpSpPr>
        <p:sp>
          <p:nvSpPr>
            <p:cNvPr id="117" name=""/>
            <p:cNvSpPr txBox="1"/>
            <p:nvPr/>
          </p:nvSpPr>
          <p:spPr>
            <a:xfrm>
              <a:off x="1332000" y="1844640"/>
              <a:ext cx="64008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904040" y="2187000"/>
              <a:ext cx="720" cy="331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4040" y="5502240"/>
              <a:ext cx="537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-2440080" y="-99000"/>
              <a:ext cx="8458560" cy="525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28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2894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902600" y="15480"/>
              <a:ext cx="8206560" cy="457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03" y="46"/>
                  </a:moveTo>
                  <a:arcTo wR="10800" hR="10800" stAng="-5717770" swAng="5717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03" y="46"/>
                  </a:moveTo>
                  <a:arcTo wR="10800" hR="10800" stAng="-5717770" swAng="571777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6520" y="4473360"/>
              <a:ext cx="720" cy="1028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902600" y="4473360"/>
              <a:ext cx="2743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2960" y="4587840"/>
              <a:ext cx="2514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2960" y="4701960"/>
              <a:ext cx="228600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2960" y="48164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2960" y="4930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2960" y="50450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7920" y="4587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89320" y="47019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81644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3520" y="49305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31840" y="5045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588760" y="515916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0880" y="51591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1920" y="51591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0800" y="5045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2960" y="3673440"/>
              <a:ext cx="799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3240" y="3673440"/>
              <a:ext cx="0" cy="182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902960" y="4587840"/>
              <a:ext cx="411480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46800" y="3902040"/>
              <a:ext cx="720" cy="159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E50-5D58-41BA-9053-841B7932D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Тезис в отношении отраслей с убывающей отдаче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ий агент «имеет в виду лишь свой собственный интерес… Преследуя свой собственный интерес, он часто более действенным образом служит интересам общества, чем тогда, когда сознательно стремится к этому» (Смит, 1776). Этот справедливый тезис (для таких отраслей) определил основное направление развития экономической теории до настоящего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CBD-D2B8-460D-B887-A0447B48C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В точке равновесия  суммарный эффект для производителя и потребителя немаксимален (случай отраслей   с возрастающей отдачей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27040" y="-2672640"/>
            <a:ext cx="9467280" cy="8445960"/>
            <a:chOff x="1427040" y="-2672640"/>
            <a:chExt cx="9467280" cy="8445960"/>
          </a:xfrm>
        </p:grpSpPr>
        <p:sp>
          <p:nvSpPr>
            <p:cNvPr id="146" name=""/>
            <p:cNvSpPr/>
            <p:nvPr/>
          </p:nvSpPr>
          <p:spPr>
            <a:xfrm flipH="1" flipV="1">
              <a:off x="1974240" y="1311120"/>
              <a:ext cx="720" cy="445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5320" y="5769000"/>
              <a:ext cx="5371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 rot="21053400">
              <a:off x="1808280" y="-341280"/>
              <a:ext cx="8371440" cy="548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03" y="46"/>
                  </a:moveTo>
                  <a:arcTo wR="10800" hR="10800" stAng="-5717770" swAng="5065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03" y="46"/>
                  </a:moveTo>
                  <a:arcTo wR="10800" hR="10800" stAng="-5717770" swAng="506511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0800" y="5197320"/>
              <a:ext cx="720" cy="57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4240" y="5197320"/>
              <a:ext cx="365688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 rot="21352200">
              <a:off x="1946880" y="-2368800"/>
              <a:ext cx="8686080" cy="75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65" y="50"/>
                  </a:moveTo>
                  <a:arcTo wR="10800" hR="10800" stAng="-5729979" swAng="5729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65" y="50"/>
                  </a:moveTo>
                  <a:arcTo wR="10800" hR="10800" stAng="-5729979" swAng="5729979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88920" y="4511520"/>
              <a:ext cx="0" cy="1257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74240" y="4511520"/>
              <a:ext cx="1714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03320" y="4968720"/>
              <a:ext cx="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88920" y="4626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88920" y="4740120"/>
              <a:ext cx="45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8920" y="4854600"/>
              <a:ext cx="685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8920" y="49687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03400" y="4511160"/>
              <a:ext cx="7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917520" y="4625640"/>
              <a:ext cx="720" cy="57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032000" y="4625640"/>
              <a:ext cx="720" cy="57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6480" y="4739760"/>
              <a:ext cx="72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260960" y="4739760"/>
              <a:ext cx="72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37436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8884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60332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17440" y="496836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31920" y="496836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8920" y="5083200"/>
              <a:ext cx="14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946400" y="496872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60880" y="5083200"/>
              <a:ext cx="72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B26-9437-44BC-99CD-B420FA2B9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Тезис в отношении  отраслей с убывающей отдач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мление таких отраслей стать прибыльными  «ввергает партнеров в гораздо большие расходы, так что все вместе больше теряют, чем выигрывают» (Богачев, 1993). И рыночное равновесие, и стремление производителя к прибыли  означают общественные пот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232-7D44-4150-AC5D-3DFCC7035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9:03:25Z</dcterms:created>
  <dc:creator>kirdina</dc:creator>
  <dc:description/>
  <dc:language>en-US</dc:language>
  <cp:lastModifiedBy>kirdina</cp:lastModifiedBy>
  <dcterms:modified xsi:type="dcterms:W3CDTF">2008-08-19T07:46:44Z</dcterms:modified>
  <cp:revision>25</cp:revision>
  <dc:subject/>
  <dc:title>Институциональные матрицы и развитие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