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4AEF7-DD69-41A9-ACDC-6C45FFC3859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6B3E8-B04A-44CA-8ED8-492D8E225D8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9257-C5A3-4CE9-85ED-D6E767A0C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688A-88C9-4D4D-9D52-D6E4ECC04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3613-4767-4EEC-A20E-FDA64E90D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EF02-76FD-4750-89B9-D5238F974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90265-F4B3-44B7-8AC7-960679D8B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76C3B-75BF-47F9-AE9D-9DC14DF28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E0580-148A-4384-8656-B98A03AFA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7A277-B840-4FF3-A80A-974FDA796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67D95-B9C9-46E6-A0AB-2D7B90299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9B4DC-86CF-4FC3-8547-EBF0EAC7C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3C825-80E5-4927-A06C-892C75AC5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D158-3BB8-4CD8-8B48-67EDC17D7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7086C-4DA0-453F-97A1-8774FDD2F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15CCE-F71C-403C-8F86-967AA5B5A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24C34-6682-41B8-9810-EF64A3C99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E3C10-17DB-4F97-9981-990025175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9FF4E-C0DE-4EAE-9536-6E8BB8C88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2D98-F730-4441-A9B6-0325F8DF8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2594-55CB-41E8-B707-5DA57F1BC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1216-953D-441E-B39A-1BD95BE2B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5FCF-70AC-4E9E-9AD2-BDF5E9365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4079-4A42-4995-9C51-8D888226C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BE78-867C-4E43-9873-7927995EA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79D7-9A62-4545-A3F1-0CF2D932A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47DC9-AC75-4147-B061-DDFFC0339E9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9A7A5-2A19-4CF9-82FF-DD21BEA40F3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0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mailto:kirdina@inecon.ru" TargetMode="External"/><Relationship Id="rId2" Type="http://schemas.openxmlformats.org/officeDocument/2006/relationships/hyperlink" Target="mailto:kirdina@inecon.ru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4920" y="981000"/>
            <a:ext cx="8278920" cy="23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b7"/>
                </a:solidFill>
                <a:latin typeface="Arial"/>
              </a:rPr>
              <a:t>Институциональная самоорганизация экономики: теория и моделирование</a:t>
            </a:r>
            <a:endParaRPr b="1" lang="en-US" sz="4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71640" y="4842000"/>
            <a:ext cx="712944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Школа молодых исследователей эволюционной экономи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. Волгоград, 15-20 сентября 2008 г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Экономические институт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457200" y="1268280"/>
          <a:ext cx="8435880" cy="5583240"/>
        </p:xfrm>
        <a:graphic>
          <a:graphicData uri="http://schemas.openxmlformats.org/drawingml/2006/table">
            <a:tbl>
              <a:tblPr/>
              <a:tblGrid>
                <a:gridCol w="4546440"/>
                <a:gridCol w="3889440"/>
              </a:tblGrid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-экономик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экономик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ерховная условная собственность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астная собственность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едистрибуция (аккумуляция-согласование-распределение)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мен (купля-продажа)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операция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нкуренция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лужебный труд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емный труд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граничение издержек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Х-эффективность)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озрастание прибыл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эффективность)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ирдина С.Г., 22.05.20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35E3-E87C-4847-BDA8-469423B1B61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b7"/>
                </a:solidFill>
                <a:latin typeface="Arial"/>
              </a:rPr>
              <a:t>Спасибо за внимание</a:t>
            </a:r>
            <a:endParaRPr b="1" lang="en-US" sz="6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www.kirdina.ru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ирдина С.Г., 22.05.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E8BC-7391-4711-B1CF-B8534E165A7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b7"/>
                </a:solidFill>
                <a:latin typeface="Arial"/>
              </a:rPr>
              <a:t>Отрасли убывающей отдачи – устойчивое рыночное равновесие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837720" y="1904760"/>
            <a:ext cx="8007480" cy="4190760"/>
          </a:xfrm>
          <a:prstGeom prst="rect">
            <a:avLst/>
          </a:prstGeom>
          <a:ln w="0">
            <a:noFill/>
          </a:ln>
        </p:spPr>
      </p:pic>
      <p:grpSp>
        <p:nvGrpSpPr>
          <p:cNvPr id="180" name=""/>
          <p:cNvGrpSpPr/>
          <p:nvPr/>
        </p:nvGrpSpPr>
        <p:grpSpPr>
          <a:xfrm>
            <a:off x="2287800" y="2676600"/>
            <a:ext cx="4725000" cy="2972160"/>
            <a:chOff x="2287800" y="2676600"/>
            <a:chExt cx="4725000" cy="2972160"/>
          </a:xfrm>
        </p:grpSpPr>
        <p:sp>
          <p:nvSpPr>
            <p:cNvPr id="181" name=""/>
            <p:cNvSpPr/>
            <p:nvPr/>
          </p:nvSpPr>
          <p:spPr>
            <a:xfrm>
              <a:off x="4293000" y="5143680"/>
              <a:ext cx="430200" cy="428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4960" rIns="8496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8000"/>
                  </a:solidFill>
                  <a:latin typeface="Arial"/>
                </a:rPr>
                <a:t>А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222440" y="5142600"/>
              <a:ext cx="429480" cy="428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4960" rIns="8496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8000"/>
                  </a:solidFill>
                  <a:latin typeface="Arial"/>
                </a:rPr>
                <a:t>А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 flipV="1">
              <a:off x="2287800" y="2676600"/>
              <a:ext cx="720" cy="2465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2287800" y="5142240"/>
              <a:ext cx="396540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297120" y="4834800"/>
              <a:ext cx="715680" cy="42768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4960" rIns="8496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8000"/>
                  </a:solidFill>
                  <a:latin typeface="Arial"/>
                </a:rPr>
                <a:t>U</a:t>
              </a:r>
              <a:r>
                <a:rPr b="0" i="1" lang="ru-RU" sz="1200" spc="-1" strike="noStrike" baseline="-25000">
                  <a:solidFill>
                    <a:srgbClr val="008000"/>
                  </a:solidFill>
                  <a:latin typeface="Arial"/>
                </a:rPr>
                <a:t>1</a:t>
              </a:r>
              <a:r>
                <a:rPr b="0" i="1" lang="en-US" sz="1200" spc="-1" strike="noStrike">
                  <a:solidFill>
                    <a:srgbClr val="008000"/>
                  </a:solidFill>
                  <a:latin typeface="Arial"/>
                </a:rPr>
                <a:t>/p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287800" y="4746240"/>
              <a:ext cx="2974320" cy="902520"/>
            </a:xfrm>
            <a:custGeom>
              <a:avLst/>
              <a:gdLst/>
              <a:ahLst/>
              <a:rect l="l" t="t" r="r" b="b"/>
              <a:pathLst>
                <a:path w="3471" h="1054">
                  <a:moveTo>
                    <a:pt x="0" y="463"/>
                  </a:moveTo>
                  <a:cubicBezTo>
                    <a:pt x="136" y="397"/>
                    <a:pt x="545" y="128"/>
                    <a:pt x="816" y="64"/>
                  </a:cubicBezTo>
                  <a:cubicBezTo>
                    <a:pt x="1087" y="0"/>
                    <a:pt x="1343" y="11"/>
                    <a:pt x="1626" y="79"/>
                  </a:cubicBezTo>
                  <a:cubicBezTo>
                    <a:pt x="1909" y="147"/>
                    <a:pt x="2210" y="308"/>
                    <a:pt x="2517" y="470"/>
                  </a:cubicBezTo>
                  <a:cubicBezTo>
                    <a:pt x="2824" y="632"/>
                    <a:pt x="3272" y="932"/>
                    <a:pt x="3471" y="1054"/>
                  </a:cubicBezTo>
                </a:path>
              </a:pathLst>
            </a:custGeom>
            <a:noFill/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441520" y="2676960"/>
              <a:ext cx="1080720" cy="46260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8000"/>
                  </a:solidFill>
                  <a:latin typeface="Arial"/>
                </a:rPr>
                <a:t>dU</a:t>
              </a:r>
              <a:r>
                <a:rPr b="0" i="1" lang="ru-RU" sz="1200" spc="-1" strike="noStrike" baseline="-25000">
                  <a:solidFill>
                    <a:srgbClr val="008000"/>
                  </a:solidFill>
                  <a:latin typeface="Arial"/>
                </a:rPr>
                <a:t>1</a:t>
              </a:r>
              <a:r>
                <a:rPr b="0" i="1" lang="en-US" sz="1200" spc="-1" strike="noStrike">
                  <a:solidFill>
                    <a:srgbClr val="008000"/>
                  </a:solidFill>
                  <a:latin typeface="Arial"/>
                </a:rPr>
                <a:t>/d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447080" y="2676960"/>
              <a:ext cx="720" cy="24656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367440" y="5297400"/>
              <a:ext cx="9252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601880" y="5297400"/>
              <a:ext cx="924480" cy="72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059280" y="3601440"/>
              <a:ext cx="617040" cy="60660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0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910400" y="3601440"/>
              <a:ext cx="616320" cy="60660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000"/>
                  </a:solidFill>
                  <a:latin typeface="Arial"/>
                </a:rPr>
                <a:t>I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ирдина С.Г., 22.05.20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3AA3-A8BA-4C8B-B624-376C023CE9A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Arial"/>
              </a:rPr>
              <a:t>Отрасли возрастающей отдачи – неустойчивое равновесие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837720" y="2603160"/>
            <a:ext cx="8007480" cy="3492360"/>
          </a:xfrm>
          <a:prstGeom prst="rect">
            <a:avLst/>
          </a:prstGeom>
          <a:ln w="0">
            <a:noFill/>
          </a:ln>
        </p:spPr>
      </p:pic>
      <p:grpSp>
        <p:nvGrpSpPr>
          <p:cNvPr id="196" name=""/>
          <p:cNvGrpSpPr/>
          <p:nvPr/>
        </p:nvGrpSpPr>
        <p:grpSpPr>
          <a:xfrm>
            <a:off x="2855160" y="3670200"/>
            <a:ext cx="3502080" cy="2171520"/>
            <a:chOff x="2855160" y="3670200"/>
            <a:chExt cx="3502080" cy="2171520"/>
          </a:xfrm>
        </p:grpSpPr>
        <p:sp>
          <p:nvSpPr>
            <p:cNvPr id="197" name=""/>
            <p:cNvSpPr/>
            <p:nvPr/>
          </p:nvSpPr>
          <p:spPr>
            <a:xfrm>
              <a:off x="4309200" y="5523840"/>
              <a:ext cx="318960" cy="31788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4960" rIns="8496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А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 flipV="1">
              <a:off x="2855160" y="3784320"/>
              <a:ext cx="360" cy="1714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2855520" y="5498640"/>
              <a:ext cx="2939040" cy="1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826960" y="5270400"/>
              <a:ext cx="530280" cy="31716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4960" rIns="8496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i="1" lang="ru-RU" sz="12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/p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855520" y="4928040"/>
              <a:ext cx="2151360" cy="866520"/>
            </a:xfrm>
            <a:custGeom>
              <a:avLst/>
              <a:gdLst/>
              <a:ahLst/>
              <a:rect l="l" t="t" r="r" b="b"/>
              <a:pathLst>
                <a:path w="3387" h="1365">
                  <a:moveTo>
                    <a:pt x="0" y="901"/>
                  </a:moveTo>
                  <a:cubicBezTo>
                    <a:pt x="150" y="963"/>
                    <a:pt x="620" y="1208"/>
                    <a:pt x="897" y="1275"/>
                  </a:cubicBezTo>
                  <a:cubicBezTo>
                    <a:pt x="1174" y="1342"/>
                    <a:pt x="1392" y="1365"/>
                    <a:pt x="1662" y="1305"/>
                  </a:cubicBezTo>
                  <a:cubicBezTo>
                    <a:pt x="1932" y="1245"/>
                    <a:pt x="2230" y="1135"/>
                    <a:pt x="2517" y="917"/>
                  </a:cubicBezTo>
                  <a:cubicBezTo>
                    <a:pt x="2804" y="699"/>
                    <a:pt x="3206" y="191"/>
                    <a:pt x="3387" y="0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084480" y="3670200"/>
              <a:ext cx="914400" cy="3430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dU</a:t>
              </a:r>
              <a:r>
                <a:rPr b="0" i="1" lang="ru-RU" sz="12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/d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455720" y="3670200"/>
              <a:ext cx="360" cy="1828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655800" y="5613840"/>
              <a:ext cx="6858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570560" y="5613840"/>
              <a:ext cx="685080" cy="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427200" y="4356000"/>
              <a:ext cx="457920" cy="44892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027760" y="4356000"/>
              <a:ext cx="456480" cy="4496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I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ирдина С.Г., 22.05.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BABC-ED43-40B2-84DD-BF132F52BED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b7"/>
                </a:solidFill>
                <a:latin typeface="Arial"/>
              </a:rPr>
              <a:t>Стабилизация экономики отрасленй возрастающей отдачи при фиксированных ценах и зарплате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837720" y="1904760"/>
            <a:ext cx="8007480" cy="201924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99640" y="5949720"/>
            <a:ext cx="7797960" cy="1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2657160" y="2120760"/>
            <a:ext cx="3772800" cy="3108600"/>
            <a:chOff x="2657160" y="2120760"/>
            <a:chExt cx="3772800" cy="3108600"/>
          </a:xfrm>
        </p:grpSpPr>
        <p:sp>
          <p:nvSpPr>
            <p:cNvPr id="212" name=""/>
            <p:cNvSpPr/>
            <p:nvPr/>
          </p:nvSpPr>
          <p:spPr>
            <a:xfrm flipH="1" flipV="1">
              <a:off x="2657160" y="2196000"/>
              <a:ext cx="720" cy="2553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 flipV="1">
              <a:off x="2657160" y="4749480"/>
              <a:ext cx="316620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858640" y="4431240"/>
              <a:ext cx="571320" cy="44316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4960" rIns="8496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i="1" lang="ru-RU" sz="12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/p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657160" y="3905280"/>
              <a:ext cx="2471760" cy="1178640"/>
            </a:xfrm>
            <a:custGeom>
              <a:avLst/>
              <a:gdLst/>
              <a:ahLst/>
              <a:rect l="l" t="t" r="r" b="b"/>
              <a:pathLst>
                <a:path w="3612" h="1329">
                  <a:moveTo>
                    <a:pt x="0" y="953"/>
                  </a:moveTo>
                  <a:cubicBezTo>
                    <a:pt x="147" y="1007"/>
                    <a:pt x="605" y="1221"/>
                    <a:pt x="882" y="1275"/>
                  </a:cubicBezTo>
                  <a:cubicBezTo>
                    <a:pt x="1159" y="1329"/>
                    <a:pt x="1389" y="1328"/>
                    <a:pt x="1662" y="1275"/>
                  </a:cubicBezTo>
                  <a:cubicBezTo>
                    <a:pt x="1935" y="1222"/>
                    <a:pt x="2192" y="1172"/>
                    <a:pt x="2517" y="960"/>
                  </a:cubicBezTo>
                  <a:cubicBezTo>
                    <a:pt x="2842" y="748"/>
                    <a:pt x="3384" y="200"/>
                    <a:pt x="3612" y="0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120280" y="3951720"/>
              <a:ext cx="493560" cy="4809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381200" y="2675160"/>
              <a:ext cx="720" cy="2394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396240" y="2834640"/>
              <a:ext cx="494280" cy="6260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97520" y="2834640"/>
              <a:ext cx="492120" cy="62712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I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657160" y="3625560"/>
              <a:ext cx="1947600" cy="1284480"/>
            </a:xfrm>
            <a:custGeom>
              <a:avLst/>
              <a:gdLst/>
              <a:ahLst/>
              <a:rect l="l" t="t" r="r" b="b"/>
              <a:pathLst>
                <a:path w="2847" h="1449">
                  <a:moveTo>
                    <a:pt x="0" y="1268"/>
                  </a:moveTo>
                  <a:cubicBezTo>
                    <a:pt x="149" y="1294"/>
                    <a:pt x="670" y="1401"/>
                    <a:pt x="897" y="1425"/>
                  </a:cubicBezTo>
                  <a:cubicBezTo>
                    <a:pt x="1124" y="1449"/>
                    <a:pt x="1212" y="1437"/>
                    <a:pt x="1362" y="1410"/>
                  </a:cubicBezTo>
                  <a:cubicBezTo>
                    <a:pt x="1512" y="1383"/>
                    <a:pt x="1652" y="1352"/>
                    <a:pt x="1797" y="1260"/>
                  </a:cubicBezTo>
                  <a:cubicBezTo>
                    <a:pt x="1942" y="1168"/>
                    <a:pt x="2057" y="1065"/>
                    <a:pt x="2232" y="855"/>
                  </a:cubicBezTo>
                  <a:cubicBezTo>
                    <a:pt x="2407" y="645"/>
                    <a:pt x="2719" y="178"/>
                    <a:pt x="2847" y="0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889080" y="4111200"/>
              <a:ext cx="720" cy="11181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505040" y="3312720"/>
              <a:ext cx="492120" cy="4820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'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519360" y="4271400"/>
              <a:ext cx="344160" cy="44316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4960" rIns="8496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Б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420800" y="4785120"/>
              <a:ext cx="343440" cy="44424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4960" rIns="8496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А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904120" y="2120760"/>
              <a:ext cx="984960" cy="4802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dU</a:t>
              </a:r>
              <a:r>
                <a:rPr b="0" i="1" lang="ru-RU" sz="12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/d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ирдина С.Г., 22.05.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BAA5-FC72-4BAB-A0E6-252AA56C66E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Спасибо за внимание!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99ff66"/>
                </a:solidFill>
                <a:latin typeface="Arial"/>
              </a:rPr>
              <a:t>     </a:t>
            </a:r>
            <a:r>
              <a:rPr b="0" lang="ru-RU" sz="3600" spc="-1" strike="noStrike">
                <a:solidFill>
                  <a:srgbClr val="99ff66"/>
                </a:solidFill>
                <a:latin typeface="Arial"/>
              </a:rPr>
              <a:t>ww</a:t>
            </a:r>
            <a:r>
              <a:rPr b="0" lang="en-US" sz="3600" spc="-1" strike="noStrike">
                <a:solidFill>
                  <a:srgbClr val="99ff66"/>
                </a:solidFill>
                <a:latin typeface="Arial"/>
              </a:rPr>
              <a:t>w</a:t>
            </a:r>
            <a:r>
              <a:rPr b="0" lang="ru-RU" sz="3600" spc="-1" strike="noStrike">
                <a:solidFill>
                  <a:srgbClr val="99ff66"/>
                </a:solidFill>
                <a:latin typeface="Arial"/>
              </a:rPr>
              <a:t>.kirdina.ru</a:t>
            </a:r>
            <a:br>
              <a:rPr sz="3600"/>
            </a:br>
            <a:r>
              <a:rPr b="0" lang="ru-RU" sz="36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kirdina@in</a:t>
            </a:r>
            <a:r>
              <a:rPr b="0" lang="en-US" sz="3600" spc="-1" strike="noStrike" u="sng">
                <a:solidFill>
                  <a:srgbClr val="99ff66"/>
                </a:solidFill>
                <a:uFillTx/>
                <a:latin typeface="Arial"/>
                <a:hlinkClick r:id="rId2"/>
              </a:rPr>
              <a:t>econ.r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ирдина С.Г., 22.05.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B2BD-CF74-4ECE-8624-20A6CC8B23E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Для чего и с помощью чего  изучать экономику?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ирдина С.Г., 22.05.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83A4-A248-46D8-920E-F0E92B2C190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"/>
              </a:rPr>
              <a:t>Идеи самоорганизации -  новая «эпистема эпохи»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Эпистема - общая,  характерная для конкретного исторического периода система мышления, научного теоретизирования   (Фуко, 2002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знание сложности и неравновесности мира, понимание несводимости микро- и макроуровней, нелинейности протекающих процессов вызывает появление принципиально новых теорий. Они «декларируют и изучают нелинейную социокультурную динамику, процессы самоорганизации  социума, обеспечивающие возникновение порядка из хаоса» (Кравченко, 2007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ирдина С.Г., 22.05.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294C-1DD5-403B-8770-8322B906849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"/>
              </a:rPr>
              <a:t>О теории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еория существует только в наших умах и не имеет иной реальности. Любая теория хороша, если она удовлетворяет двум требованиям: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очно описывает большой класс наблюдений на основе модели, содержащей всего несколько произвольных элемент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зволяет делать точные предсказания о результатах будущих наблюдений» (Хокинг, 2007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ирдина С.Г., 22.05.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568E-05E3-460B-B06A-11F97FDBAE6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"/>
              </a:rPr>
              <a:t>Экономика как структура институтов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Экономика понимается  как  самоорганизующаяся  структура, целью которой является воспроизводство  социальной  жизни в природном окружении.  Поскольку экономика представляет собой систему с участием человека, то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механизм ее самоорганизации отражается в структуре институтов,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о есть в исторически формирующихся устойчивых  правилах социальных взаимодействий хозяйствующих субъекто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ирдина С.Г., 22.05.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94A7-9732-4248-898B-903E250CBEA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b7"/>
                </a:solidFill>
                <a:latin typeface="Arial"/>
              </a:rPr>
              <a:t>В точке равновесия  суммарный эффект для производителя и потребителя максимален (случай отраслей   с убывающей отдачей)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-2440440" y="-98640"/>
            <a:ext cx="12549960" cy="6058080"/>
            <a:chOff x="-2440440" y="-98640"/>
            <a:chExt cx="12549960" cy="6058080"/>
          </a:xfrm>
        </p:grpSpPr>
        <p:sp>
          <p:nvSpPr>
            <p:cNvPr id="117" name=""/>
            <p:cNvSpPr txBox="1"/>
            <p:nvPr/>
          </p:nvSpPr>
          <p:spPr>
            <a:xfrm>
              <a:off x="1332000" y="1844640"/>
              <a:ext cx="6400800" cy="4114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1904040" y="2187000"/>
              <a:ext cx="720" cy="3314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904040" y="5502240"/>
              <a:ext cx="5371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-2440080" y="-99000"/>
              <a:ext cx="8458560" cy="5257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2894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2894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 flipV="1">
              <a:off x="1902600" y="15480"/>
              <a:ext cx="8206560" cy="457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803" y="46"/>
                  </a:moveTo>
                  <a:arcTo wR="10800" hR="10800" stAng="-5717770" swAng="5717770"/>
                  <a:lnTo>
                    <a:pt x="10800" y="10800"/>
                  </a:lnTo>
                  <a:close/>
                </a:path>
                <a:path fill="none" w="21600" h="21600">
                  <a:moveTo>
                    <a:pt x="9803" y="46"/>
                  </a:moveTo>
                  <a:arcTo wR="10800" hR="10800" stAng="-5717770" swAng="571777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646520" y="4473360"/>
              <a:ext cx="720" cy="102852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1902600" y="4473360"/>
              <a:ext cx="2743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902960" y="4587840"/>
              <a:ext cx="251460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902960" y="4701960"/>
              <a:ext cx="2286000" cy="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902960" y="4816440"/>
              <a:ext cx="194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902960" y="493056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902960" y="5045040"/>
              <a:ext cx="1028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417920" y="4587840"/>
              <a:ext cx="0" cy="91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189320" y="47019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846600" y="4816440"/>
              <a:ext cx="0" cy="6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503520" y="493056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31840" y="504504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2588760" y="5159160"/>
              <a:ext cx="72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60880" y="5159160"/>
              <a:ext cx="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131920" y="5159160"/>
              <a:ext cx="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160800" y="504504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902960" y="3673440"/>
              <a:ext cx="79992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703240" y="3673440"/>
              <a:ext cx="0" cy="18288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V="1">
              <a:off x="1902960" y="4587840"/>
              <a:ext cx="4114800" cy="72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446800" y="3902040"/>
              <a:ext cx="720" cy="1599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ирдина С.Г., 22.05.20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643E-5719-40DA-A525-FE256644C22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"/>
              </a:rPr>
              <a:t>Тезис в отношении отраслей с убывающей отдачей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Экономический агент «имеет в виду лишь свой собственный интерес… Преследуя свой собственный интерес, он часто более действенным образом служит интересам общества, чем тогда, когда сознательно стремится к этому» (Смит, 1776). Этот справедливый тезис (для таких отраслей) определил основное направление развития экономической теории до настоящего времен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ирдина С.Г., 22.05.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9D34-7041-4F3A-A585-9EDAF5E9B64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50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b7"/>
                </a:solidFill>
                <a:latin typeface="Arial"/>
              </a:rPr>
              <a:t>В точке равновесия  суммарный эффект для производителя и потребителя немаксимален (случай отраслей   с возрастающей отдачей)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1427040" y="-2672640"/>
            <a:ext cx="9467280" cy="8445960"/>
            <a:chOff x="1427040" y="-2672640"/>
            <a:chExt cx="9467280" cy="8445960"/>
          </a:xfrm>
        </p:grpSpPr>
        <p:sp>
          <p:nvSpPr>
            <p:cNvPr id="146" name=""/>
            <p:cNvSpPr/>
            <p:nvPr/>
          </p:nvSpPr>
          <p:spPr>
            <a:xfrm flipH="1" flipV="1">
              <a:off x="1974240" y="1311120"/>
              <a:ext cx="720" cy="4457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975320" y="5769000"/>
              <a:ext cx="53712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 flipV="1" rot="21053400">
              <a:off x="1808280" y="-341280"/>
              <a:ext cx="8371440" cy="5485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803" y="46"/>
                  </a:moveTo>
                  <a:arcTo wR="10800" hR="10800" stAng="-5717770" swAng="5065118"/>
                  <a:lnTo>
                    <a:pt x="10800" y="10800"/>
                  </a:lnTo>
                  <a:close/>
                </a:path>
                <a:path fill="none" w="21600" h="21600">
                  <a:moveTo>
                    <a:pt x="9803" y="46"/>
                  </a:moveTo>
                  <a:arcTo wR="10800" hR="10800" stAng="-5717770" swAng="5065118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860800" y="5197320"/>
              <a:ext cx="720" cy="57132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974240" y="5197320"/>
              <a:ext cx="3656880" cy="72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 flipV="1" rot="21352200">
              <a:off x="1946880" y="-2368800"/>
              <a:ext cx="8686080" cy="754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65" y="50"/>
                  </a:moveTo>
                  <a:arcTo wR="10800" hR="10800" stAng="-5729979" swAng="5729979"/>
                  <a:lnTo>
                    <a:pt x="10800" y="10800"/>
                  </a:lnTo>
                  <a:close/>
                </a:path>
                <a:path fill="none" w="21600" h="21600">
                  <a:moveTo>
                    <a:pt x="9765" y="50"/>
                  </a:moveTo>
                  <a:arcTo wR="10800" hR="10800" stAng="-5729979" swAng="5729979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3688920" y="4511520"/>
              <a:ext cx="0" cy="125712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1974240" y="4511520"/>
              <a:ext cx="171432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4603320" y="4968720"/>
              <a:ext cx="7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688920" y="462600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688920" y="4740120"/>
              <a:ext cx="457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688920" y="4854600"/>
              <a:ext cx="685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688920" y="4968720"/>
              <a:ext cx="1143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3803400" y="4511160"/>
              <a:ext cx="720" cy="685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3917520" y="4625640"/>
              <a:ext cx="720" cy="571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4032000" y="4625640"/>
              <a:ext cx="720" cy="571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146480" y="4739760"/>
              <a:ext cx="720" cy="456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4260960" y="4739760"/>
              <a:ext cx="720" cy="456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 flipV="1">
              <a:off x="4374360" y="4854600"/>
              <a:ext cx="720" cy="342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>
              <a:off x="4488840" y="4854600"/>
              <a:ext cx="720" cy="342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4603320" y="4854600"/>
              <a:ext cx="720" cy="342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4717440" y="4968360"/>
              <a:ext cx="72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4831920" y="4968360"/>
              <a:ext cx="72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88920" y="5083200"/>
              <a:ext cx="1486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4946400" y="4968720"/>
              <a:ext cx="72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060880" y="5083200"/>
              <a:ext cx="720" cy="114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ирдина С.Г., 22.05.20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7407-7E59-42AE-9D3A-19B66C5E505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Arial"/>
              </a:rPr>
              <a:t>Тезис в отношении  отраслей с убывающей отдачей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336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336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тремление таких отраслей стать прибыльными  «ввергает партнеров в гораздо большие расходы, так что все вместе больше теряют, чем выигрывают» (Богачев, 1993). И рыночное равновесие, и стремление производителя к прибыли  означают общественные потер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336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ирдина С.Г., 22.05.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000E-39D4-45CB-8255-C9C94066057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3T09:03:25Z</dcterms:created>
  <dc:creator>kirdina</dc:creator>
  <dc:description/>
  <dc:language>en-US</dc:language>
  <cp:lastModifiedBy>kirdina</cp:lastModifiedBy>
  <dcterms:modified xsi:type="dcterms:W3CDTF">2008-08-19T07:46:44Z</dcterms:modified>
  <cp:revision>25</cp:revision>
  <dc:subject/>
  <dc:title>Институциональные матрицы и развитие Росси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