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898-3E6A-465E-9F60-F14B8C72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4C0-1A7C-47B3-AB59-23E91DEA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931-BB61-4D1E-AE4C-0FC8CC0A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551-D47C-40F2-B90F-593B123F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6BCC-9CDB-4B9C-9D89-6AF35874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3E03-E20B-43E6-AADC-A15819FA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102A-27C1-4832-8EC9-7AB59BE8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8238-0473-4B3A-BF88-F7D9CA92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3F8F-E855-4ED0-974D-E53365A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C5D7-653D-4BB4-84CF-3C723840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977F-6017-472F-B95A-F9698071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611-DCE3-4C3E-ACDE-07433206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1906-E25F-4999-97B6-88D67C64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8291-5F24-490C-87DC-FC3F3E4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B602-FC83-4A26-910C-BAA482C6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C8A3-33FE-4C38-A692-6536A0A0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9C9F-6350-45A3-A750-092C2DCE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CDE-04BF-40C3-A60C-ED26B491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ADA-9214-42A6-BD58-C6BD94EB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AFF-13C1-4323-99EE-32B2AEAE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B63-C170-459B-9AE2-E4B87BB9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D67-CE74-43BF-ABAC-7F30D31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FAB-3251-4DF9-ACAA-BDBF053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CF0-C2DE-4D76-94F1-FCC100A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0840-535E-4503-877C-5DFFA95BCD1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44C9-C938-412A-AC11-A57F2C258B9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965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Знаки препинания в БЕСОЮЗНОМ СЛОЖНОМ ПРЕДЛОЖЕН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5280" y="2204640"/>
            <a:ext cx="7129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«Двоеточие в бессоюзном сложном предложении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100"/>
                            </p:stCondLst>
                            <p:childTnLst>
                              <p:par>
                                <p:cTn id="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воеточие в СБП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вится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7921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)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о второй части предложения </a:t>
            </a: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ПРИЧИНА. 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Двоеточие можно заменить союзом </a:t>
            </a:r>
            <a:r>
              <a:rPr b="1" i="1" lang="en-US" sz="3600" spc="-1" strike="noStrike">
                <a:solidFill>
                  <a:srgbClr val="79af7d"/>
                </a:solidFill>
                <a:latin typeface="Arial"/>
              </a:rPr>
              <a:t>ПОТОМУ ЧТО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апример: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Я доверяю любящим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i="1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они великодушн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Ср.: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Я доверяю любящим (ПОЧЕМУ?), ПОТОМУ ЧТО они великодушн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48000" y="4437000"/>
            <a:ext cx="3311640" cy="792360"/>
          </a:xfrm>
          <a:prstGeom prst="ellipse">
            <a:avLst/>
          </a:prstGeom>
          <a:noFill/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2708280"/>
            <a:ext cx="302436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52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680"/>
                            </p:stCondLst>
                            <p:childTnLst>
                              <p:par>
                                <p:cTn id="5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180"/>
                            </p:stCondLst>
                            <p:childTnLst>
                              <p:par>
                                <p:cTn id="5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воеточие в СБП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вится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8064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)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торое предложение </a:t>
            </a: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ПОЯСНЯЕ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первое. Двоеточие можно заменить союзами </a:t>
            </a: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А ИМЕННО, ТО Е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Предметы потеряли свою форму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сё сливалось сначала в серую, потом в тёмную массу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р.: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Предметы потеряли свою форму (КАК?), ТО ЕСТЬ всё сливалось сначала в серую, потом в тёмную массу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4508640"/>
            <a:ext cx="1942920" cy="576000"/>
          </a:xfrm>
          <a:prstGeom prst="ellipse">
            <a:avLst/>
          </a:prstGeom>
          <a:noFill/>
          <a:ln w="7632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2565360"/>
            <a:ext cx="41767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16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36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84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880"/>
                            </p:stCondLst>
                            <p:childTnLst>
                              <p:par>
                                <p:cTn id="5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1380"/>
                            </p:stCondLst>
                            <p:childTnLst>
                              <p:par>
                                <p:cTn id="5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воеточие в СБП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вится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784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) второе предложение </a:t>
            </a: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ОПОЛНЯЕТ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первое. Двоеточие можно заменить союзом </a:t>
            </a:r>
            <a:r>
              <a:rPr b="1" i="1" lang="en-US" sz="3600" spc="-1" strike="noStrike">
                <a:solidFill>
                  <a:srgbClr val="79af7d"/>
                </a:solidFill>
                <a:latin typeface="Arial"/>
              </a:rPr>
              <a:t>ЧТ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9af7d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А я заметил </a:t>
            </a: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возле иных домов тополя сохну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Ср.: А я заметил (ЧТО?), ЧТО возле иных домов тополя сохну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4581360"/>
            <a:ext cx="1008000" cy="792360"/>
          </a:xfrm>
          <a:prstGeom prst="ellipse">
            <a:avLst/>
          </a:prstGeom>
          <a:noFill/>
          <a:ln w="7632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0360" y="2852640"/>
            <a:ext cx="11527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72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60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64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140"/>
                            </p:stCondLst>
                            <p:childTnLst>
                              <p:par>
                                <p:cTn id="6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Задание №1 (УСТНО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Укажите смысловые связи между частями предложений и объясните пунктуацию.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7542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тиц не было слышно: они не поют в часы зноя. (А. Толстой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ак все московские, ваш батюшка токов: желал бы зятя он с звездами да с чинами. (А. Грибоедо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усты зашевелились, вспорхнула полусонная птичка. (В. Гарш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Я знаю: в вашем сердце есть и гордость, и прямая честь. (А. Пушк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алеко за Доном громоздились тяжёлые тучи, наискось резали небо молнии. (М. Шолохо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ыба была слишком велика для лоханки и лежала на дне, завернув хвост; её чешуя отливала золотом. (Купр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92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8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832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56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352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Задание №2 (ПИСЬМЕННО).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Опустив выделенные союзы, превратите данные предложения в сложные бессоюзные предложения. Спишите, расставляя знаки препинания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47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79af7d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Я поднял глаза и увидел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высоко в небе неслись над станцией птицы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Он не хотел спать, просто откинул голову и прикрыл глаза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отому чт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так лучше работало воображение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Часов в семь утра всё мгновенно стихло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наступила отличная погода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Я верю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новый век взойдёт средь всех несчастных поколений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5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ругое занимает меня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а именн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ьесы моего героя будут играть в течение трёх столетий на всех сценах мир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8360" y="1989000"/>
            <a:ext cx="79200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141720"/>
            <a:ext cx="187164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9640" y="3933720"/>
            <a:ext cx="28908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4292640"/>
            <a:ext cx="50472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04000" y="5013360"/>
            <a:ext cx="21600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445000"/>
            <a:ext cx="136836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160"/>
                            </p:stCondLst>
                            <p:childTnLst>
                              <p:par>
                                <p:cTn id="6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Ответ задания №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5484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 поднял глаза и увидел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высоко в небе неслись над станцией птицы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Он не хотел спать, просто откинул голову и прикрыл глаза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так лучше работало воображение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Часов в семь утра всё мгновенно стихло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наступила отличная погода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Я верю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новый век взойдёт средь всех несчастных поколений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ругое занимает меня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пьесы моего героя будут играть в течение трёх столетий на всех сценах ми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227160"/>
            <a:ext cx="73720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2349000"/>
            <a:ext cx="73864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Упражнение </a:t>
            </a: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№</a:t>
            </a: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189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Параграф </a:t>
            </a: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216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 (Теория)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Упражнение </a:t>
            </a: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190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тог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му мы научились на этом уро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Спасибо за урок. </a:t>
            </a:r>
            <a:br>
              <a:rPr sz="4400"/>
            </a:b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До свидания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формировать умение правильно ставить знаки препинания в бессоюзном сложном предложени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вторяем тему предыдущего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Вопрос №1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Что такое сложное бессоюзное предложение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СБП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– это сложное предложение, в котором простые предложения объединены в одно целое по смыслу и интонационно, без помощи союзов или союзных с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вторяем тему предыдущего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598760"/>
            <a:ext cx="73990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опрос №2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ри каких условиях в СБП ставится запятая, точка с запятой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СБП со значением </a:t>
            </a: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одновременнос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последовательнос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дно предложение отделяется от другой </a:t>
            </a: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запят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Если части СБП осложнены, между ними ставится </a:t>
            </a: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точка с запят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9240" y="0"/>
            <a:ext cx="76658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вторяем тему предыдущего урока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Тестовое задание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2492280"/>
            <a:ext cx="36162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АРИАНТ 1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предложенных предложений выберите те, в которых ставится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запята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32000" y="2492280"/>
            <a:ext cx="36176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АРИАНТ 2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предложенных предложений выберите те, в которых ставится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точка с запят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5734080"/>
            <a:ext cx="143964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5734080"/>
            <a:ext cx="28810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8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48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1 в. – запятая</a:t>
            </a:r>
            <a:br>
              <a:rPr sz="20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2 в. – точка с запятой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79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А) Кусты   зашевелились   вспорхнула полусонная   птичка. (В. Гаршин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Б) Слабо    шурша,   падали    шишки   вздыхая, шумел   лес. (А. Грин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В) Время   стоит   ещё   раннее   золотистый утренний   туман   вьётся   над   просёлком. (С.-Щ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Г) На    дворе   декабрь   в   половине   окрестность   тихо   цепенеет. (С.-Щ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Д) Я   не   видел   Вас   целую   неделю   я   не слышал   Вас   долго. (А. Чехов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Е) Погода   утихла   тучи   расходились   перед   ним   лежала   равнина. (К. Паустовски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Ж) Солнце   скрылось   за   небольшую   осиновую   рощу тень   от   неё   без   конца   тянулась   через неподвижные   поля (Л. Н. Толсто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З) Успокойтесь   рана   не   опасна. (Л. Н. Толсто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И) И   дни   бегут   желтеют   нивы   с   дерев   спадает дряхлый   лист. (А. С. Пушкин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К) Снег   падал   медленно   превращая   дорогу   в сугробы   он   наклонял   своей   тяжестью   деревья. (А. Н. Толсто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3440" y="619920"/>
            <a:ext cx="4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05800" y="1196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9440" y="1772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8880" y="2348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21080" y="28519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10160" y="3357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3080" y="3357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98160" y="4004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2720" y="472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7440" y="5012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05080" y="5012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78160" y="5876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2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28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12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4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48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1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8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168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408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52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ЗАПЯТ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А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Кусты зашевелились, вспорхнула полусонная   птичк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Д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Я не видел Вас целую неделю, я не слышал Вас долго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Е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Погода утихла, тучи расходились, перед ним лежала равнин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З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Успокойтесь, рана не опасн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И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И дни бегут, желтеют нивы, с дерев спадает дряхлый лист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92000" y="764640"/>
            <a:ext cx="4319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ТОЧКА С ЗАПЯТ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Б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Слабо шурша, падали шишки; вздыхая, шумел лес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В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Время стоит ещё раннее; золотистый утренний туман вьётся над просёлко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Г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На дворе декабрь в половине; окрестность тихо цепенее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Ж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Солнце скрылось за   небольшую осиновую рощу;  тень от неё без конца   тянулась через неподвижные   пол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К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Снег падал медленно   превращая дорогу в сугробы;   он наклонял своей тяжестью   деревь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5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Нормы оцен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0 ошибок – «5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1 ошибка – «4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2 ошибки – «3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3 и более  – «2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Пиши правильно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39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К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НКУРЕН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АГ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ТА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Д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МОНСТРА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Р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ЗОЛЮ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РГАНИЗА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ОФ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ЦИАЛЬНЫЙ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07:23Z</dcterms:created>
  <dc:creator>Павел</dc:creator>
  <dc:description/>
  <dc:language>en-US</dc:language>
  <cp:lastModifiedBy>Admin</cp:lastModifiedBy>
  <dcterms:modified xsi:type="dcterms:W3CDTF">2012-08-26T14:38:49Z</dcterms:modified>
  <cp:revision>16</cp:revision>
  <dc:subject/>
  <dc:title>Тема: «СЛОЖНЫЕ БЕССОЮЗНЫЕ ПРЕДЛОЖЕНИЯ.»</dc:title>
</cp:coreProperties>
</file>