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11D-9CD1-4EB9-8209-01E334E2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D4C-C1D1-46F2-93B5-AF40DD78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A38-F3E7-43C5-89B9-64F3B4AF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B5E-F865-4E28-B645-515422F4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AC3B-B107-46BF-990C-7BC7CF87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5343-0FCC-4A58-8FD6-C1B60B52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83CF-FF10-4D17-A457-9393AD22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EC52-1D99-4E54-8FF9-5679693C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7BE4-FA02-4C6E-B6D1-D670E6B9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65A-AC62-453A-89D4-9F5846AF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9C4C-1D7F-4B55-8154-9C3E04F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A3A-509E-4E0B-9C5F-DA8CF546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4790-E7C8-47ED-A2A9-CC3F3D4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366E-96F2-4960-BF08-7DD0A72B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87A1-C50C-4EFC-B23D-370A660B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E2C7-3339-40BC-A4FE-4C547467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6A84-4A02-4C45-9642-D56CE782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389-3758-4CB5-89C3-DEF9AF79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0D3-5DB6-4B48-B7C3-FAA47998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015-2CF9-40DF-9831-5A2FE8E2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79D-9124-4CB4-ACB4-B51E1734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BA3-F986-4F61-AC04-61F6F2CA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63F-1612-479C-8DC7-BA96C2D2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E51-8784-491D-BD3A-04003603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D201-E1DC-4547-BA22-C3FCB35ACBE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1935-6363-4B24-AB31-F2B2E387920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965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Знаки препинания в БЕСОЮЗНОМ СЛОЖНОМ ПРЕДЛОЖЕН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95280" y="2204640"/>
            <a:ext cx="7129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«Двоеточие в бессоюзном сложном предложении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100"/>
                            </p:stCondLst>
                            <p:childTnLst>
                              <p:par>
                                <p:cTn id="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воеточие в СБП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вится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7921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а)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о второй части предложения </a:t>
            </a: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ПРИЧИНА. 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Двоеточие можно заменить союзом </a:t>
            </a:r>
            <a:r>
              <a:rPr b="1" i="1" lang="en-US" sz="3600" spc="-1" strike="noStrike">
                <a:solidFill>
                  <a:srgbClr val="79af7d"/>
                </a:solidFill>
                <a:latin typeface="Arial"/>
              </a:rPr>
              <a:t>ПОТОМУ ЧТО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апример: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Я доверяю любящим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i="1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они великодушн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           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Ср.: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Я доверяю любящим (ПОЧЕМУ?), ПОТОМУ ЧТО они великодушн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48000" y="4437000"/>
            <a:ext cx="3311640" cy="792360"/>
          </a:xfrm>
          <a:prstGeom prst="ellipse">
            <a:avLst/>
          </a:prstGeom>
          <a:noFill/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2708280"/>
            <a:ext cx="302436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52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680"/>
                            </p:stCondLst>
                            <p:childTnLst>
                              <p:par>
                                <p:cTn id="5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8180"/>
                            </p:stCondLst>
                            <p:childTnLst>
                              <p:par>
                                <p:cTn id="5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воеточие в СБП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вится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8064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)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торое предложение </a:t>
            </a: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ПОЯСНЯЕТ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первое. Двоеточие можно заменить союзами </a:t>
            </a: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А ИМЕННО, ТО ЕСТ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Предметы потеряли свою форму</a:t>
            </a: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сё сливалось сначала в серую, потом в тёмную массу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р.: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Предметы потеряли свою форму (КАК?), ТО ЕСТЬ всё сливалось сначала в серую, потом в тёмную массу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9af7d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4508640"/>
            <a:ext cx="1942920" cy="576000"/>
          </a:xfrm>
          <a:prstGeom prst="ellipse">
            <a:avLst/>
          </a:prstGeom>
          <a:noFill/>
          <a:ln w="7632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2565360"/>
            <a:ext cx="41767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416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736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840"/>
                            </p:stCondLst>
                            <p:childTnLst>
                              <p:par>
                                <p:cTn id="5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880"/>
                            </p:stCondLst>
                            <p:childTnLst>
                              <p:par>
                                <p:cTn id="5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1380"/>
                            </p:stCondLst>
                            <p:childTnLst>
                              <p:par>
                                <p:cTn id="5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воеточие в СБП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тавится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784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) второе предложение </a:t>
            </a: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ДОПОЛНЯЕТ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первое. Двоеточие можно заменить союзом </a:t>
            </a:r>
            <a:r>
              <a:rPr b="1" i="1" lang="en-US" sz="3600" spc="-1" strike="noStrike">
                <a:solidFill>
                  <a:srgbClr val="79af7d"/>
                </a:solidFill>
                <a:latin typeface="Arial"/>
              </a:rPr>
              <a:t>ЧТ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9af7d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А я заметил </a:t>
            </a:r>
            <a:r>
              <a:rPr b="1" i="1" lang="en-US" sz="3600" spc="-1" strike="noStrike">
                <a:solidFill>
                  <a:srgbClr val="f7d47d"/>
                </a:solidFill>
                <a:latin typeface="Arial"/>
              </a:rPr>
              <a:t>: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возле иных домов тополя сохну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Ср.: А я заметил (ЧТО?), ЧТО возле иных домов тополя сохну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4581360"/>
            <a:ext cx="1008000" cy="792360"/>
          </a:xfrm>
          <a:prstGeom prst="ellipse">
            <a:avLst/>
          </a:prstGeom>
          <a:noFill/>
          <a:ln w="7632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0360" y="2852640"/>
            <a:ext cx="11527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720"/>
                            </p:stCondLst>
                            <p:childTnLst>
                              <p:par>
                                <p:cTn id="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600"/>
                            </p:stCondLst>
                            <p:childTnLst>
                              <p:par>
                                <p:cTn id="5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64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140"/>
                            </p:stCondLst>
                            <p:childTnLst>
                              <p:par>
                                <p:cTn id="6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Задание №1 (УСТНО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Укажите смысловые связи между частями предложений и объясните пунктуацию.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7542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тиц не было слышно: они не поют в часы зноя. (А. Толстой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ак все московские, ваш батюшка токов: желал бы зятя он с звездами да с чинами. (А. Грибоедо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усты зашевелились, вспорхнула полусонная птичка. (В. Гарш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Я знаю: в вашем сердце есть и гордость, и прямая честь. (А. Пушк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алеко за Доном громоздились тяжёлые тучи, наискось резали небо молнии. (М. Шолохов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ыба была слишком велика для лоханки и лежала на дне, завернув хвост; её чешуя отливала золотом. (Купр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92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8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8320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56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352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Задание №2 (ПИСЬМЕННО). </a:t>
            </a:r>
            <a:r>
              <a:rPr b="1" lang="en-US" sz="2400" spc="-1" strike="noStrike">
                <a:solidFill>
                  <a:srgbClr val="f7d47d"/>
                </a:solidFill>
                <a:latin typeface="Arial"/>
              </a:rPr>
              <a:t>Опустив выделенные союзы, превратите данные предложения в сложные бессоюзные предложения. Спишите, расставляя знаки препинания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47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79af7d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Я поднял глаза и увидел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высоко в небе неслись над станцией птицы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Он не хотел спать, просто откинул голову и прикрыл глаза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отому чт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так лучше работало воображение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Часов в семь утра всё мгновенно стихло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наступила отличная погода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Я верю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новый век взойдёт средь всех несчастных поколений.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5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ругое занимает меня,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а именно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пьесы моего героя будут играть в течение трёх столетий на всех сценах мир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48360" y="1989000"/>
            <a:ext cx="79200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141720"/>
            <a:ext cx="187164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19640" y="3933720"/>
            <a:ext cx="28908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4292640"/>
            <a:ext cx="50472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04000" y="5013360"/>
            <a:ext cx="21600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445000"/>
            <a:ext cx="1368360" cy="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160"/>
                            </p:stCondLst>
                            <p:childTnLst>
                              <p:par>
                                <p:cTn id="6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Ответ задания №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052280"/>
            <a:ext cx="75484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79af7d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Я поднял глаза и увидел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высоко в небе неслись над станцией птицы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Он не хотел спать, просто откинул голову и прикрыл глаза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так лучше работало воображение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Часов в семь утра всё мгновенно стихло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наступила отличная погода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Я верю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новый век взойдёт средь всех несчастных поколений. </a:t>
            </a:r>
            <a:r>
              <a:rPr b="0" lang="en-US" sz="3200" spc="-1" strike="noStrike">
                <a:solidFill>
                  <a:srgbClr val="79af7d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ругое занимает меня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пьесы моего героя будут играть в течение трёх столетий на всех сценах мир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227160"/>
            <a:ext cx="73720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Самостоятельная работ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2349000"/>
            <a:ext cx="73864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Упражнение </a:t>
            </a: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№</a:t>
            </a: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7d47d"/>
                </a:solidFill>
                <a:latin typeface="Arial"/>
              </a:rPr>
              <a:t>189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Параграф </a:t>
            </a: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216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 (Теория)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Упражнение </a:t>
            </a: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190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Итог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му мы научились на этом уро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Спасибо за урок. </a:t>
            </a:r>
            <a:br>
              <a:rPr sz="4400"/>
            </a:b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До свидания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формировать умение правильно ставить знаки препинания в бессоюзном сложном предложении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вторяем тему предыдущего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Вопрос №1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Что такое сложное бессоюзное предложение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СБП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– это сложное предложение, в котором простые предложения объединены в одно целое по смыслу и интонационно, без помощи союзов или союзных с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вторяем тему предыдущего уро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598760"/>
            <a:ext cx="73990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опрос №2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При каких условиях в СБП ставится запятая, точка с запятой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 СБП со значением </a:t>
            </a: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одновременнос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последовательнос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дно предложение отделяется от другой </a:t>
            </a: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запят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Если части СБП осложнены, между ними ставится </a:t>
            </a: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точка с запят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9240" y="0"/>
            <a:ext cx="76658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Повторяем тему предыдущего урока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4400" spc="-1" strike="noStrike">
                <a:solidFill>
                  <a:srgbClr val="f7d47d"/>
                </a:solidFill>
                <a:latin typeface="Arial"/>
              </a:rPr>
              <a:t>Тестовое задание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160" y="2492280"/>
            <a:ext cx="36162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АРИАНТ 1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предложенных предложений выберите те, в которых ставится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запята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32000" y="2492280"/>
            <a:ext cx="36176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АРИАНТ 2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Из предложенных предложений выберите те, в которых ставится </a:t>
            </a:r>
            <a:r>
              <a:rPr b="1" lang="en-US" sz="2800" spc="-1" strike="noStrike">
                <a:solidFill>
                  <a:srgbClr val="f7d47d"/>
                </a:solidFill>
                <a:latin typeface="Arial"/>
              </a:rPr>
              <a:t>точка с запят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5734080"/>
            <a:ext cx="143964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5734080"/>
            <a:ext cx="2881080" cy="0"/>
          </a:xfrm>
          <a:prstGeom prst="line">
            <a:avLst/>
          </a:prstGeom>
          <a:ln w="76320">
            <a:solidFill>
              <a:srgbClr val="008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8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48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1 в. – запятая</a:t>
            </a:r>
            <a:br>
              <a:rPr sz="2000"/>
            </a:br>
            <a:r>
              <a:rPr b="1" lang="en-US" sz="2000" spc="-1" strike="noStrike">
                <a:solidFill>
                  <a:srgbClr val="f7d47d"/>
                </a:solidFill>
                <a:latin typeface="Arial"/>
              </a:rPr>
              <a:t>2 в. – точка с запятой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79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А) Кусты   зашевелились   вспорхнула полусонная   птичка. (В. Гаршин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Б) Слабо    шурша,   падали    шишки   вздыхая, шумел   лес. (А. Грин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В) Время   стоит   ещё   раннее   золотистый утренний   туман   вьётся   над   просёлком. (С.-Щ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Г) На    дворе   декабрь   в   половине   окрестность   тихо   цепенеет. (С.-Щ.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Д) Я   не   видел   Вас   целую   неделю   я   не слышал   Вас   долго. (А. Чехов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Е) Погода   утихла   тучи   расходились   перед   ним   лежала   равнина. (К. Паустовски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Ж) Солнце   скрылось   за   небольшую   осиновую   рощу тень   от   неё   без   конца   тянулась   через неподвижные   поля (Л. Н. Толсто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З) Успокойтесь   рана   не   опасна. (Л. Н. Толсто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И) И   дни   бегут   желтеют   нивы   с   дерев   спадает дряхлый   лист. (А. С. Пушкин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К) Снег   падал   медленно   превращая   дорогу   в сугробы   он   наклонял   своей   тяжестью   деревья. (А. Н. Толстой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3440" y="619920"/>
            <a:ext cx="46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05800" y="1196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9440" y="1772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8880" y="2348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21080" y="28519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10160" y="3357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3080" y="33570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98160" y="4004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2720" y="4723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7440" y="5012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05080" y="50126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78160" y="587628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2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28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12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14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348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61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8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168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408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352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ЗАПЯТ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А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Кусты зашевелились, вспорхнула полусонная   птичк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Д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Я не видел Вас целую неделю, я не слышал Вас долго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Е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Погода утихла, тучи расходились, перед ним лежала равнин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З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Успокойтесь, рана не опасн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И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И дни бегут, желтеют нивы, с дерев спадает дряхлый лист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92000" y="764640"/>
            <a:ext cx="4319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7d47d"/>
                </a:solidFill>
                <a:latin typeface="Arial"/>
              </a:rPr>
              <a:t>ТОЧКА С ЗАПЯТ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Б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Слабо шурша, падали шишки; вздыхая, шумел лес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В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Время стоит ещё раннее; золотистый утренний туман вьётся над просёлко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Г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На дворе декабрь в половине; окрестность тихо цепенее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Ж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Солнце скрылось за   небольшую осиновую рощу;  тень от неё без конца   тянулась через неподвижные   пол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9af7d"/>
                </a:solidFill>
                <a:latin typeface="Arial"/>
              </a:rPr>
              <a:t>К)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Снег падал медленно   превращая дорогу в сугробы;   он наклонял своей тяжестью   деревь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65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Нормы оцено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0 ошибок – «5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1 ошибка – «4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2 ошибки – «3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SzPct val="1028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Times New Roman"/>
              </a:rPr>
              <a:t>3 и более  – «2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47d"/>
                </a:solidFill>
                <a:latin typeface="Arial"/>
              </a:rPr>
              <a:t>Пиши правильно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39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К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НКУРЕН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АГ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ТА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Д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МОНСТРА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Р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ЗОЛЮ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РГАНИЗАЦИЯ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ОФ</a:t>
            </a:r>
            <a:r>
              <a:rPr b="1" i="1" lang="en-US" sz="4400" spc="-1" strike="noStrike" u="sng">
                <a:solidFill>
                  <a:srgbClr val="79af7d"/>
                </a:solidFill>
                <a:uFillTx/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79af7d"/>
                </a:solidFill>
                <a:latin typeface="Arial"/>
              </a:rPr>
              <a:t>ЦИАЛЬНЫЙ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 Ткаченко Т.Н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07:23Z</dcterms:created>
  <dc:creator>Павел</dc:creator>
  <dc:description/>
  <dc:language>en-US</dc:language>
  <cp:lastModifiedBy>Admin</cp:lastModifiedBy>
  <dcterms:modified xsi:type="dcterms:W3CDTF">2012-08-26T14:38:49Z</dcterms:modified>
  <cp:revision>16</cp:revision>
  <dc:subject/>
  <dc:title>Тема: «СЛОЖНЫЕ БЕССОЮЗНЫЕ ПРЕДЛОЖЕНИЯ.»</dc:title>
</cp:coreProperties>
</file>