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2C59-F23A-4AC0-B5B5-DAFE9B62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C61-CE25-4143-82B4-22E0E853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A74-F65D-4D7C-A435-F04C87D1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4C8-82F1-442B-8794-5DFCB883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CF5F-F2D0-43ED-BD53-320BD7A1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4184-87E0-4252-B395-CC45416E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78CA-078C-401C-96DA-984036F5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FCEB-E6BE-48C6-96D4-11F44C2F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5A46-1269-461E-993C-8B8E15BD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A5B0-9CB5-465E-B187-0218A712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3FAA-5827-4E9A-9C9E-8092811F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F143-9EE2-43AF-8277-270654D1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015C-5521-491E-8495-1052817F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6C34-C35D-4275-99A2-260A1AA5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1956-C2A2-4AF6-9C75-B81D2E3F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A28B-4E31-4FBF-880E-058122AC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1021-8BC3-4D9C-B875-DB255940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E3D-68A7-4880-B2D6-EDDEEECA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367-F8C9-4680-87E8-1E1536D8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3B11-6C28-4388-B231-7CE609EC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0887-B98F-44F4-A477-98B47F14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29D-F66D-4434-81DA-BA0AD49C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00E-6DF4-4600-AF65-F86FACE8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0BC-3579-4FE1-AFBE-BCB4D8E8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D6BC-AEDC-46E9-978E-99EBB7CC451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AB8D-AA39-4AB1-9B10-B2DC66207C3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9656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Знаки препинания в БЕСОЮЗНОМ СЛОЖНОМ ПРЕДЛОЖЕНИ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95280" y="2204640"/>
            <a:ext cx="7129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Тема урока: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«Двоеточие в бессоюзном сложном предложении»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100"/>
                            </p:stCondLst>
                            <p:childTnLst>
                              <p:par>
                                <p:cTn id="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100"/>
                            </p:stCondLst>
                            <p:childTnLst>
                              <p:par>
                                <p:cTn id="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Двоеточие в СБП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тавится, есл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7921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а)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о второй части предложения </a:t>
            </a: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ПРИЧИНА. 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Двоеточие можно заменить союзом </a:t>
            </a:r>
            <a:r>
              <a:rPr b="1" i="1" lang="en-US" sz="3600" spc="-1" strike="noStrike">
                <a:solidFill>
                  <a:srgbClr val="79af7d"/>
                </a:solidFill>
                <a:latin typeface="Arial"/>
              </a:rPr>
              <a:t>ПОТОМУ ЧТО</a:t>
            </a:r>
            <a:r>
              <a:rPr b="0" lang="en-US" sz="3200" spc="-1" strike="noStrike">
                <a:solidFill>
                  <a:srgbClr val="79af7d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Например: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Я доверяю любящим</a:t>
            </a: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:</a:t>
            </a:r>
            <a:r>
              <a:rPr b="0" i="1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они великодушны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            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Ср.: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Я доверяю любящим (ПОЧЕМУ?), ПОТОМУ ЧТО они великодушны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48000" y="4437000"/>
            <a:ext cx="3311640" cy="792360"/>
          </a:xfrm>
          <a:prstGeom prst="ellipse">
            <a:avLst/>
          </a:prstGeom>
          <a:noFill/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2708280"/>
            <a:ext cx="302436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52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7680"/>
                            </p:stCondLst>
                            <p:childTnLst>
                              <p:par>
                                <p:cTn id="5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8180"/>
                            </p:stCondLst>
                            <p:childTnLst>
                              <p:par>
                                <p:cTn id="5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Двоеточие в СБП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тавится, есл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7640" y="1197000"/>
            <a:ext cx="8064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б)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торое предложение </a:t>
            </a: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ПОЯСНЯЕТ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первое. Двоеточие можно заменить союзами </a:t>
            </a:r>
            <a:r>
              <a:rPr b="1" i="1" lang="en-US" sz="3200" spc="-1" strike="noStrike">
                <a:solidFill>
                  <a:srgbClr val="79af7d"/>
                </a:solidFill>
                <a:latin typeface="Arial"/>
              </a:rPr>
              <a:t>А ИМЕННО, ТО ЕСТ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9af7d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Предметы потеряли свою форму</a:t>
            </a: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: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всё сливалось сначала в серую, потом в тёмную массу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9af7d"/>
                </a:solidFill>
                <a:latin typeface="Arial"/>
              </a:rPr>
              <a:t>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р.: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Предметы потеряли свою форму (КАК?), ТО ЕСТЬ всё сливалось сначала в серую, потом в тёмную массу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9af7d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4508640"/>
            <a:ext cx="1942920" cy="576000"/>
          </a:xfrm>
          <a:prstGeom prst="ellipse">
            <a:avLst/>
          </a:prstGeom>
          <a:noFill/>
          <a:ln w="7632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40000" y="2565360"/>
            <a:ext cx="41767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160"/>
                            </p:stCondLst>
                            <p:childTnLst>
                              <p:par>
                                <p:cTn id="5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7360"/>
                            </p:stCondLst>
                            <p:childTnLst>
                              <p:par>
                                <p:cTn id="5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840"/>
                            </p:stCondLst>
                            <p:childTnLst>
                              <p:par>
                                <p:cTn id="5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880"/>
                            </p:stCondLst>
                            <p:childTnLst>
                              <p:par>
                                <p:cTn id="5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1380"/>
                            </p:stCondLst>
                            <p:childTnLst>
                              <p:par>
                                <p:cTn id="5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Двоеточие в СБП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тавится, есл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784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) второе предложение </a:t>
            </a: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ДОПОЛНЯЕТ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первое. Двоеточие можно заменить союзом </a:t>
            </a:r>
            <a:r>
              <a:rPr b="1" i="1" lang="en-US" sz="3600" spc="-1" strike="noStrike">
                <a:solidFill>
                  <a:srgbClr val="79af7d"/>
                </a:solidFill>
                <a:latin typeface="Arial"/>
              </a:rPr>
              <a:t>ЧТО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9af7d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А я заметил </a:t>
            </a:r>
            <a:r>
              <a:rPr b="1" i="1" lang="en-US" sz="3600" spc="-1" strike="noStrike">
                <a:solidFill>
                  <a:srgbClr val="f7d47d"/>
                </a:solidFill>
                <a:latin typeface="Arial"/>
              </a:rPr>
              <a:t>: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 возле иных домов тополя сохнут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             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Ср.: А я заметил (ЧТО?), ЧТО возле иных домов тополя сохнут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1280" y="4581360"/>
            <a:ext cx="1008000" cy="792360"/>
          </a:xfrm>
          <a:prstGeom prst="ellipse">
            <a:avLst/>
          </a:prstGeom>
          <a:noFill/>
          <a:ln w="7632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40360" y="2852640"/>
            <a:ext cx="11527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720"/>
                            </p:stCondLst>
                            <p:childTnLst>
                              <p:par>
                                <p:cTn id="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60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7640"/>
                            </p:stCondLst>
                            <p:childTnLst>
                              <p:par>
                                <p:cTn id="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8140"/>
                            </p:stCondLst>
                            <p:childTnLst>
                              <p:par>
                                <p:cTn id="6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Задание №1 (УСТНО)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Укажите смысловые связи между частями предложений и объясните пунктуацию.</a:t>
            </a: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7542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тиц не было слышно: они не поют в часы зноя. (А. Толстой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Как все московские, ваш батюшка токов: желал бы зятя он с звездами да с чинами. (А. Грибоедов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Кусты зашевелились, вспорхнула полусонная птичка. (В. Гаршин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Я знаю: в вашем сердце есть и гордость, и прямая честь. (А. Пушкин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Далеко за Доном громоздились тяжёлые тучи, наискось резали небо молнии. (М. Шолохов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Рыба была слишком велика для лоханки и лежала на дне, завернув хвост; её чешуя отливала золотом. (Куприн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920"/>
                            </p:stCondLst>
                            <p:childTnLst>
                              <p:par>
                                <p:cTn id="6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6080"/>
                            </p:stCondLst>
                            <p:childTnLst>
                              <p:par>
                                <p:cTn id="6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8320"/>
                            </p:stCondLst>
                            <p:childTnLst>
                              <p:par>
                                <p:cTn id="6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56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3520"/>
                            </p:stCondLst>
                            <p:childTnLst>
                              <p:par>
                                <p:cTn id="6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Задание №2 (ПИСЬМЕННО). </a:t>
            </a: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Опустив выделенные союзы, превратите данные предложения в сложные бессоюзные предложения. Спишите, расставляя знаки препинания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47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79af7d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Я поднял глаза и увидел,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что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высоко в небе неслись над станцией птицы. </a:t>
            </a: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Он не хотел спать, просто откинул голову и прикрыл глаза,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потому что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так лучше работало воображение. </a:t>
            </a: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3)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Часов в семь утра всё мгновенно стихло,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наступила отличная погода. </a:t>
            </a: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4)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Я верю,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что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новый век взойдёт средь всех несчастных поколений. </a:t>
            </a: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5)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ругое занимает меня,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а именно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ьесы моего героя будут играть в течение трёх столетий на всех сценах мир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48360" y="1989000"/>
            <a:ext cx="792000" cy="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3141720"/>
            <a:ext cx="1871640" cy="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19640" y="3933720"/>
            <a:ext cx="289080" cy="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4292640"/>
            <a:ext cx="504720" cy="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04000" y="5013360"/>
            <a:ext cx="216000" cy="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5445000"/>
            <a:ext cx="1368360" cy="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160"/>
                            </p:stCondLst>
                            <p:childTnLst>
                              <p:par>
                                <p:cTn id="6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Ответ задания №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052280"/>
            <a:ext cx="75484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Я поднял глаза и увидел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высоко в небе неслись над станцией птицы. </a:t>
            </a:r>
            <a:r>
              <a:rPr b="0" lang="en-US" sz="3200" spc="-1" strike="noStrike">
                <a:solidFill>
                  <a:srgbClr val="79af7d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Он не хотел спать, просто откинул голову и прикрыл глаза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так лучше работало воображение. </a:t>
            </a:r>
            <a:r>
              <a:rPr b="0" lang="en-US" sz="3200" spc="-1" strike="noStrike">
                <a:solidFill>
                  <a:srgbClr val="79af7d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Часов в семь утра всё мгновенно стихло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наступила отличная погода. </a:t>
            </a:r>
            <a:r>
              <a:rPr b="0" lang="en-US" sz="3200" spc="-1" strike="noStrike">
                <a:solidFill>
                  <a:srgbClr val="79af7d"/>
                </a:solidFill>
                <a:latin typeface="Arial"/>
              </a:rPr>
              <a:t>4)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Я верю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новый век взойдёт средь всех несчастных поколений. </a:t>
            </a:r>
            <a:r>
              <a:rPr b="0" lang="en-US" sz="3200" spc="-1" strike="noStrike">
                <a:solidFill>
                  <a:srgbClr val="79af7d"/>
                </a:solidFill>
                <a:latin typeface="Arial"/>
              </a:rPr>
              <a:t>5)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ругое занимает меня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пьесы моего героя будут играть в течение трёх столетий на всех сценах мир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227160"/>
            <a:ext cx="737208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Самостоятельная работа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2349000"/>
            <a:ext cx="73864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Упражнение </a:t>
            </a: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№</a:t>
            </a: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189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Параграф </a:t>
            </a: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216</a:t>
            </a: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 (Теория)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Упражнение </a:t>
            </a: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190</a:t>
            </a: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Итог уро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ему мы научились на этом урок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7d47d"/>
                </a:solidFill>
                <a:latin typeface="Arial"/>
              </a:rPr>
              <a:t>Спасибо за урок. </a:t>
            </a:r>
            <a:br>
              <a:rPr sz="4400"/>
            </a:br>
            <a:r>
              <a:rPr b="1" i="1" lang="en-US" sz="4400" spc="-1" strike="noStrike">
                <a:solidFill>
                  <a:srgbClr val="f7d47d"/>
                </a:solidFill>
                <a:latin typeface="Arial"/>
              </a:rPr>
              <a:t>До свидания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формировать умение правильно ставить знаки препинания в бессоюзном сложном предложении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Повторяем тему предыдущего уро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Вопрос №1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Что такое сложное бессоюзное предложение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СБП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– это сложное предложение, в котором простые предложения объединены в одно целое по смыслу и интонационно, без помощи союзов или союзных с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Повторяем тему предыдущего уро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598760"/>
            <a:ext cx="739908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опрос №2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При каких условиях в СБП ставится запятая, точка с запятой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СБП со значением </a:t>
            </a:r>
            <a:r>
              <a:rPr b="1" i="1" lang="en-US" sz="2800" spc="-1" strike="noStrike">
                <a:solidFill>
                  <a:srgbClr val="f7d47d"/>
                </a:solidFill>
                <a:latin typeface="Arial"/>
              </a:rPr>
              <a:t>одновременност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2800" spc="-1" strike="noStrike">
                <a:solidFill>
                  <a:srgbClr val="f7d47d"/>
                </a:solidFill>
                <a:latin typeface="Arial"/>
              </a:rPr>
              <a:t>последовательност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дно предложение отделяется от другой </a:t>
            </a: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запят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Если части СБП осложнены, между ними ставится </a:t>
            </a: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точка с запят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9240" y="0"/>
            <a:ext cx="76658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Повторяем тему предыдущего урока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4400" spc="-1" strike="noStrike">
                <a:solidFill>
                  <a:srgbClr val="f7d47d"/>
                </a:solidFill>
                <a:latin typeface="Arial"/>
              </a:rPr>
              <a:t>Тестовое задание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2492280"/>
            <a:ext cx="36162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АРИАНТ 1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з предложенных предложений выберите те, в которых ставится </a:t>
            </a: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запята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32000" y="2492280"/>
            <a:ext cx="361764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АРИАНТ 2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з предложенных предложений выберите те, в которых ставится </a:t>
            </a: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точка с запят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5734080"/>
            <a:ext cx="1439640" cy="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5734080"/>
            <a:ext cx="2881080" cy="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40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8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448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1 в. – запятая</a:t>
            </a:r>
            <a:br>
              <a:rPr sz="2000"/>
            </a:b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2 в. – точка с запятой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7956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А) Кусты   зашевелились   вспорхнула полусонная   птичка. (В. Гаршин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Б) Слабо    шурша,   падали    шишки   вздыхая, шумел   лес. (А. Грин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В) Время   стоит   ещё   раннее   золотистый утренний   туман   вьётся   над   просёлком. (С.-Щ.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Г) На    дворе   декабрь   в   половине   окрестность   тихо   цепенеет. (С.-Щ.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Д) Я   не   видел   Вас   целую   неделю   я   не слышал   Вас   долго. (А. Чехов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Е) Погода   утихла   тучи   расходились   перед   ним   лежала   равнина. (К. Паустовский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Ж) Солнце   скрылось   за   небольшую   осиновую   рощу тень   от   неё   без   конца   тянулась   через неподвижные   поля (Л. Н. Толстой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З) Успокойтесь   рана   не   опасна. (Л. Н. Толстой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И) И   дни   бегут   желтеют   нивы   с   дерев   спадает дряхлый   лист. (А. С. Пушкин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К) Снег   падал   медленно   превращая   дорогу   в сугробы   он   наклонял   своей   тяжестью   деревья. (А. Н. Толстой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3440" y="619920"/>
            <a:ext cx="46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05800" y="11962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29440" y="1772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78880" y="2348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21080" y="28519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10160" y="335700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3080" y="335700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98160" y="4004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12720" y="47235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7440" y="50126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05080" y="50126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78160" y="58762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28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28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12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14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348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616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8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168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408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0"/>
                            </p:stCondLst>
                            <p:childTnLst>
                              <p:par>
                                <p:cTn id="2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9000"/>
                            </p:stCondLst>
                            <p:childTnLst>
                              <p:par>
                                <p:cTn id="2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ОТВЕТ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529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АРИАНТ 1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ЗАПЯТ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А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Кусты зашевелились, вспорхнула полусонная   птичк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Д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Я не видел Вас целую неделю, я не слышал Вас долго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Е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Погода утихла, тучи расходились, перед ним лежала равнин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З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Успокойтесь, рана не опасн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И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И дни бегут, желтеют нивы, с дерев спадает дряхлый лист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492000" y="764640"/>
            <a:ext cx="431964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АРИАНТ 2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ТОЧКА С ЗАПЯТ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Б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Слабо шурша, падали шишки; вздыхая, шумел лес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В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Время стоит ещё раннее; золотистый утренний туман вьётся над просёлко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Г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На дворе декабрь в половине; окрестность тихо цепенеет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Ж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Солнце скрылось за   небольшую осиновую рощу;  тень от неё без конца   тянулась через неподвижные   пол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К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Снег падал медленно   превращая дорогу в сугробы;   он наклонял своей тяжестью   деревья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5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5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65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0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5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80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0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Нормы оцено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SzPct val="10288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Times New Roman"/>
              </a:rPr>
              <a:t>0 ошибок – «5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SzPct val="1028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Times New Roman"/>
              </a:rPr>
              <a:t>1 ошибка – «4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SzPct val="10288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Times New Roman"/>
              </a:rPr>
              <a:t>2 ошибки – «3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SzPct val="10288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Times New Roman"/>
              </a:rPr>
              <a:t>3 и более  – «2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7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6" dur="770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Пиши правильно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39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К</a:t>
            </a:r>
            <a:r>
              <a:rPr b="1" i="1" lang="en-US" sz="4400" spc="-1" strike="noStrike" u="sng">
                <a:solidFill>
                  <a:srgbClr val="79af7d"/>
                </a:solidFill>
                <a:uFillTx/>
                <a:latin typeface="Arial"/>
              </a:rPr>
              <a:t>О</a:t>
            </a: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НКУРЕНЦИ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АГ</a:t>
            </a:r>
            <a:r>
              <a:rPr b="1" i="1" lang="en-US" sz="4400" spc="-1" strike="noStrike" u="sng">
                <a:solidFill>
                  <a:srgbClr val="79af7d"/>
                </a:solidFill>
                <a:uFillTx/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ТАЦИ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Д</a:t>
            </a:r>
            <a:r>
              <a:rPr b="1" i="1" lang="en-US" sz="4400" spc="-1" strike="noStrike" u="sng">
                <a:solidFill>
                  <a:srgbClr val="79af7d"/>
                </a:solidFill>
                <a:uFillTx/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МОНСТРАЦИ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Р</a:t>
            </a:r>
            <a:r>
              <a:rPr b="1" i="1" lang="en-US" sz="4400" spc="-1" strike="noStrike" u="sng">
                <a:solidFill>
                  <a:srgbClr val="79af7d"/>
                </a:solidFill>
                <a:uFillTx/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ЗОЛЮЦИ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79af7d"/>
                </a:solidFill>
                <a:uFillTx/>
                <a:latin typeface="Arial"/>
              </a:rPr>
              <a:t>О</a:t>
            </a: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РГАНИЗАЦИ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ОФ</a:t>
            </a:r>
            <a:r>
              <a:rPr b="1" i="1" lang="en-US" sz="4400" spc="-1" strike="noStrike" u="sng">
                <a:solidFill>
                  <a:srgbClr val="79af7d"/>
                </a:solidFill>
                <a:uFillTx/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ЦИАЛЬНЫЙ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3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7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2:07:23Z</dcterms:created>
  <dc:creator>Павел</dc:creator>
  <dc:description/>
  <dc:language>en-US</dc:language>
  <cp:lastModifiedBy>Admin</cp:lastModifiedBy>
  <dcterms:modified xsi:type="dcterms:W3CDTF">2012-08-26T14:38:49Z</dcterms:modified>
  <cp:revision>16</cp:revision>
  <dc:subject/>
  <dc:title>Тема: «СЛОЖНЫЕ БЕССОЮЗНЫЕ ПРЕДЛОЖЕНИЯ.»</dc:title>
</cp:coreProperties>
</file>