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26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716-B445-44E2-B22A-86D6F228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F8F-AA91-4D3F-80AC-E2B2C306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18B-B85E-427F-83D7-CA0AC528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080-2084-46C2-B387-7FE4B1BB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760-3EEC-45CD-95EE-09032D5B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CD6-E41D-42FD-AC43-3C2B516A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524-2245-47C0-AC81-A900C6A3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1FB-8DFA-4CCB-952E-0EB8DDCE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D53-8A3C-499F-825C-7EB0F6A0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8BE-5B0D-4393-B4CD-6592BF5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DC6-C90B-455C-9288-A8CB02FB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FAC-42A7-46E9-A6F0-C022874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8FC3-D62F-470F-8FC0-66FF8514E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29"/>
          <p:cNvPicPr/>
          <p:nvPr/>
        </p:nvPicPr>
        <p:blipFill>
          <a:blip r:embed="rId1"/>
          <a:stretch/>
        </p:blipFill>
        <p:spPr>
          <a:xfrm>
            <a:off x="2268360" y="0"/>
            <a:ext cx="6458040" cy="645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160200"/>
            <a:ext cx="914400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зменение вида звездного неба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течение год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260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Видимый годовой путь Солнца проходит через тринадцать созвездий, начиная от точки весеннего равноденств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вен, Телец, Близнецы, Рак, Лев, Дева, Весы, Скорпион, Змееносец, Стрелец, Козерог, Водолей, Рыбы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 древней традиции только двенадцать из них называю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одиакальными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Созвезди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мееносца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к зодиакальным созвездиям не причисля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Zod1"/>
          <p:cNvPicPr/>
          <p:nvPr/>
        </p:nvPicPr>
        <p:blipFill>
          <a:blip r:embed="rId1"/>
          <a:stretch/>
        </p:blipFill>
        <p:spPr>
          <a:xfrm>
            <a:off x="307800" y="3130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Zod5"/>
          <p:cNvPicPr/>
          <p:nvPr/>
        </p:nvPicPr>
        <p:blipFill>
          <a:blip r:embed="rId2"/>
          <a:stretch/>
        </p:blipFill>
        <p:spPr>
          <a:xfrm>
            <a:off x="2085840" y="3130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Zod9"/>
          <p:cNvPicPr/>
          <p:nvPr/>
        </p:nvPicPr>
        <p:blipFill>
          <a:blip r:embed="rId3"/>
          <a:stretch/>
        </p:blipFill>
        <p:spPr>
          <a:xfrm>
            <a:off x="3863880" y="3130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Zod2"/>
          <p:cNvPicPr/>
          <p:nvPr/>
        </p:nvPicPr>
        <p:blipFill>
          <a:blip r:embed="rId4"/>
          <a:stretch/>
        </p:blipFill>
        <p:spPr>
          <a:xfrm>
            <a:off x="307800" y="3403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Zod6"/>
          <p:cNvPicPr/>
          <p:nvPr/>
        </p:nvPicPr>
        <p:blipFill>
          <a:blip r:embed="rId5"/>
          <a:stretch/>
        </p:blipFill>
        <p:spPr>
          <a:xfrm>
            <a:off x="2085840" y="3403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Zod10"/>
          <p:cNvPicPr/>
          <p:nvPr/>
        </p:nvPicPr>
        <p:blipFill>
          <a:blip r:embed="rId6"/>
          <a:stretch/>
        </p:blipFill>
        <p:spPr>
          <a:xfrm>
            <a:off x="3863880" y="3403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9" descr="Zod3"/>
          <p:cNvPicPr/>
          <p:nvPr/>
        </p:nvPicPr>
        <p:blipFill>
          <a:blip r:embed="rId7"/>
          <a:stretch/>
        </p:blipFill>
        <p:spPr>
          <a:xfrm>
            <a:off x="307800" y="37656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Zod7"/>
          <p:cNvPicPr/>
          <p:nvPr/>
        </p:nvPicPr>
        <p:blipFill>
          <a:blip r:embed="rId8"/>
          <a:stretch/>
        </p:blipFill>
        <p:spPr>
          <a:xfrm>
            <a:off x="2085840" y="37656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5" descr="Zod11"/>
          <p:cNvPicPr/>
          <p:nvPr/>
        </p:nvPicPr>
        <p:blipFill>
          <a:blip r:embed="rId9"/>
          <a:stretch/>
        </p:blipFill>
        <p:spPr>
          <a:xfrm>
            <a:off x="3863880" y="37656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8" descr="Zod4"/>
          <p:cNvPicPr/>
          <p:nvPr/>
        </p:nvPicPr>
        <p:blipFill>
          <a:blip r:embed="rId10"/>
          <a:stretch/>
        </p:blipFill>
        <p:spPr>
          <a:xfrm>
            <a:off x="307800" y="4130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Zod8"/>
          <p:cNvPicPr/>
          <p:nvPr/>
        </p:nvPicPr>
        <p:blipFill>
          <a:blip r:embed="rId11"/>
          <a:stretch/>
        </p:blipFill>
        <p:spPr>
          <a:xfrm>
            <a:off x="2085840" y="4130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4" descr="Zod12"/>
          <p:cNvPicPr/>
          <p:nvPr/>
        </p:nvPicPr>
        <p:blipFill>
          <a:blip r:embed="rId12"/>
          <a:stretch/>
        </p:blipFill>
        <p:spPr>
          <a:xfrm>
            <a:off x="3863880" y="4130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5" descr="2489"/>
          <p:cNvPicPr/>
          <p:nvPr/>
        </p:nvPicPr>
        <p:blipFill>
          <a:blip r:embed="rId13"/>
          <a:stretch/>
        </p:blipFill>
        <p:spPr>
          <a:xfrm>
            <a:off x="2124000" y="2133720"/>
            <a:ext cx="504036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529"/>
          <p:cNvPicPr/>
          <p:nvPr/>
        </p:nvPicPr>
        <p:blipFill>
          <a:blip r:embed="rId1"/>
          <a:stretch/>
        </p:blipFill>
        <p:spPr>
          <a:xfrm>
            <a:off x="1332000" y="0"/>
            <a:ext cx="6697440" cy="6697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ждом зодиакальном созвездии Солнце проводит примерно мес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336"/>
          <p:cNvPicPr/>
          <p:nvPr/>
        </p:nvPicPr>
        <p:blipFill>
          <a:blip r:embed="rId1"/>
          <a:stretch/>
        </p:blipFill>
        <p:spPr>
          <a:xfrm>
            <a:off x="971640" y="747720"/>
            <a:ext cx="7345440" cy="5878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611280" y="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е Земли вокруг Солнца 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ущееся годичное движение Солнца по эклипт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-252360" y="0"/>
            <a:ext cx="96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с шириной около 9 градусов по обе стороны от эклиптик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одиак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той зоне проходят видимые пути Солнца, звезд и большинства пла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диак проходит через 13 созвездий и делится на 12 знаков зоди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2396"/>
          <p:cNvPicPr/>
          <p:nvPr/>
        </p:nvPicPr>
        <p:blipFill>
          <a:blip r:embed="rId1"/>
          <a:stretch/>
        </p:blipFill>
        <p:spPr>
          <a:xfrm>
            <a:off x="1332000" y="1125360"/>
            <a:ext cx="6767280" cy="54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оло 2 тысяч лет назад знаки зодиака совпадали с одноименными зодиакальными созвезди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у далекую эпоху, во времена Гиппарха, точка весеннего равноденствия находилась 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в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поэтому была обозначена знаком этого созвездия, знаком Овна. Аналогично точка летнего солнцестояния находилась 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обозначена его знаком, точка осеннего равноденствия 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ес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точка зимнего солнцестояни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зеро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79280" y="2276640"/>
            <a:ext cx="38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затем они постепенно сместились к западу и давно уже наход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оч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весеннего равноден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ы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очка осеннего равноден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ев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очка летнего солнце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 1988 года наход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ель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397"/>
          <p:cNvPicPr/>
          <p:nvPr/>
        </p:nvPicPr>
        <p:blipFill>
          <a:blip r:embed="rId1"/>
          <a:stretch/>
        </p:blipFill>
        <p:spPr>
          <a:xfrm>
            <a:off x="4067280" y="191628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0" y="595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щение точки весеннего равноденствия происходит навстречу годичному движению Солнца примерно на 50" в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0" y="18900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ой смещения знаков зодиака относительно одноименных зодиакальных созвездий является установленная еще Гиппархом Родосским во II веке до нашей эры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ецесс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ли предварение равноден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1163"/>
          <p:cNvPicPr/>
          <p:nvPr/>
        </p:nvPicPr>
        <p:blipFill>
          <a:blip r:embed="rId1"/>
          <a:stretch/>
        </p:blipFill>
        <p:spPr>
          <a:xfrm>
            <a:off x="179280" y="1268280"/>
            <a:ext cx="4248360" cy="424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1170"/>
          <p:cNvPicPr/>
          <p:nvPr/>
        </p:nvPicPr>
        <p:blipFill>
          <a:blip r:embed="rId2"/>
          <a:stretch/>
        </p:blipFill>
        <p:spPr>
          <a:xfrm>
            <a:off x="4572000" y="1268280"/>
            <a:ext cx="4249800" cy="4249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7"/>
          <p:cNvSpPr/>
          <p:nvPr/>
        </p:nvSpPr>
        <p:spPr>
          <a:xfrm>
            <a:off x="0" y="566100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езды, лежащие на этой окружности или около нее, поочередно будут поляр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ньше около полюса мира находились звезды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Тубан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Кохаб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–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олярная звезда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1"/>
          <p:cNvSpPr/>
          <p:nvPr/>
        </p:nvSpPr>
        <p:spPr>
          <a:xfrm>
            <a:off x="0" y="260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уточном вращении небесной сферы положение звезд по отношению к небесному экватору не изменяется. Поэтому экваториальные координаты используются для создания звездных карт и атласов.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01010701"/>
          <p:cNvPicPr/>
          <p:nvPr/>
        </p:nvPicPr>
        <p:blipFill>
          <a:blip r:embed="rId1"/>
          <a:stretch/>
        </p:blipFill>
        <p:spPr>
          <a:xfrm>
            <a:off x="4859280" y="191628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7242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146"/>
          <p:cNvPicPr/>
          <p:nvPr/>
        </p:nvPicPr>
        <p:blipFill>
          <a:blip r:embed="rId1"/>
          <a:srcRect l="0" t="0" r="0" b="-2872"/>
          <a:stretch/>
        </p:blipFill>
        <p:spPr>
          <a:xfrm>
            <a:off x="3851280" y="1341360"/>
            <a:ext cx="5292720" cy="3025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851280" y="4653000"/>
            <a:ext cx="52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Экваториальная система коорд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9280" y="1197000"/>
            <a:ext cx="360072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Круг склонения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– большой круг небесной сферы, проходящий через полюсы мира и наблюдаемое свети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Склонение светил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l-GR" sz="1600" spc="-1" strike="noStrike">
                <a:solidFill>
                  <a:srgbClr val="ffff00"/>
                </a:solidFill>
                <a:latin typeface="Arial"/>
                <a:ea typeface="Arial"/>
              </a:rPr>
              <a:t>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) – угловое расстояние от плоскости небесного экватора, измеренное вдоль круга скло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рямое восхожд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l-GR" sz="16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) – угловое расстояние отсчитанное от точки весеннего равноденствия вдоль небесного экватора в сторону, противоположную суточному вращению небесной 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е светил на небесной сфере опреде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ваториальными координ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468360" y="404640"/>
            <a:ext cx="867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ебесной сфере рассматривают лишь угловые расстоя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гловое расстоя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ежду двумя точками сферы – это угол между лучами, исходящими в направлении двух этих точек из глаза наблюда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500720" y="155736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Приняты следующие единицы угловых расстоя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адиан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– центральный угол, соответствующий дуге, длина которой равна ее радиусу. В 1 радиане 57°17´45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радус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– центральный угол, соответствующий 1/360 части окружности. Один дуговой градус 1° = 60´, одна дуговая минута 1´ = 60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час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– центральный угол, соответствующий 1/24 части окруж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1h = 15°, 1h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= 60m, 1m = 60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1 минута в часовой мере равна 15 дуговым минутам, 1 секунда в часовой мере равна 15 дуговым секундам: 1m = 15´, 1s = 15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59500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дин радиан, десять градусов и один 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01010302"/>
          <p:cNvPicPr/>
          <p:nvPr/>
        </p:nvPicPr>
        <p:blipFill>
          <a:blip r:embed="rId1"/>
          <a:srcRect l="12231" t="16327" r="16327" b="12287"/>
          <a:stretch/>
        </p:blipFill>
        <p:spPr>
          <a:xfrm>
            <a:off x="250920" y="1916280"/>
            <a:ext cx="3889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189000"/>
            <a:ext cx="932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липт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идимый годовой путь центра солнечного диска по небесной сф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Перемещение Солнца по эклиптике вызвано годовым движением Земли вокруг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Центр солнечного диска пересекает небесный экватор два раза в году – в марте и в сентяб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47640" y="6308640"/>
            <a:ext cx="63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Взаимное расположение небесного экватора и эклип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519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и пересечения эклиптики с небесным экватором назы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ам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есенне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еннего равноденств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точку весеннего равноденствия Солнце переходит из южного полушария небесной сферы в северное (21 мар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точку осеннего равноденствия Солнце переходит из северного полушария небесной сферы в южное (23 сентябр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42735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8900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летнего солнцестояния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2 ию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 имеет максимальное скло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очк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имнего солнце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2 дека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 имеет минимальное скло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43671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588000" y="1628640"/>
            <a:ext cx="2556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и солнцестояния, как и дни равноденствия, могут мен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зано это с тем, что в году не 365 суток, а немного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и солнцестояния отстоят от точек равноденствия на 90°.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941"/>
          <p:cNvPicPr/>
          <p:nvPr/>
        </p:nvPicPr>
        <p:blipFill>
          <a:blip r:embed="rId1"/>
          <a:stretch/>
        </p:blipFill>
        <p:spPr>
          <a:xfrm>
            <a:off x="179280" y="2421000"/>
            <a:ext cx="4897440" cy="2798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189000"/>
            <a:ext cx="91440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ваториальные координаты Солнца в течении года непрерывно изменя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нь летнего солнцестоян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2 ию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клонение Солнца δ = +23°27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нь зимнего солнцестоян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2 декабр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клонение Солнца δ = -23°27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нь весеннего равноденств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1 ма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еннего равноденств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3 сентя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лонение Солн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δ = 0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943"/>
          <p:cNvPicPr/>
          <p:nvPr/>
        </p:nvPicPr>
        <p:blipFill>
          <a:blip r:embed="rId2"/>
          <a:stretch/>
        </p:blipFill>
        <p:spPr>
          <a:xfrm>
            <a:off x="5219640" y="242100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6:47:09Z</dcterms:created>
  <dc:creator>Victor</dc:creator>
  <dc:description/>
  <dc:language>en-US</dc:language>
  <cp:lastModifiedBy>Коля</cp:lastModifiedBy>
  <dcterms:modified xsi:type="dcterms:W3CDTF">2013-05-10T09:26:00Z</dcterms:modified>
  <cp:revision>14</cp:revision>
  <dc:subject/>
  <dc:title>Изменение вида звездного неба в течение года</dc:title>
</cp:coreProperties>
</file>