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7.gif" ContentType="image/gif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5.png" ContentType="image/png"/>
  <Override PartName="/ppt/media/image17.png" ContentType="image/png"/>
  <Override PartName="/ppt/media/image29.png" ContentType="image/png"/>
  <Override PartName="/ppt/media/image26.gif" ContentType="image/gi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28.jpeg" ContentType="image/jpeg"/>
  <Override PartName="/ppt/media/image20.png" ContentType="image/png"/>
  <Override PartName="/ppt/media/image16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3180-4914-4E7D-B95A-4018F97DC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ECBF-0609-4A54-9045-3644A6A7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EAD5-DB67-4C6C-B53E-3D2DB3DAD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6C6F-D7FB-488E-BD28-95A62CDD5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69D7-319F-4B19-9A02-B0BE88B0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17C6-6403-4182-8DEF-F1CCB869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FEF6-E179-4C52-A3F7-3DED82E9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09A5-8650-44FD-962D-DB1BD9BC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BEF8-3541-4D50-B1C9-D1494FE4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D354-7E92-4462-8FC7-F83057C0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9A8C-6DF0-40B2-9516-16B25164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B50D-40D4-45B4-AFE4-5412E8CB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B4C7-C4B6-49FD-B39F-8A751A64CC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529"/>
          <p:cNvPicPr/>
          <p:nvPr/>
        </p:nvPicPr>
        <p:blipFill>
          <a:blip r:embed="rId1"/>
          <a:stretch/>
        </p:blipFill>
        <p:spPr>
          <a:xfrm>
            <a:off x="2268360" y="0"/>
            <a:ext cx="6458040" cy="6458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160200"/>
            <a:ext cx="9144000" cy="137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Изменение вида звездного неба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 течение года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0" y="2602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Видимый годовой путь Солнца проходит через тринадцать созвездий, начиная от точки весеннего равноденств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Овен, Телец, Близнецы, Рак, Лев, Дева, Весы, Скорпион, Змееносец, Стрелец, Козерог, Водолей, Рыбы</a:t>
            </a: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По древней традиции только двенадцать из них называются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зодиакальными</a:t>
            </a: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Созвездие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Змееносца</a:t>
            </a: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 к зодиакальным созвездиям не причисляю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Zod1"/>
          <p:cNvPicPr/>
          <p:nvPr/>
        </p:nvPicPr>
        <p:blipFill>
          <a:blip r:embed="rId1"/>
          <a:stretch/>
        </p:blipFill>
        <p:spPr>
          <a:xfrm>
            <a:off x="307800" y="313056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Zod5"/>
          <p:cNvPicPr/>
          <p:nvPr/>
        </p:nvPicPr>
        <p:blipFill>
          <a:blip r:embed="rId2"/>
          <a:stretch/>
        </p:blipFill>
        <p:spPr>
          <a:xfrm>
            <a:off x="2085840" y="313056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" descr="Zod9"/>
          <p:cNvPicPr/>
          <p:nvPr/>
        </p:nvPicPr>
        <p:blipFill>
          <a:blip r:embed="rId3"/>
          <a:stretch/>
        </p:blipFill>
        <p:spPr>
          <a:xfrm>
            <a:off x="3863880" y="313056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0" descr="Zod2"/>
          <p:cNvPicPr/>
          <p:nvPr/>
        </p:nvPicPr>
        <p:blipFill>
          <a:blip r:embed="rId4"/>
          <a:stretch/>
        </p:blipFill>
        <p:spPr>
          <a:xfrm>
            <a:off x="307800" y="34034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3" descr="Zod6"/>
          <p:cNvPicPr/>
          <p:nvPr/>
        </p:nvPicPr>
        <p:blipFill>
          <a:blip r:embed="rId5"/>
          <a:stretch/>
        </p:blipFill>
        <p:spPr>
          <a:xfrm>
            <a:off x="2085840" y="34034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6" descr="Zod10"/>
          <p:cNvPicPr/>
          <p:nvPr/>
        </p:nvPicPr>
        <p:blipFill>
          <a:blip r:embed="rId6"/>
          <a:stretch/>
        </p:blipFill>
        <p:spPr>
          <a:xfrm>
            <a:off x="3863880" y="34034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9" descr="Zod3"/>
          <p:cNvPicPr/>
          <p:nvPr/>
        </p:nvPicPr>
        <p:blipFill>
          <a:blip r:embed="rId7"/>
          <a:stretch/>
        </p:blipFill>
        <p:spPr>
          <a:xfrm>
            <a:off x="307800" y="376560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2" descr="Zod7"/>
          <p:cNvPicPr/>
          <p:nvPr/>
        </p:nvPicPr>
        <p:blipFill>
          <a:blip r:embed="rId8"/>
          <a:stretch/>
        </p:blipFill>
        <p:spPr>
          <a:xfrm>
            <a:off x="2085840" y="376560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5" descr="Zod11"/>
          <p:cNvPicPr/>
          <p:nvPr/>
        </p:nvPicPr>
        <p:blipFill>
          <a:blip r:embed="rId9"/>
          <a:stretch/>
        </p:blipFill>
        <p:spPr>
          <a:xfrm>
            <a:off x="3863880" y="376560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8" descr="Zod4"/>
          <p:cNvPicPr/>
          <p:nvPr/>
        </p:nvPicPr>
        <p:blipFill>
          <a:blip r:embed="rId10"/>
          <a:stretch/>
        </p:blipFill>
        <p:spPr>
          <a:xfrm>
            <a:off x="307800" y="41306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1" descr="Zod8"/>
          <p:cNvPicPr/>
          <p:nvPr/>
        </p:nvPicPr>
        <p:blipFill>
          <a:blip r:embed="rId11"/>
          <a:stretch/>
        </p:blipFill>
        <p:spPr>
          <a:xfrm>
            <a:off x="2085840" y="41306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4" descr="Zod12"/>
          <p:cNvPicPr/>
          <p:nvPr/>
        </p:nvPicPr>
        <p:blipFill>
          <a:blip r:embed="rId12"/>
          <a:stretch/>
        </p:blipFill>
        <p:spPr>
          <a:xfrm>
            <a:off x="3863880" y="41306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5" descr="2489"/>
          <p:cNvPicPr/>
          <p:nvPr/>
        </p:nvPicPr>
        <p:blipFill>
          <a:blip r:embed="rId13"/>
          <a:stretch/>
        </p:blipFill>
        <p:spPr>
          <a:xfrm>
            <a:off x="2124000" y="2133720"/>
            <a:ext cx="5040360" cy="42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529"/>
          <p:cNvPicPr/>
          <p:nvPr/>
        </p:nvPicPr>
        <p:blipFill>
          <a:blip r:embed="rId1"/>
          <a:stretch/>
        </p:blipFill>
        <p:spPr>
          <a:xfrm>
            <a:off x="1332000" y="0"/>
            <a:ext cx="6697440" cy="66978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9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каждом зодиакальном созвездии Солнце проводит примерно меся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1336"/>
          <p:cNvPicPr/>
          <p:nvPr/>
        </p:nvPicPr>
        <p:blipFill>
          <a:blip r:embed="rId1"/>
          <a:stretch/>
        </p:blipFill>
        <p:spPr>
          <a:xfrm>
            <a:off x="971640" y="747720"/>
            <a:ext cx="7345440" cy="58784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611280" y="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вижение Земли вокруг Солнца и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жущееся годичное движение Солнца по эклипти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-252360" y="0"/>
            <a:ext cx="96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яс шириной около 9 градусов по обе стороны от эклиптики называется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зодиако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этой зоне проходят видимые пути Солнца, звезд и большинства план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одиак проходит через 13 созвездий и делится на 12 знаков зодиа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2396"/>
          <p:cNvPicPr/>
          <p:nvPr/>
        </p:nvPicPr>
        <p:blipFill>
          <a:blip r:embed="rId1"/>
          <a:stretch/>
        </p:blipFill>
        <p:spPr>
          <a:xfrm>
            <a:off x="1332000" y="1125360"/>
            <a:ext cx="6767280" cy="541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79280" y="0"/>
            <a:ext cx="896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коло 2 тысяч лет назад знаки зодиака совпадали с одноименными зодиакальными созвездия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ту далекую эпоху, во времена Гиппарха, точка весеннего равноденствия находилась в созвездии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Овн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поэтому была обозначена знаком этого созвездия, знаком Овна. Аналогично точка летнего солнцестояния находилась в созвездии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Ра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обозначена его знаком, точка осеннего равноденствия в созвездии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Вес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а точка зимнего солнцестояния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озвездии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Козерог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79280" y="2276640"/>
            <a:ext cx="3888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 затем они постепенно сместились к западу и давно уже находятс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точ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весеннего равноден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озвездии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Рыб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точка осеннего равноден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озвездии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Дев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Точка летнего солнцестоя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 1988 года находи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озвездии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Тельц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2397"/>
          <p:cNvPicPr/>
          <p:nvPr/>
        </p:nvPicPr>
        <p:blipFill>
          <a:blip r:embed="rId1"/>
          <a:stretch/>
        </p:blipFill>
        <p:spPr>
          <a:xfrm>
            <a:off x="4067280" y="1916280"/>
            <a:ext cx="4762440" cy="38098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0" y="5950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мещение точки весеннего равноденствия происходит навстречу годичному движению Солнца примерно на 50" в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1"/>
          <p:cNvSpPr/>
          <p:nvPr/>
        </p:nvSpPr>
        <p:spPr>
          <a:xfrm>
            <a:off x="0" y="189000"/>
            <a:ext cx="9144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чиной смещения знаков зодиака относительно одноименных зодиакальных созвездий является установленная еще Гиппархом Родосским во II веке до нашей эры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рецесс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или предварение равноденств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2" descr="1163"/>
          <p:cNvPicPr/>
          <p:nvPr/>
        </p:nvPicPr>
        <p:blipFill>
          <a:blip r:embed="rId1"/>
          <a:stretch/>
        </p:blipFill>
        <p:spPr>
          <a:xfrm>
            <a:off x="179280" y="1268280"/>
            <a:ext cx="4248360" cy="4248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1170"/>
          <p:cNvPicPr/>
          <p:nvPr/>
        </p:nvPicPr>
        <p:blipFill>
          <a:blip r:embed="rId2"/>
          <a:stretch/>
        </p:blipFill>
        <p:spPr>
          <a:xfrm>
            <a:off x="4572000" y="1268280"/>
            <a:ext cx="4249800" cy="42498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7"/>
          <p:cNvSpPr/>
          <p:nvPr/>
        </p:nvSpPr>
        <p:spPr>
          <a:xfrm>
            <a:off x="0" y="5661000"/>
            <a:ext cx="896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везды, лежащие на этой окружности или около нее, поочередно будут полярны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ньше около полюса мира находились звезды</a:t>
            </a: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Тубан</a:t>
            </a: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Кохаб</a:t>
            </a: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настоящее время –</a:t>
            </a: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Полярная звезда</a:t>
            </a: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1"/>
          <p:cNvSpPr/>
          <p:nvPr/>
        </p:nvSpPr>
        <p:spPr>
          <a:xfrm>
            <a:off x="0" y="2602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суточном вращении небесной сферы положение звезд по отношению к небесному экватору не изменяется. Поэтому экваториальные координаты используются для создания звездных карт и атласов.</a:t>
            </a: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4" descr="01010701"/>
          <p:cNvPicPr/>
          <p:nvPr/>
        </p:nvPicPr>
        <p:blipFill>
          <a:blip r:embed="rId1"/>
          <a:stretch/>
        </p:blipFill>
        <p:spPr>
          <a:xfrm>
            <a:off x="4859280" y="1916280"/>
            <a:ext cx="3529080" cy="3528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6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37242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1146"/>
          <p:cNvPicPr/>
          <p:nvPr/>
        </p:nvPicPr>
        <p:blipFill>
          <a:blip r:embed="rId1"/>
          <a:srcRect l="0" t="0" r="0" b="-2872"/>
          <a:stretch/>
        </p:blipFill>
        <p:spPr>
          <a:xfrm>
            <a:off x="3851280" y="1341360"/>
            <a:ext cx="5292720" cy="30258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3851280" y="4653000"/>
            <a:ext cx="529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Экваториальная система координ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79280" y="1197000"/>
            <a:ext cx="3600720" cy="37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Круг склонения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– большой круг небесной сферы, проходящий через полюсы мира и наблюдаемое светил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Склонение светил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0" lang="el-GR" sz="1600" spc="-1" strike="noStrike">
                <a:solidFill>
                  <a:srgbClr val="ffff00"/>
                </a:solidFill>
                <a:latin typeface="Arial"/>
                <a:ea typeface="Arial"/>
              </a:rPr>
              <a:t>δ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) – угловое расстояние от плоскости небесного экватора, измеренное вдоль круга склон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Прямое восхождение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0" lang="el-GR" sz="1600" spc="-1" strike="noStrike">
                <a:solidFill>
                  <a:srgbClr val="ffff00"/>
                </a:solidFill>
                <a:latin typeface="Arial"/>
                <a:ea typeface="Arial"/>
              </a:rPr>
              <a:t>α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) – угловое расстояние отсчитанное от точки весеннего равноденствия вдоль небесного экватора в сторону, противоположную суточному вращению небесной сфе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0" y="189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ложение светил на небесной сфере определя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экваториальными координа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5"/>
          <p:cNvSpPr/>
          <p:nvPr/>
        </p:nvSpPr>
        <p:spPr>
          <a:xfrm>
            <a:off x="468360" y="404640"/>
            <a:ext cx="8675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небесной сфере рассматривают лишь угловые расстоя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Угловое расстоян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между двумя точками сферы – это угол между лучами, исходящими в направлении двух этих точек из глаза наблюдате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4500720" y="1557360"/>
            <a:ext cx="44640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Приняты следующие единицы угловых расстоян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радиан</a:t>
            </a: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 – центральный угол, соответствующий дуге, длина которой равна ее радиусу. В 1 радиане 57°17´45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градус</a:t>
            </a: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 – центральный угол, соответствующий 1/360 части окружности. Один дуговой градус 1° = 60´, одна дуговая минута 1´ = 60"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час</a:t>
            </a: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 – центральный угол, соответствующий 1/24 части окруж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1h = 15°, 1h</a:t>
            </a: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= 60m, 1m = 60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1 минута в часовой мере равна 15 дуговым минутам, 1 секунда в часовой мере равна 15 дуговым секундам: 1m = 15´, 1s = 15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50920" y="595008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дин радиан, десять градусов и один ча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01010302"/>
          <p:cNvPicPr/>
          <p:nvPr/>
        </p:nvPicPr>
        <p:blipFill>
          <a:blip r:embed="rId1"/>
          <a:srcRect l="12231" t="16327" r="16327" b="12287"/>
          <a:stretch/>
        </p:blipFill>
        <p:spPr>
          <a:xfrm>
            <a:off x="250920" y="1916280"/>
            <a:ext cx="38894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0" y="189000"/>
            <a:ext cx="93250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Эклипти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видимый годовой путь центра солнечного диска по небесной сфе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Перемещение Солнца по эклиптике вызвано годовым движением Земли вокруг Солнц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Центр солнечного диска пересекает небесный экватор два раза в году – в марте и в сентябр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547640" y="6308640"/>
            <a:ext cx="633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Взаимное расположение небесного экватора и эклипт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3" descr=""/>
          <p:cNvPicPr/>
          <p:nvPr/>
        </p:nvPicPr>
        <p:blipFill>
          <a:blip r:embed="rId1"/>
          <a:stretch/>
        </p:blipFill>
        <p:spPr>
          <a:xfrm>
            <a:off x="2268360" y="1413000"/>
            <a:ext cx="4519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0" y="1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чки пересечения эклиптики с небесным экватором называю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чками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весеннег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осеннего равноденств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рез точку весеннего равноденствия Солнце переходит из южного полушария небесной сферы в северное (21 март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рез точку осеннего равноденствия Солнце переходит из северного полушария небесной сферы в южное (23 сентября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"/>
          <p:cNvPicPr/>
          <p:nvPr/>
        </p:nvPicPr>
        <p:blipFill>
          <a:blip r:embed="rId1"/>
          <a:stretch/>
        </p:blipFill>
        <p:spPr>
          <a:xfrm>
            <a:off x="2484360" y="1989000"/>
            <a:ext cx="427356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0" y="189000"/>
            <a:ext cx="93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чке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летнего солнцестояния</a:t>
            </a: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2 июн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лнце имеет максимальное склон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точке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зимнего солнцестоя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2 декабр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лнце имеет минимальное склон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4367160" cy="46087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6588000" y="1628640"/>
            <a:ext cx="255600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ни солнцестояния, как и дни равноденствия, могут меня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вязано это с тем, что в году не 365 суток, а немного больш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чки солнцестояния отстоят от точек равноденствия на 90°.</a:t>
            </a: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941"/>
          <p:cNvPicPr/>
          <p:nvPr/>
        </p:nvPicPr>
        <p:blipFill>
          <a:blip r:embed="rId1"/>
          <a:stretch/>
        </p:blipFill>
        <p:spPr>
          <a:xfrm>
            <a:off x="179280" y="2421000"/>
            <a:ext cx="4897440" cy="27986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0" y="189000"/>
            <a:ext cx="9144000" cy="17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кваториальные координаты Солнца в течении года непрерывно изменя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день летнего солнцестояния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22 июн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клонение Солнца δ = +23°27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день зимнего солнцестояния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22 декабр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клонение Солнца δ = -23°27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день весеннего равноденствия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21 мар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еннего равноденствия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23 сентябр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лонение Солнц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δ = 0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943"/>
          <p:cNvPicPr/>
          <p:nvPr/>
        </p:nvPicPr>
        <p:blipFill>
          <a:blip r:embed="rId2"/>
          <a:stretch/>
        </p:blipFill>
        <p:spPr>
          <a:xfrm>
            <a:off x="5219640" y="2421000"/>
            <a:ext cx="3745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8T16:47:09Z</dcterms:created>
  <dc:creator>Victor</dc:creator>
  <dc:description/>
  <dc:language>en-US</dc:language>
  <cp:lastModifiedBy>Коля</cp:lastModifiedBy>
  <dcterms:modified xsi:type="dcterms:W3CDTF">2013-05-10T09:26:00Z</dcterms:modified>
  <cp:revision>14</cp:revision>
  <dc:subject/>
  <dc:title>Изменение вида звездного неба в течение года</dc:title>
</cp:coreProperties>
</file>