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5C43-BA35-4BAE-9973-66B2117A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59C9-DCB3-47C5-9979-B69CA82C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DAA5-48DA-4BD3-A670-1959FB5A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B8B8-C5F7-4B47-B7B8-AE759CC1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E7EB-0325-417B-99F5-528A4C28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4F1E-3514-4634-ABC9-1E50018D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7C41-D382-47A4-85DE-7A78241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4544-3BA8-4CD2-955B-2C5A61CA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7D8-8EDB-4C12-9AB9-F6552094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4379-F99D-421E-A716-4F72ED38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A72E-D562-43DF-81DA-1615A3E7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7D15-68F5-4B5C-83BE-F95A81F5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A4D7-B1D1-4749-AFCA-2685D9B2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A12C-C952-4EFF-99E6-612ACEC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CB52-16F1-4AB0-AAC3-266B47EA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71D1-E45B-4679-AF93-2C0913B2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27C6-80FE-40D2-B688-C218D010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9AB1-8E7E-4988-BF42-4156188A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BF24-8E9E-41F0-B6FE-53EA86E4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98734-F3B0-4DED-A305-2BC2F1B6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65B5-4691-45DA-A1AA-465888BD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9142-EEFA-4362-B852-53DC5726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1492-755E-4F4F-A299-53CAEEC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1699-8F83-4FAD-9340-6EDA90F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D85B-E0B4-4F4E-8C81-2E4C76B8E0BC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744B-08BE-423D-ADE6-A0751F585F5F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880" y="1752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«Способы перевода фразеологических единиц с английского языка на русский»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Выполнил: Балтян Дарья Игоревн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ащаяся 8 Б класса МОУ-СОШ №7 г.Белгород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Руководитель: Балакирева Виктория Дмитриевна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итель английского языка МОУ-СОШ №7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Фразеологические эквиваленты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Полные эквиваленты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— это русские эквиваленты, в большинстве своем являющиеся моноэквивалентами английских фразеологизмов, совпадающие с ними по значению, по лексическому составу, образности, стилистической направленности и грамматической структуре. Число подобных соответствий невелико: например: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burn one '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boats -   сжечь свои корабли;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in the seventh heaven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 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а седьмом небе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Частичный эквивалент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не означает какой-либо неполноты в передаче значения, а лишь содержит 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лексические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kill the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goose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that lays the golden eggs -убить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курицу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есущую золотые яйца),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грамматические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расхождение(например в числе :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play into somebody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'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s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hands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играть на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руку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кому-л;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there is no rose  without a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thorn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нет розы без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шипов.и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36600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336600"/>
                </a:solidFill>
                <a:latin typeface="Arial"/>
              </a:rPr>
              <a:t>асхождение в порядке слов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all is not gold that glitters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 не все то золото, что блестит; 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he laughs best who  laughs last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- хорошо смеется тот, кто смеется последним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. В последнем случае имеется и незначительное лексическое расхождение ( best —хорошо), или лексико-грамматические расхождения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«Обертональные» переводы»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; или «контекстуальные замены»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2" marL="1578240" indent="-63900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"/>
              </a:rPr>
              <a:t>Калькирование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или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дословный перевод.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4" marL="2665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еревода  безэквивалентной фразеологи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лькирование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John Bull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Джон Буль,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ncle</a:t>
            </a: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 Sam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дядя Сэм ;   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the moon is not seen when the sun shines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– когда светит солнце, луны не видно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писательный перевод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to rob Peter to pay Paul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– отдать одни долги сделав новые (взять у одного, чтобы отдать другому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Актуальность:</a:t>
            </a: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фразеологические единицы представляют собой достаточно большой слой лексики и обладают высокой употребляемостью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проблем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исследования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имеют ли английские</a:t>
            </a:r>
            <a:r>
              <a:rPr b="0" i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фразеологизмы эквиваленты в русском языке и как осуществляется перевод фразеологических единиц с одного языка на другой. Решение этой проблемы и являетс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цель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исследования: изучение способов перевода английских фразеологических  единиц на русский язык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Объектом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исследования является лексикология английского языка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редмето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исследования являются фразеологические единицы английского языка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Гипотеза исследования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английские ФЕ имеют свои эквиваленты в русском языке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перевод ФЕ с английского языка на русский не может быть только прямым (дословным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Задачи исследования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изучить научно-методическую литературу по проблеме исследования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уточнить понятие фразеологизмов и их  классификацию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рассмотреть стратегию перевода фразеологизмов в целом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проанализировать перевод фразеологических единиц с использованием различных видов трансформаций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составить  словарь фразеологизмов для школьников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етоды исследования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описательно-аналитический метод (изучение и анализ научно-методической литературы по проблеме исследования);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нализ опыта работы по формированию и расширению знаний о способах перевода фразеологичеких единиц с английского на русский язык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анализ, интерпретация и обработка результатов исследовани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Фразеологизм, или фразеологическая единица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— устойчивое по составу и структуре, лексически неделимое и целостное по значению словосочетание, выполняющее функцию отдельной лексической единицы. Фразеологизм употребляется как целое, готовое сочетание слов, не подлежащее дальнейшему разложению и обычно не допускающее внутри себя перестановки своих частей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лассификации фразеологических единиц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сраще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– абсолютно неделимые  словосочетания,  «значение которых совершенно независимо от их лексического  состава,  от  значения  их компонентов…» Например, 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to rain cats and dogs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 – лить как из ведра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(о дожде);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be all thumbs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– быть неловким, неуклюжим.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единства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-  словосочетания,  в  которых  «значение  целого связано с пониманием внутри образного стержня фразы,  потенциального  смысла слов».[1, 94].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апример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669900"/>
                </a:solidFill>
                <a:latin typeface="Arial"/>
              </a:rPr>
              <a:t>to spill the beans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выдать</a:t>
            </a:r>
            <a:r>
              <a:rPr b="0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секрет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; </a:t>
            </a:r>
            <a:r>
              <a:rPr b="1" i="1" lang="en-US" sz="1600" spc="-1" strike="noStrike">
                <a:solidFill>
                  <a:srgbClr val="669900"/>
                </a:solidFill>
                <a:latin typeface="Arial"/>
              </a:rPr>
              <a:t>to burn bridges 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– 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сжигать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мосты</a:t>
            </a: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Фразеологические  сочета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 –  словосочетания, «образуемые  реализацией  несвободных  значений  слов». Эти  лексические значения могут проявляться  лишь  в  связи  со  строго  определенным  кругом понятий  и  их  словесных  обозначений. Например,  можно  сказать   ''страх берет'',  ''тоска   берет'',   но   нельзя   сказать:   ''радость   берет'', ''наслаждение берет'' и тому подобное</a:t>
            </a: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 Например</a:t>
            </a:r>
            <a:r>
              <a:rPr b="1" i="1" lang="ru-RU" sz="1600" spc="-1" strike="noStrike">
                <a:solidFill>
                  <a:srgbClr val="669900"/>
                </a:solidFill>
                <a:latin typeface="Arial"/>
              </a:rPr>
              <a:t>:a bosom friend</a:t>
            </a:r>
            <a:r>
              <a:rPr b="1" lang="ru-RU" sz="1600" spc="-1" strike="noStrike">
                <a:solidFill>
                  <a:srgbClr val="669900"/>
                </a:solidFill>
                <a:latin typeface="Arial"/>
              </a:rPr>
              <a:t> – закадычный друг, </a:t>
            </a:r>
            <a:r>
              <a:rPr b="0" i="1" lang="ru-RU" sz="1600" spc="-1" strike="noStrike">
                <a:solidFill>
                  <a:srgbClr val="669900"/>
                </a:solidFill>
                <a:latin typeface="Arial"/>
              </a:rPr>
              <a:t>a pitched battle</a:t>
            </a:r>
            <a:r>
              <a:rPr b="0" lang="ru-RU" sz="1600" spc="-1" strike="noStrike">
                <a:solidFill>
                  <a:srgbClr val="669900"/>
                </a:solidFill>
                <a:latin typeface="Arial"/>
              </a:rPr>
              <a:t> – ожесточенная схватка,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Виды перевода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фразеологических единиц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фразеологический  перевод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нефразеологический перевод  (за  отсутствием  фразеологических  эквивалентов  и  аналогов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kretar</cp:lastModifiedBy>
  <dcterms:modified xsi:type="dcterms:W3CDTF">2011-04-28T08:56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