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4CEB-3CA5-4A7A-92EF-B1C7FD7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4554-0292-437C-BF7F-58B989A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3322-775C-439F-9D26-FB017386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D94D-F44E-4CFE-A5A1-0437CAE2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5316-646E-40B2-B21E-F573BE96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7E1-5911-4BCC-94D4-2C8D0DD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8CE-05BC-4E4D-A923-CCAABBF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607E-3301-4F18-8BED-B8E0E0E8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796-6A6B-4632-A2B9-53BBB633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8CDD-3A9A-449D-BB4F-DCF4237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36A9-5B55-425D-846D-7B9F27B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C0B7-6358-4F47-B9B4-07A009B6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027-B2C5-4A46-8911-997B80B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191-4021-453B-A99C-F3E2A0E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6665-892B-47CC-93B1-FB3261C0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4896-74E4-4E50-9842-6A97BD2E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9DE-1E4B-4D16-85E5-344AF333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189E-FF38-44E3-AF2E-7D7713F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D099-8780-4176-BA85-43783DC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076A-AF41-46ED-8547-3C6F15C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C9DC-69C3-49F3-BFC4-DCDB5BE0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71DA-40DD-4549-8411-F5B11D4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CA5E-1323-4BAB-A5E0-E4CF6E3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1A87-9891-483D-A67E-2635292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F2C-9916-4A9A-A075-887221DD847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2F2-CD32-4C51-AB52-A873C1386D6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880" y="1752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«Способы перевода фразеологических единиц с английского языка на русский»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Выполнил: Балтян Дарья Игор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ащаяся 8 Б класса МОУ-СОШ №7 г.Белгород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Руководитель: Балакирева Виктория Дмитри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итель английского языка МОУ-СОШ №7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е эквиваленты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Полные эквиваленты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— это русские эквиваленты, в большинстве своем являющиеся моноэквивалентами английских фразеологизмов, совпадающие с ними по значению, по лексическому составу, образности, стилистической направленности и грамматической структуре. Число подобных соответствий невелико: например: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burn one 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boats -   сжечь свои корабли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in the seventh heaven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а седьмом неб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Частичный эквивалент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не означает какой-либо неполноты в передаче значения, а лишь содержит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лексически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kill the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goose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that lays the golden eggs -убить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курицу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сущую золотые яйца),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грамматическ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расхождение(например в числе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play into somebody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hands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играть на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руку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кому-л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there is no rose  without a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horn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т розы без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шипов.и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366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асхождение в порядке слов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all is not gold that glitters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не все то золото, что блестит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he laughs best who  laughs last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хорошо смеется тот, кто смеется последним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 В последнем случае имеется и незначительное лексическое расхождение ( best —хорошо), или лексико-грамматические расхожден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«Обертональные» переводы»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; или «контекстуальные замены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Калькирован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или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дословный перевод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4" marL="266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еревода  безэквивалентной фразеологи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лькирование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John Bul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Джон Буль,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ncle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 Sam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дядя Сэм ;   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he moon is not seen when the sun shines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– когда светит солнце, луны не видно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писательный перевод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o rob Peter to pay Pau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– отдать одни долги сделав новые (взять у одного, чтобы отдать другому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Актуальность: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фразеологические единицы представляют собой достаточно большой слой лексики и обладают высокой употребляемостью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проблем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имеют ли английские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змы эквиваленты в русском языке и как осуществляется перевод фразеологических единиц с одного языка на другой. Решение этой проблемы и являет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цель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исследования: изучение способов перевода английских фразеологических  единиц на русский язык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Объектом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исследования является лексикология английского язык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едмето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исследования являются фразеологические единицы английского языка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Гипотеза исследовани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английские ФЕ имеют свои эквиваленты в русском язык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перевод ФЕ с английского языка на русский не может быть только прямым (дословным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зучить научно-методическую литературу по проблеме исследовани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уточнить понятие фразеологизмов и их  классификацию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ассмотреть стратегию перевода фразеологизмов в целом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оанализировать перевод фразеологических единиц с использованием различных видов трансформаций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составить  словарь фразеологизмов для школьников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етоды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писательно-аналитический метод (изучение и анализ научно-методической литературы по проблеме исследования);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 опыта работы по формированию и расширению знаний о способах перевода фразеологичеких единиц с английского на русский язык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, интерпретация и обработка результатов исслед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Фразеологизм, или фразеологическая единица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— устойчивое по составу и структуре, лексически неделимое и целостное по значению словосочетание, выполняющее функцию отдельной лексической единицы. Фразеологизм употребляется как целое, готовое сочетание слов, не подлежащее дальнейшему разложению и обычно не допускающее внутри себя перестановки своих частей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лассификации фразеологических единиц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сраще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– абсолютно неделимые  словосочетания,  «значение которых совершенно независимо от их лексического  состава,  от  значения  их компонентов…» Например, 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to rain cats and dogs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лить как из ведра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(о дожде)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be all thumb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быть неловким, неуклюжим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единства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-  словосочетания,  в  которых  «значение  целого связано с пониманием внутри образного стержня фразы,  потенциального  смысла слов».[1, 94]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пример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o spill the beans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выдать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секрет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; </a:t>
            </a:r>
            <a:r>
              <a:rPr b="1" i="1" lang="en-US" sz="1600" spc="-1" strike="noStrike">
                <a:solidFill>
                  <a:srgbClr val="669900"/>
                </a:solidFill>
                <a:latin typeface="Arial"/>
              </a:rPr>
              <a:t>to burn bridges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сжигать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мосты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 сочета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 –  словосочетания, «образуемые  реализацией  несвободных  значений  слов». Эти  лексические значения могут проявляться  лишь  в  связи  со  строго  определенным  кругом понятий  и  их  словесных  обозначений. Например,  можно  сказать   ''страх берет'',  ''тоска   берет'',   но   нельзя   сказать:   ''радость   берет'', ''наслаждение берет'' и тому подобное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Например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:a bosom friend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закадычный друг,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a pitched battle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ожесточенная схватка,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иды перевода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х единиц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ческий  перевод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нефразеологический перевод  (за  отсутствием  фразеологических  эквивалентов  и  аналогов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kretar</cp:lastModifiedBy>
  <dcterms:modified xsi:type="dcterms:W3CDTF">2011-04-28T08:56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