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3055-803B-4B10-B72B-00B30549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3CFF-A72F-48F0-BF54-9F0B8B3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D14F-6D65-40C5-B7E5-2AC39578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6AB7-8277-426D-A1F7-3002BB63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F92-EF7A-48BC-A551-ED2CA749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0D7B-796A-4621-B9AD-688DFBFB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66DD-A6F1-4A9F-990F-E913AFE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2062-07C6-4E65-BDB7-229003A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5021-7559-4E4A-A01E-E6D5EFD3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2E63-B8F1-4EC1-80F8-8A0F1666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CAEB-8DFD-4FB1-B02F-2735BB3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763B-E140-433A-9276-B7B995F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C962-F4B1-453E-8B2D-947CF61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F42C-83A8-415E-AD77-E9CFC25C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4218-D76E-445C-B66E-9934F8F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8E95-B67A-4964-B53D-04FA953C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89A-6267-48EF-8C07-B12A34E8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D0BC-8ACF-4C9E-8E0A-4AC1513C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9B12-3E54-46BA-B1B1-89576CCD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0996-5EAC-4854-9B2D-7481EDA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E282-947C-4853-9094-630F948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738F-BCED-4094-B029-5D4BF2C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44CE-07C1-4BD7-B357-D5C31F2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19F7-14B4-4EA3-84A3-5BED816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D237-4B8E-492A-A206-34275552400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69B-F37B-484F-9E61-CC26A05483F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880" y="1752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«Способы перевода фразеологических единиц с английского языка на русский»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Выполнил: Балтян Дарья Игор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ащаяся 8 Б класса МОУ-СОШ №7 г.Белгород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Руководитель: Балакирева Виктория Дмитри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итель английского языка МОУ-СОШ №7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е эквиваленты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Полные эквиваленты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— это русские эквиваленты, в большинстве своем являющиеся моноэквивалентами английских фразеологизмов, совпадающие с ними по значению, по лексическому составу, образности, стилистической направленности и грамматической структуре. Число подобных соответствий невелико: например: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burn one 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boats -   сжечь свои корабли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in the seventh heaven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а седьмом неб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Частичный эквивалент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не означает какой-либо неполноты в передаче значения, а лишь содержит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лексически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kill the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goose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that lays the golden eggs -убить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курицу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сущую золотые яйца),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грамматическ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расхождение(например в числе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play into somebody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hands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играть на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руку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кому-л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there is no rose  without a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horn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т розы без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шипов.и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366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асхождение в порядке слов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all is not gold that glitters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не все то золото, что блестит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he laughs best who  laughs last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хорошо смеется тот, кто смеется последним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 В последнем случае имеется и незначительное лексическое расхождение ( best —хорошо), или лексико-грамматические расхожден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«Обертональные» переводы»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; или «контекстуальные замены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Калькирован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или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дословный перевод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4" marL="266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еревода  безэквивалентной фразеологи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лькирование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John Bul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Джон Буль,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ncle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 Sam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дядя Сэм ;   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he moon is not seen when the sun shines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– когда светит солнце, луны не видно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писательный перевод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o rob Peter to pay Pau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– отдать одни долги сделав новые (взять у одного, чтобы отдать другому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Актуальность: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фразеологические единицы представляют собой достаточно большой слой лексики и обладают высокой употребляемостью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проблем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имеют ли английские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змы эквиваленты в русском языке и как осуществляется перевод фразеологических единиц с одного языка на другой. Решение этой проблемы и являет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цель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исследования: изучение способов перевода английских фразеологических  единиц на русский язык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Объектом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исследования является лексикология английского язык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едмето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исследования являются фразеологические единицы английского языка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Гипотеза исследовани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английские ФЕ имеют свои эквиваленты в русском язык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перевод ФЕ с английского языка на русский не может быть только прямым (дословным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зучить научно-методическую литературу по проблеме исследовани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уточнить понятие фразеологизмов и их  классификацию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ассмотреть стратегию перевода фразеологизмов в целом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оанализировать перевод фразеологических единиц с использованием различных видов трансформаций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составить  словарь фразеологизмов для школьников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етоды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писательно-аналитический метод (изучение и анализ научно-методической литературы по проблеме исследования);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 опыта работы по формированию и расширению знаний о способах перевода фразеологичеких единиц с английского на русский язык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, интерпретация и обработка результатов исслед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Фразеологизм, или фразеологическая единица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— устойчивое по составу и структуре, лексически неделимое и целостное по значению словосочетание, выполняющее функцию отдельной лексической единицы. Фразеологизм употребляется как целое, готовое сочетание слов, не подлежащее дальнейшему разложению и обычно не допускающее внутри себя перестановки своих частей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лассификации фразеологических единиц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сраще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– абсолютно неделимые  словосочетания,  «значение которых совершенно независимо от их лексического  состава,  от  значения  их компонентов…» Например, 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to rain cats and dogs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лить как из ведра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(о дожде)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be all thumb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быть неловким, неуклюжим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единства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-  словосочетания,  в  которых  «значение  целого связано с пониманием внутри образного стержня фразы,  потенциального  смысла слов».[1, 94]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пример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o spill the beans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выдать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секрет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; </a:t>
            </a:r>
            <a:r>
              <a:rPr b="1" i="1" lang="en-US" sz="1600" spc="-1" strike="noStrike">
                <a:solidFill>
                  <a:srgbClr val="669900"/>
                </a:solidFill>
                <a:latin typeface="Arial"/>
              </a:rPr>
              <a:t>to burn bridges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сжигать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мосты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 сочета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 –  словосочетания, «образуемые  реализацией  несвободных  значений  слов». Эти  лексические значения могут проявляться  лишь  в  связи  со  строго  определенным  кругом понятий  и  их  словесных  обозначений. Например,  можно  сказать   ''страх берет'',  ''тоска   берет'',   но   нельзя   сказать:   ''радость   берет'', ''наслаждение берет'' и тому подобное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Например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:a bosom friend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закадычный друг,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a pitched battle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ожесточенная схватка,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иды перевода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х единиц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ческий  перевод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нефразеологический перевод  (за  отсутствием  фразеологических  эквивалентов  и  аналогов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kretar</cp:lastModifiedBy>
  <dcterms:modified xsi:type="dcterms:W3CDTF">2011-04-28T08:56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