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.jpeg" ContentType="image/jpeg"/>
  <Override PartName="/ppt/media/image25.jpeg" ContentType="image/jpeg"/>
  <Override PartName="/ppt/media/image2.png" ContentType="image/png"/>
  <Override PartName="/ppt/media/image31.jpeg" ContentType="image/jpeg"/>
  <Override PartName="/ppt/media/image6.png" ContentType="image/png"/>
  <Override PartName="/ppt/media/image7.png" ContentType="image/png"/>
  <Override PartName="/ppt/media/image29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13.jpeg" ContentType="image/jpeg"/>
  <Override PartName="/ppt/media/image9.jpeg" ContentType="image/jpeg"/>
  <Override PartName="/ppt/media/image24.png" ContentType="image/png"/>
  <Override PartName="/ppt/media/image11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8.png" ContentType="image/png"/>
  <Override PartName="/ppt/media/image20.png" ContentType="image/png"/>
  <Override PartName="/ppt/media/image19.jpeg" ContentType="image/jpeg"/>
  <Override PartName="/ppt/media/image21.jpeg" ContentType="image/jpeg"/>
  <Override PartName="/ppt/media/image22.png" ContentType="image/png"/>
  <Override PartName="/ppt/media/image12.png" ContentType="image/pn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B4A5-AFF0-4B4B-83EA-88E981F87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AA58-A940-4CAA-8D8E-1D8393EE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97D3-A2E0-49BF-9CD8-DCA476DD6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0210-1383-494B-BF5A-E452E1C3C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3870-3806-44DD-8EAB-FD59FCCF2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C002A-1C13-43E5-A634-50888B40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24F43-907A-4B76-87BF-B89B5108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5487-B517-4AA8-8C6F-91C795FB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568C-5FFF-48E5-97B4-F5539919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CFDD0-5F5F-47AC-A904-E0B84F74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EDDF-E77A-4A1D-985F-F73CE374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6736-3529-4491-AB25-902FC188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E86D-282B-43FC-A523-820ED42B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2EDEC-435E-41F4-B508-E64F4347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31FE-06DB-46CD-8789-2D89CA24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CBB0-04D5-4B65-8647-CB0A1ACDE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5AB0-59A4-418C-9A22-6396998FB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9A234-E698-4DE6-8644-B30F9F7F3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2011F-725D-4940-9798-08613509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3B0CC-5754-4EC5-AF5C-CF5330EB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CE2B7-F689-4767-8CCE-AD6CCCAE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98741-1734-48DC-AA09-13EB7E14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4F72-EA97-4C75-8B00-3911887C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EA0CD-DE4F-44A5-9DA7-1DAC60A4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053CE-7FDA-4697-A01D-7D6E0800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147E0-34AD-40C5-90B4-BCE9F9EF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EC17F-D6C5-411E-9858-4A28411F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1F876-E424-4AD9-8459-644BB88A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64540-01D6-44B3-8DCC-68B814F03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F7BA4-39B4-421C-A6E3-A40347AC2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734BA-B2D1-4E2F-AAA3-04A035EE0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9CD52-2C0D-4B80-B60E-8DEC2FA9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866BA-DF7E-4F57-81D3-7F408E8D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4574-8006-42C6-BD5B-79AC84A8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52E50-D077-46C7-BB36-4021ACE0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6C2E0-AF59-4927-9BC3-D872879A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1A856-EF32-4A4C-9329-94326DE1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53A99-B5C9-4ADC-AF21-FAEB5C2A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86532-AAC3-4AD2-8D91-B08B5283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9913F-8E21-4540-A960-7A0E1D18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6E1F5-AA6A-4E85-90C3-DA3397A6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B9665-DC41-4175-828A-6D295D8A5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0DAEB-51A3-4874-936A-F16CF8106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E9F0-5DB9-427A-8F98-DD431860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1E5B-1507-40AF-9A09-3363DA3E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7EB3-3788-4D6C-A382-2269119A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2D36-509C-47DB-AEFA-922A36A4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B437-6E86-45DE-9F16-35DBAFCB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457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5866-94E5-40FA-A3EE-81A22AEBF18C}" type="slidenum">
              <a:rPr b="0" lang="ru-RU" sz="1200" spc="-1" strike="noStrike">
                <a:solidFill>
                  <a:srgbClr val="1d457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D8A6-4496-4A2A-8D1A-9E92CE638FE8}" type="slidenum"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EBC3-7C0E-4050-A11F-7D13DB07C67D}" type="slidenum"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457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F990-4152-46EE-9983-B4E2C9CB8958}" type="slidenum">
              <a:rPr b="0" lang="ru-RU" sz="1200" spc="-1" strike="noStrike">
                <a:solidFill>
                  <a:srgbClr val="1d457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4236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вунадесятые праздник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321760" cy="155412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2" descr="Вход господень в Иерусалим.jpg"/>
          <p:cNvPicPr/>
          <p:nvPr/>
        </p:nvPicPr>
        <p:blipFill>
          <a:blip r:embed="rId2"/>
          <a:stretch/>
        </p:blipFill>
        <p:spPr>
          <a:xfrm>
            <a:off x="2643120" y="1857240"/>
            <a:ext cx="357840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78000" y="298440"/>
            <a:ext cx="8474040" cy="155412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2" descr="Вознесение Господне.jpg"/>
          <p:cNvPicPr/>
          <p:nvPr/>
        </p:nvPicPr>
        <p:blipFill>
          <a:blip r:embed="rId2"/>
          <a:stretch/>
        </p:blipFill>
        <p:spPr>
          <a:xfrm>
            <a:off x="2928960" y="2071800"/>
            <a:ext cx="32907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1f497d"/>
                </a:solidFill>
                <a:latin typeface="Calibri"/>
              </a:rPr>
              <a:t>День Святой Троицы</a:t>
            </a:r>
            <a:br>
              <a:rPr sz="4500"/>
            </a:br>
            <a:r>
              <a:rPr b="0" lang="ru-RU" sz="4500" spc="-1" strike="noStrike">
                <a:solidFill>
                  <a:srgbClr val="1f497d"/>
                </a:solidFill>
                <a:latin typeface="Calibri"/>
              </a:rPr>
              <a:t>50-й день после Пасхи (воскресение)</a:t>
            </a:r>
            <a:endParaRPr b="0" lang="en-US" sz="45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ое название праздника – Пятидесятниц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Это христианский праздник, совершаемый в седьмое воскресенье после Пасхи и посвященный сошествию Святого Духа на апостолов на пятидесятый день по воскресении Христа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Рисунок 2" descr="Троица.jpg"/>
          <p:cNvPicPr/>
          <p:nvPr/>
        </p:nvPicPr>
        <p:blipFill>
          <a:blip r:embed="rId1"/>
          <a:stretch/>
        </p:blipFill>
        <p:spPr>
          <a:xfrm>
            <a:off x="5072040" y="2071800"/>
            <a:ext cx="3260880" cy="4010040"/>
          </a:xfrm>
          <a:prstGeom prst="rect">
            <a:avLst/>
          </a:prstGeom>
          <a:ln w="0">
            <a:noFill/>
          </a:ln>
        </p:spPr>
      </p:pic>
      <p:sp>
        <p:nvSpPr>
          <p:cNvPr id="226" name="TextBox 3"/>
          <p:cNvSpPr/>
          <p:nvPr/>
        </p:nvSpPr>
        <p:spPr>
          <a:xfrm>
            <a:off x="5643720" y="6215040"/>
            <a:ext cx="24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onstantia"/>
              </a:rPr>
              <a:t>Андрей Рубл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1f497d"/>
                </a:solidFill>
                <a:latin typeface="Calibri"/>
              </a:rPr>
              <a:t>Преображение Господне</a:t>
            </a:r>
            <a:br>
              <a:rPr sz="4500"/>
            </a:br>
            <a:r>
              <a:rPr b="0" lang="ru-RU" sz="4500" spc="-1" strike="noStrike">
                <a:solidFill>
                  <a:srgbClr val="1f497d"/>
                </a:solidFill>
                <a:latin typeface="Calibri"/>
              </a:rPr>
              <a:t>6 (19) августа</a:t>
            </a:r>
            <a:endParaRPr b="0" lang="en-US" sz="45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ображение Господа Бога и Спаса нашего Иисуса Христа, в русской народной традиции называется также Яблочный Спас или Второй Спас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Рисунок 2" descr="Преображение Господне, новгородская икона.jpg"/>
          <p:cNvPicPr/>
          <p:nvPr/>
        </p:nvPicPr>
        <p:blipFill>
          <a:blip r:embed="rId1"/>
          <a:stretch/>
        </p:blipFill>
        <p:spPr>
          <a:xfrm>
            <a:off x="5143680" y="2000160"/>
            <a:ext cx="288432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321760" cy="155412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2" descr="Успение Богородицы.jpg"/>
          <p:cNvPicPr/>
          <p:nvPr/>
        </p:nvPicPr>
        <p:blipFill>
          <a:blip r:embed="rId2"/>
          <a:stretch/>
        </p:blipFill>
        <p:spPr>
          <a:xfrm>
            <a:off x="2571840" y="1857240"/>
            <a:ext cx="3835440" cy="4786560"/>
          </a:xfrm>
          <a:prstGeom prst="rect">
            <a:avLst/>
          </a:prstGeom>
          <a:ln w="0">
            <a:noFill/>
          </a:ln>
        </p:spPr>
      </p:pic>
      <p:sp>
        <p:nvSpPr>
          <p:cNvPr id="233" name="TextBox 3"/>
          <p:cNvSpPr/>
          <p:nvPr/>
        </p:nvSpPr>
        <p:spPr>
          <a:xfrm>
            <a:off x="6861600" y="542916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onstantia"/>
              </a:rPr>
              <a:t>Феофан Гр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Рисунок 2" descr="Успение Богородицы.jpg"/>
          <p:cNvPicPr/>
          <p:nvPr/>
        </p:nvPicPr>
        <p:blipFill>
          <a:blip r:embed="rId3"/>
          <a:stretch/>
        </p:blipFill>
        <p:spPr>
          <a:xfrm>
            <a:off x="2571840" y="1857240"/>
            <a:ext cx="383544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2" descr=""/>
          <p:cNvPicPr/>
          <p:nvPr/>
        </p:nvPicPr>
        <p:blipFill>
          <a:blip r:embed="rId1"/>
          <a:stretch/>
        </p:blipFill>
        <p:spPr>
          <a:xfrm>
            <a:off x="55440" y="268200"/>
            <a:ext cx="8253360" cy="20113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530280" y="235692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spcBef>
                <a:spcPts val="700"/>
              </a:spcBef>
              <a:buClr>
                <a:srgbClr val="9bbb5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окров Пресвятой Богородицы — 1 (14) октября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9bbb5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ождество Иоанна Предтечи — 24 июня (7 июля)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9bbb5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вятых первоверховных апостолов Петра и Павла — 29 июня (12 июля)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9bbb5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Усекновение главы Иоанна Предтечи — 29 августа (11 сентября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1f497d"/>
                </a:solidFill>
                <a:latin typeface="Calibri"/>
              </a:rPr>
              <a:t>Антипасха или Красная Горка</a:t>
            </a:r>
            <a:br>
              <a:rPr sz="4500"/>
            </a:br>
            <a:r>
              <a:rPr b="0" lang="ru-RU" sz="4500" spc="-1" strike="noStrike">
                <a:solidFill>
                  <a:srgbClr val="1f497d"/>
                </a:solidFill>
                <a:latin typeface="Calibri"/>
              </a:rPr>
              <a:t>Первое воскресенье после Пасхи </a:t>
            </a:r>
            <a:endParaRPr b="0" lang="en-US" sz="45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Другие названия праздника - Фомина неделя, а по народной традиции называется Красной горкой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Название Антипасха означает "вместо Пасхи": не противопоставление, а обращение к прошедшему празднику, повторение его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Фоминой неделей называется этот день в воспоминание о чуде уверения апостола Фомы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Содержимое 7" descr="2604.gif"/>
          <p:cNvPicPr/>
          <p:nvPr/>
        </p:nvPicPr>
        <p:blipFill>
          <a:blip r:embed="rId1"/>
          <a:stretch/>
        </p:blipFill>
        <p:spPr>
          <a:xfrm>
            <a:off x="5143680" y="2000160"/>
            <a:ext cx="3382920" cy="3552840"/>
          </a:xfrm>
          <a:prstGeom prst="rect">
            <a:avLst/>
          </a:prstGeom>
          <a:ln w="0">
            <a:noFill/>
          </a:ln>
        </p:spPr>
      </p:pic>
      <p:sp>
        <p:nvSpPr>
          <p:cNvPr id="240" name="TextBox 8"/>
          <p:cNvSpPr/>
          <p:nvPr/>
        </p:nvSpPr>
        <p:spPr>
          <a:xfrm>
            <a:off x="4143240" y="5715000"/>
            <a:ext cx="478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70c0"/>
                </a:solidFill>
                <a:latin typeface="Constantia"/>
              </a:rPr>
              <a:t>"Если не увижу на руках Его ран от гвоз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onstantia"/>
              </a:rPr>
              <a:t>и не вложу руки моей в ребра Ег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onstantia"/>
              </a:rPr>
              <a:t>не поверю" (Ин. 20, 2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1f497d"/>
                </a:solidFill>
                <a:latin typeface="Calibri"/>
              </a:rPr>
              <a:t>Посты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Constantia"/>
              </a:rPr>
              <a:t>28.11 – 7.01  Рождественский пост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Constantia"/>
              </a:rPr>
              <a:t>Март – апрель Великий пост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Constantia"/>
              </a:rPr>
              <a:t>Июнь – 12 июля Петров пост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Constantia"/>
              </a:rPr>
              <a:t>14 – 28 августа Успенский пост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Заголовок 3" descr=""/>
          <p:cNvPicPr/>
          <p:nvPr/>
        </p:nvPicPr>
        <p:blipFill>
          <a:blip r:embed="rId1"/>
          <a:stretch/>
        </p:blipFill>
        <p:spPr>
          <a:xfrm>
            <a:off x="573120" y="706320"/>
            <a:ext cx="7894440" cy="14400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onstantia"/>
              </a:rPr>
              <a:t>Пасха</a:t>
            </a:r>
            <a:endParaRPr b="0" lang="en-US" sz="6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9" name="Рисунок 5" descr="Сошествие во Ад Андрей Рублев.jpg"/>
          <p:cNvPicPr/>
          <p:nvPr/>
        </p:nvPicPr>
        <p:blipFill>
          <a:blip r:embed="rId2"/>
          <a:stretch/>
        </p:blipFill>
        <p:spPr>
          <a:xfrm>
            <a:off x="4357800" y="2214720"/>
            <a:ext cx="3203640" cy="4357440"/>
          </a:xfrm>
          <a:prstGeom prst="rect">
            <a:avLst/>
          </a:prstGeom>
          <a:ln w="0">
            <a:noFill/>
          </a:ln>
        </p:spPr>
      </p:pic>
      <p:sp>
        <p:nvSpPr>
          <p:cNvPr id="200" name="TextBox 6"/>
          <p:cNvSpPr/>
          <p:nvPr/>
        </p:nvSpPr>
        <p:spPr>
          <a:xfrm>
            <a:off x="1928880" y="59292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Андрей Рубл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1f497d"/>
                </a:solidFill>
                <a:latin typeface="Calibri"/>
              </a:rPr>
              <a:t>Рождество Богородицы</a:t>
            </a:r>
            <a:br>
              <a:rPr sz="4500"/>
            </a:br>
            <a:r>
              <a:rPr b="0" lang="ru-RU" sz="4500" spc="-1" strike="noStrike">
                <a:solidFill>
                  <a:srgbClr val="1f497d"/>
                </a:solidFill>
                <a:latin typeface="Calibri"/>
              </a:rPr>
              <a:t>8 (21)сентября</a:t>
            </a:r>
            <a:endParaRPr b="0" lang="en-US" sz="45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02" name="Содержимое 3" descr="Рождество Богородицы.jpg"/>
          <p:cNvPicPr/>
          <p:nvPr/>
        </p:nvPicPr>
        <p:blipFill>
          <a:blip r:embed="rId1"/>
          <a:stretch/>
        </p:blipFill>
        <p:spPr>
          <a:xfrm>
            <a:off x="2857680" y="2000160"/>
            <a:ext cx="345744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Заголовок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321760" cy="155412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2" descr="воздвижение креста господня.jpg"/>
          <p:cNvPicPr/>
          <p:nvPr/>
        </p:nvPicPr>
        <p:blipFill>
          <a:blip r:embed="rId2"/>
          <a:stretch/>
        </p:blipFill>
        <p:spPr>
          <a:xfrm>
            <a:off x="2857680" y="2000160"/>
            <a:ext cx="350028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1" descr=""/>
          <p:cNvPicPr/>
          <p:nvPr/>
        </p:nvPicPr>
        <p:blipFill>
          <a:blip r:embed="rId1"/>
          <a:stretch/>
        </p:blipFill>
        <p:spPr>
          <a:xfrm>
            <a:off x="450720" y="682560"/>
            <a:ext cx="8321760" cy="110988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2" descr="Введение во храм Пресвятой Богородицы.jpg"/>
          <p:cNvPicPr/>
          <p:nvPr/>
        </p:nvPicPr>
        <p:blipFill>
          <a:blip r:embed="rId2"/>
          <a:stretch/>
        </p:blipFill>
        <p:spPr>
          <a:xfrm>
            <a:off x="2714760" y="2000160"/>
            <a:ext cx="349884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Заголовок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321760" cy="155412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2" descr="Рождество Христово.jpg"/>
          <p:cNvPicPr/>
          <p:nvPr/>
        </p:nvPicPr>
        <p:blipFill>
          <a:blip r:embed="rId2"/>
          <a:stretch/>
        </p:blipFill>
        <p:spPr>
          <a:xfrm>
            <a:off x="2857680" y="1928880"/>
            <a:ext cx="3452760" cy="4572000"/>
          </a:xfrm>
          <a:prstGeom prst="rect">
            <a:avLst/>
          </a:prstGeom>
          <a:ln w="0">
            <a:noFill/>
          </a:ln>
        </p:spPr>
      </p:pic>
      <p:sp>
        <p:nvSpPr>
          <p:cNvPr id="209" name="TextBox 3"/>
          <p:cNvSpPr/>
          <p:nvPr/>
        </p:nvSpPr>
        <p:spPr>
          <a:xfrm>
            <a:off x="6715080" y="550080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onstantia"/>
              </a:rPr>
              <a:t>Андрей Рубл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Заголовок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321760" cy="155412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2" descr="Крещение Господне, икона, XVI век.jpg"/>
          <p:cNvPicPr/>
          <p:nvPr/>
        </p:nvPicPr>
        <p:blipFill>
          <a:blip r:embed="rId2"/>
          <a:stretch/>
        </p:blipFill>
        <p:spPr>
          <a:xfrm>
            <a:off x="4786200" y="1785960"/>
            <a:ext cx="3254400" cy="4672080"/>
          </a:xfrm>
          <a:prstGeom prst="rect">
            <a:avLst/>
          </a:prstGeom>
          <a:ln w="0">
            <a:noFill/>
          </a:ln>
        </p:spPr>
      </p:pic>
      <p:sp>
        <p:nvSpPr>
          <p:cNvPr id="212" name="TextBox 3"/>
          <p:cNvSpPr/>
          <p:nvPr/>
        </p:nvSpPr>
        <p:spPr>
          <a:xfrm>
            <a:off x="259560" y="2857680"/>
            <a:ext cx="484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onstantia"/>
              </a:rPr>
              <a:t>Второе название праздника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onstantia"/>
              </a:rPr>
              <a:t>Богоя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Заголовок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321760" cy="155412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2" descr="Сретение господне, новгородская икона, XV век.jpg"/>
          <p:cNvPicPr/>
          <p:nvPr/>
        </p:nvPicPr>
        <p:blipFill>
          <a:blip r:embed="rId2"/>
          <a:stretch/>
        </p:blipFill>
        <p:spPr>
          <a:xfrm>
            <a:off x="3000240" y="1928880"/>
            <a:ext cx="302436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450720" y="407880"/>
            <a:ext cx="8321760" cy="224316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2" descr="Благовещение.jpg"/>
          <p:cNvPicPr/>
          <p:nvPr/>
        </p:nvPicPr>
        <p:blipFill>
          <a:blip r:embed="rId2"/>
          <a:stretch/>
        </p:blipFill>
        <p:spPr>
          <a:xfrm>
            <a:off x="3000240" y="2643120"/>
            <a:ext cx="3065760" cy="4011840"/>
          </a:xfrm>
          <a:prstGeom prst="rect">
            <a:avLst/>
          </a:prstGeom>
          <a:ln w="0">
            <a:noFill/>
          </a:ln>
        </p:spPr>
      </p:pic>
      <p:sp>
        <p:nvSpPr>
          <p:cNvPr id="217" name="TextBox 3"/>
          <p:cNvSpPr/>
          <p:nvPr/>
        </p:nvSpPr>
        <p:spPr>
          <a:xfrm>
            <a:off x="6429240" y="578628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onstantia"/>
              </a:rPr>
              <a:t>Андрей Рубл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1T22:21:13Z</dcterms:created>
  <dc:creator>Admin</dc:creator>
  <dc:description/>
  <dc:language>en-US</dc:language>
  <cp:lastModifiedBy>Admin</cp:lastModifiedBy>
  <dcterms:modified xsi:type="dcterms:W3CDTF">2009-11-29T18:26:39Z</dcterms:modified>
  <cp:revision>20</cp:revision>
  <dc:subject/>
  <dc:title>Православные праздники</dc:title>
</cp:coreProperties>
</file>