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D11-E340-4B0A-8011-58011F5A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34D-9F57-4728-A334-3638CBD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F36-BD22-4972-BBE4-11949065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2D6-C3E9-4003-A4E8-AFCCB72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6912-B207-4592-B436-363B1A81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47F7-9DBE-4093-B630-41AF6C18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90A5-1817-4A2B-A267-DB8AE039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0C2-355B-4760-AE10-92808A3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57A-D744-482E-AF76-CCCDA882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BE3C-C17E-46F2-8492-CAD613A3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729F-3BBB-4555-9084-58AF167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3BC-59BF-475B-A1DF-735D637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2348-8D92-4562-A42B-7030805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895D-AABA-4494-954C-5E80673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1AB1-7983-478C-A22C-33AC9E7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4DF-6430-4736-834D-E7B9D873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324F-7069-4A2C-94F0-CF69C86B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F7B2-B33B-4A06-B9DE-B4FD99CB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D8D5-469A-42CA-93D8-C5E2252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ADA8-44F5-4860-91A6-5317A0C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CABB-D4B7-4F21-81CD-6A542754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99D4-3F1F-46B3-AD3B-8531F20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50E-D4B8-4598-A0D5-C016572C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9F6F-6594-4F1E-A846-CE8942D1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47A2-6627-42C2-90C5-6D360996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C2CC-995D-4A2B-986C-205A6C3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DC2C-0374-4079-BDFC-3601E47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1B39-22A8-4637-942C-9EAA7EF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B95E-E280-4FD6-A2D0-F348E5D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8B23-7672-437F-927A-878CABF2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1EF9-8808-4C5C-AE43-CDF7A0A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5EF3-B134-4B84-9709-1EE26F0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5E453-56FA-41F0-BEA4-8456B3E8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F1E-402A-4D5D-AFDE-88CEFB2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9C69-6613-46C1-A9BC-93FC3D8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43CE-2A05-41A9-93A9-94FF978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8BC97-D3FA-43F3-821E-E6939A97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14DB-CDB3-4B53-8277-6BDD236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2A73-9048-4689-AF83-0E154513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9F98-EE42-4F6F-A656-2EB495E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9549-790C-4188-9CAF-A0D89429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87D1-F5F4-4F09-96F1-325D4266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A503-BCB4-4FEC-94C4-E707D6BF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2FD-6D90-4F91-8499-18362C99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5C2-67BF-4FBC-8E56-11DE29A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0D6-1B6C-41B3-892C-5F54FAC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7E3-E98E-4442-B8AD-754B3DC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4B7-AE1F-470F-AE1C-A37CBB2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FB7C-8BA0-4A57-8F24-EB6E6537A12C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DC24-733E-4A17-9031-DAEDE3580489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705-9CAE-4577-913E-DFCFEA49327C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26D-33E6-425A-A7D0-3C6CC68DBC79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надесятые празд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Вход господень в Иерусалим.jpg"/>
          <p:cNvPicPr/>
          <p:nvPr/>
        </p:nvPicPr>
        <p:blipFill>
          <a:blip r:embed="rId2"/>
          <a:stretch/>
        </p:blipFill>
        <p:spPr>
          <a:xfrm>
            <a:off x="2643120" y="1857240"/>
            <a:ext cx="35784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474040" cy="1554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Вознесение Господне.jpg"/>
          <p:cNvPicPr/>
          <p:nvPr/>
        </p:nvPicPr>
        <p:blipFill>
          <a:blip r:embed="rId2"/>
          <a:stretch/>
        </p:blipFill>
        <p:spPr>
          <a:xfrm>
            <a:off x="2928960" y="2071800"/>
            <a:ext cx="3290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День Святой Тро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50-й день после Пасхи (воскресение)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е название праздника – Пятидесятниц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 христианский праздник, совершаемый в седьмое воскресенье после Пасхи и посвященный сошествию Святого Духа на апостолов на пятидесятый день по воскресении Хрис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2" descr="Троица.jpg"/>
          <p:cNvPicPr/>
          <p:nvPr/>
        </p:nvPicPr>
        <p:blipFill>
          <a:blip r:embed="rId1"/>
          <a:stretch/>
        </p:blipFill>
        <p:spPr>
          <a:xfrm>
            <a:off x="5072040" y="2071800"/>
            <a:ext cx="3260880" cy="40100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5643720" y="621504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реображение Господне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6 (19) августа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ображение Господа Бога и Спаса нашего Иисуса Христа, в русской народной традиции называется также Яблочный Спас или Второй Сп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2" descr="Преображение Господне, новгородская икона.jpg"/>
          <p:cNvPicPr/>
          <p:nvPr/>
        </p:nvPicPr>
        <p:blipFill>
          <a:blip r:embed="rId1"/>
          <a:stretch/>
        </p:blipFill>
        <p:spPr>
          <a:xfrm>
            <a:off x="5143680" y="2000160"/>
            <a:ext cx="28843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Успение Богородицы.jpg"/>
          <p:cNvPicPr/>
          <p:nvPr/>
        </p:nvPicPr>
        <p:blipFill>
          <a:blip r:embed="rId2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6861600" y="54291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Феофан Г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Успение Богородицы.jpg"/>
          <p:cNvPicPr/>
          <p:nvPr/>
        </p:nvPicPr>
        <p:blipFill>
          <a:blip r:embed="rId3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2" descr=""/>
          <p:cNvPicPr/>
          <p:nvPr/>
        </p:nvPicPr>
        <p:blipFill>
          <a:blip r:embed="rId1"/>
          <a:stretch/>
        </p:blipFill>
        <p:spPr>
          <a:xfrm>
            <a:off x="55440" y="26820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0280" y="235692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кров Пресвятой Богородицы — 1 (14) октябр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ждество Иоанна Предтечи — 24 июня (7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вятых первоверховных апостолов Петра и Павла — 29 июня (12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секновение главы Иоанна Предтечи — 29 августа (11 сентябр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Антипасха или Красная Горка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ервое воскресенье после Пасхи 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ругие названия праздника - Фомина неделя, а по народной традиции называется Красной горко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звание Антипасха означает "вместо Пасхи": не противопоставление, а обращение к прошедшему празднику, повторение е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миной неделей называется этот день в воспоминание о чуде уверения апостола Фо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Содержимое 7" descr="2604.gif"/>
          <p:cNvPicPr/>
          <p:nvPr/>
        </p:nvPicPr>
        <p:blipFill>
          <a:blip r:embed="rId1"/>
          <a:stretch/>
        </p:blipFill>
        <p:spPr>
          <a:xfrm>
            <a:off x="5143680" y="2000160"/>
            <a:ext cx="3382920" cy="3552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4143240" y="5715000"/>
            <a:ext cx="47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"Если не увижу на руках Его ран от гвоз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и не вложу руки моей в ребра 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не поверю" (Ин. 20, 2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Посты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28.11 – 7.01  Рождеств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Март – апрель Вели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Июнь – 12 июля Петров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14 – 28 августа Усп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73120" y="706320"/>
            <a:ext cx="789444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Пасха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Рисунок 5" descr="Сошествие во Ад Андрей Рублев.jpg"/>
          <p:cNvPicPr/>
          <p:nvPr/>
        </p:nvPicPr>
        <p:blipFill>
          <a:blip r:embed="rId2"/>
          <a:stretch/>
        </p:blipFill>
        <p:spPr>
          <a:xfrm>
            <a:off x="4357800" y="2214720"/>
            <a:ext cx="3203640" cy="4357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Рождество Богород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8 (21)сентября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2" name="Содержимое 3" descr="Рождество Богородицы.jpg"/>
          <p:cNvPicPr/>
          <p:nvPr/>
        </p:nvPicPr>
        <p:blipFill>
          <a:blip r:embed="rId1"/>
          <a:stretch/>
        </p:blipFill>
        <p:spPr>
          <a:xfrm>
            <a:off x="2857680" y="2000160"/>
            <a:ext cx="3457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воздвижение креста господня.jpg"/>
          <p:cNvPicPr/>
          <p:nvPr/>
        </p:nvPicPr>
        <p:blipFill>
          <a:blip r:embed="rId2"/>
          <a:stretch/>
        </p:blipFill>
        <p:spPr>
          <a:xfrm>
            <a:off x="2857680" y="2000160"/>
            <a:ext cx="3500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321760" cy="11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" descr="Введение во храм Пресвятой Богородицы.jpg"/>
          <p:cNvPicPr/>
          <p:nvPr/>
        </p:nvPicPr>
        <p:blipFill>
          <a:blip r:embed="rId2"/>
          <a:stretch/>
        </p:blipFill>
        <p:spPr>
          <a:xfrm>
            <a:off x="2714760" y="2000160"/>
            <a:ext cx="34988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Рождество Христово.jpg"/>
          <p:cNvPicPr/>
          <p:nvPr/>
        </p:nvPicPr>
        <p:blipFill>
          <a:blip r:embed="rId2"/>
          <a:stretch/>
        </p:blipFill>
        <p:spPr>
          <a:xfrm>
            <a:off x="2857680" y="1928880"/>
            <a:ext cx="345276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6715080" y="5500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Крещение Господне, икона, XVI век.jpg"/>
          <p:cNvPicPr/>
          <p:nvPr/>
        </p:nvPicPr>
        <p:blipFill>
          <a:blip r:embed="rId2"/>
          <a:stretch/>
        </p:blipFill>
        <p:spPr>
          <a:xfrm>
            <a:off x="4786200" y="1785960"/>
            <a:ext cx="3254400" cy="46720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259560" y="2857680"/>
            <a:ext cx="48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Второе название праздни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Бого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Сретение господне, новгородская икона, XV век.jpg"/>
          <p:cNvPicPr/>
          <p:nvPr/>
        </p:nvPicPr>
        <p:blipFill>
          <a:blip r:embed="rId2"/>
          <a:stretch/>
        </p:blipFill>
        <p:spPr>
          <a:xfrm>
            <a:off x="3000240" y="1928880"/>
            <a:ext cx="302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321760" cy="22431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Благовещение.jpg"/>
          <p:cNvPicPr/>
          <p:nvPr/>
        </p:nvPicPr>
        <p:blipFill>
          <a:blip r:embed="rId2"/>
          <a:stretch/>
        </p:blipFill>
        <p:spPr>
          <a:xfrm>
            <a:off x="3000240" y="2643120"/>
            <a:ext cx="3065760" cy="40118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240" y="5786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2:21:13Z</dcterms:created>
  <dc:creator>Admin</dc:creator>
  <dc:description/>
  <dc:language>en-US</dc:language>
  <cp:lastModifiedBy>Admin</cp:lastModifiedBy>
  <dcterms:modified xsi:type="dcterms:W3CDTF">2009-11-29T18:26:39Z</dcterms:modified>
  <cp:revision>20</cp:revision>
  <dc:subject/>
  <dc:title>Православные праздники</dc:title>
</cp:coreProperties>
</file>