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image6.png" ContentType="image/png"/>
  <Override PartName="/ppt/media/image7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19.jpeg" ContentType="image/jpeg"/>
  <Override PartName="/ppt/media/image21.jpeg" ContentType="image/jpeg"/>
  <Override PartName="/ppt/media/image22.png" ContentType="image/pn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AD7A-6E95-4E9E-8708-08AF22F7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B1C-D0AB-472A-950B-9B1FA024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3B3-6495-4FDF-B293-4D0BA667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DE6-1252-4AAB-9342-E24020B2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6090-92AD-443B-B3EF-69F5D76C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6D8E-A8C7-4D34-AA70-558EC69A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8004-E13A-4303-8B26-E71D98FE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53D8-4B08-4DC5-AF7A-ADCE3A1E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2A6F-ACB4-4153-B4BE-1B9EFC86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1B90-B143-4766-B167-13567DBC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91F3-7D65-4D8A-8C98-9C30D5BA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174-FA62-4A2B-83DC-FD94276B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177F-77EF-4A15-B1C4-E2055735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348F-3C45-49D1-8DB3-36748300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4EA9-6292-4E3E-B9FD-6C2FFD0B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757E-29C1-4564-A2D0-9AF933E1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2728-628B-4B03-A144-AD612B2F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3E2B-1FD3-41E0-B5E8-55E5BF55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2B03-F178-49D6-9B9F-97500D6F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062D4-9E2E-4AD0-AE2A-81F0788E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1BAB-F5B4-4B1F-B6B3-69CBCA2E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85ECD-C63A-47B6-B7EC-34263127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33A-4200-416E-8DDA-91A3FC08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30F55-65DF-4D44-9AEA-80CD6EF1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2F5D1-48F7-450C-A306-BD27DCA9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6A6A4-273B-49B5-9618-D756DD6E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1FD1-65EE-4E49-96EA-41E5F794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1FD5E-5598-497A-9666-29630793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937C6-70F9-4128-BC69-B4EDC019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DBAF-1AFB-476E-9BF3-47C598BE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FB2A6-A8E0-40E1-940B-2CC94644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626CF-1568-4E0D-AA76-BF704CB3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471DD-14C3-4248-848D-851C8101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057-38A5-4E04-BA96-C3A30B5D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CF7AD-2416-4260-BBD0-41CEB0D2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8145D-AEA5-4060-807A-95C43F2F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9FCAA-FB3A-4870-8573-2966B1DC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E7E09-DAAE-4C61-8A22-6F890A15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27DA8-5397-48B8-AD20-75107EA7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8CD50-5FB6-4AC5-AFA2-697E3DEC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B0DF8-7209-4A5E-8CBF-12200F00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FD31F-DD45-4955-A468-8212647A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C343F-4265-4EE6-9EC1-C5207529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D4B-300E-4426-A908-5B7C7DD5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B7E-093A-4B7A-9779-9AD3B01A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D63-4031-42FE-B3DA-869D3EC8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948-2D90-4519-BD5F-4DA582F1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2B4-87A0-4963-9893-1C1AC759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287A-2C94-49DF-B7A0-154C9C39F25C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52AB-542E-4C5B-83FF-4DB93F35466F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7912-B3DE-4A64-9574-A700229D7EEB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F07F-61C7-4F2E-9425-A19A9BB52D8A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23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вунадесятые праздн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Вход господень в Иерусалим.jpg"/>
          <p:cNvPicPr/>
          <p:nvPr/>
        </p:nvPicPr>
        <p:blipFill>
          <a:blip r:embed="rId2"/>
          <a:stretch/>
        </p:blipFill>
        <p:spPr>
          <a:xfrm>
            <a:off x="2643120" y="1857240"/>
            <a:ext cx="357840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78000" y="298440"/>
            <a:ext cx="8474040" cy="1554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2" descr="Вознесение Господне.jpg"/>
          <p:cNvPicPr/>
          <p:nvPr/>
        </p:nvPicPr>
        <p:blipFill>
          <a:blip r:embed="rId2"/>
          <a:stretch/>
        </p:blipFill>
        <p:spPr>
          <a:xfrm>
            <a:off x="2928960" y="2071800"/>
            <a:ext cx="32907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День Святой Троицы</a:t>
            </a:r>
            <a:br>
              <a:rPr sz="4500"/>
            </a:b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50-й день после Пасхи (воскресение)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е название праздника – Пятидесятниц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о христианский праздник, совершаемый в седьмое воскресенье после Пасхи и посвященный сошествию Святого Духа на апостолов на пятидесятый день по воскресении Христ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Рисунок 2" descr="Троица.jpg"/>
          <p:cNvPicPr/>
          <p:nvPr/>
        </p:nvPicPr>
        <p:blipFill>
          <a:blip r:embed="rId1"/>
          <a:stretch/>
        </p:blipFill>
        <p:spPr>
          <a:xfrm>
            <a:off x="5072040" y="2071800"/>
            <a:ext cx="3260880" cy="40100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5643720" y="621504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nstantia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Преображение Господне</a:t>
            </a:r>
            <a:br>
              <a:rPr sz="4500"/>
            </a:b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6 (19) августа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ображение Господа Бога и Спаса нашего Иисуса Христа, в русской народной традиции называется также Яблочный Спас или Второй Спа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Рисунок 2" descr="Преображение Господне, новгородская икона.jpg"/>
          <p:cNvPicPr/>
          <p:nvPr/>
        </p:nvPicPr>
        <p:blipFill>
          <a:blip r:embed="rId1"/>
          <a:stretch/>
        </p:blipFill>
        <p:spPr>
          <a:xfrm>
            <a:off x="5143680" y="2000160"/>
            <a:ext cx="28843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2" descr="Успение Богородицы.jpg"/>
          <p:cNvPicPr/>
          <p:nvPr/>
        </p:nvPicPr>
        <p:blipFill>
          <a:blip r:embed="rId2"/>
          <a:stretch/>
        </p:blipFill>
        <p:spPr>
          <a:xfrm>
            <a:off x="2571840" y="1857240"/>
            <a:ext cx="3835440" cy="478656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6861600" y="542916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nstantia"/>
              </a:rPr>
              <a:t>Феофан Гр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2" descr="Успение Богородицы.jpg"/>
          <p:cNvPicPr/>
          <p:nvPr/>
        </p:nvPicPr>
        <p:blipFill>
          <a:blip r:embed="rId3"/>
          <a:stretch/>
        </p:blipFill>
        <p:spPr>
          <a:xfrm>
            <a:off x="2571840" y="1857240"/>
            <a:ext cx="38354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2" descr=""/>
          <p:cNvPicPr/>
          <p:nvPr/>
        </p:nvPicPr>
        <p:blipFill>
          <a:blip r:embed="rId1"/>
          <a:stretch/>
        </p:blipFill>
        <p:spPr>
          <a:xfrm>
            <a:off x="55440" y="268200"/>
            <a:ext cx="8253360" cy="2011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30280" y="235692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700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кров Пресвятой Богородицы — 1 (14) октября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ждество Иоанна Предтечи — 24 июня (7 июля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вятых первоверховных апостолов Петра и Павла — 29 июня (12 июля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секновение главы Иоанна Предтечи — 29 августа (11 сентябр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Антипасха или Красная Горка</a:t>
            </a:r>
            <a:br>
              <a:rPr sz="4500"/>
            </a:b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Первое воскресенье после Пасхи 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ругие названия праздника - Фомина неделя, а по народной традиции называется Красной горкой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звание Антипасха означает "вместо Пасхи": не противопоставление, а обращение к прошедшему празднику, повторение его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Фоминой неделей называется этот день в воспоминание о чуде уверения апостола Фом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Содержимое 7" descr="2604.gif"/>
          <p:cNvPicPr/>
          <p:nvPr/>
        </p:nvPicPr>
        <p:blipFill>
          <a:blip r:embed="rId1"/>
          <a:stretch/>
        </p:blipFill>
        <p:spPr>
          <a:xfrm>
            <a:off x="5143680" y="2000160"/>
            <a:ext cx="3382920" cy="35528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8"/>
          <p:cNvSpPr/>
          <p:nvPr/>
        </p:nvSpPr>
        <p:spPr>
          <a:xfrm>
            <a:off x="4143240" y="5715000"/>
            <a:ext cx="47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onstantia"/>
              </a:rPr>
              <a:t>"Если не увижу на руках Его ран от гвоз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nstantia"/>
              </a:rPr>
              <a:t>и не вложу руки моей в ребра 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nstantia"/>
              </a:rPr>
              <a:t>не поверю" (Ин. 20, 2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1f497d"/>
                </a:solidFill>
                <a:latin typeface="Calibri"/>
              </a:rPr>
              <a:t>Посты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onstantia"/>
              </a:rPr>
              <a:t>28.11 – 7.01  Рождественский пос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onstantia"/>
              </a:rPr>
              <a:t>Март – апрель Великий пос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onstantia"/>
              </a:rPr>
              <a:t>Июнь – 12 июля Петров пос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onstantia"/>
              </a:rPr>
              <a:t>14 – 28 августа Успенский пос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3" descr=""/>
          <p:cNvPicPr/>
          <p:nvPr/>
        </p:nvPicPr>
        <p:blipFill>
          <a:blip r:embed="rId1"/>
          <a:stretch/>
        </p:blipFill>
        <p:spPr>
          <a:xfrm>
            <a:off x="573120" y="706320"/>
            <a:ext cx="7894440" cy="1440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onstantia"/>
              </a:rPr>
              <a:t>Пасха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Рисунок 5" descr="Сошествие во Ад Андрей Рублев.jpg"/>
          <p:cNvPicPr/>
          <p:nvPr/>
        </p:nvPicPr>
        <p:blipFill>
          <a:blip r:embed="rId2"/>
          <a:stretch/>
        </p:blipFill>
        <p:spPr>
          <a:xfrm>
            <a:off x="4357800" y="2214720"/>
            <a:ext cx="3203640" cy="43574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Рождество Богородицы</a:t>
            </a:r>
            <a:br>
              <a:rPr sz="4500"/>
            </a:b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8 (21)сентября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2" name="Содержимое 3" descr="Рождество Богородицы.jpg"/>
          <p:cNvPicPr/>
          <p:nvPr/>
        </p:nvPicPr>
        <p:blipFill>
          <a:blip r:embed="rId1"/>
          <a:stretch/>
        </p:blipFill>
        <p:spPr>
          <a:xfrm>
            <a:off x="2857680" y="2000160"/>
            <a:ext cx="34574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2" descr="воздвижение креста господня.jpg"/>
          <p:cNvPicPr/>
          <p:nvPr/>
        </p:nvPicPr>
        <p:blipFill>
          <a:blip r:embed="rId2"/>
          <a:stretch/>
        </p:blipFill>
        <p:spPr>
          <a:xfrm>
            <a:off x="2857680" y="2000160"/>
            <a:ext cx="35002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682560"/>
            <a:ext cx="8321760" cy="11098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2" descr="Введение во храм Пресвятой Богородицы.jpg"/>
          <p:cNvPicPr/>
          <p:nvPr/>
        </p:nvPicPr>
        <p:blipFill>
          <a:blip r:embed="rId2"/>
          <a:stretch/>
        </p:blipFill>
        <p:spPr>
          <a:xfrm>
            <a:off x="2714760" y="2000160"/>
            <a:ext cx="34988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2" descr="Рождество Христово.jpg"/>
          <p:cNvPicPr/>
          <p:nvPr/>
        </p:nvPicPr>
        <p:blipFill>
          <a:blip r:embed="rId2"/>
          <a:stretch/>
        </p:blipFill>
        <p:spPr>
          <a:xfrm>
            <a:off x="2857680" y="1928880"/>
            <a:ext cx="3452760" cy="4572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3"/>
          <p:cNvSpPr/>
          <p:nvPr/>
        </p:nvSpPr>
        <p:spPr>
          <a:xfrm>
            <a:off x="6715080" y="55008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nstantia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2" descr="Крещение Господне, икона, XVI век.jpg"/>
          <p:cNvPicPr/>
          <p:nvPr/>
        </p:nvPicPr>
        <p:blipFill>
          <a:blip r:embed="rId2"/>
          <a:stretch/>
        </p:blipFill>
        <p:spPr>
          <a:xfrm>
            <a:off x="4786200" y="1785960"/>
            <a:ext cx="3254400" cy="46720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3"/>
          <p:cNvSpPr/>
          <p:nvPr/>
        </p:nvSpPr>
        <p:spPr>
          <a:xfrm>
            <a:off x="259560" y="2857680"/>
            <a:ext cx="484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nstantia"/>
              </a:rPr>
              <a:t>Второе название праздник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nstantia"/>
              </a:rPr>
              <a:t>Богоя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2" descr="Сретение господне, новгородская икона, XV век.jpg"/>
          <p:cNvPicPr/>
          <p:nvPr/>
        </p:nvPicPr>
        <p:blipFill>
          <a:blip r:embed="rId2"/>
          <a:stretch/>
        </p:blipFill>
        <p:spPr>
          <a:xfrm>
            <a:off x="3000240" y="1928880"/>
            <a:ext cx="30243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450720" y="407880"/>
            <a:ext cx="8321760" cy="22431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2" descr="Благовещение.jpg"/>
          <p:cNvPicPr/>
          <p:nvPr/>
        </p:nvPicPr>
        <p:blipFill>
          <a:blip r:embed="rId2"/>
          <a:stretch/>
        </p:blipFill>
        <p:spPr>
          <a:xfrm>
            <a:off x="3000240" y="2643120"/>
            <a:ext cx="3065760" cy="40118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6429240" y="57862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nstantia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22:21:13Z</dcterms:created>
  <dc:creator>Admin</dc:creator>
  <dc:description/>
  <dc:language>en-US</dc:language>
  <cp:lastModifiedBy>Admin</cp:lastModifiedBy>
  <dcterms:modified xsi:type="dcterms:W3CDTF">2009-11-29T18:26:39Z</dcterms:modified>
  <cp:revision>20</cp:revision>
  <dc:subject/>
  <dc:title>Православные праздники</dc:title>
</cp:coreProperties>
</file>