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6.wmf" ContentType="image/x-wmf"/>
  <Override PartName="/ppt/media/image13.wmf" ContentType="image/x-wmf"/>
  <Override PartName="/ppt/media/image10.gif" ContentType="image/gif"/>
  <Override PartName="/ppt/media/image22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2.wmf" ContentType="image/x-wm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9C7-B814-477B-B039-5529083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A4B-1333-41C3-9CFB-1E80C6FA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00F-7D6F-442D-91E0-C485728A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74D-2377-4C65-B2FA-D75C8433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AAE-4669-4872-A0E9-7621F6E2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9C6-5BC6-48D8-AD6B-F8A5885F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B119-95FA-4E21-9313-DCF60B5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C11-B0A0-457F-B561-76DE8D7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F29-CF78-4228-B130-C9EE42C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381-F10E-4B82-A0B2-7768F25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477-B675-4BAE-8E5A-F59C051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371-3CE5-4144-B798-41CE9C8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E47-51AE-492F-B5C1-75FF6C889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Проект по математ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2276640"/>
            <a:ext cx="7993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ы уравнений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4941720"/>
            <a:ext cx="3600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ыполнила: ученица 11 класса Грибской СОШ Тафинцева Нас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Руководитель: Мякинникова О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87280" y="0"/>
            <a:ext cx="698508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каждое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второй степени. 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781360"/>
            <a:ext cx="8640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Arial"/>
              </a:rPr>
              <a:t>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Palatino Linotype"/>
              </a:rPr>
              <a:t>  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+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y</a:t>
            </a:r>
            <a:r>
              <a:rPr b="1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=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а </a:t>
            </a:r>
            <a:r>
              <a:rPr b="0" lang="en-US" sz="7200" spc="-1" strike="noStrike">
                <a:solidFill>
                  <a:srgbClr val="6600cc"/>
                </a:solidFill>
                <a:latin typeface="Palatino Linotype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              </a:t>
            </a:r>
            <a:r>
              <a:rPr b="1" i="1" lang="en-US" sz="7200" spc="-1" strike="noStrike">
                <a:solidFill>
                  <a:srgbClr val="6600cc"/>
                </a:solidFill>
                <a:latin typeface="Palatino Linotype"/>
              </a:rPr>
              <a:t>х у = 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357336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6600cc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3429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42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4920" y="-270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то и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 и  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. Поэтому мы можем, не нарушая равносильности уравнений, разделить обе части второго из них на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41092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3528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11640" y="0"/>
            <a:ext cx="360360" cy="765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64000" y="3933720"/>
            <a:ext cx="514836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(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)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 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4005360"/>
            <a:ext cx="42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х у = b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76640"/>
            <a:ext cx="144360" cy="19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64000" y="486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Умножив обе части на </a:t>
            </a: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x </a:t>
            </a: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, получим равносильное уравнение: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a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,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т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 </a:t>
            </a:r>
            <a:r>
              <a:rPr b="0" lang="ru-RU" sz="66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66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  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x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— ax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 + </a:t>
            </a:r>
            <a:r>
              <a:rPr b="1" i="1" lang="en-US" sz="6600" spc="-1" strike="noStrike">
                <a:solidFill>
                  <a:srgbClr val="a50021"/>
                </a:solidFill>
                <a:latin typeface="Century Schoolbook"/>
              </a:rPr>
              <a:t>b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 = </a:t>
            </a:r>
            <a:r>
              <a:rPr b="1" lang="en-US" sz="6600" spc="-1" strike="noStrike">
                <a:solidFill>
                  <a:srgbClr val="a50021"/>
                </a:solidFill>
                <a:latin typeface="Century Schoolbook"/>
              </a:rPr>
              <a:t>0</a:t>
            </a:r>
            <a:r>
              <a:rPr b="0" lang="en-US" sz="6600" spc="-1" strike="noStrike">
                <a:solidFill>
                  <a:srgbClr val="a50021"/>
                </a:solidFill>
                <a:latin typeface="Century Schoolbook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189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149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Monotype Corsiv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40734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292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933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-172080"/>
            <a:ext cx="9144000" cy="655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00"/>
                </a:solidFill>
                <a:latin typeface="Arial"/>
              </a:rPr>
              <a:t>Подобным же образом решается и систем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Arial"/>
              </a:rPr>
              <a:t>       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—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i="1" lang="en-US" sz="8800" spc="-1" strike="noStrike">
                <a:solidFill>
                  <a:srgbClr val="00ff00"/>
                </a:solidFill>
                <a:latin typeface="Arial"/>
                <a:ea typeface="Arial"/>
              </a:rPr>
              <a:t>²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xy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 = </a:t>
            </a:r>
            <a:r>
              <a:rPr b="1" i="1" lang="ru-RU" sz="88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1" lang="ru-RU" sz="88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357720"/>
            <a:ext cx="576360" cy="2950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76680 h 2950920"/>
              <a:gd name="textAreaBottom" fmla="*/ 2874240 h 29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96360" cy="436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179280" y="260280"/>
            <a:ext cx="878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Надо решить систему уравнений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00ff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графический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7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Eras Demi ITC"/>
              </a:rPr>
              <a:t>Построим в одной координатной плоскости графики функций</a:t>
            </a:r>
            <a:r>
              <a:rPr b="1" i="1" lang="en-US" sz="32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595160" cy="1668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2349360"/>
            <a:ext cx="82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+ 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 = 25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w Cen MT"/>
              </a:rPr>
              <a:t>х • у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3068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49228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2349360"/>
            <a:ext cx="338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+ у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=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 = 12 / 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2492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xit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rcRect l="5124" t="5094" r="10591" b="8674"/>
          <a:stretch/>
        </p:blipFill>
        <p:spPr>
          <a:xfrm>
            <a:off x="179280" y="1197000"/>
            <a:ext cx="5496120" cy="5661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495000" y="445320"/>
            <a:ext cx="1020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Из рис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унка 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видно, что значения корней следующи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5280" y="3547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400960" y="551664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476360" y="5013360"/>
            <a:ext cx="21600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30064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0000" y="2708280"/>
            <a:ext cx="215640" cy="216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7280" y="2997360"/>
            <a:ext cx="215640" cy="215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389600">
            <a:off x="870120" y="2334960"/>
            <a:ext cx="1942920" cy="1439640"/>
          </a:xfrm>
          <a:prstGeom prst="blockArc">
            <a:avLst>
              <a:gd name="adj1" fmla="val 10595251"/>
              <a:gd name="adj2" fmla="val 204749"/>
              <a:gd name="adj3" fmla="val 971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36000">
            <a:off x="900360" y="26366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159200">
            <a:off x="250920" y="429228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4430400">
            <a:off x="3116160" y="1787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12 /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589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27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80389E-006 L 0.60243 -0.51572 E">
                                      <p:cBhvr>
                                        <p:cTn id="318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961E-006 L 0.53941 -0.47386 E">
                                      <p:cBhvr>
                                        <p:cTn id="327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0.26771 0.1346 E">
                                      <p:cBhvr>
                                        <p:cTn id="336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88622E-006 L 0.18923 0.14501 E">
                                      <p:cBhvr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00ff"/>
                </a:solidFill>
                <a:uFillTx/>
                <a:latin typeface="Comic Sans MS"/>
              </a:rPr>
              <a:t>II</a:t>
            </a:r>
            <a:r>
              <a:rPr b="0" lang="ru-RU" sz="4800" spc="-1" strike="noStrike" u="sng">
                <a:solidFill>
                  <a:srgbClr val="cc00ff"/>
                </a:solidFill>
                <a:uFillTx/>
                <a:latin typeface="Comic Sans MS"/>
              </a:rPr>
              <a:t> способ (аналитически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7610400" y="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788000" cy="1622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79280" y="1618920"/>
            <a:ext cx="8425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ножим второе уравнение на 2 и сначала сложим с первым, а затем вычтем из первого. Полу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987640" cy="1814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4103640" cy="2108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07672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1125360"/>
            <a:ext cx="0" cy="7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126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373720"/>
            <a:ext cx="835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4.08881E-006 L -0.38385 -0.00624 E">
                                      <p:cBhvr>
                                        <p:cTn id="38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Задача сводится к системе линейных уравнений с двумя неизвестным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160360" cy="1424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=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219640" y="1989000"/>
            <a:ext cx="235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Применяя к полученным системам метод сложения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(т.е. сперва сложим эти уравнения, а далее вычтем из первых – вторые)</a:t>
            </a: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, получим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924280"/>
            <a:ext cx="1555920" cy="393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308720" y="2924280"/>
            <a:ext cx="1390680" cy="39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5867280" y="4508640"/>
            <a:ext cx="1081080" cy="7347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278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: (4;3)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; (-3;-4) ; (3;4) ; (-4;-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4000" y="2825640"/>
            <a:ext cx="1950840" cy="4032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2340000" y="4581360"/>
            <a:ext cx="1081080" cy="735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395280" y="260280"/>
            <a:ext cx="37450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94640"/>
            <a:ext cx="9144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Уравнение записывают одно под другим и объединяют фигурной скобкой. Порядок уравнений не играет роли.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+у=39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х-у=11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17800" y="414000"/>
            <a:ext cx="88930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ff"/>
                </a:solidFill>
                <a:uFillTx/>
                <a:latin typeface="Arial"/>
              </a:rPr>
              <a:t>Системой уравнен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называется множество уравнений, решаемых совместн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251080"/>
            <a:ext cx="820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зывается множество пар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(х;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), удовлетворяющих каждому уравн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65120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0"/>
            <a:ext cx="5077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ff"/>
                </a:solidFill>
                <a:latin typeface="Arial"/>
              </a:rPr>
              <a:t>Обознач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2500200"/>
            <a:ext cx="216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5х+3у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2х+3у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450864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093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" y="549000"/>
            <a:ext cx="900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Решением систем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уравнений с 2 переменными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1" repeatCount="5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7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0" y="0"/>
            <a:ext cx="91440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Решить систему уравнений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Comic Sans MS"/>
              </a:rPr>
              <a:t>I</a:t>
            </a:r>
            <a:r>
              <a:rPr b="0" lang="ru-RU" sz="4400" spc="-1" strike="noStrike" u="sng">
                <a:solidFill>
                  <a:srgbClr val="009900"/>
                </a:solidFill>
                <a:uFillTx/>
                <a:latin typeface="Comic Sans MS"/>
              </a:rPr>
              <a:t> способ (графический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392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строим в одной координатной плоскости графики функц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920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211640" y="1052640"/>
            <a:ext cx="3097080" cy="1044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2538" t="2456" r="5524" b="8606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530064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300640"/>
            <a:ext cx="14472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3933720"/>
            <a:ext cx="144360" cy="142920"/>
          </a:xfrm>
          <a:prstGeom prst="ellipse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692360" y="3213000"/>
            <a:ext cx="1152360" cy="327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 rot="15397200">
            <a:off x="598320" y="2906280"/>
            <a:ext cx="107964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8400960" y="5589720"/>
            <a:ext cx="743040" cy="1484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371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544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-2 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8000" y="3573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;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544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 ;-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47549E-007 L 0.57899 -0.22202 E">
                                      <p:cBhvr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5.08788E-007 L 0.53159 -0.34806 E">
                                      <p:cBhvr>
                                        <p:cTn id="50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7086E-006 L 0.2717 0.06105 E">
                                      <p:cBhvr>
                                        <p:cTn id="51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5.08788E-007 L 0.29532 -0.09621 E">
                                      <p:cBhvr>
                                        <p:cTn id="525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12884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urier New"/>
              </a:rPr>
              <a:t>Ответ</a:t>
            </a:r>
            <a:r>
              <a:rPr b="0" lang="en-US" sz="9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8080" y="35470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350028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;-3); (-2;-3); (3;2); (-3;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55640" y="189000"/>
            <a:ext cx="7632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Система двух уравнений,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из которых одно первой степени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а другое второй.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2781360"/>
            <a:ext cx="7632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а уравнений ви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005360"/>
            <a:ext cx="360360" cy="1871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84640"/>
            <a:ext cx="439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149720"/>
            <a:ext cx="33134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 + у = 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ху = b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437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перв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5157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4508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229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0000"/>
              </a:gs>
              <a:gs pos="100000">
                <a:srgbClr val="4d0ba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усть дана систем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2560" y="1484280"/>
            <a:ext cx="626580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403280" y="1484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242100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 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1700280"/>
            <a:ext cx="216000" cy="151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873080" cy="1552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40053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спользуемся способом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одстан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34936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42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55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616572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516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зим из второго уравнения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4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74746E-006 L -0.09444 -2.74746E-006 E">
                                      <p:cBhvr>
                                        <p:cTn id="1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Тогда уравнение 2-й степени после подстановки дает уравнение с одним неизвестным </a:t>
            </a:r>
            <a:r>
              <a:rPr b="1" i="1" lang="en-US" sz="4000" spc="-1" strike="noStrike">
                <a:solidFill>
                  <a:srgbClr val="660066"/>
                </a:solidFill>
                <a:latin typeface="Courier New"/>
              </a:rPr>
              <a:t>х</a:t>
            </a:r>
            <a:r>
              <a:rPr b="1" lang="en-US" sz="4000" spc="-1" strike="noStrike">
                <a:solidFill>
                  <a:srgbClr val="660066"/>
                </a:solidFill>
                <a:latin typeface="Courier New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357720"/>
            <a:ext cx="6266160" cy="25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4 у + х + 3у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189080" y="3357720"/>
            <a:ext cx="830160" cy="93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2720" y="42940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2 х – 1  = 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1800" y="3573360"/>
            <a:ext cx="215640" cy="1513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87920" b="-2337"/>
          <a:stretch/>
        </p:blipFill>
        <p:spPr>
          <a:xfrm>
            <a:off x="1187280" y="3357720"/>
            <a:ext cx="830520" cy="93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8000" y="3357720"/>
            <a:ext cx="65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4(2х-1) +х+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430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115480" y="5581800"/>
            <a:ext cx="1028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аем урав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- 4(2х-1) + х + 3(2х-1)=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0" r="87920" b="-2337"/>
          <a:stretch/>
        </p:blipFill>
        <p:spPr>
          <a:xfrm>
            <a:off x="1258920" y="1268280"/>
            <a:ext cx="83016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11640" y="1339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492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2х-1) + х + 3 (2х - 1)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4 (4х – 4х + 1) + х +6х – 3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х – 16х + 16х - 4 + х + 6х – 3 –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-15х + 23х – 8 = 0; 15х – 23х + 8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6040" y="24145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3320" y="2421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30621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27320" y="3062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1320" y="3716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7101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435780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0040" y="43578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197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5 х - 23 х + 8 =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0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1989000"/>
            <a:ext cx="590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= 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3 – 4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15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×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8    = 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49 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3440" y="1989000"/>
            <a:ext cx="237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744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068640"/>
            <a:ext cx="62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=             =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69840" y="342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528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+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3284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4365720"/>
            <a:ext cx="61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х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               =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1/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984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6920" y="4221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23 -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65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6200000">
            <a:off x="6986520" y="4700160"/>
            <a:ext cx="2119320" cy="219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1928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После этого из уравнени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Monotype Corsiva"/>
              </a:rPr>
              <a:t>у = 2х — 1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находим:</a:t>
            </a: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141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2000" spc="-1" strike="noStrike">
                <a:solidFill>
                  <a:srgbClr val="ff0000"/>
                </a:solidFill>
                <a:latin typeface="Monotype Corsiva"/>
              </a:rPr>
              <a:t>1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 = 2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79736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у</a:t>
            </a:r>
            <a:r>
              <a:rPr b="1" i="1" lang="en-US" sz="18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i="1" lang="en-US" sz="6000" spc="-1" strike="noStrike">
                <a:solidFill>
                  <a:srgbClr val="0000cc"/>
                </a:solidFill>
                <a:latin typeface="Monotype Corsiva"/>
              </a:rPr>
              <a:t>= 2         -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314316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47991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800000"/>
                </a:solidFill>
                <a:latin typeface="Monotype Corsiva"/>
              </a:rPr>
              <a:t>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314172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•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1      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87640" y="486900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8/15</a:t>
            </a:r>
            <a:r>
              <a:rPr b="0" lang="en-US" sz="60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    = 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236000" y="5276880"/>
            <a:ext cx="1908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Таким образом, данная система имеет две пары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решен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d0bad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x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 ,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 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1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1;       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2) 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 х</a:t>
            </a:r>
            <a:r>
              <a:rPr b="1" lang="en-US" sz="24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8/15  ,  </a:t>
            </a:r>
            <a:r>
              <a:rPr b="1" i="1" lang="en-US" sz="6000" spc="-1" strike="noStrike">
                <a:solidFill>
                  <a:srgbClr val="4d0bad"/>
                </a:solidFill>
                <a:latin typeface="Monotype Corsiva"/>
              </a:rPr>
              <a:t>y</a:t>
            </a:r>
            <a:r>
              <a:rPr b="1" lang="en-US" sz="2800" spc="-1" strike="noStrike">
                <a:solidFill>
                  <a:srgbClr val="4d0bad"/>
                </a:solidFill>
                <a:latin typeface="Monotype Corsiva"/>
              </a:rPr>
              <a:t>2</a:t>
            </a:r>
            <a:r>
              <a:rPr b="1" lang="en-US" sz="6000" spc="-1" strike="noStrike">
                <a:solidFill>
                  <a:srgbClr val="4d0bad"/>
                </a:solidFill>
                <a:latin typeface="Monotype Corsiva"/>
              </a:rPr>
              <a:t> =  1/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22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: (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;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 ;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/15 ; 1/1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2:17Z</dcterms:created>
  <dc:creator>User</dc:creator>
  <dc:description/>
  <dc:language>en-US</dc:language>
  <cp:lastModifiedBy>User</cp:lastModifiedBy>
  <dcterms:modified xsi:type="dcterms:W3CDTF">2009-11-10T16:56:55Z</dcterms:modified>
  <cp:revision>12</cp:revision>
  <dc:subject/>
  <dc:title>Слайд 1</dc:title>
</cp:coreProperties>
</file>