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5D1-4719-4246-BBF9-D60A7FA5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AE3-3D18-4C2E-AF80-97753A9B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FF0-FD6D-4E25-82DB-973E1AB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4D9-1255-4D0E-BBC7-CAB8B601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5183-1FEA-4427-8CDD-F644A750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38CD-39A2-426F-B698-066E336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9CD0-DB95-477C-AFAF-D7DCF35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9328-35BA-491F-B16C-9413C41F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0EE-BFD6-4F52-86A5-9246D7BF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C415-A60A-4D22-A9D7-1EFBB79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48D-8533-46E0-A097-96EAA76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EB4-8BCD-4DF6-924D-27165EB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34CF-87CA-424D-AD66-487D606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7D3-14F0-4D79-8766-5C4B51E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C42A-0743-4D80-AD16-BC3CB23A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4756-C371-414B-93E0-2455D5F4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FAF-C293-4A98-8552-F662CED8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541-8774-4877-9BDC-AD70B9F3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C13-3C93-445C-9321-6E41508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A1B-3D45-416E-BA78-6C334514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F07-7208-451C-82B4-38CB0CA7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C3E-7BD3-40E4-AE07-0B44DAC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7C3-A85E-49EE-8C30-88B62784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FE1-47E4-4477-9977-A834C8A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A01D-9A4E-436C-8A8D-C84012B07B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D2C8-9D2D-40D7-8B45-C834A4280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Предлог как часть речи.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42926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 созд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мирновой О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ем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Лесн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шутся раздельн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 течение, в продолжение, по причине, в целях, со стороны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80"/>
                </a:solidFill>
                <a:latin typeface="Arial"/>
              </a:rPr>
              <a:t>Пишется </a:t>
            </a:r>
            <a:r>
              <a:rPr b="1" i="1" lang="en-US" sz="4000" spc="-1" strike="noStrike">
                <a:solidFill>
                  <a:srgbClr val="007d8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7d80"/>
                </a:solidFill>
                <a:latin typeface="Arial"/>
              </a:rPr>
              <a:t> на конце предлогов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родолжен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55640" y="2060640"/>
            <a:ext cx="748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работ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предлог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ебная часть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жает зависимость одних слов от других в словосочетании и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дти по лесу, гулять вопреки дожд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292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26920" y="429264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429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4221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422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042560" y="4221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292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63640" y="429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4292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выражают различные отношения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н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третиться через ча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инные       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приехать из-за болез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ранственн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ложить на сто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ев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апка для тетрад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други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d80"/>
                </a:solidFill>
                <a:latin typeface="Arial"/>
              </a:rPr>
              <a:t>Спишите словосочетания с предлогами. </a:t>
            </a:r>
            <a:br>
              <a:rPr sz="2800"/>
            </a:br>
            <a:r>
              <a:rPr b="1" i="1" lang="en-US" sz="2800" spc="-1" strike="noStrike">
                <a:solidFill>
                  <a:srgbClr val="007d80"/>
                </a:solidFill>
                <a:latin typeface="Arial"/>
              </a:rPr>
              <a:t>Какие отношения они выражают?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елиться на территории, сделать благодаря старанию, вырасти из-под земли, отказаться вследствие занятости, играть на стадионе, вернуться к 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однозначными и многознач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дн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ают один тип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с одним падеж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знать благодаря книг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ног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ают несколько типов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с разными падеж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ернуться из-за непогоды, выйти из-за до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производными и непроизвод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изв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ованы путем перехода самостоятельных частей речи в служеб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бычно используются с одним падеж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дти навстречу друг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произв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Многие могут употребляться с разными падеж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жить за горой, унести за д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d80"/>
                </a:solidFill>
                <a:uFillTx/>
                <a:latin typeface="Arial"/>
              </a:rPr>
              <a:t>Запомните!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только с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тельным падеж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оизводные предл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Благод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гла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п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перек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словосочета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простыми и состав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, по, перед, из-п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словосочета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ста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Ждать в течение д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крыть в связи с моро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предложе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Орфограммы в предлогах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шутся слитн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одные предлоги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ованные о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реч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идти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перед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сех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следств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по причине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Наподобие, врод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подобн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Насчё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виду, вместо, несмотр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53:54Z</dcterms:created>
  <dc:creator>Neo Anderson</dc:creator>
  <dc:description/>
  <dc:language>en-US</dc:language>
  <cp:lastModifiedBy>Neo Anderson</cp:lastModifiedBy>
  <dcterms:modified xsi:type="dcterms:W3CDTF">2009-02-22T19:03:48Z</dcterms:modified>
  <cp:revision>5</cp:revision>
  <dc:subject/>
  <dc:title>предлог</dc:title>
</cp:coreProperties>
</file>