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1BF-30A0-4CC1-9207-47009109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800-D179-441D-92E7-18E92FBC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C80-E341-4418-A79B-5E927E77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FA3-B847-4FA9-9308-13884F51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EB61-2E86-496E-849A-4B1AB817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2673-8326-4711-92FD-4E1CFC7E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CBCC-B203-47AE-8350-3A314603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9839-1B0D-43ED-A2BC-89870220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46DC-56A5-40C6-9E99-2D36D661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0F60-6BEF-4891-B5C4-12218CD9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04D0-D046-4FC7-AE4D-E124643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DDD-8B05-467B-A579-A3554878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7A2F-F589-4FD7-90F3-CBE1744C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6874-0054-46AA-80BB-50B5DC8C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956A-A80E-4648-95C9-EB893298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96F3-497E-4463-BB2F-E2C12BD1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DF5B-1CCD-4EC7-BB9A-6EA8F1B1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21D-91A7-4205-85F6-7ECB04FA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B4E-5BAF-4020-93D7-9D905DAD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D99-C1B6-4B8B-A1FE-25FABD90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412-16B7-4C4E-9D9B-C12A250B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CB2-8486-4706-B6B2-2A21E026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841-8A71-41E4-B957-28F220EF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2D6-E5AC-42D7-84E0-DFF83877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b1bcb4"/>
              </a:gs>
              <a:gs pos="100000">
                <a:srgbClr val="cbd7c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EC2A-5A19-4E3E-980F-0D445A9D14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bb5a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7c2b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1bcb4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bb5ad"/>
                  </a:gs>
                  <a:gs pos="100000">
                    <a:srgbClr val="cbd7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7c2ba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5af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1bc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ec9c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ec9c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3cfc6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A2EA-61D8-441E-AB01-29BB0F5A0C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Предлог как часть речи.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4292640"/>
            <a:ext cx="79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зентация созд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мирновой О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ем русского языка и литера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Лесн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ишутся раздельн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В течение, в продолжение, по причине, в целях, со стороны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d80"/>
                </a:solidFill>
                <a:latin typeface="Arial"/>
              </a:rPr>
              <a:t>Пишется </a:t>
            </a:r>
            <a:r>
              <a:rPr b="1" i="1" lang="en-US" sz="4000" spc="-1" strike="noStrike">
                <a:solidFill>
                  <a:srgbClr val="007d80"/>
                </a:solidFill>
                <a:latin typeface="Arial"/>
              </a:rPr>
              <a:t>Е</a:t>
            </a:r>
            <a:r>
              <a:rPr b="1" lang="en-US" sz="4000" spc="-1" strike="noStrike">
                <a:solidFill>
                  <a:srgbClr val="007d80"/>
                </a:solidFill>
                <a:latin typeface="Arial"/>
              </a:rPr>
              <a:t> на конце предлогов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течени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родолжени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ледстви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55640" y="2060640"/>
            <a:ext cx="7488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работ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предлог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ужебная часть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жает зависимость одних слов от других в словосочетании и предлож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дти по лесу, гулять вопреки дожд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292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26920" y="4292640"/>
            <a:ext cx="1447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5280" y="4292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4221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27280" y="422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042560" y="4221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4292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563640" y="429264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44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4292640"/>
            <a:ext cx="295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4292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выражают различные отношения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енные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стретиться через ча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чинные        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приехать из-за болезн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транственные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ложить на сто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евые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апка для тетрад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други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d80"/>
                </a:solidFill>
                <a:latin typeface="Arial"/>
              </a:rPr>
              <a:t>Спишите словосочетания с предлогами. </a:t>
            </a:r>
            <a:br>
              <a:rPr sz="2800"/>
            </a:br>
            <a:r>
              <a:rPr b="1" i="1" lang="en-US" sz="2800" spc="-1" strike="noStrike">
                <a:solidFill>
                  <a:srgbClr val="007d80"/>
                </a:solidFill>
                <a:latin typeface="Arial"/>
              </a:rPr>
              <a:t>Какие отношения они выражают?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елиться на территории, сделать благодаря старанию, вырасти из-под земли, отказаться вследствие занятости, играть на стадионе, вернуться к ут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бывают однозначными и многозначными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днозна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ражают один тип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яются с одним падеж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знать благодаря книг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Многозна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ражают несколько типов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яются с разными падеж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вернуться из-за непогоды, выйти из-за дом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бывают производными и непроизводными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изво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зованы путем перехода самостоятельных частей речи в служеб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обычно используются с одним падеж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идти навстречу друг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епроизво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Многие могут употребляться с разными падеж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жить за горой, унести за д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7d80"/>
                </a:solidFill>
                <a:uFillTx/>
                <a:latin typeface="Arial"/>
              </a:rPr>
              <a:t>Запомните!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яются только с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тельным падежо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роизводные предл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Благод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глас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пре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встре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перек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оставьте словосочетания с данными предлог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d80"/>
                </a:solidFill>
                <a:latin typeface="Arial"/>
              </a:rPr>
              <a:t>Предлоги бывают простыми и составными</a:t>
            </a:r>
            <a:endParaRPr b="0" lang="en-US" sz="40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, по, перед, из-п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оставьте словосочетания с данными предлог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оста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Ждать в течение дн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закрыть в связи с мороз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составьте предложения с данными предлогам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Орфограммы в предлогах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ишутся слитн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одные предлоги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разованные о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реч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идти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перед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сех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Вследств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= по причине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Наподобие, врод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= подобно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Насчё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= о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Ввиду, вместо, несмотр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53:54Z</dcterms:created>
  <dc:creator>Neo Anderson</dc:creator>
  <dc:description/>
  <dc:language>en-US</dc:language>
  <cp:lastModifiedBy>Neo Anderson</cp:lastModifiedBy>
  <dcterms:modified xsi:type="dcterms:W3CDTF">2009-02-22T19:03:48Z</dcterms:modified>
  <cp:revision>5</cp:revision>
  <dc:subject/>
  <dc:title>предлог</dc:title>
</cp:coreProperties>
</file>