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241-8ECF-4E42-90A3-9B08A9BC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D5A-E75D-48A5-9161-E910F680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C00-9F5F-41FD-97D1-B002A108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C85-87FD-4C5F-BC0C-E00EDE2C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9F31-68E1-4A95-975A-307BF86B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1384-DF5D-4DF9-8240-234C52FF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73C1-EAF8-40A4-BF31-AFB55B79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A6DE-5463-47F4-A85B-3711EF3E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A4AE-2EDE-4BB3-9351-F8829F30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569A-C379-4002-998E-B3202120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02A0-9864-47EF-A9AD-7F28E60F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3C6-1503-4CE1-AA1C-5EB10226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DEF4-0ED2-46C9-9888-262F3296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D6E1-6189-4607-88A0-DE950DDB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F171-F30D-4A08-BF00-74E6082E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FA7D-E20A-4481-B172-32D003E7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BB08-B8AD-4120-8086-F7421D09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E1C-88CD-431D-B7F6-7138504A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9D90-191F-4CD9-B587-D1831761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5E6-A130-4F6A-B818-AAE0F82A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F18-A216-4548-B1AD-496E8D62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0DE-20FD-4B7E-BC73-886C129B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055-F74B-4F8D-8F1B-B2580E51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9A4-949D-41CE-9029-6BA9B7A2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b1bcb4"/>
              </a:gs>
              <a:gs pos="100000">
                <a:srgbClr val="cbd7c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F35B-0A2B-44F5-B8F5-A3A139856F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7606-617D-44DA-B1A2-1ACCBA0407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2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Предлог как часть речи.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27640" y="4292640"/>
            <a:ext cx="79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зентация созд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мирновой О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ем русского языка и литерату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Лесн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ишутся раздельн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В течение, в продолжение, по причине, в целях, со стороны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d80"/>
                </a:solidFill>
                <a:latin typeface="Arial"/>
              </a:rPr>
              <a:t>Пишется </a:t>
            </a:r>
            <a:r>
              <a:rPr b="1" i="1" lang="en-US" sz="4000" spc="-1" strike="noStrike">
                <a:solidFill>
                  <a:srgbClr val="007d80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7d80"/>
                </a:solidFill>
                <a:latin typeface="Arial"/>
              </a:rPr>
              <a:t> на конце предлогов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течени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продолжени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ледстви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55640" y="2060640"/>
            <a:ext cx="7488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работ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предлог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ужебная часть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ражает зависимость одних слов от других в словосочетании и предлож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Идти по лесу, гулять вопреки дожд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4292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26920" y="4292640"/>
            <a:ext cx="144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35280" y="4292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35280" y="4221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27280" y="422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042560" y="4221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4292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563640" y="4292640"/>
            <a:ext cx="144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67280" y="44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429264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7080" y="4292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Предлоги выражают различные отношения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енные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стретиться через ча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чинные        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е приехать из-за болезн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транственные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ложить на сто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евые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апка для тетрад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други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d80"/>
                </a:solidFill>
                <a:latin typeface="Arial"/>
              </a:rPr>
              <a:t>Спишите словосочетания с предлогами. </a:t>
            </a:r>
            <a:br>
              <a:rPr sz="2800"/>
            </a:br>
            <a:r>
              <a:rPr b="1" i="1" lang="en-US" sz="2800" spc="-1" strike="noStrike">
                <a:solidFill>
                  <a:srgbClr val="007d80"/>
                </a:solidFill>
                <a:latin typeface="Arial"/>
              </a:rPr>
              <a:t>Какие отношения они выражают?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елиться на территории, сделать благодаря старанию, вырасти из-под земли, отказаться вследствие занятости, играть на стадионе, вернуться к ут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Предлоги бывают однозначными и многозначными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днозна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ражают один тип отно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яются с одним падеж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узнать благодаря книг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Многозна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ражают несколько типов отно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яются с разными падеж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вернуться из-за непогоды, выйти из-за дом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Предлоги бывают производными и непроизводными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оизво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разованы путем перехода самостоятельных частей речи в служеб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обычно используются с одним падеж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идти навстречу друг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епроизво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Многие могут употребляться с разными падеж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жить за горой, унести за д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7d80"/>
                </a:solidFill>
                <a:uFillTx/>
                <a:latin typeface="Arial"/>
              </a:rPr>
              <a:t>Запомните!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яются только с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ательным падежо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роизводные предлог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Благода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глас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опре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австреч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аперек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составьте словосочетания с данными предлогам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Предлоги бывают простыми и составными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рос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, по, перед, из-п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составьте словосочетания с данными предлогам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ста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Ждать в течение дн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закрыть в связи с мороз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составьте предложения с данными предлогам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Орфограммы в предлогах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ишутся слитн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изводные предлоги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разованные о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реч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идти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перед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всех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Вследств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= по причине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Наподобие, врод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= подобно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Насчё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= о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Ввиду, вместо, несмотр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4:53:54Z</dcterms:created>
  <dc:creator>Neo Anderson</dc:creator>
  <dc:description/>
  <dc:language>en-US</dc:language>
  <cp:lastModifiedBy>Neo Anderson</cp:lastModifiedBy>
  <dcterms:modified xsi:type="dcterms:W3CDTF">2009-02-22T19:03:48Z</dcterms:modified>
  <cp:revision>5</cp:revision>
  <dc:subject/>
  <dc:title>предлог</dc:title>
</cp:coreProperties>
</file>