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9C8-3149-4D0F-9E41-B1D9A4C0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3D5-B5A7-4033-B1C3-D95C452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28B-7ADF-4629-91EE-1BD1D788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95D-DFCC-4638-B206-78C844B4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6D7-7445-4DC3-A409-B6DD017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3A3-8080-4ECB-A1CC-D39E6D6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6C9C-0C3B-4339-9DDA-0BECAF62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39D-C641-4364-BF69-C3F6F605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00E-8991-4061-B4DF-AEB113A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7F9-D89B-461E-9A91-622C5DF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FD52-567B-4CF8-AAAF-9AD53EF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443-B803-41F4-A319-9235DCA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F264-A156-4608-BE8D-9CB1D4A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9664-FE13-446F-87FF-FD8F380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3DE0-E277-41B3-921F-CDE2F5B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6CA-42E6-4AA0-87A4-4F2CD572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AD0-8647-4E06-B658-A49BF1DE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14-A3DB-40AE-BAB0-8958D13A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315-90B7-425C-B00A-C7096E8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A6E-4EC5-406B-AAE5-994F635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C20-E3DB-4C53-9F21-2AA243C3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604-FA57-47C6-8F2E-A84BC19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895-4BED-4DC8-98ED-5E62D0D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DAA-4996-4436-BDCF-E03BBCE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49E8-AB4E-4C61-881B-BA44D8D4AC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63F5-B5D1-40AB-B1B4-D7B8FA9091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Monotype Corsiva"/>
              </a:rPr>
              <a:t>Бином Ньютона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Би»-удвоение, раздвоение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Ном»(фран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 nombre) –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омер, нумерац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Бином» -»два числ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Степени  суммы двух чисел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42920" y="1773360"/>
                <a:ext cx="741672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в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Степени  суммы двух чисел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42920" y="2205000"/>
                <a:ext cx="7777080" cy="37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Бином Ньютона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0920" y="4149720"/>
                <a:ext cx="88930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Правило Паскаля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16000" y="2662200"/>
                <a:ext cx="759780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35280" y="1413000"/>
            <a:ext cx="6408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2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3   3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4   6   4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5  10  10  5 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33336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Треугольник Паскал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2720" y="333000"/>
            <a:ext cx="799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Биноминальные коэффициенты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87280" y="1413000"/>
                <a:ext cx="6264360" cy="45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r>
                          <m:t xml:space="preserve">O</m:t>
                        </m:r>
                        <m:r>
                          <m:t xml:space="preserve">!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5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Биноминальные коэффициенты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3776760"/>
                <a:ext cx="9144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8360" y="1773360"/>
                <a:ext cx="8351640" cy="35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5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езентацию приготовил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Monotype Corsiva"/>
              </a:rPr>
              <a:t>ученица 11 б класс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Monotype Corsiva"/>
              </a:rPr>
              <a:t>Давыдова Анастас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учитель Кинзябулатова Л.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г.Ноябрьск             ЯНА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5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5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5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5-29T14:01:19Z</dcterms:modified>
  <cp:revision>10</cp:revision>
  <dc:subject/>
  <dc:title>PowerPoint Presentation</dc:title>
</cp:coreProperties>
</file>