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66B-954E-4468-8071-CEA0C4EF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9B7-8B35-4331-820E-9052BA43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FA8-0577-4E7D-8389-149E0BC2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6C8-FA6F-4B69-A2F3-B1F2D98B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699-44DA-4B45-B8EA-3906674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2C5-DF1C-4DAD-A471-FB0DD7DE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E65B-397B-416B-A15B-59037CE6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0585-AEAB-4D76-9607-E4E7E43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3F5-49E1-4482-887C-9547CFD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809-12BA-4058-B090-6B607782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5B36-F40D-4B41-9056-24CA58A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613-4447-40C3-8989-4F88CE5C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66C8-CA13-4776-AADB-BD80ED2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FAAE-3E6E-449B-8D9B-7E969E6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6E6-52A5-4D8B-8FCC-1010831B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3BD7-E771-4F06-92B8-EB222075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266E-64D1-4AFA-93A6-E982431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C53-9EC0-4941-95C9-E1492CD5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676-48E7-42B2-A662-CE00663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8CD-31CC-4476-883E-19CAD3E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032-2C26-402A-A10B-F7D150D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023-232A-43DA-8A85-0EF10CF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6B1-F9AA-46DD-93D2-F578876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D82-8B8F-4331-ACBB-913E585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89A9-678A-4D4C-9114-7600D2B5E3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E2F-C8C2-4979-9821-E2AD2C934F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Monotype Corsiva"/>
              </a:rPr>
              <a:t>Бином Ньютона.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Би»-удвоение, раздвоение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Ном»(фран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 nombre) –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омер, нумерац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Бином» -»два числ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Степени  суммы двух чисел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42920" y="1773360"/>
                <a:ext cx="7416720" cy="34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в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Степени  суммы двух чисел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42920" y="2205000"/>
                <a:ext cx="7777080" cy="37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в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5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Бином Ньютона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0920" y="4149720"/>
                <a:ext cx="88930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Правило Паскаля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16000" y="2662200"/>
                <a:ext cx="759780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35280" y="1413000"/>
            <a:ext cx="6408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2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3   3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4   6   4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  5  10  10  5 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33336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Треугольник Паскал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2720" y="333000"/>
            <a:ext cx="799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Monotype Corsiva"/>
              </a:rPr>
              <a:t>Биноминальные коэффициенты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87280" y="1413000"/>
                <a:ext cx="6264360" cy="45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r>
                          <m:t xml:space="preserve">O</m:t>
                        </m:r>
                        <m:r>
                          <m:t xml:space="preserve">!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5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Monotype Corsiva"/>
              </a:rPr>
              <a:t>Биноминальные коэффициенты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3776760"/>
                <a:ext cx="9144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8360" y="1773360"/>
                <a:ext cx="8351640" cy="35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75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езентацию приготовил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2392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Monotype Corsiva"/>
              </a:rPr>
              <a:t>ученица 11 б класс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Monotype Corsiva"/>
              </a:rPr>
              <a:t>Давыдова Анастас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учитель Кинзябулатова Л.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г.Ноябрьск             ЯНА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5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5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55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5-29T14:01:19Z</dcterms:modified>
  <cp:revision>10</cp:revision>
  <dc:subject/>
  <dc:title>PowerPoint Presentation</dc:title>
</cp:coreProperties>
</file>