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1875-3DEF-4825-8DE4-03D89CFEF6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FC5-B37B-4479-AFBE-DBCE8371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2AC-9D77-426C-A726-534B72B6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AF0-AA50-477E-AFB1-E80B593F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AE8-6F11-4A0E-B563-312A101F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E69-3055-4E81-8068-D482144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6ED-8CAC-48E1-A542-FFD1E25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982-326C-4D76-8E64-B5DAF89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4A4-9CDB-4FE7-AEC8-D65B578B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2E5-76B1-49E9-969D-8F014656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20B-40AE-4B49-8E6A-33A5576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12C-B5E6-4B3A-A55A-CEB8D122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6C4-99AC-48C8-95DF-D5368E01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2340-4C63-4D1F-8491-4B07F238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Н. Я. Дмитриева, А. Н. Казаков</a:t>
            </a:r>
            <a:br>
              <a:rPr sz="30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«Мы и окружающий мир.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клас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Тема: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Особенности кожного покр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3280" y="4508640"/>
            <a:ext cx="540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СОШ №49 г. Улан-Уд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Садовская Ольга Павл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2280" y="53341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од микроскопом на поверхности кожи видны мелкие чешуйки. Они постоянно слущиваются и замещаются нов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32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791320" cy="51688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7772400" y="63244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Осязание снабжает мозг информацией о внешней среде. Органы осязания (рецепторы) разбросаны по всей поверхности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342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Этот мальчик выглядит так необычно потому, что самые чувствительные части тела – губы и пальцы – увеличены. Эти части наиболее чувствительны к прикоснов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16640" y="990720"/>
            <a:ext cx="272736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Нервная к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688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2000" y="1295280"/>
            <a:ext cx="4095720" cy="464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146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892520" cy="289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1791000" cy="2908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086600" y="228600"/>
            <a:ext cx="167652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28600" y="3733920"/>
            <a:ext cx="1752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576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48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7913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терморегуляц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762120"/>
            <a:ext cx="8686800" cy="62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00"/>
                </a:solidFill>
                <a:latin typeface="Times New Roman"/>
              </a:rPr>
              <a:t>Терморегуляция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990000"/>
                </a:solidFill>
                <a:latin typeface="Times New Roman"/>
              </a:rPr>
              <a:t>–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«способность поддерживать температуру на заданном уровне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(Политехнический словарь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48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7913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терморегуляц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194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059280" cy="376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56200" y="3657600"/>
            <a:ext cx="2895840" cy="293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228600"/>
            <a:ext cx="8458200" cy="2666880"/>
          </a:xfrm>
          <a:prstGeom prst="cloudCallout">
            <a:avLst>
              <a:gd name="adj1" fmla="val 21675"/>
              <a:gd name="adj2" fmla="val 133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Даже незначительное загрязнение кожи способно нанести ей ощутимый вре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ясь каждый день водой и мылом, ты смываешь пыль, грязь и пот, которые могут закрывать поры кожи и мешать ей дыша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57240" y="1980720"/>
            <a:ext cx="4800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хаживай за кожей: содержи её в чистоте, а если кожа пересыхает, смазывай её кремом. При небольших повреждениях кожи нужно сразу оказать пострадавшему первую помощь. Если повреждение велико надо немедленно обратиться к врачу.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01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874960" cy="556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814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жа является зеркалом состояния здоровья всего организма — по состоянию кожи можно определить заболевания, которыми человек страд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1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1840" y="457200"/>
            <a:ext cx="3583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43480" y="2743200"/>
            <a:ext cx="380052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22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Домашнее задани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3880"/>
            <a:ext cx="5791320" cy="510552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ы и ногти 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кож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готовить сообщение на 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Что вы знаете о волосах?»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огти и их значение в жиз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ловека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териал учебника стр. 69 -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495320" y="228240"/>
            <a:ext cx="4343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 кусочке человеческой кожи размером с пятирублевую монету находится 19 500 000 000 клеток, 6 метров кровеносных сосудов и 25 метров нервных волокон, более 1000 нервных окончаний, 645 потовых желез, 75 сальных желез и 65 волосяных мешоч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еносные сосуды, находящиеся в коже, могут вмещать до одного литра кров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человек среднего возраста ежечасно теряет 600 тысяч частичек кожи, а за год "потеря" достигает 675 грамм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жа может дышать: она поглощает около 1% всего вдыхаемого нами кислород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0"/>
            <a:ext cx="4572000" cy="6629400"/>
          </a:xfrm>
          <a:prstGeom prst="wedgeRoundRectCallout">
            <a:avLst>
              <a:gd name="adj1" fmla="val -64273"/>
              <a:gd name="adj2" fmla="val -981"/>
              <a:gd name="adj3" fmla="val 16667"/>
            </a:avLst>
          </a:prstGeom>
          <a:noFill/>
          <a:ln w="25560">
            <a:solidFill>
              <a:srgbClr val="ff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0"/>
            <a:ext cx="3886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Это интересно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7188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о человека – сложнейшее создание живой природы. Оно состоит из  скелета, внутренних органов, кожи и систем, работающих согласованно и обеспечивающих жизнедеятельность организ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0738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Каждый мечтает об одежде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которая не промокала бы под самым сильным дождём, но свободно пропускала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бы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оздух. Чтобы она не выцветала, не мялась и не рвалас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её можно было бы носить хоть сто лет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ая необыкновенная одежда существу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743200"/>
            <a:ext cx="5867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Это природная, не знающая износа всепогодная одежда. Её площад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2кв. м. Она весит около 4 кг, а её толщина варьируется от 0,5мм до 5мм, средняя толщина составляет 1 – 2 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на постоянно растет и обновляется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Особенности кожного покр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троение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43036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4648320"/>
            <a:ext cx="381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Уход за кож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505320"/>
            <a:ext cx="381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Функции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8229600" y="594360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533520"/>
            <a:ext cx="807732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00"/>
                </a:solidFill>
                <a:latin typeface="Times New Roman"/>
              </a:rPr>
              <a:t>Функция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–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работа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производимая органом или организмом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                                    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(С. И. Ожегов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162920" y="6019920"/>
            <a:ext cx="1218960" cy="609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КЛЕТКА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– основа строения и роста живых организм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Живой организм, который дышит, питается, растет, размножается, умирае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05360" cy="396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6386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Умершие клетки заменяются новы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Клетки одинакового строения образуют ткан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8862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Дыхание и питание обеспечивают рост и деление кле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1240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Без кислорода и пищи клетка гибне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троение кож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24000" y="1916280"/>
            <a:ext cx="761760" cy="6094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229600" y="6248520"/>
            <a:ext cx="685800" cy="609480"/>
          </a:xfrm>
          <a:custGeom>
            <a:avLst/>
            <a:gdLst>
              <a:gd name="textAreaLeft" fmla="*/ 253440 w 685800"/>
              <a:gd name="textAreaRight" fmla="*/ 432360 w 685800"/>
              <a:gd name="textAreaTop" fmla="*/ 225360 h 609480"/>
              <a:gd name="textAreaBottom" fmla="*/ 384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5" y="7985"/>
                </a:lnTo>
                <a:lnTo>
                  <a:pt x="10800" y="0"/>
                </a:lnTo>
                <a:lnTo>
                  <a:pt x="13615" y="7985"/>
                </a:lnTo>
                <a:lnTo>
                  <a:pt x="21600" y="10800"/>
                </a:lnTo>
                <a:lnTo>
                  <a:pt x="13615" y="13615"/>
                </a:lnTo>
                <a:lnTo>
                  <a:pt x="10800" y="21600"/>
                </a:lnTo>
                <a:lnTo>
                  <a:pt x="7985" y="1361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533520"/>
            <a:ext cx="82296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Эпидермис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– «верхний,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поверхностный слой»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Слово взято из греческого языка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848720" y="5943600"/>
            <a:ext cx="990360" cy="762120"/>
          </a:xfrm>
          <a:custGeom>
            <a:avLst/>
            <a:gdLst>
              <a:gd name="textAreaLeft" fmla="*/ 0 w 990360"/>
              <a:gd name="textAreaRight" fmla="*/ 990720 w 990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5:32:10Z</dcterms:created>
  <dc:creator>USER</dc:creator>
  <dc:description/>
  <dc:language>en-US</dc:language>
  <cp:lastModifiedBy>123a</cp:lastModifiedBy>
  <dcterms:modified xsi:type="dcterms:W3CDTF">2007-04-24T13:07:25Z</dcterms:modified>
  <cp:revision>64</cp:revision>
  <dc:subject/>
  <dc:title>Н. Я. Дмитриева, А. Н. Казаков «Мы и окружающий мир.»</dc:title>
</cp:coreProperties>
</file>