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png" ContentType="image/pn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4FBC7-B0FA-4487-A0A6-16CE0A163EC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E0CC-FA7A-4509-B154-AE403759A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84E9-B465-4098-9023-1A644A2E9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6D4A-ABF2-4039-B854-B922E0981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5BE6-4A5A-43BF-8746-9D66942E0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7BF5-EB69-4D9E-BAA6-8F00709F4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9CC9-A53F-4D59-9892-CCFD05215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2F56-5C75-44D2-B2E8-DB529116C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85CB-CB75-4443-AFF1-D48B3D297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85D2-237D-4E90-ADB8-E2E2B7297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6D5E-05DA-490B-AA36-0BFF8B9A6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591B-4693-48FF-B9E0-41758D9E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44D1-B187-4BF3-A1D7-85BA3921E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9104D-6BF0-4198-AB13-1230F9907A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" Target="slide7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66"/>
                </a:solidFill>
                <a:latin typeface="Times New Roman"/>
              </a:rPr>
              <a:t>Н. Я. Дмитриева, А. Н. Казаков</a:t>
            </a:r>
            <a:br>
              <a:rPr sz="3000"/>
            </a:b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«Мы и окружающий мир.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234936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3 класс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Тема: 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Особенности кожного покров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43280" y="4508640"/>
            <a:ext cx="540072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Выполнил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Учитель начальных классо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СОШ №49 г. Улан-Уд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Садовская Ольга Павлов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52280" y="5334120"/>
            <a:ext cx="8763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996633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996633"/>
                </a:solidFill>
                <a:latin typeface="Arial"/>
              </a:rPr>
              <a:t>Под микроскопом на поверхности кожи видны мелкие чешуйки. Они постоянно слущиваются и замещаются новы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4324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828800" y="152280"/>
            <a:ext cx="5791320" cy="5168880"/>
          </a:xfrm>
          <a:prstGeom prst="rect">
            <a:avLst/>
          </a:prstGeom>
          <a:ln w="0">
            <a:noFill/>
          </a:ln>
        </p:spPr>
      </p:pic>
      <p:sp>
        <p:nvSpPr>
          <p:cNvPr id="87" name="">
            <a:hlinkClick r:id="rId2" action="ppaction://hlinksldjump"/>
          </p:cNvPr>
          <p:cNvSpPr/>
          <p:nvPr/>
        </p:nvSpPr>
        <p:spPr>
          <a:xfrm>
            <a:off x="7772400" y="6324480"/>
            <a:ext cx="1143000" cy="533520"/>
          </a:xfrm>
          <a:prstGeom prst="rightArrow">
            <a:avLst>
              <a:gd name="adj1" fmla="val 50000"/>
              <a:gd name="adj2" fmla="val 535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2819520"/>
            <a:ext cx="3352680" cy="403848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Осязание снабжает мозг информацией о внешней среде. Органы осязания (рецепторы) разбросаны по всей поверхности тел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23720" y="1752120"/>
            <a:ext cx="342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Этот мальчик выглядит так необычно потому, что самые чувствительные части тела – губы и пальцы – увеличены. Эти части наиболее чувствительны к прикосновению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416640" y="990720"/>
            <a:ext cx="2727360" cy="4114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143000" y="63244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ff"/>
                </a:solidFill>
                <a:latin typeface="Times New Roman"/>
              </a:rPr>
              <a:t>Нервная клет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666880" y="126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02000" y="1295280"/>
            <a:ext cx="4095720" cy="46483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714680" y="22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3733920"/>
            <a:ext cx="1892520" cy="28954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80880" y="533520"/>
            <a:ext cx="1791000" cy="29080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7086600" y="228600"/>
            <a:ext cx="1676520" cy="28954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228600" y="3733920"/>
            <a:ext cx="17524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 Black"/>
              </a:rPr>
              <a:t>Функции</a:t>
            </a: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8000"/>
                </a:solidFill>
                <a:latin typeface="Arial Black"/>
              </a:rPr>
              <a:t>кож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2286000"/>
            <a:ext cx="4267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Осязательная;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181480" y="2057400"/>
            <a:ext cx="3608640" cy="36576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80880" y="3124080"/>
            <a:ext cx="42674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защитная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857680" y="22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04880" y="12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 Black"/>
              </a:rPr>
              <a:t>Функции</a:t>
            </a: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8000"/>
                </a:solidFill>
                <a:latin typeface="Arial Black"/>
              </a:rPr>
              <a:t>кож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2286000"/>
            <a:ext cx="4267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Осязательная;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181480" y="2057400"/>
            <a:ext cx="3608640" cy="36576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80880" y="4952880"/>
            <a:ext cx="4267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выделительная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4038480"/>
            <a:ext cx="4267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дыхательная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3124080"/>
            <a:ext cx="42674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защитная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548080" y="18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 Black"/>
              </a:rPr>
              <a:t>Функции</a:t>
            </a: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8000"/>
                </a:solidFill>
                <a:latin typeface="Arial Black"/>
              </a:rPr>
              <a:t>кож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267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Осязательная;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181480" y="2057400"/>
            <a:ext cx="3608640" cy="36576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80880" y="4952880"/>
            <a:ext cx="4267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выделительная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4038480"/>
            <a:ext cx="4267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дыхательная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3124080"/>
            <a:ext cx="42674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защитная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5791320"/>
            <a:ext cx="4267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терморегуляция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28600" y="762120"/>
            <a:ext cx="8686800" cy="62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90000"/>
                </a:solidFill>
                <a:latin typeface="Times New Roman"/>
              </a:rPr>
              <a:t>Терморегуляция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en-US" sz="8000" spc="-1" strike="noStrike">
                <a:solidFill>
                  <a:srgbClr val="990000"/>
                </a:solidFill>
                <a:latin typeface="Times New Roman"/>
              </a:rPr>
              <a:t>– </a:t>
            </a:r>
            <a:r>
              <a:rPr b="0" lang="en-US" sz="5400" spc="-1" strike="noStrike">
                <a:solidFill>
                  <a:srgbClr val="990000"/>
                </a:solidFill>
                <a:latin typeface="Times New Roman"/>
              </a:rPr>
              <a:t>«способность поддерживать температуру на заданном уровне»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                       </a:t>
            </a: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(Политехнический словарь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548080" y="18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 Black"/>
              </a:rPr>
              <a:t>Функции</a:t>
            </a: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8000"/>
                </a:solidFill>
                <a:latin typeface="Arial Black"/>
              </a:rPr>
              <a:t>кож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267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Осязательная;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181480" y="2057400"/>
            <a:ext cx="3608640" cy="36576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80880" y="4952880"/>
            <a:ext cx="4267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выделительная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4038480"/>
            <a:ext cx="4267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дыхательная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3124080"/>
            <a:ext cx="42674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защитная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5791320"/>
            <a:ext cx="4267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терморегуляция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619440" y="22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80880" y="2895480"/>
            <a:ext cx="3059280" cy="37623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956200" y="3657600"/>
            <a:ext cx="2895840" cy="29336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57200" y="228600"/>
            <a:ext cx="8458200" cy="2666880"/>
          </a:xfrm>
          <a:prstGeom prst="cloudCallout">
            <a:avLst>
              <a:gd name="adj1" fmla="val 21675"/>
              <a:gd name="adj2" fmla="val 13398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Даже незначительное загрязнение кожи способно нанести ей ощутимый вред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610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Моясь каждый день водой и мылом, ты смываешь пыль, грязь и пот, которые могут закрывать поры кожи и мешать ей дышать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657240" y="1980720"/>
            <a:ext cx="4800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Ухаживай за кожей: содержи её в чистоте, а если кожа пересыхает, смазывай её кремом. При небольших повреждениях кожи нужно сразу оказать пострадавшему первую помощь. Если повреждение велико надо немедленно обратиться к врачу. 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710160" y="17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2874960" cy="55627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381480" y="18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8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647960" y="685800"/>
            <a:ext cx="38098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Кожа является зеркалом состояния здоровья всего организма — по состоянию кожи можно определить заболевания, которыми человек страдае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71800" y="22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31840" y="457200"/>
            <a:ext cx="35830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343480" y="2743200"/>
            <a:ext cx="3800520" cy="41148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457200" y="152280"/>
            <a:ext cx="815328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0033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Домашнее задани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0033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1523880"/>
            <a:ext cx="5791320" cy="5105520"/>
          </a:xfrm>
          <a:prstGeom prst="verticalScrol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осы и ногти - эт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ные кожи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готовить сообщение на тему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«Что вы знаете о волосах?» ил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«Ногти и их значение в жизн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человека.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атериал учебника стр. 69 - 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85800" y="2438280"/>
            <a:ext cx="3809880" cy="36576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495320" y="228240"/>
            <a:ext cx="43434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Times New Roman"/>
              </a:rPr>
              <a:t>н</a:t>
            </a:r>
            <a:r>
              <a:rPr b="0" lang="en-US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а кусочке человеческой кожи размером с пятирублевую монету находится 19 500 000 000 клеток, 6 метров кровеносных сосудов и 25 метров нервных волокон, более 1000 нервных окончаний, 645 потовых желез, 75 сальных желез и 65 волосяных мешочк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овеносные сосуды, находящиеся в коже, могут вмещать до одного литра крови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0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человек среднего возраста ежечасно теряет 600 тысяч частичек кожи, а за год "потеря" достигает 675 грамм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к</a:t>
            </a:r>
            <a:r>
              <a:rPr b="0" lang="en-US" sz="2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ожа может дышать: она поглощает около 1% всего вдыхаемого нами кислорода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19720" y="0"/>
            <a:ext cx="4572000" cy="6629400"/>
          </a:xfrm>
          <a:prstGeom prst="wedgeRoundRectCallout">
            <a:avLst>
              <a:gd name="adj1" fmla="val -64273"/>
              <a:gd name="adj2" fmla="val -981"/>
              <a:gd name="adj3" fmla="val 16667"/>
            </a:avLst>
          </a:prstGeom>
          <a:noFill/>
          <a:ln w="25560">
            <a:solidFill>
              <a:srgbClr val="ff00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0"/>
            <a:ext cx="38862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56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Это интересно</a:t>
            </a:r>
            <a:endParaRPr b="0" lang="en-US" sz="32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2362320"/>
            <a:ext cx="35812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04880" y="12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0" y="38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71880" y="13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5029200"/>
            <a:ext cx="914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ело человека – сложнейшее создание живой природы. Оно состоит из  скелета, внутренних органов, кожи и систем, работающих согласованно и обеспечивающих жизнедеятельность организм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763640" y="333360"/>
            <a:ext cx="5073840" cy="43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Каждый мечтает об одежде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которая не промокала бы под самым сильным дождём, но свободно пропускала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бы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воздух. Чтобы она не выцветала, не мялась и не рвалась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и её можно было бы носить хоть сто лет.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И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акая необыкновенная одежда существует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04880" y="12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95480" y="2743200"/>
            <a:ext cx="58676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Это природная, не знающая износа всепогодная одежда. Её площадь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~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2кв. м. Она весит около 4 кг, а её толщина варьируется от 0,5мм до 5мм, средняя толщина составляет 1 – 2 м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Она постоянно растет и обновляется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ff"/>
                </a:solidFill>
                <a:latin typeface="Times New Roman"/>
              </a:rPr>
              <a:t>Особенности кожного покров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38102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Строение кож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05360" y="22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257800" y="1295280"/>
            <a:ext cx="2430360" cy="5105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480" y="4648320"/>
            <a:ext cx="3810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Уход за кож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3505320"/>
            <a:ext cx="3810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Функции кож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3" action="ppaction://hlinksldjump"/>
          </p:cNvPr>
          <p:cNvSpPr/>
          <p:nvPr/>
        </p:nvSpPr>
        <p:spPr>
          <a:xfrm>
            <a:off x="8229600" y="5943600"/>
            <a:ext cx="685800" cy="685800"/>
          </a:xfrm>
          <a:custGeom>
            <a:avLst/>
            <a:gdLst>
              <a:gd name="textAreaLeft" fmla="*/ 0 w 685800"/>
              <a:gd name="textAreaRight" fmla="*/ 686160 w 68580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66"/>
            </a:gs>
            <a:gs pos="100000">
              <a:srgbClr val="ff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09480" y="533520"/>
            <a:ext cx="8077320" cy="51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990000"/>
                </a:solidFill>
                <a:latin typeface="Times New Roman"/>
              </a:rPr>
              <a:t>Функция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 – </a:t>
            </a:r>
            <a:r>
              <a:rPr b="0" lang="en-US" sz="6000" spc="-1" strike="noStrike">
                <a:solidFill>
                  <a:srgbClr val="990000"/>
                </a:solidFill>
                <a:latin typeface="Times New Roman"/>
              </a:rPr>
              <a:t>работа,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00"/>
                </a:solidFill>
                <a:latin typeface="Times New Roman"/>
              </a:rPr>
              <a:t>производимая органом или организмом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                                      </a:t>
            </a:r>
            <a:r>
              <a:rPr b="0" lang="en-US" sz="6000" spc="-1" strike="noStrike">
                <a:solidFill>
                  <a:srgbClr val="990000"/>
                </a:solidFill>
                <a:latin typeface="Times New Roman"/>
              </a:rPr>
              <a:t>(С. И. Ожегов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1" action="ppaction://hlinksldjump"/>
          </p:cNvPr>
          <p:cNvSpPr/>
          <p:nvPr/>
        </p:nvSpPr>
        <p:spPr>
          <a:xfrm>
            <a:off x="7162920" y="6019920"/>
            <a:ext cx="1218960" cy="609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Times New Roman"/>
              </a:rPr>
              <a:t>КЛЕТКА </a:t>
            </a: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– основа строения и роста живых организмов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54100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Живой организм, который дышит, питается, растет, размножается, умирает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3105360" cy="39625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28600" y="5638680"/>
            <a:ext cx="5257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Умершие клетки заменяются новым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4800600"/>
            <a:ext cx="5257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Клетки одинакового строения образуют ткань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600" y="3886200"/>
            <a:ext cx="5257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Дыхание и питание обеспечивают рост и деление клетк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3124080"/>
            <a:ext cx="5257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Без кислорода и пищи клетка гибнет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580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5715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Строение кож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rId2" action="ppaction://hlinksldjump"/>
          </p:cNvPr>
          <p:cNvSpPr/>
          <p:nvPr/>
        </p:nvSpPr>
        <p:spPr>
          <a:xfrm>
            <a:off x="324000" y="1916280"/>
            <a:ext cx="761760" cy="609480"/>
          </a:xfrm>
          <a:prstGeom prst="su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rId3" action="ppaction://hlinksldjump"/>
          </p:cNvPr>
          <p:cNvSpPr/>
          <p:nvPr/>
        </p:nvSpPr>
        <p:spPr>
          <a:xfrm>
            <a:off x="8229600" y="6248520"/>
            <a:ext cx="685800" cy="609480"/>
          </a:xfrm>
          <a:custGeom>
            <a:avLst/>
            <a:gdLst>
              <a:gd name="textAreaLeft" fmla="*/ 253440 w 685800"/>
              <a:gd name="textAreaRight" fmla="*/ 432360 w 685800"/>
              <a:gd name="textAreaTop" fmla="*/ 225360 h 609480"/>
              <a:gd name="textAreaBottom" fmla="*/ 384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985" y="7985"/>
                </a:lnTo>
                <a:lnTo>
                  <a:pt x="10800" y="0"/>
                </a:lnTo>
                <a:lnTo>
                  <a:pt x="13615" y="7985"/>
                </a:lnTo>
                <a:lnTo>
                  <a:pt x="21600" y="10800"/>
                </a:lnTo>
                <a:lnTo>
                  <a:pt x="13615" y="13615"/>
                </a:lnTo>
                <a:lnTo>
                  <a:pt x="10800" y="21600"/>
                </a:lnTo>
                <a:lnTo>
                  <a:pt x="7985" y="13615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57200" y="533520"/>
            <a:ext cx="8229600" cy="47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Times New Roman"/>
              </a:rPr>
              <a:t>Эпидермис 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– «верхний,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поверхностный слой»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(Слово взято из греческого языка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1" action="ppaction://hlinksldjump"/>
          </p:cNvPr>
          <p:cNvSpPr/>
          <p:nvPr/>
        </p:nvSpPr>
        <p:spPr>
          <a:xfrm>
            <a:off x="7848720" y="5943600"/>
            <a:ext cx="990360" cy="762120"/>
          </a:xfrm>
          <a:custGeom>
            <a:avLst/>
            <a:gdLst>
              <a:gd name="textAreaLeft" fmla="*/ 0 w 990360"/>
              <a:gd name="textAreaRight" fmla="*/ 990720 w 99036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8T15:32:10Z</dcterms:created>
  <dc:creator>USER</dc:creator>
  <dc:description/>
  <dc:language>en-US</dc:language>
  <cp:lastModifiedBy>123a</cp:lastModifiedBy>
  <dcterms:modified xsi:type="dcterms:W3CDTF">2007-04-24T13:07:25Z</dcterms:modified>
  <cp:revision>64</cp:revision>
  <dc:subject/>
  <dc:title>Н. Я. Дмитриева, А. Н. Казаков «Мы и окружающий мир.»</dc:title>
</cp:coreProperties>
</file>