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C3A-447B-41EF-A9ED-6792AC68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C88-6323-44B4-873A-64E38583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5B2-FD4D-4C48-AFAB-275C4B42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002-0167-47B5-A7D0-9F8A5F68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432-A23E-4863-9D4F-18825EF9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9F7-290E-4F6F-8D2B-881AA3C5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372-929D-4D64-A5A8-326D9EB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753-DD39-4A46-B8B6-757ECD15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A326-7C2B-4DAD-9030-18014A2E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B0D-F0F5-451A-96FE-F20E3AA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333-FEE8-4949-AB59-F529E8A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D40-A88F-4A82-8462-1ECF1F73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2235-2381-4E2D-BCE7-50625268F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1183000">
            <a:off x="1979280" y="620280"/>
            <a:ext cx="5113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мат  России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86040" y="2908440"/>
            <a:ext cx="5371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оны и антициклоны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67120" y="4168800"/>
            <a:ext cx="3981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атюк Ольга Анатольевна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итель высшей квалификаци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тегории МБОУ «Блявтамакская СОШ г.Медно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5040360" cy="303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84280" y="407664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Ию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емные стрелки-  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лые-   анти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2200" y="5465880"/>
            <a:ext cx="815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В каких частях России циклоны наиболее интенсивно развиваются ле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93680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Реши простейшую задач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 вечеру усилился ветер, появились перистые облака, а утром- кучевые. Они растут и принимают форму высоких башен или г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Какой фронт по-твоему приближ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С какой областью, высокого или низкого,  давления связано усиление вет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Как изменится погода в ближайшие су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573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опросы для первичной проверки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042920" y="18900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ы из КИМов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89000"/>
            <a:ext cx="91440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243080"/>
          <a:ext cx="182520" cy="2232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0" y="1445760"/>
            <a:ext cx="89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из перечисленных населенных пунктов, показанных на карте, находится в зоне действия цикло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хач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лехар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м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а погоды составлена на 13 мая. В каком из перечисленных городов, показанных на карте, на следующий день вероятно существенное потеп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м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юм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го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ыктыв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633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7840" y="352440"/>
            <a:ext cx="82278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В крупном городе произошел выброс загрязняющих веществ с ТЭС, работающей на угле. По прогнозу Гидрометцентра давление в городе будет расти (падат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Как изменятся погода и экологическая ситуация в го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Для циклонального типа погоды характерна (-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Восходящие потоки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Сухая жаркая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Сухая холодная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Нисходящие потоки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Почему в Якутии в зимний период выпадает мало сне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Зимой в восточной части нашей страны климат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Азор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Исландским мин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Западным переносом 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Азиат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9640" y="476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Зимой в восточной части нашей страны климат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Азор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Исландским мин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Западным переносом 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Азиатским максиму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.Большие суточные амплитуды температурывоздуха характерны для районов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Антицик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Цик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)Теплых фр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)Холодных фр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476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Использованная литература и други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05264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.Раковская Э.М. География: природа Россмм: Учеб. для 8 класса общеобразоват. учреждений/ Э.М.Раковская.- М.: Просвещение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.Домогацких Е.М., Алексеевский Н.И. География. Учебник для  8 класса общеобразовательных  учреждений/ Е.М.Домогацких, Н.И.Алексеевский.- М.: ООО «ТИД «Русское слово-РС»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.Сухов В.П. География: физ. География СССР: Проб. Учеб. Для 8 кл. сред. Шк.- М.: Просвещение,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.Летягин А.А. Тесты. География. 6-10 кл.- М.: ООО «Агенство «КРПА «Олимп»: ООО «Издательство Астрель»: ООО «Издательство АСТ»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.Эртель А.Б. География. Подготовка к ЕГЭ-2009. Вступительные испытания: учебно-методическое пособие/А.Б.Эртель.-Ростов н/Д: Легион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.Единый государственный экзамен 2010. География. Универсальные материалы для подготовки учащихся/ ФИПИ- М.: Интеллект-Центр,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95280" y="549360"/>
            <a:ext cx="820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вы представляете себе, когда произносят слова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2637000"/>
            <a:ext cx="8208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ЦИКЛОН»  и  «АНТИЦИКЛОН» ?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032000" cy="367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5321160"/>
            <a:ext cx="18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ЦИК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68928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50760" y="352440"/>
            <a:ext cx="78692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ЦИКЛОН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ихревое движение воздуха, связанное с областями низкого атмосфер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36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3459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ХАРАКТЕРИСТИКА  ЦИК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2200" y="1216080"/>
            <a:ext cx="815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Возникает при вторжении теплых масс воздуха в холод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Движение воздуха восходящее, против часовой стр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Обладает большой подвижностью, приносит ненастную и ветреную погоду, смягчает жару летом и холод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2200" y="208080"/>
            <a:ext cx="81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-Дайте по аналогии с определением  циклона определение антициклона и его характерис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423720"/>
            <a:ext cx="7993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Arial"/>
              </a:rPr>
              <a:t>ПРОВЕРИ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АНТИЦИКЛОН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ихревое движение воздуха, связанное с областями высокого атмосферного д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3984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-1440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ХАРАКТЕРИСТИКА  АНТИЦИК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9480" y="1341360"/>
            <a:ext cx="779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Возникает при вторжении холодных масс воздуха в теп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Движение воздуха нисходящее, по часовой стре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Обладает малой подвижностью, приносит ясную солнечную безветренную погоду, усиливает жару летом и холод з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5050080" cy="3073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67120" y="395136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Ян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емные стрелки-  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ветлые-   антицик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1:23:12Z</dcterms:created>
  <dc:creator>ольга</dc:creator>
  <dc:description/>
  <dc:language>en-US</dc:language>
  <cp:lastModifiedBy>ольга</cp:lastModifiedBy>
  <dcterms:modified xsi:type="dcterms:W3CDTF">2011-11-20T14:55:12Z</dcterms:modified>
  <cp:revision>2</cp:revision>
  <dc:subject/>
  <dc:title>Слайд 1</dc:title>
</cp:coreProperties>
</file>