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469-39D6-4DC3-BB48-32A29C6F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BE3-2A75-4484-8A12-29BFDEBB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D54-C3CC-4371-A12F-BEDA0E67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BED-CB88-45B2-9AAF-2E604737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7E9-05BA-4CC1-800C-E4B79BAF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D8FA-748B-4832-99F4-4E1E2077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778-EA21-4897-B925-2B8CD4BF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049-9A52-4B6F-91E4-94FC7AFE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901-0E7F-493C-8881-C7E11A2B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ED7-23ED-4020-8FE1-4F3882A7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D1D-25B8-4442-8A6C-75BA72E6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43F-1ECD-42C5-AD0A-1179471E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060B-75B9-4F71-B7C7-112E0435B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1183000">
            <a:off x="1979280" y="620280"/>
            <a:ext cx="5113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мат  России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86040" y="2908440"/>
            <a:ext cx="5371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оны и антициклоны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67120" y="4168800"/>
            <a:ext cx="3981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атюк Ольга Анатольевна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итель высшей квалификацио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тегории МБОУ «Блявтамакская СОШ г.Медног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5040360" cy="3030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84280" y="4076640"/>
            <a:ext cx="42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Ию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Темные стрелки-  цик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ветлые-   антицик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2200" y="546588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В каких частях России циклоны наиболее интенсивно развиваются ле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193680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Реши простейшую задач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 вечеру усилился ветер, появились перистые облака, а утром- кучевые. Они растут и принимают форму высоких башен или г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Какой фронт по-твоему приближ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С какой областью, высокого или низкого,  давления связано усиление вет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Как изменится погода в ближайшие сут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573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опросы для первичной проверки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042920" y="18900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ы из КИМо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89000"/>
            <a:ext cx="914400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243080"/>
          <a:ext cx="182520" cy="2232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0" y="1445760"/>
            <a:ext cx="89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из перечисленных населенных пунктов, показанных на карте, находится в зоне действия цикло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хачк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жний Нов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леха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м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та погоды составлена на 13 мая. В каком из перечисленных городов, показанных на карте, на следующий день вероятно существенное потепл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м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юм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гог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ыктывк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47640" y="836640"/>
            <a:ext cx="6337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47840" y="352440"/>
            <a:ext cx="82278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В крупном городе произошел выброс загрязняющих веществ с ТЭС, работающей на угле. По прогнозу Гидрометцентра давление в городе будет расти (пада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Как изменятся погода и экологическая ситуация в го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Для циклонального типа погоды характерна (-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Восходящие потоки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Сухая жаркая по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Сухая холодная по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)Нисходящие потоки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Почему в Якутии в зимний период выпадает мало сне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Зимой в восточной части нашей страны климат опреде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Азорским макс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Исландским мин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Западным переносом 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)Азиатским макс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9640" y="47628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Зимой в восточной части нашей страны климат опреде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Азорским макс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Исландским мин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Западным переносом 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)Азиатским макс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.Большие суточные амплитуды температурывоздуха характерны для районов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Антицикл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Цикл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Теплых фр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)Холодных фр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476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Использованная литература и други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052640"/>
            <a:ext cx="8497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.Раковская Э.М. География: природа Россмм: Учеб. для 8 класса общеобразоват. учреждений/ Э.М.Раковская.- М.: Просвещение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.Домогацких Е.М., Алексеевский Н.И. География. Учебник для  8 класса общеобразовательных  учреждений/ Е.М.Домогацких, Н.И.Алексеевский.- М.: ООО «ТИД «Русское слово-РС»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.Сухов В.П. География: физ. География СССР: Проб. Учеб. Для 8 кл. сред. Шк.- М.: Просвещение, 19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4.Летягин А.А. Тесты. География. 6-10 кл.- М.: ООО «Агенство «КРПА «Олимп»: ООО «Издательство Астрель»: ООО «Издательство АСТ»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5.Эртель А.Б. География. Подготовка к ЕГЭ-2009. Вступительные испытания: учебно-методическое пособие/А.Б.Эртель.-Ростов н/Д: Легион,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6.Единый государственный экзамен 2010. География. Универсальные материалы для подготовки учащихся/ ФИПИ- М.: Интеллект-Центр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95280" y="549360"/>
            <a:ext cx="820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вы представляете себе, когда произносят слов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4360" y="2637000"/>
            <a:ext cx="8208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ЦИКЛОН»  и  «АНТИЦИКЛОН» ?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4032000" cy="3671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79640" y="5321160"/>
            <a:ext cx="18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ЦИК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148360" y="404640"/>
            <a:ext cx="368928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50760" y="352440"/>
            <a:ext cx="78692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ЦИКЛОН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ихревое движение воздуха, связанное с областями низкого атмосферного д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360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3459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ХАРАКТЕРИСТИКА  ЦИКЛ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2200" y="1216080"/>
            <a:ext cx="815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Возникает при вторжении теплых масс воздуха в холод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Движение воздуха восходящее, против часовой стр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Обладает большой подвижностью, приносит ненастную и ветреную погоду, смягчает жару летом и холод зи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92200" y="208080"/>
            <a:ext cx="815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-Дайте по аналогии с определением  циклона определение антициклона и его характерис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423720"/>
            <a:ext cx="79930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ПРОВЕР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АНТИЦИКЛОН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ихревое движение воздуха, связанное с областями высокого атмосферного д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39848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-144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ХАРАКТЕРИСТИКА  АНТИЦИКЛ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79480" y="1341360"/>
            <a:ext cx="779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Возникает при вторжении холодных масс воздуха в тепл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Движение воздуха нисходящее, по часовой стре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Обладает малой подвижностью, приносит ясную солнечную безветренную погоду, усиливает жару летом и холод зи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5050080" cy="3073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967120" y="3951360"/>
            <a:ext cx="42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Янв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Темные стрелки-  цик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ветлые-   антицик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1:23:12Z</dcterms:created>
  <dc:creator>ольга</dc:creator>
  <dc:description/>
  <dc:language>en-US</dc:language>
  <cp:lastModifiedBy>ольга</cp:lastModifiedBy>
  <dcterms:modified xsi:type="dcterms:W3CDTF">2011-11-20T14:55:12Z</dcterms:modified>
  <cp:revision>2</cp:revision>
  <dc:subject/>
  <dc:title>Слайд 1</dc:title>
</cp:coreProperties>
</file>