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7FD4-9D14-41F0-A83D-8EF5086EB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FDA6-B049-446A-83B4-55A19F3A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B4CE-E123-48D2-AEFD-EF4271F9E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8F55-EB2B-435C-9CD0-721539EEB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CF66-154D-41A4-B352-A4A137E7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6C84-57ED-4D1F-9729-34EEEDE6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EB25-250C-4E14-A7AF-205B084E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15B9-5582-4F56-8AE6-22F39691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6D89-9CB3-4D23-BA6B-8D701288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9094-08F5-4E47-887E-463D7137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ED78-C4EB-4B8A-8D10-52AB9576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DA6C-9CCE-4396-B689-77A602DC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7742-C3B8-4C10-9573-00BCC1786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 rot="21183000">
            <a:off x="1979280" y="620280"/>
            <a:ext cx="5113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лимат  России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886040" y="2908440"/>
            <a:ext cx="53719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иклоны и антициклоны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67120" y="4168800"/>
            <a:ext cx="39816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атюк Ольга Анатольевна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читель высшей квалификацио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атегории МБОУ «Блявтамакская СОШ г.Медногорс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5040360" cy="3030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384280" y="4076640"/>
            <a:ext cx="429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Ию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Темные стрелки-  цикл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ветлые-   антицикл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2200" y="5465880"/>
            <a:ext cx="815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пр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В каких частях России циклоны наиболее интенсивно развиваются лет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0920" y="1936800"/>
            <a:ext cx="842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Реши простейшую задач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К вечеру усилился ветер, появились перистые облака, а утром- кучевые. Они растут и принимают форму высоких башен или го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Какой фронт по-твоему приближае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С какой областью, высокого или низкого,  давления связано усиление вет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Как изменится погода в ближайшие сут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15732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Вопросы для первичной проверки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042920" y="189000"/>
            <a:ext cx="640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просы из КИМов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89000"/>
            <a:ext cx="9144000" cy="10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1243080"/>
          <a:ext cx="182520" cy="22320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2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0" y="1445760"/>
            <a:ext cx="896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ой из перечисленных населенных пунктов, показанных на карте, находится в зоне действия цикло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arenR"/>
              <a:tabLst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хачк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arenR"/>
              <a:tabLst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ижний Нов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arenR"/>
              <a:tabLst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лехар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arenR"/>
              <a:tabLst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Ям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та погоды составлена на 13 мая. В каком из перечисленных городов, показанных на карте, на следующий день вероятно существенное потепл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arenR"/>
              <a:tabLst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м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arenR"/>
              <a:tabLst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юм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arenR"/>
              <a:tabLst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лгогр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arenR"/>
              <a:tabLst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ыктывк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47640" y="836640"/>
            <a:ext cx="6337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47840" y="352440"/>
            <a:ext cx="8227800" cy="81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В крупном городе произошел выброс загрязняющих веществ с ТЭС, работающей на угле. По прогнозу Гидрометцентра давление в городе будет расти (падать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Как изменятся погода и экологическая ситуация в горо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Для циклонального типа погоды характерна (-н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)Восходящие потоки возд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)Сухая жаркая по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)Сухая холодная по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)Нисходящие потоки возд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.Почему в Якутии в зимний период выпадает мало снег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.Зимой в восточной части нашей страны климат определя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)Азорским максимум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)Исландским минимум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)Западным переносом В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)Азиатским максимум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39640" y="476280"/>
            <a:ext cx="7993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.Зимой в восточной части нашей страны климат определя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)Азорским максимум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)Исландским минимум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)Западным переносом В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)Азиатским максимум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7.Большие суточные амплитуды температурывоздуха характерны для районов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)Антицикл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)Цикл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)Теплых фро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)Холодных фро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9640" y="47628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Использованная литература и другие источн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1052640"/>
            <a:ext cx="8497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.Раковская Э.М. География: природа Россмм: Учеб. для 8 класса общеобразоват. учреждений/ Э.М.Раковская.- М.: Просвещение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.Домогацких Е.М., Алексеевский Н.И. География. Учебник для  8 класса общеобразовательных  учреждений/ Е.М.Домогацких, Н.И.Алексеевский.- М.: ООО «ТИД «Русское слово-РС», 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.Сухов В.П. География: физ. География СССР: Проб. Учеб. Для 8 кл. сред. Шк.- М.: Просвещение, 198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4.Летягин А.А. Тесты. География. 6-10 кл.- М.: ООО «Агенство «КРПА «Олимп»: ООО «Издательство Астрель»: ООО «Издательство АСТ»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5.Эртель А.Б. География. Подготовка к ЕГЭ-2009. Вступительные испытания: учебно-методическое пособие/А.Б.Эртель.-Ростов н/Д: Легион, 200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6.Единый государственный экзамен 2010. География. Универсальные материалы для подготовки учащихся/ ФИПИ- М.: Интеллект-Центр, 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395280" y="549360"/>
            <a:ext cx="8209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вы представляете себе, когда произносят слова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4360" y="2637000"/>
            <a:ext cx="8208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«ЦИКЛОН»  и  «АНТИЦИКЛОН» ?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4032000" cy="3671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979640" y="5321160"/>
            <a:ext cx="18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Arial"/>
              </a:rPr>
              <a:t>ЦИКЛ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148360" y="404640"/>
            <a:ext cx="3689280" cy="27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50760" y="352440"/>
            <a:ext cx="78692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ЦИКЛОН-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вихревое движение воздуха, связанное с областями низкого атмосферного дав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132000" y="2781360"/>
            <a:ext cx="3600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68360" y="3459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Arial"/>
              </a:rPr>
              <a:t>ХАРАКТЕРИСТИКА  ЦИКЛ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2200" y="1216080"/>
            <a:ext cx="8156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.Возникает при вторжении теплых масс воздуха в холод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Движение воздуха восходящее, против часовой стрел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.Обладает большой подвижностью, приносит ненастную и ветреную погоду, смягчает жару летом и холод зи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92200" y="208080"/>
            <a:ext cx="8156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-Дайте по аналогии с определением  циклона определение антициклона и его характерист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55640" y="423720"/>
            <a:ext cx="799308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ПРОВЕРИ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АНТИЦИКЛОН-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вихревое движение воздуха, связанное с областями высокого атмосферного дав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403280" y="3933720"/>
            <a:ext cx="398484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5280" y="-1440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Arial"/>
              </a:rPr>
              <a:t>ХАРАКТЕРИСТИКА  АНТИЦИКЛ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79480" y="1341360"/>
            <a:ext cx="7796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.Возникает при вторжении холодных масс воздуха в тепл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Движение воздуха нисходящее, по часовой стрел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.Обладает малой подвижностью, приносит ясную солнечную безветренную погоду, усиливает жару летом и холод зи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00000" y="549360"/>
            <a:ext cx="5050080" cy="30733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967120" y="3951360"/>
            <a:ext cx="429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Янв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Темные стрелки-  цикл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ветлые-   антицикл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11:23:12Z</dcterms:created>
  <dc:creator>ольга</dc:creator>
  <dc:description/>
  <dc:language>en-US</dc:language>
  <cp:lastModifiedBy>ольга</cp:lastModifiedBy>
  <dcterms:modified xsi:type="dcterms:W3CDTF">2011-11-20T14:55:12Z</dcterms:modified>
  <cp:revision>2</cp:revision>
  <dc:subject/>
  <dc:title>Слайд 1</dc:title>
</cp:coreProperties>
</file>