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204-CB8C-489D-8FA7-F4FF4CEA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432-D002-468D-BE30-E983C039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41D-1B68-4C74-B009-F19E9B8B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49E-34CD-4BAE-BCC9-6041C373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627-E73F-43AC-B8A8-19ECD371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F65-2A51-4377-B4AC-002740B6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D14-9258-4CDC-A4E3-D29FE4ED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5C4-D146-4A56-AAA1-3C29AD3E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BC7-36D2-4DE7-BC9F-F396FB49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935-6B30-4580-8971-A313F869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9CE-6879-467C-A56C-F8DAEE82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730-39AE-4171-B428-40396D79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8252-DA65-4929-B292-3264A902C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304/jacals.1b0/0_5d986_7f3c7ed1_L" TargetMode="External"/><Relationship Id="rId2" Type="http://schemas.openxmlformats.org/officeDocument/2006/relationships/hyperlink" Target="http://images.yandex.ru/yandsearch?text=&#1076;&#1077;&#1090;&#1080;%20&#1082;" TargetMode="External"/><Relationship Id="rId3" Type="http://schemas.openxmlformats.org/officeDocument/2006/relationships/hyperlink" Target="http://s16.radikal.ru/i190/1010/41/2c06a9d7b854.jpg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Конспект урока русского языка 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4 класс                                         Программа 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                                               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553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Monotype Corsiva"/>
              </a:rPr>
              <a:t>Имя прилагательное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Monotype Corsiva"/>
              </a:rPr>
              <a:t>Антонимы и синоним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9240" y="4723920"/>
            <a:ext cx="3568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ихомирова К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ОУСОШ № 1 г.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8862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Синонимы – это слова, близкие по значе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ва – син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сегда близки по смысл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нятся лишь оттенками подч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димый край – Отечество – Отчиз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 много в них священного для нас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4805280"/>
            <a:ext cx="29718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4572000"/>
            <a:ext cx="3048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аж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257800"/>
            <a:ext cx="3048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щ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52578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5720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к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5943600"/>
            <a:ext cx="3048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влекатель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5943600"/>
            <a:ext cx="2514600" cy="5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е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1143000"/>
            <a:ext cx="306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1828800"/>
            <a:ext cx="306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гантски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18288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11430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мени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306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ой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8862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ар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2514600"/>
            <a:ext cx="306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чаль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5146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ус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3200400"/>
            <a:ext cx="306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бав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32004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еш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ыборочны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828800"/>
            <a:ext cx="784872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 предложенного текста выбрать и записать только имена прилагательны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3886200" cy="2684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320" y="914400"/>
            <a:ext cx="9067680" cy="5715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e9f4f5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459e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вный цв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далекой Америки вывезли прелест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ок золотистой окраски. Редкое чу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о очень высокого роста. Замор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авца сажали в центре клумбы. Цвет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ржался на прямом толстом стебле. 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рашали широкие нарядные листья.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ой круглой голове был венец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жных желтых лепестков. Голова чудес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ка напоминаю солнце. По имени яр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нышка цветок назвали - подсолнечн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914400"/>
            <a:ext cx="9067680" cy="5715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e9f4f5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459e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ивн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алек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мерики вывезл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прелест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ок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золотист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краски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Редк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у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о очень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ысок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оста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Заморск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авца сажали в центре клумбы. Цвет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ржался н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ям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толст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ебле. 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рашали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широк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наряд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истья.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большой кругл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голове был венец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нежных желт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епестков. Голов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чудесн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ка напоминаю солнце. По имени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яр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нышка цветок назвали - подсолнечн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52488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Итог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Антонимы – это слова, имеющие противоположное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Синонимы – это слова, близкие по значе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33520" y="5105520"/>
            <a:ext cx="8076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РАБОТУ!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-fotki.yandex.ru/get/5304/jacals.1b0/0_5d986_7f3c7ed1_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yandsearch?text=%D0%B4%D0%B5%D1%82%D0%B8%20%D0%B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16.radikal.ru/i190/1010/41/2c06a9d7b85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indostan.ru/blog/foto-video/1853/31767_2_o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cs4395.userapi.com/u147815695/-14/x_d4244bc1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52.radikal.ru/i136/1005/8a/015422544485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nn.ru/users/foto/244108-2010-12-22-showimg.jp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40.radikal.ru/i089/1106/8f/393cba6dba1c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-fotki.yandex.ru/get/5111/47867939.62/0_62bbd_86719f32_X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а О.И., Мокрушина О.А. Поурочные разработки по математике: 2 класс. – М.: ВАКО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й язык. 4 класс: Поурочные планы по учебнику Зелениной Л.М., Хохловой Т.Е. / Авт.-сост. И.В. Мукашёва. – Волгоград: Учитель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орова О.В. Справочное пособие по русскому языку – м.: ООО «Издательство Астрель»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4591080" cy="4454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34304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ливистый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школьный звонок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звал опять на урок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удьте все внимательны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 ещё старательн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рфографическая 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44720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дало хол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72356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хали от д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в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13300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ла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до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81880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лся в ста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50460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т б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янц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11408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неет в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рыв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3811" t="1479" r="0" b="11035"/>
          <a:stretch/>
        </p:blipFill>
        <p:spPr>
          <a:xfrm>
            <a:off x="380880" y="1371600"/>
            <a:ext cx="8382240" cy="510552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грянец (книжн.) - багровый цвет: красный густого, темного оттенк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егов С. 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60786" b="0"/>
          <a:stretch/>
        </p:blipFill>
        <p:spPr>
          <a:xfrm>
            <a:off x="457200" y="3657600"/>
            <a:ext cx="1523880" cy="2684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56865" t="0" r="0" b="0"/>
          <a:stretch/>
        </p:blipFill>
        <p:spPr>
          <a:xfrm>
            <a:off x="1981080" y="3657600"/>
            <a:ext cx="1676520" cy="2684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Лекс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981080" y="3429000"/>
            <a:ext cx="4343400" cy="294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981080" y="335268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33333E-006 L 0.45833 -3.33333E-006 E">
                                      <p:cBhvr>
                                        <p:cTn id="6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мон, цыплёнок, солнц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819520"/>
            <a:ext cx="27432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ёлты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уталин, ночь, угол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819520"/>
            <a:ext cx="27432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ёрны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ат, листва, зарево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2819520"/>
            <a:ext cx="29718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гряны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босвод, облака, глаз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657600"/>
            <a:ext cx="29718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лубо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сок, глина, ствол дерев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3657600"/>
            <a:ext cx="358128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ичневы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алат, лист бумаги, сне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657600"/>
            <a:ext cx="20574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лы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ток, чернила, фиал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4419720"/>
            <a:ext cx="36576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олетов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553080" cy="4525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АГРОВЫЙ И БАГРЯ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асную краску иного оттенка называли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аг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От этого возникли названия слов: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агровы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азывают густой красный цвет,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агряны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яркий чистый красный цв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лово о словах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ОЛУ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вание цвету дано по окраске оперения шейки голу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19240" y="9783000"/>
            <a:ext cx="244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3352680" cy="2630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РИЧНЕ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о от слов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риц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но в свою очередь образовано от слов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р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оначальное значени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риц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маленькая кор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638680" y="4648320"/>
            <a:ext cx="2971800" cy="1798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АНЖЕ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цвет - цвет апельс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пельс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-французск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анж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этого же корня произошло и слов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анжере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105520" y="4343400"/>
            <a:ext cx="3504960" cy="2075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ОЛЕТ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вально значит - цвет фиалки. Слов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ач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ходит к латинскому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иола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ак называли этот цвет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867280" y="3809880"/>
            <a:ext cx="274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49532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м с тобой пришел черё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ыграть в игру «наоборо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у я слов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ыс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ты ответишь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из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у я слов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але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ты ответишь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у я слов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ол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ты ответишь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у я слов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еря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кажешь ты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у тебе я слов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ру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ишь ты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ча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я ска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, отвечай...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65902" t="15843" r="876" b="11035"/>
          <a:stretch/>
        </p:blipFill>
        <p:spPr>
          <a:xfrm>
            <a:off x="5791320" y="1295280"/>
            <a:ext cx="2948040" cy="434340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Антонимы – это слова, имеющие противоположное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65534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инус – плюс, огонь – вод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рзкий – осторож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се антонимы все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тивоположны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410080" y="4179960"/>
            <a:ext cx="34290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952880" y="213372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д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297180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кр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29718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213372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ёг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548640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ёр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54864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38098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3809880"/>
            <a:ext cx="1905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л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64832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абр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464832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сли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133720"/>
            <a:ext cx="2146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изки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2971800"/>
            <a:ext cx="2146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2971800"/>
            <a:ext cx="1523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2133720"/>
            <a:ext cx="1523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ль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5486400"/>
            <a:ext cx="2146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486400"/>
            <a:ext cx="1523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809880"/>
            <a:ext cx="21463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ироки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38098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648320"/>
            <a:ext cx="2146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ершав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4648320"/>
            <a:ext cx="1523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д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8-12T03:03:00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