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514-BB57-4920-86BB-E3A9ED65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694-ED28-411D-9407-CC36B824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5B7-2EF7-4A90-8BB2-E4267C0B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F3A-A490-4951-ACD3-83959F2A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B6C-2DEF-42C8-BC6F-5842EED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913-619B-4AB9-A0AE-B78C9AB6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36E-A3A7-4D18-937D-E58572C8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3BD-9B64-4836-AF5C-C631BBF5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32D-A124-421F-904E-6E7A4788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2DC-4594-41E4-92D9-49E9EBE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8FD-341C-46FA-9EB0-8B1451B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EF1-4571-45E0-AAC1-A9B2FD6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AF9-1179-4F34-84D5-9D0001D5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4/jacals.1b0/0_5d986_7f3c7ed1_L" TargetMode="External"/><Relationship Id="rId2" Type="http://schemas.openxmlformats.org/officeDocument/2006/relationships/hyperlink" Target="http://images.yandex.ru/yandsearch?text=&#1076;&#1077;&#1090;&#1080;%20&#1082;" TargetMode="External"/><Relationship Id="rId3" Type="http://schemas.openxmlformats.org/officeDocument/2006/relationships/hyperlink" Target="http://s16.radikal.ru/i190/1010/41/2c06a9d7b854.jp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онспект урока русского языка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 класс                                         Программа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Monotype Corsiva"/>
              </a:rPr>
              <a:t>Имя прилагательно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Monotype Corsiva"/>
              </a:rPr>
              <a:t>Антонимы и синоним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9240" y="4723920"/>
            <a:ext cx="3568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хомирова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ОУСОШ № 1 г.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886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нонимы – это слова, близкие по зна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а – 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гда близки по смысл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нятся лишь оттенками подч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димый край – Отечество – Отчиз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много в них священного для нас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4805280"/>
            <a:ext cx="29718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45720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ж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2578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щ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2578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5720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к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9436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лекатель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943600"/>
            <a:ext cx="251460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1430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8288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антс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8288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1430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мен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ой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8862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5146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ль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5146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2004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в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32004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ш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ыборочны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848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 предложенного текста выбрать и записать только имена прилагатель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886200" cy="268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320" y="914400"/>
            <a:ext cx="9067680" cy="5715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9f4f5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459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вный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далекой Америки вывезли прелес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 золотистой окраски. Редкое чу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очень высокого роста. Замор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авца сажали в центре клумбы. Цве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лся на прямом толстом стебле.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широкие нарядные листья.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круглой голове был венец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ных желтых лепестков. Голова чудес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ка напоминаю солнце. По имени яр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ышка цветок назвали - подсолне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914400"/>
            <a:ext cx="9067680" cy="5715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9f4f5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459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ив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лек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мерики вывезл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прелес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олотист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краски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дк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у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очень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ысо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ста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мор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авца сажали в центре клумбы. Цве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лся 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ям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олс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ебле.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широ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ряд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стья.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ольшой кругл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олове был венец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ежных желт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епестков. Голов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чудес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ка напоминаю солнце. По имен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яр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ышка цветок назвали - подсолне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тог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нтонимы – это слова, имеющие противоположн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нонимы – это слова, близкие по зна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3520" y="5105520"/>
            <a:ext cx="8076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-fotki.yandex.ru/get/5304/jacals.1b0/0_5d986_7f3c7ed1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text=%D0%B4%D0%B5%D1%82%D0%B8%20%D0%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16.radikal.ru/i190/1010/41/2c06a9d7b85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ndostan.ru/blog/foto-video/1853/31767_2_o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s4395.userapi.com/u147815695/-14/x_d4244bc1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52.radikal.ru/i136/1005/8a/015422544485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nn.ru/users/foto/244108-2010-12-22-showimg.jp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40.radikal.ru/i089/1106/8f/393cba6dba1c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111/47867939.62/0_62bbd_86719f32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а О.И., Мокрушина О.А. Поурочные разработки по математике: 2 класс. – М.: ВАКО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. 4 класс: Поурочные планы по учебнику Зелениной Л.М., Хохловой Т.Е. / Авт.-сост. И.В. Мукашёва. – Волгоград: Учитель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орова О.В. Справочное пособие по русскому языку – м.: ООО «Издательство Астрель»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91080" cy="445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ливистый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школьный звоно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вал опять на урок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удьте все внимательны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ещё старатель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рфографическ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4472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дало хо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72356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хали от 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в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1330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ла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до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8188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лся в ст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5046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 б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янц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08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неет 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рыв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811" t="1479" r="0" b="11035"/>
          <a:stretch/>
        </p:blipFill>
        <p:spPr>
          <a:xfrm>
            <a:off x="380880" y="1371600"/>
            <a:ext cx="8382240" cy="5105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грянец (книжн.) - багровый цвет: красный густого, темного оттенк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егов С.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60786" b="0"/>
          <a:stretch/>
        </p:blipFill>
        <p:spPr>
          <a:xfrm>
            <a:off x="457200" y="3657600"/>
            <a:ext cx="1523880" cy="268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6865" t="0" r="0" b="0"/>
          <a:stretch/>
        </p:blipFill>
        <p:spPr>
          <a:xfrm>
            <a:off x="1981080" y="3657600"/>
            <a:ext cx="1676520" cy="2684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екс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4343400" cy="29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81080" y="33526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0.45833 -3.33333E-006 E">
                                      <p:cBhvr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мон, цыплёнок, солнц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819520"/>
            <a:ext cx="27432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ёлт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уталин, ночь, угол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819520"/>
            <a:ext cx="27432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ёрн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ат, листва, зарев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819520"/>
            <a:ext cx="29718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грян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босвод, облака, глаз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657600"/>
            <a:ext cx="29718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убо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ок, глина, ствол дере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657600"/>
            <a:ext cx="358128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ичнев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алат, лист бумаги, сне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657600"/>
            <a:ext cx="20574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ток, чернила, фиал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419720"/>
            <a:ext cx="36576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олет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ГРОВЫЙ И БАГРЯ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ую краску иного оттенка называли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От этого возникли названия слов: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ов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зывают густой красный цвет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ян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яркий чистый красный ц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лово о слова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цвету дано по окраске оперения шейки гол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9240" y="9783000"/>
            <a:ext cx="24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352680" cy="263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ИЧНЕ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о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иц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но в свою очередь образовано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ое знач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иц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маленькая кор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38680" y="4648320"/>
            <a:ext cx="2971800" cy="1798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АНЖЕ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цвет - цвет апельс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пельс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-французск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ан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этого же корня произошло и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анжер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504960" cy="2075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льно значит - цвет фиалки.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а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ходит к латинском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ола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 называли этот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 с тобой пришел черё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грать в игру «наоборо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с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из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ле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р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кажешь т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тебе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у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ишь т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 ск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отвечай..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65902" t="15843" r="876" b="11035"/>
          <a:stretch/>
        </p:blipFill>
        <p:spPr>
          <a:xfrm>
            <a:off x="5791320" y="1295280"/>
            <a:ext cx="2948040" cy="434340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нтонимы – это слова, имеющие противоположн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инус – плюс, огонь – во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рзкий – осторож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антонимы все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положн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4179960"/>
            <a:ext cx="3429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952880" y="2133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9718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к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971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1337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ё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4864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54864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8098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8098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6483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б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6483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13372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з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97180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97180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13372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ль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48640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48640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809880"/>
            <a:ext cx="21463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8098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64832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ршав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64832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д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8-12T03:03:0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