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ABB-CE6B-43A0-9547-17930E85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6EE-01C8-4039-9587-D05A3DC8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FD4-537E-46B1-AAE3-AFD4C2DE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128-CA40-43E9-B031-A2A31B8B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ACF-EE19-40E9-ADF0-BF8AE99D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3C0-F148-4138-A6EA-DEBB2097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E8E-17A2-48FB-AADA-45A59FE9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D09-15B7-4026-B7C1-AC891C27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D91-DAA7-407A-89F8-3DCAA585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DC8-BF27-4C03-AFFB-E8726659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070-049D-45FC-8BE8-0942C163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889-2C47-4B7D-8E0D-E542FC87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C61F-1682-433C-8A0C-73D744566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304/jacals.1b0/0_5d986_7f3c7ed1_L" TargetMode="External"/><Relationship Id="rId2" Type="http://schemas.openxmlformats.org/officeDocument/2006/relationships/hyperlink" Target="http://images.yandex.ru/yandsearch?text=&#1076;&#1077;&#1090;&#1080;%20&#1082;" TargetMode="External"/><Relationship Id="rId3" Type="http://schemas.openxmlformats.org/officeDocument/2006/relationships/hyperlink" Target="http://s16.radikal.ru/i190/1010/41/2c06a9d7b854.jpg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Конспект урока русского языка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4 класс                                         Программа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                                               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553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Monotype Corsiva"/>
              </a:rPr>
              <a:t>Имя прилагательное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Monotype Corsiva"/>
              </a:rPr>
              <a:t>Антонимы и синоним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9240" y="4723920"/>
            <a:ext cx="3568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хомирова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ОУСОШ № 1 г.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8862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Синонимы – это слова, близкие по знач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ова – синони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егда близки по смысл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нятся лишь оттенками подч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димый край – Отечество – Отчиз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много в них священного для нас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4805280"/>
            <a:ext cx="29718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4572000"/>
            <a:ext cx="3048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ж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257800"/>
            <a:ext cx="3048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щ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2578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5720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к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5943600"/>
            <a:ext cx="3048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влекатель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943600"/>
            <a:ext cx="2514600" cy="5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е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11430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18288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гантс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18288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11430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мен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8862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ой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8862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ар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25146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чаль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5146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с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3200400"/>
            <a:ext cx="306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бав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320040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еш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Выборочны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828800"/>
            <a:ext cx="784872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 предложенного текста выбрать и записать только имена прилагательны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886200" cy="2684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320" y="914400"/>
            <a:ext cx="9067680" cy="5715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e9f4f5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459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вный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далекой Америки вывезли прелест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ок золотистой окраски. Редкое чу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о очень высокого роста. Замор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авца сажали в центре клумбы. Цвет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ржался на прямом толстом стебле.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рашали широкие нарядные листья.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 круглой голове был венец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жных желтых лепестков. Голова чудес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ка напоминаю солнце. По имени яр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нышка цветок назвали - подсолнеч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914400"/>
            <a:ext cx="9067680" cy="5715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e9f4f5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459e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ив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алек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мерики вывезл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прелест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ок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олотист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краски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Редк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у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о очень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ысок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оста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аморск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авца сажали в центре клумбы. Цвет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ржался н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ям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толст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тебле. 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рашал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широк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аряд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истья.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большой кругл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голове был венец 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нежных желт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лепестков. Голов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чудесн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ветка напоминаю солнце. По имен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яр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нышка цветок назвали - подсолнеч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52488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Итог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Антонимы – это слова, имеющие противоположное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Синонимы – это слова, близкие по знач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3520" y="5105520"/>
            <a:ext cx="8076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648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g-fotki.yandex.ru/get/5304/jacals.1b0/0_5d986_7f3c7ed1_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yandsearch?text=%D0%B4%D0%B5%D1%82%D0%B8%20%D0%B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16.radikal.ru/i190/1010/41/2c06a9d7b85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indostan.ru/blog/foto-video/1853/31767_2_o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cs4395.userapi.com/u147815695/-14/x_d4244bc1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52.radikal.ru/i136/1005/8a/015422544485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nn.ru/users/foto/244108-2010-12-22-showimg.jp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40.radikal.ru/i089/1106/8f/393cba6dba1c.jp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5111/47867939.62/0_62bbd_86719f32_X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а О.И., Мокрушина О.А. Поурочные разработки по математике: 2 класс. – М.: ВАКО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й язык. 4 класс: Поурочные планы по учебнику Зелениной Л.М., Хохловой Т.Е. / Авт.-сост. И.В. Мукашёва. – Волгоград: Учитель,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зорова О.В. Справочное пособие по русскому языку – м.: ООО «Издательство Астрель», 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4591080" cy="445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34304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ливистый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школьный звонок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вал опять на урок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удьте все внимательны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 ещё старательн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рфографическая 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4472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дало хо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72356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хали от д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в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1330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ла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до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8188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лся в ста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350460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т б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янц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114080"/>
            <a:ext cx="7162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неет в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рыв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3811" t="1479" r="0" b="11035"/>
          <a:stretch/>
        </p:blipFill>
        <p:spPr>
          <a:xfrm>
            <a:off x="380880" y="1371600"/>
            <a:ext cx="8382240" cy="5105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грянец (книжн.) - багровый цвет: красный густого, темного оттенк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егов С. 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60786" b="0"/>
          <a:stretch/>
        </p:blipFill>
        <p:spPr>
          <a:xfrm>
            <a:off x="457200" y="3657600"/>
            <a:ext cx="1523880" cy="2684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6865" t="0" r="0" b="0"/>
          <a:stretch/>
        </p:blipFill>
        <p:spPr>
          <a:xfrm>
            <a:off x="1981080" y="3657600"/>
            <a:ext cx="1676520" cy="2684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Лекс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81080" y="3429000"/>
            <a:ext cx="4343400" cy="294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981080" y="33526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0.45833 -3.33333E-006 E">
                                      <p:cBhvr>
                                        <p:cTn id="6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мон, цыплёнок, солнц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819520"/>
            <a:ext cx="27432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ёлт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уталин, ночь, угол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819520"/>
            <a:ext cx="27432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ёрн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ат, листва, зарев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2819520"/>
            <a:ext cx="29718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грян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босвод, облака, глаз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657600"/>
            <a:ext cx="29718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олубо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ок, глина, ствол дерев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3657600"/>
            <a:ext cx="358128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ричнев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алат, лист бумаги, сне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657600"/>
            <a:ext cx="20574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лый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ток, чернила, фиал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4419720"/>
            <a:ext cx="3657600" cy="838080"/>
          </a:xfrm>
          <a:prstGeom prst="rect">
            <a:avLst/>
          </a:prstGeom>
          <a:gradFill rotWithShape="0">
            <a:gsLst>
              <a:gs pos="0">
                <a:srgbClr val="eef6f7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олетов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525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ГРОВЫЙ И БАГРЯ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сную краску иного оттенка называли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агр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От этого возникли названия слов: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агровы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зывают густой красный цвет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агряны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яркий чистый красный цв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лово о слова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вание цвету дано по окраске оперения шейки голу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19240" y="9783000"/>
            <a:ext cx="244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3352680" cy="2630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РИЧНЕ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о от слов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риц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но в свою очередь образовано от слов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р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начальное значени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ориц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маленькая кор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638680" y="4648320"/>
            <a:ext cx="2971800" cy="1798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АНЖЕ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цвет - цвет апельс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пельс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-французск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анж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этого же корня произошло и слов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ранжере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105520" y="4343400"/>
            <a:ext cx="3504960" cy="2075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ОЛЕТ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ально значит - цвет фиалки. Слов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а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сходит к латинскому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ола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 называли этот цве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274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49532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м с тобой пришел черё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ыграть в игру «наоборо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ыс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ы ответиш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из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але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ы ответиш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ол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ты ответишь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ря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кажешь ты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жу тебе я слов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у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ишь ты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перь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я ска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, отвечай...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65902" t="15843" r="876" b="11035"/>
          <a:stretch/>
        </p:blipFill>
        <p:spPr>
          <a:xfrm>
            <a:off x="5791320" y="1295280"/>
            <a:ext cx="2948040" cy="434340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Антонимы – это слова, имеющие противоположное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6553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инус – плюс, огонь – вод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рзкий – осторож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се антонимы все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тивоположны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410080" y="4179960"/>
            <a:ext cx="34290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952880" y="2133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297180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кр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9718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1337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ёг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548640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ёрн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54864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8098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3809880"/>
            <a:ext cx="1905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6483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абр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464832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сли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13372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из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297180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297180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13372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ль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48640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48640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809880"/>
            <a:ext cx="21463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роки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3809880"/>
            <a:ext cx="1523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648320"/>
            <a:ext cx="2146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ершавы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4648320"/>
            <a:ext cx="1523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д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8-12T03:03:00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