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96E-28B9-4A93-B503-6B3DF439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747-E74B-453E-8DF0-AE769921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F80-54DF-445F-B711-E13F29BB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C1E-C68F-4671-8810-5851A1B1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7833-42DC-4E98-BCEF-7280C8BE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49D3-40C5-4EBB-8408-3B8E19F9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C50C-F23F-424D-B277-E0E4CA65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67B6-0C98-4367-83DA-93F25B0B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4D45-3306-4BD2-BB2D-CB2377EE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7DBF-03C6-4D9A-B9A7-ECC61EA9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A769-54B9-42FA-AE40-FF51F867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FB5-9F73-45A4-9A56-BF677C09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1082-DB63-4A36-9046-A3880A63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9FC1-4852-4AE9-8FDC-C93E818E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09D1-4744-4877-A848-05CD229B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D032-84BB-41CE-A65C-0B34DBA0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8181-A298-4F3A-AD8E-2D977356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63B-A0E9-4891-8D85-E4A8B460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68D-CA48-4282-BA58-42F027DB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027-D2C8-4951-BA8E-D57C1825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606-7818-416F-9BD9-3039DE5B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DC33-E067-40FD-B105-551A11D1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DA4-08EB-4355-9EEF-930BA491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3E7-6ECD-4AB0-8121-CBB31521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9BA6-198C-43B3-95CA-7E6A01F40A2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4859-F87C-41A5-B461-9A459F4A375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Тысяч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е ли вы число 1000 выразить восемью одинаковыми цифрами? При этом, кроме цифр, разрешается пользоваться также знаками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исловой ребус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меет несколько решен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**4   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        *4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4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4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213372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328464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19640" y="443700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64000" y="5589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708360" y="1773360"/>
            <a:ext cx="2016000" cy="4392360"/>
            <a:chOff x="3708360" y="1773360"/>
            <a:chExt cx="2016000" cy="4392360"/>
          </a:xfrm>
        </p:grpSpPr>
        <p:sp>
          <p:nvSpPr>
            <p:cNvPr id="494" name=""/>
            <p:cNvSpPr/>
            <p:nvPr/>
          </p:nvSpPr>
          <p:spPr>
            <a:xfrm>
              <a:off x="3708360" y="2708280"/>
              <a:ext cx="719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59280" y="2205000"/>
              <a:ext cx="865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80000" y="3860640"/>
              <a:ext cx="72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51280" y="5084640"/>
              <a:ext cx="72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51280" y="6165720"/>
              <a:ext cx="72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59280" y="1773360"/>
              <a:ext cx="0" cy="1008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371600" y="1628640"/>
            <a:ext cx="6400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337174   943      1343784   94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43         1418       949        14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941                      394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772                      379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97                      15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43                        9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544                      56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544                      56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Первые два решения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1763640" y="2708280"/>
            <a:ext cx="936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19640" y="220500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835280" y="3860640"/>
            <a:ext cx="93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68360" y="5084640"/>
            <a:ext cx="72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268360" y="6165720"/>
            <a:ext cx="93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19640" y="177336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360" y="2708280"/>
            <a:ext cx="93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59640" y="220500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219640" y="386064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651640" y="508464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651640" y="616572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59640" y="177336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2205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547640" y="3357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050920" y="5661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08000" y="4581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788000" y="227664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3357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92720" y="4581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435640" y="5661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Вторые два способа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71280" y="1628280"/>
            <a:ext cx="705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00474   846         1202464   8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46         1419         848         14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544                        35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384                        33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07                        152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46                          8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614                        678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614                        678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47640" y="2708280"/>
            <a:ext cx="107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01840" y="2205000"/>
            <a:ext cx="865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19280" y="3860640"/>
            <a:ext cx="936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50920" y="508464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24000" y="6165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01840" y="177336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076720" y="2708280"/>
            <a:ext cx="1293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2560" y="220500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92720" y="3860640"/>
            <a:ext cx="1150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794200" y="5084640"/>
            <a:ext cx="72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94200" y="6165720"/>
            <a:ext cx="72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2560" y="177336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258920" y="2205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332000" y="335772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92360" y="458136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35280" y="573408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88000" y="220500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03640" y="3357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64000" y="4581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508720" y="573408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Деление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141264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7*******   ****7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         **7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7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7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7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7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627280" y="1484280"/>
            <a:ext cx="2808360" cy="4465800"/>
            <a:chOff x="2627280" y="1484280"/>
            <a:chExt cx="2808360" cy="4465800"/>
          </a:xfrm>
        </p:grpSpPr>
        <p:sp>
          <p:nvSpPr>
            <p:cNvPr id="547" name=""/>
            <p:cNvSpPr/>
            <p:nvPr/>
          </p:nvSpPr>
          <p:spPr>
            <a:xfrm>
              <a:off x="2627280" y="17733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27280" y="270828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87640" y="364500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87640" y="465300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48000" y="551664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72000" y="1916280"/>
              <a:ext cx="863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16360" y="2276640"/>
              <a:ext cx="1079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16360" y="3213000"/>
              <a:ext cx="115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3640" y="4149720"/>
              <a:ext cx="1008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76720" y="5157720"/>
              <a:ext cx="1008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92360" y="5950080"/>
              <a:ext cx="863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00720" y="1484280"/>
              <a:ext cx="0" cy="1008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твет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600" y="1341360"/>
            <a:ext cx="6400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375428413   12547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27365           5878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0177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037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799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783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163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037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47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47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2124000" y="1773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124000" y="270828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484360" y="3645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484360" y="4581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43280" y="551664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00720" y="184464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340000" y="2205000"/>
            <a:ext cx="136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340000" y="3141720"/>
            <a:ext cx="144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00360" y="407664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43280" y="5084640"/>
            <a:ext cx="136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132000" y="6021360"/>
            <a:ext cx="1152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00720" y="141300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твет.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3200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88 + 88 + 8 + 8 + 8 = 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вадцать четыр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легко число 24 выразить тремя восьмерками: 8 + 8 + 8. Но можете ли вы сделать то же, пользуясь не восьмерками, а другими тремя одинаковыми цифрами? Задача имеет не одно реш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твет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258560" y="2276280"/>
            <a:ext cx="6553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ществует два реше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2 + 2 = 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^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3 = 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идцать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легко число 30 выразить тремя пятерками: 5 * 5 + 5. Но можете ли вы сделать то же, пользуясь не восьмерками, а другими тремя одинаковыми цифрами? Задача имеет не одно реш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твет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 * 6 – 6 =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^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+ 3 =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3 – 3 =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агическая звез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естиконечная числовая звезда изображенная на следующем слайде, магическая: все 6 рядов чисел имеют одну и туже сум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+ 6 + 7 + 9 = 26       11 + 6 + 8 + 1 = 26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+ 8 + 12 + 2 = 26     11 + 7 + 5 + 3 = 2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 + 5 + 10 + 2 = 26     1 + 12 + 10 + 3 = 26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 сумма чисел, расположенных на вершинах звезды, друга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+ 11 + 9 + 3 + 2 + 1 = 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удастся ли вам усовершенствовать эту звезду, расставив числа в кружках так, чтобы и сумма чисел расположенных на вершинах звезды тоже равнялась 26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вез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4211640" y="5013360"/>
            <a:ext cx="431640" cy="4316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916360" y="1557360"/>
            <a:ext cx="3024000" cy="3878640"/>
            <a:chOff x="2916360" y="1557360"/>
            <a:chExt cx="3024000" cy="3878640"/>
          </a:xfrm>
        </p:grpSpPr>
        <p:sp>
          <p:nvSpPr>
            <p:cNvPr id="401" name=""/>
            <p:cNvSpPr/>
            <p:nvPr/>
          </p:nvSpPr>
          <p:spPr>
            <a:xfrm>
              <a:off x="4211640" y="155736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16360" y="242100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80000" y="242100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43280" y="2421000"/>
              <a:ext cx="43200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08720" y="242100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76720" y="3284640"/>
              <a:ext cx="43200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48000" y="3284640"/>
              <a:ext cx="43200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16360" y="414972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80000" y="414972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3280" y="4149720"/>
              <a:ext cx="43200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08720" y="414972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12" name=""/>
            <p:cNvCxnSpPr>
              <a:stCxn id="403" idx="0"/>
              <a:endCxn id="401" idx="3"/>
            </p:cNvCxnSpPr>
            <p:nvPr/>
          </p:nvCxnSpPr>
          <p:spPr>
            <a:xfrm flipV="1">
              <a:off x="3995640" y="192528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3" name=""/>
            <p:cNvCxnSpPr>
              <a:stCxn id="407" idx="0"/>
              <a:endCxn id="403" idx="3"/>
            </p:cNvCxnSpPr>
            <p:nvPr/>
          </p:nvCxnSpPr>
          <p:spPr>
            <a:xfrm flipV="1">
              <a:off x="3564000" y="278892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4" name=""/>
            <p:cNvCxnSpPr>
              <a:stCxn id="408" idx="0"/>
              <a:endCxn id="407" idx="3"/>
            </p:cNvCxnSpPr>
            <p:nvPr/>
          </p:nvCxnSpPr>
          <p:spPr>
            <a:xfrm flipV="1">
              <a:off x="3132000" y="3652560"/>
              <a:ext cx="280080" cy="497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5" name=""/>
            <p:cNvCxnSpPr>
              <a:stCxn id="401" idx="5"/>
              <a:endCxn id="404" idx="0"/>
            </p:cNvCxnSpPr>
            <p:nvPr/>
          </p:nvCxnSpPr>
          <p:spPr>
            <a:xfrm>
              <a:off x="4579920" y="192564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6" name=""/>
            <p:cNvCxnSpPr>
              <a:stCxn id="404" idx="5"/>
              <a:endCxn id="406" idx="0"/>
            </p:cNvCxnSpPr>
            <p:nvPr/>
          </p:nvCxnSpPr>
          <p:spPr>
            <a:xfrm>
              <a:off x="5011200" y="2789280"/>
              <a:ext cx="2818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7" name=""/>
            <p:cNvCxnSpPr>
              <a:stCxn id="406" idx="5"/>
              <a:endCxn id="411" idx="0"/>
            </p:cNvCxnSpPr>
            <p:nvPr/>
          </p:nvCxnSpPr>
          <p:spPr>
            <a:xfrm>
              <a:off x="5445000" y="3652920"/>
              <a:ext cx="280080" cy="497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8" name=""/>
            <p:cNvCxnSpPr>
              <a:stCxn id="408" idx="6"/>
              <a:endCxn id="409" idx="2"/>
            </p:cNvCxnSpPr>
            <p:nvPr/>
          </p:nvCxnSpPr>
          <p:spPr>
            <a:xfrm>
              <a:off x="3348000" y="4365360"/>
              <a:ext cx="432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9" name=""/>
            <p:cNvCxnSpPr/>
            <p:nvPr/>
          </p:nvCxnSpPr>
          <p:spPr>
            <a:xfrm>
              <a:off x="4211280" y="4365360"/>
              <a:ext cx="4323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0" name=""/>
            <p:cNvCxnSpPr/>
            <p:nvPr/>
          </p:nvCxnSpPr>
          <p:spPr>
            <a:xfrm>
              <a:off x="5076720" y="4365360"/>
              <a:ext cx="432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1" name=""/>
            <p:cNvCxnSpPr>
              <a:stCxn id="399" idx="1"/>
              <a:endCxn id="409" idx="4"/>
            </p:cNvCxnSpPr>
            <p:nvPr/>
          </p:nvCxnSpPr>
          <p:spPr>
            <a:xfrm flipH="1" flipV="1">
              <a:off x="3995280" y="458100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2" name=""/>
            <p:cNvCxnSpPr>
              <a:stCxn id="409" idx="1"/>
              <a:endCxn id="407" idx="4"/>
            </p:cNvCxnSpPr>
            <p:nvPr/>
          </p:nvCxnSpPr>
          <p:spPr>
            <a:xfrm flipH="1" flipV="1">
              <a:off x="3563640" y="3715920"/>
              <a:ext cx="280080" cy="497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3" name=""/>
            <p:cNvCxnSpPr>
              <a:stCxn id="407" idx="1"/>
              <a:endCxn id="402" idx="4"/>
            </p:cNvCxnSpPr>
            <p:nvPr/>
          </p:nvCxnSpPr>
          <p:spPr>
            <a:xfrm flipH="1" flipV="1">
              <a:off x="3131640" y="285228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4" name=""/>
            <p:cNvCxnSpPr>
              <a:stCxn id="399" idx="7"/>
              <a:endCxn id="410" idx="4"/>
            </p:cNvCxnSpPr>
            <p:nvPr/>
          </p:nvCxnSpPr>
          <p:spPr>
            <a:xfrm flipV="1">
              <a:off x="4579920" y="458100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5" name=""/>
            <p:cNvCxnSpPr>
              <a:stCxn id="410" idx="7"/>
              <a:endCxn id="406" idx="4"/>
            </p:cNvCxnSpPr>
            <p:nvPr/>
          </p:nvCxnSpPr>
          <p:spPr>
            <a:xfrm flipV="1">
              <a:off x="5011200" y="3715920"/>
              <a:ext cx="281880" cy="497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6" name=""/>
            <p:cNvCxnSpPr>
              <a:stCxn id="406" idx="7"/>
              <a:endCxn id="405" idx="4"/>
            </p:cNvCxnSpPr>
            <p:nvPr/>
          </p:nvCxnSpPr>
          <p:spPr>
            <a:xfrm flipV="1">
              <a:off x="5445000" y="285228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7" name=""/>
            <p:cNvCxnSpPr/>
            <p:nvPr/>
          </p:nvCxnSpPr>
          <p:spPr>
            <a:xfrm>
              <a:off x="5076720" y="2565000"/>
              <a:ext cx="432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8" name=""/>
            <p:cNvCxnSpPr/>
            <p:nvPr/>
          </p:nvCxnSpPr>
          <p:spPr>
            <a:xfrm>
              <a:off x="4211280" y="2565000"/>
              <a:ext cx="4323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9" name=""/>
            <p:cNvCxnSpPr/>
            <p:nvPr/>
          </p:nvCxnSpPr>
          <p:spPr>
            <a:xfrm>
              <a:off x="3348000" y="2565000"/>
              <a:ext cx="432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30" name=""/>
            <p:cNvSpPr/>
            <p:nvPr/>
          </p:nvSpPr>
          <p:spPr>
            <a:xfrm>
              <a:off x="2968560" y="241452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75280" y="1557360"/>
              <a:ext cx="55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25720" y="24336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95840" y="244008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65600" y="244008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70320" y="503712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33960" y="330372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53000" y="416088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68560" y="4167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68840" y="416736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26000" y="417348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94080" y="329724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твет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916360" y="1557360"/>
            <a:ext cx="3024000" cy="3887640"/>
            <a:chOff x="2916360" y="1557360"/>
            <a:chExt cx="3024000" cy="3887640"/>
          </a:xfrm>
        </p:grpSpPr>
        <p:sp>
          <p:nvSpPr>
            <p:cNvPr id="444" name=""/>
            <p:cNvSpPr/>
            <p:nvPr/>
          </p:nvSpPr>
          <p:spPr>
            <a:xfrm>
              <a:off x="4211640" y="501336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2916360" y="1557360"/>
              <a:ext cx="3024000" cy="3878640"/>
              <a:chOff x="2916360" y="1557360"/>
              <a:chExt cx="3024000" cy="3878640"/>
            </a:xfrm>
          </p:grpSpPr>
          <p:sp>
            <p:nvSpPr>
              <p:cNvPr id="446" name=""/>
              <p:cNvSpPr/>
              <p:nvPr/>
            </p:nvSpPr>
            <p:spPr>
              <a:xfrm>
                <a:off x="4211640" y="155736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916360" y="242100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80000" y="242100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643280" y="2421000"/>
                <a:ext cx="43200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08720" y="242100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76720" y="3284640"/>
                <a:ext cx="43200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48000" y="3284640"/>
                <a:ext cx="43200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16360" y="414972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80000" y="414972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643280" y="4149720"/>
                <a:ext cx="43200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08720" y="414972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457" name=""/>
              <p:cNvCxnSpPr>
                <a:stCxn id="448" idx="0"/>
                <a:endCxn id="446" idx="3"/>
              </p:cNvCxnSpPr>
              <p:nvPr/>
            </p:nvCxnSpPr>
            <p:spPr>
              <a:xfrm flipV="1">
                <a:off x="3995640" y="192528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58" name=""/>
              <p:cNvCxnSpPr>
                <a:stCxn id="452" idx="0"/>
                <a:endCxn id="448" idx="3"/>
              </p:cNvCxnSpPr>
              <p:nvPr/>
            </p:nvCxnSpPr>
            <p:spPr>
              <a:xfrm flipV="1">
                <a:off x="3564000" y="278892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59" name=""/>
              <p:cNvCxnSpPr>
                <a:stCxn id="453" idx="0"/>
                <a:endCxn id="452" idx="3"/>
              </p:cNvCxnSpPr>
              <p:nvPr/>
            </p:nvCxnSpPr>
            <p:spPr>
              <a:xfrm flipV="1">
                <a:off x="3132000" y="3652560"/>
                <a:ext cx="280080" cy="497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0" name=""/>
              <p:cNvCxnSpPr>
                <a:stCxn id="446" idx="5"/>
                <a:endCxn id="449" idx="0"/>
              </p:cNvCxnSpPr>
              <p:nvPr/>
            </p:nvCxnSpPr>
            <p:spPr>
              <a:xfrm>
                <a:off x="4579920" y="192564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1" name=""/>
              <p:cNvCxnSpPr>
                <a:stCxn id="449" idx="5"/>
                <a:endCxn id="451" idx="0"/>
              </p:cNvCxnSpPr>
              <p:nvPr/>
            </p:nvCxnSpPr>
            <p:spPr>
              <a:xfrm>
                <a:off x="5011200" y="2789280"/>
                <a:ext cx="2818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2" name=""/>
              <p:cNvCxnSpPr>
                <a:stCxn id="451" idx="5"/>
                <a:endCxn id="456" idx="0"/>
              </p:cNvCxnSpPr>
              <p:nvPr/>
            </p:nvCxnSpPr>
            <p:spPr>
              <a:xfrm>
                <a:off x="5445000" y="3652920"/>
                <a:ext cx="280080" cy="497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3" name=""/>
              <p:cNvCxnSpPr>
                <a:stCxn id="453" idx="6"/>
                <a:endCxn id="454" idx="2"/>
              </p:cNvCxnSpPr>
              <p:nvPr/>
            </p:nvCxnSpPr>
            <p:spPr>
              <a:xfrm>
                <a:off x="3348000" y="4365360"/>
                <a:ext cx="43272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4" name=""/>
              <p:cNvCxnSpPr/>
              <p:nvPr/>
            </p:nvCxnSpPr>
            <p:spPr>
              <a:xfrm>
                <a:off x="4211280" y="4365360"/>
                <a:ext cx="4323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5" name=""/>
              <p:cNvCxnSpPr/>
              <p:nvPr/>
            </p:nvCxnSpPr>
            <p:spPr>
              <a:xfrm>
                <a:off x="5076720" y="4365360"/>
                <a:ext cx="43272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6" name=""/>
              <p:cNvCxnSpPr>
                <a:endCxn id="454" idx="4"/>
              </p:cNvCxnSpPr>
              <p:nvPr/>
            </p:nvCxnSpPr>
            <p:spPr>
              <a:xfrm flipH="1" flipV="1">
                <a:off x="3995280" y="458100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7" name=""/>
              <p:cNvCxnSpPr>
                <a:stCxn id="454" idx="1"/>
                <a:endCxn id="452" idx="4"/>
              </p:cNvCxnSpPr>
              <p:nvPr/>
            </p:nvCxnSpPr>
            <p:spPr>
              <a:xfrm flipH="1" flipV="1">
                <a:off x="3563640" y="3715920"/>
                <a:ext cx="280080" cy="497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8" name=""/>
              <p:cNvCxnSpPr>
                <a:stCxn id="452" idx="1"/>
                <a:endCxn id="447" idx="4"/>
              </p:cNvCxnSpPr>
              <p:nvPr/>
            </p:nvCxnSpPr>
            <p:spPr>
              <a:xfrm flipH="1" flipV="1">
                <a:off x="3131640" y="285228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9" name=""/>
              <p:cNvCxnSpPr>
                <a:endCxn id="455" idx="4"/>
              </p:cNvCxnSpPr>
              <p:nvPr/>
            </p:nvCxnSpPr>
            <p:spPr>
              <a:xfrm flipV="1">
                <a:off x="4579920" y="458100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0" name=""/>
              <p:cNvCxnSpPr>
                <a:stCxn id="455" idx="7"/>
                <a:endCxn id="451" idx="4"/>
              </p:cNvCxnSpPr>
              <p:nvPr/>
            </p:nvCxnSpPr>
            <p:spPr>
              <a:xfrm flipV="1">
                <a:off x="5011200" y="3715920"/>
                <a:ext cx="281880" cy="497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1" name=""/>
              <p:cNvCxnSpPr>
                <a:stCxn id="451" idx="7"/>
                <a:endCxn id="450" idx="4"/>
              </p:cNvCxnSpPr>
              <p:nvPr/>
            </p:nvCxnSpPr>
            <p:spPr>
              <a:xfrm flipV="1">
                <a:off x="5445000" y="285228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2" name=""/>
              <p:cNvCxnSpPr/>
              <p:nvPr/>
            </p:nvCxnSpPr>
            <p:spPr>
              <a:xfrm>
                <a:off x="5076720" y="2565000"/>
                <a:ext cx="43272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3" name=""/>
              <p:cNvCxnSpPr/>
              <p:nvPr/>
            </p:nvCxnSpPr>
            <p:spPr>
              <a:xfrm>
                <a:off x="4211280" y="2565000"/>
                <a:ext cx="4323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4" name=""/>
              <p:cNvCxnSpPr/>
              <p:nvPr/>
            </p:nvCxnSpPr>
            <p:spPr>
              <a:xfrm>
                <a:off x="3348000" y="2565000"/>
                <a:ext cx="43272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sp>
            <p:nvSpPr>
              <p:cNvPr id="475" name=""/>
              <p:cNvSpPr/>
              <p:nvPr/>
            </p:nvSpPr>
            <p:spPr>
              <a:xfrm>
                <a:off x="2968560" y="24145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75280" y="155736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825720" y="24336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95840" y="24400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565600" y="24400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270320" y="50371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133960" y="33037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53000" y="41608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968560" y="416736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768840" y="416736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626000" y="4173480"/>
                <a:ext cx="466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394080" y="32972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20:37:48Z</dcterms:created>
  <dc:creator>Дмитрий</dc:creator>
  <dc:description/>
  <dc:language>en-US</dc:language>
  <cp:lastModifiedBy>Дима</cp:lastModifiedBy>
  <dcterms:modified xsi:type="dcterms:W3CDTF">2007-01-25T14:45:15Z</dcterms:modified>
  <cp:revision>2</cp:revision>
  <dc:subject/>
  <dc:title>паг</dc:title>
</cp:coreProperties>
</file>