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C4D6-31C7-4486-9B79-F073648D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CB12-6432-45AD-92BF-B84F52C4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946B-651E-4D53-9976-C0976380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A99-CBB8-45CA-93E4-A78E0490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08B3-2DD5-4545-8FB3-DAA8AC9A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580B-C2BA-4F33-AC3C-ECEE2587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DCD8-4BE6-4F9A-8A72-29FCE490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1FD9-2E06-48B5-A1DB-548FB679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DA41-FC5F-424C-8CD0-BE0ADF67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1677-ED44-4A73-83A9-315FE67E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EAEA-27B1-4472-932F-5CFC0F08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E0A1-4412-4ED1-9879-B25E22CB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F8C4-05A3-4184-BC54-6B6D2666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D6C3-4449-492E-992C-B6474FE8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B7B5-23AB-4F15-8D79-9C0DAE3E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BEC9-5A8D-4648-85B8-382EB547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1BF7-C044-4C0C-B241-7C90700C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E54-000E-416C-9919-D0C401C4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A866-DFA1-43C7-90D8-139C9B6C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03F6-B7EC-4032-B893-6AE69050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FE5-FDF6-4ACB-89D0-346C13E9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43C-4D79-46F4-BCE4-17395349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FE79-AEAE-4BB4-997A-03BC9864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35C-C29E-46CF-931C-E18D51F5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071F-4D75-4C2D-8AF6-6F51D6F8CCB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2A83-736A-4D44-A6D3-76C1694C9F5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Тысяча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жете ли вы число 1000 выразить восемью одинаковыми цифрами? При этом, кроме цифр, разрешается пользоваться также знаками дейст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Числовой ребус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меет несколько решений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*****4   **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**        *4*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*4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4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***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213372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276720" y="328464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419640" y="443700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64000" y="558972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3708360" y="1773360"/>
            <a:ext cx="2016000" cy="4392360"/>
            <a:chOff x="3708360" y="1773360"/>
            <a:chExt cx="2016000" cy="4392360"/>
          </a:xfrm>
        </p:grpSpPr>
        <p:sp>
          <p:nvSpPr>
            <p:cNvPr id="494" name=""/>
            <p:cNvSpPr/>
            <p:nvPr/>
          </p:nvSpPr>
          <p:spPr>
            <a:xfrm>
              <a:off x="3708360" y="2708280"/>
              <a:ext cx="719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59280" y="2205000"/>
              <a:ext cx="865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80000" y="3860640"/>
              <a:ext cx="720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51280" y="5084640"/>
              <a:ext cx="720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51280" y="6165720"/>
              <a:ext cx="720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59280" y="1773360"/>
              <a:ext cx="0" cy="1008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371600" y="1628640"/>
            <a:ext cx="6400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337174   943      1343784   94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43         1418       949        14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941                      394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772                      379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97                      15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43                        94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544                      569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544                      569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Первые два решения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"/>
          <p:cNvSpPr/>
          <p:nvPr/>
        </p:nvSpPr>
        <p:spPr>
          <a:xfrm>
            <a:off x="1763640" y="2708280"/>
            <a:ext cx="936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419640" y="220500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835280" y="3860640"/>
            <a:ext cx="936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68360" y="5084640"/>
            <a:ext cx="72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268360" y="6165720"/>
            <a:ext cx="935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419640" y="1773360"/>
            <a:ext cx="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360" y="2708280"/>
            <a:ext cx="936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59640" y="220500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219640" y="386064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651640" y="5084640"/>
            <a:ext cx="720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651640" y="616572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659640" y="1773360"/>
            <a:ext cx="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03280" y="220500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547640" y="335772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050920" y="566100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908000" y="458136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788000" y="227664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59280" y="335772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92720" y="458136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435640" y="566100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Вторые два способа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971280" y="1628280"/>
            <a:ext cx="7056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00474   846         1202464   8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46         1419         848         14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544                        35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384                        339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07                        152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46                          8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614                        678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614                        678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1547640" y="2708280"/>
            <a:ext cx="107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01840" y="2205000"/>
            <a:ext cx="865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619280" y="3860640"/>
            <a:ext cx="936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050920" y="5084640"/>
            <a:ext cx="720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124000" y="6165720"/>
            <a:ext cx="86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201840" y="1773360"/>
            <a:ext cx="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076720" y="2708280"/>
            <a:ext cx="1293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2560" y="220500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292720" y="3860640"/>
            <a:ext cx="1150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794200" y="5084640"/>
            <a:ext cx="72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794200" y="6165720"/>
            <a:ext cx="72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02560" y="1773360"/>
            <a:ext cx="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258920" y="220500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332000" y="335772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692360" y="458136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35280" y="573408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88000" y="220500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03640" y="335772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64000" y="458136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508720" y="573408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Деление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141264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7*******   ****7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****         **7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***7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*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7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7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*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**7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***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627280" y="1484280"/>
            <a:ext cx="2808360" cy="4465800"/>
            <a:chOff x="2627280" y="1484280"/>
            <a:chExt cx="2808360" cy="4465800"/>
          </a:xfrm>
        </p:grpSpPr>
        <p:sp>
          <p:nvSpPr>
            <p:cNvPr id="547" name=""/>
            <p:cNvSpPr/>
            <p:nvPr/>
          </p:nvSpPr>
          <p:spPr>
            <a:xfrm>
              <a:off x="2627280" y="17733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627280" y="270828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87640" y="364500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987640" y="465300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48000" y="551664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572000" y="1916280"/>
              <a:ext cx="863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916360" y="2276640"/>
              <a:ext cx="1079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16360" y="3213000"/>
              <a:ext cx="1150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03640" y="4149720"/>
              <a:ext cx="1008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76720" y="5157720"/>
              <a:ext cx="1008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92360" y="5950080"/>
              <a:ext cx="863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500720" y="1484280"/>
              <a:ext cx="0" cy="1008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Ответ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371600" y="1341360"/>
            <a:ext cx="6400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375428413   12547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27365           5878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0177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0378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799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783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163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0378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547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547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2124000" y="177336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124000" y="270828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484360" y="364500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484360" y="458136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43280" y="551664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500720" y="184464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340000" y="2205000"/>
            <a:ext cx="136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340000" y="3141720"/>
            <a:ext cx="1440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700360" y="407664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43280" y="5084640"/>
            <a:ext cx="136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132000" y="6021360"/>
            <a:ext cx="1152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00720" y="1413000"/>
            <a:ext cx="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Ответ.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3200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88 + 88 + 8 + 8 + 8 = 1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вадцать четыр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чень легко число 24 выразить тремя восьмерками: 8 + 8 + 8. Но можете ли вы сделать то же, пользуясь не восьмерками, а другими тремя одинаковыми цифрами? Задача имеет не одно реш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Ответ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258560" y="2276280"/>
            <a:ext cx="6553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ществует два реше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2 + 2 = 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^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3 = 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ридцать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чень легко число 30 выразить тремя пятерками: 5 * 5 + 5. Но можете ли вы сделать то же, пользуясь не восьмерками, а другими тремя одинаковыми цифрами? Задача имеет не одно реш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Ответ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 * 6 – 6 =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^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+ 3 =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3 – 3 =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агическая звезд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Шестиконечная числовая звезда изображенная на следующем слайде, магическая: все 6 рядов чисел имеют одну и туже сумм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+ 6 + 7 + 9 = 26       11 + 6 + 8 + 1 = 26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+ 8 + 12 + 2 = 26     11 + 7 + 5 + 3 = 2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 + 5 + 10 + 2 = 26     1 + 12 + 10 + 3 = 26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о сумма чисел, расположенных на вершинах звезды, друга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+ 11 + 9 + 3 + 2 + 1 = 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удастся ли вам усовершенствовать эту звезду, расставив числа в кружках так, чтобы и сумма чисел расположенных на вершинах звезды тоже равнялась 26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везд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4211640" y="5013360"/>
            <a:ext cx="431640" cy="4316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916360" y="1557360"/>
            <a:ext cx="3024000" cy="3878640"/>
            <a:chOff x="2916360" y="1557360"/>
            <a:chExt cx="3024000" cy="3878640"/>
          </a:xfrm>
        </p:grpSpPr>
        <p:sp>
          <p:nvSpPr>
            <p:cNvPr id="401" name=""/>
            <p:cNvSpPr/>
            <p:nvPr/>
          </p:nvSpPr>
          <p:spPr>
            <a:xfrm>
              <a:off x="4211640" y="155736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16360" y="242100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80000" y="242100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43280" y="2421000"/>
              <a:ext cx="43200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08720" y="242100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76720" y="3284640"/>
              <a:ext cx="43200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48000" y="3284640"/>
              <a:ext cx="43200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16360" y="414972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80000" y="414972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3280" y="4149720"/>
              <a:ext cx="43200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08720" y="414972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12" name=""/>
            <p:cNvCxnSpPr>
              <a:stCxn id="403" idx="0"/>
              <a:endCxn id="401" idx="3"/>
            </p:cNvCxnSpPr>
            <p:nvPr/>
          </p:nvCxnSpPr>
          <p:spPr>
            <a:xfrm flipV="1">
              <a:off x="3995640" y="1925280"/>
              <a:ext cx="2800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3" name=""/>
            <p:cNvCxnSpPr>
              <a:stCxn id="407" idx="0"/>
              <a:endCxn id="403" idx="3"/>
            </p:cNvCxnSpPr>
            <p:nvPr/>
          </p:nvCxnSpPr>
          <p:spPr>
            <a:xfrm flipV="1">
              <a:off x="3564000" y="2788920"/>
              <a:ext cx="2800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4" name=""/>
            <p:cNvCxnSpPr>
              <a:stCxn id="408" idx="0"/>
              <a:endCxn id="407" idx="3"/>
            </p:cNvCxnSpPr>
            <p:nvPr/>
          </p:nvCxnSpPr>
          <p:spPr>
            <a:xfrm flipV="1">
              <a:off x="3132000" y="3652560"/>
              <a:ext cx="280080" cy="497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5" name=""/>
            <p:cNvCxnSpPr>
              <a:stCxn id="401" idx="5"/>
              <a:endCxn id="404" idx="0"/>
            </p:cNvCxnSpPr>
            <p:nvPr/>
          </p:nvCxnSpPr>
          <p:spPr>
            <a:xfrm>
              <a:off x="4579920" y="1925640"/>
              <a:ext cx="2800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6" name=""/>
            <p:cNvCxnSpPr>
              <a:stCxn id="404" idx="5"/>
              <a:endCxn id="406" idx="0"/>
            </p:cNvCxnSpPr>
            <p:nvPr/>
          </p:nvCxnSpPr>
          <p:spPr>
            <a:xfrm>
              <a:off x="5011200" y="2789280"/>
              <a:ext cx="2818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7" name=""/>
            <p:cNvCxnSpPr>
              <a:stCxn id="406" idx="5"/>
              <a:endCxn id="411" idx="0"/>
            </p:cNvCxnSpPr>
            <p:nvPr/>
          </p:nvCxnSpPr>
          <p:spPr>
            <a:xfrm>
              <a:off x="5445000" y="3652920"/>
              <a:ext cx="280080" cy="497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8" name=""/>
            <p:cNvCxnSpPr>
              <a:stCxn id="408" idx="6"/>
              <a:endCxn id="409" idx="2"/>
            </p:cNvCxnSpPr>
            <p:nvPr/>
          </p:nvCxnSpPr>
          <p:spPr>
            <a:xfrm>
              <a:off x="3348000" y="4365360"/>
              <a:ext cx="432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19" name=""/>
            <p:cNvCxnSpPr/>
            <p:nvPr/>
          </p:nvCxnSpPr>
          <p:spPr>
            <a:xfrm>
              <a:off x="4211280" y="4365360"/>
              <a:ext cx="4323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0" name=""/>
            <p:cNvCxnSpPr/>
            <p:nvPr/>
          </p:nvCxnSpPr>
          <p:spPr>
            <a:xfrm>
              <a:off x="5076720" y="4365360"/>
              <a:ext cx="432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1" name=""/>
            <p:cNvCxnSpPr>
              <a:stCxn id="399" idx="1"/>
              <a:endCxn id="409" idx="4"/>
            </p:cNvCxnSpPr>
            <p:nvPr/>
          </p:nvCxnSpPr>
          <p:spPr>
            <a:xfrm flipH="1" flipV="1">
              <a:off x="3995280" y="4581000"/>
              <a:ext cx="2800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2" name=""/>
            <p:cNvCxnSpPr>
              <a:stCxn id="409" idx="1"/>
              <a:endCxn id="407" idx="4"/>
            </p:cNvCxnSpPr>
            <p:nvPr/>
          </p:nvCxnSpPr>
          <p:spPr>
            <a:xfrm flipH="1" flipV="1">
              <a:off x="3563640" y="3715920"/>
              <a:ext cx="280080" cy="497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3" name=""/>
            <p:cNvCxnSpPr>
              <a:stCxn id="407" idx="1"/>
              <a:endCxn id="402" idx="4"/>
            </p:cNvCxnSpPr>
            <p:nvPr/>
          </p:nvCxnSpPr>
          <p:spPr>
            <a:xfrm flipH="1" flipV="1">
              <a:off x="3131640" y="2852280"/>
              <a:ext cx="2800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4" name=""/>
            <p:cNvCxnSpPr>
              <a:stCxn id="399" idx="7"/>
              <a:endCxn id="410" idx="4"/>
            </p:cNvCxnSpPr>
            <p:nvPr/>
          </p:nvCxnSpPr>
          <p:spPr>
            <a:xfrm flipV="1">
              <a:off x="4579920" y="4581000"/>
              <a:ext cx="2800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5" name=""/>
            <p:cNvCxnSpPr>
              <a:stCxn id="410" idx="7"/>
              <a:endCxn id="406" idx="4"/>
            </p:cNvCxnSpPr>
            <p:nvPr/>
          </p:nvCxnSpPr>
          <p:spPr>
            <a:xfrm flipV="1">
              <a:off x="5011200" y="3715920"/>
              <a:ext cx="281880" cy="497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6" name=""/>
            <p:cNvCxnSpPr>
              <a:stCxn id="406" idx="7"/>
              <a:endCxn id="405" idx="4"/>
            </p:cNvCxnSpPr>
            <p:nvPr/>
          </p:nvCxnSpPr>
          <p:spPr>
            <a:xfrm flipV="1">
              <a:off x="5445000" y="2852280"/>
              <a:ext cx="280080" cy="496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7" name=""/>
            <p:cNvCxnSpPr/>
            <p:nvPr/>
          </p:nvCxnSpPr>
          <p:spPr>
            <a:xfrm>
              <a:off x="5076720" y="2565000"/>
              <a:ext cx="432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8" name=""/>
            <p:cNvCxnSpPr/>
            <p:nvPr/>
          </p:nvCxnSpPr>
          <p:spPr>
            <a:xfrm>
              <a:off x="4211280" y="2565000"/>
              <a:ext cx="4323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29" name=""/>
            <p:cNvCxnSpPr/>
            <p:nvPr/>
          </p:nvCxnSpPr>
          <p:spPr>
            <a:xfrm>
              <a:off x="3348000" y="2565000"/>
              <a:ext cx="432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430" name=""/>
            <p:cNvSpPr/>
            <p:nvPr/>
          </p:nvSpPr>
          <p:spPr>
            <a:xfrm>
              <a:off x="2968560" y="241452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75280" y="1557360"/>
              <a:ext cx="55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25720" y="243360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95840" y="244008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65600" y="244008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70320" y="503712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33960" y="330372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53000" y="416088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68560" y="416736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68840" y="4167360"/>
              <a:ext cx="4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26000" y="4173480"/>
              <a:ext cx="4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94080" y="3297240"/>
              <a:ext cx="2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твет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916360" y="1557360"/>
            <a:ext cx="3024000" cy="3887640"/>
            <a:chOff x="2916360" y="1557360"/>
            <a:chExt cx="3024000" cy="3887640"/>
          </a:xfrm>
        </p:grpSpPr>
        <p:sp>
          <p:nvSpPr>
            <p:cNvPr id="444" name=""/>
            <p:cNvSpPr/>
            <p:nvPr/>
          </p:nvSpPr>
          <p:spPr>
            <a:xfrm>
              <a:off x="4211640" y="5013360"/>
              <a:ext cx="431640" cy="43164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2916360" y="1557360"/>
              <a:ext cx="3024000" cy="3878640"/>
              <a:chOff x="2916360" y="1557360"/>
              <a:chExt cx="3024000" cy="3878640"/>
            </a:xfrm>
          </p:grpSpPr>
          <p:sp>
            <p:nvSpPr>
              <p:cNvPr id="446" name=""/>
              <p:cNvSpPr/>
              <p:nvPr/>
            </p:nvSpPr>
            <p:spPr>
              <a:xfrm>
                <a:off x="4211640" y="1557360"/>
                <a:ext cx="43164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916360" y="2421000"/>
                <a:ext cx="43164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80000" y="2421000"/>
                <a:ext cx="43164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643280" y="2421000"/>
                <a:ext cx="43200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508720" y="2421000"/>
                <a:ext cx="43164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076720" y="3284640"/>
                <a:ext cx="43200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48000" y="3284640"/>
                <a:ext cx="43200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16360" y="4149720"/>
                <a:ext cx="43164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80000" y="4149720"/>
                <a:ext cx="43164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643280" y="4149720"/>
                <a:ext cx="43200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508720" y="4149720"/>
                <a:ext cx="431640" cy="431640"/>
              </a:xfrm>
              <a:prstGeom prst="ellipse">
                <a:avLst/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457" name=""/>
              <p:cNvCxnSpPr>
                <a:stCxn id="448" idx="0"/>
                <a:endCxn id="446" idx="3"/>
              </p:cNvCxnSpPr>
              <p:nvPr/>
            </p:nvCxnSpPr>
            <p:spPr>
              <a:xfrm flipV="1">
                <a:off x="3995640" y="1925280"/>
                <a:ext cx="2800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58" name=""/>
              <p:cNvCxnSpPr>
                <a:stCxn id="452" idx="0"/>
                <a:endCxn id="448" idx="3"/>
              </p:cNvCxnSpPr>
              <p:nvPr/>
            </p:nvCxnSpPr>
            <p:spPr>
              <a:xfrm flipV="1">
                <a:off x="3564000" y="2788920"/>
                <a:ext cx="2800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59" name=""/>
              <p:cNvCxnSpPr>
                <a:stCxn id="453" idx="0"/>
                <a:endCxn id="452" idx="3"/>
              </p:cNvCxnSpPr>
              <p:nvPr/>
            </p:nvCxnSpPr>
            <p:spPr>
              <a:xfrm flipV="1">
                <a:off x="3132000" y="3652560"/>
                <a:ext cx="280080" cy="4975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0" name=""/>
              <p:cNvCxnSpPr>
                <a:stCxn id="446" idx="5"/>
                <a:endCxn id="449" idx="0"/>
              </p:cNvCxnSpPr>
              <p:nvPr/>
            </p:nvCxnSpPr>
            <p:spPr>
              <a:xfrm>
                <a:off x="4579920" y="1925640"/>
                <a:ext cx="2800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1" name=""/>
              <p:cNvCxnSpPr>
                <a:stCxn id="449" idx="5"/>
                <a:endCxn id="451" idx="0"/>
              </p:cNvCxnSpPr>
              <p:nvPr/>
            </p:nvCxnSpPr>
            <p:spPr>
              <a:xfrm>
                <a:off x="5011200" y="2789280"/>
                <a:ext cx="2818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2" name=""/>
              <p:cNvCxnSpPr>
                <a:stCxn id="451" idx="5"/>
                <a:endCxn id="456" idx="0"/>
              </p:cNvCxnSpPr>
              <p:nvPr/>
            </p:nvCxnSpPr>
            <p:spPr>
              <a:xfrm>
                <a:off x="5445000" y="3652920"/>
                <a:ext cx="280080" cy="4975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3" name=""/>
              <p:cNvCxnSpPr>
                <a:stCxn id="453" idx="6"/>
                <a:endCxn id="454" idx="2"/>
              </p:cNvCxnSpPr>
              <p:nvPr/>
            </p:nvCxnSpPr>
            <p:spPr>
              <a:xfrm>
                <a:off x="3348000" y="4365360"/>
                <a:ext cx="43272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4" name=""/>
              <p:cNvCxnSpPr/>
              <p:nvPr/>
            </p:nvCxnSpPr>
            <p:spPr>
              <a:xfrm>
                <a:off x="4211280" y="4365360"/>
                <a:ext cx="43236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5" name=""/>
              <p:cNvCxnSpPr/>
              <p:nvPr/>
            </p:nvCxnSpPr>
            <p:spPr>
              <a:xfrm>
                <a:off x="5076720" y="4365360"/>
                <a:ext cx="43272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6" name=""/>
              <p:cNvCxnSpPr>
                <a:endCxn id="454" idx="4"/>
              </p:cNvCxnSpPr>
              <p:nvPr/>
            </p:nvCxnSpPr>
            <p:spPr>
              <a:xfrm flipH="1" flipV="1">
                <a:off x="3995280" y="4581000"/>
                <a:ext cx="2800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7" name=""/>
              <p:cNvCxnSpPr>
                <a:stCxn id="454" idx="1"/>
                <a:endCxn id="452" idx="4"/>
              </p:cNvCxnSpPr>
              <p:nvPr/>
            </p:nvCxnSpPr>
            <p:spPr>
              <a:xfrm flipH="1" flipV="1">
                <a:off x="3563640" y="3715920"/>
                <a:ext cx="280080" cy="4975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8" name=""/>
              <p:cNvCxnSpPr>
                <a:stCxn id="452" idx="1"/>
                <a:endCxn id="447" idx="4"/>
              </p:cNvCxnSpPr>
              <p:nvPr/>
            </p:nvCxnSpPr>
            <p:spPr>
              <a:xfrm flipH="1" flipV="1">
                <a:off x="3131640" y="2852280"/>
                <a:ext cx="2800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69" name=""/>
              <p:cNvCxnSpPr>
                <a:endCxn id="455" idx="4"/>
              </p:cNvCxnSpPr>
              <p:nvPr/>
            </p:nvCxnSpPr>
            <p:spPr>
              <a:xfrm flipV="1">
                <a:off x="4579920" y="4581000"/>
                <a:ext cx="2800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70" name=""/>
              <p:cNvCxnSpPr>
                <a:stCxn id="455" idx="7"/>
                <a:endCxn id="451" idx="4"/>
              </p:cNvCxnSpPr>
              <p:nvPr/>
            </p:nvCxnSpPr>
            <p:spPr>
              <a:xfrm flipV="1">
                <a:off x="5011200" y="3715920"/>
                <a:ext cx="281880" cy="4975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71" name=""/>
              <p:cNvCxnSpPr>
                <a:stCxn id="451" idx="7"/>
                <a:endCxn id="450" idx="4"/>
              </p:cNvCxnSpPr>
              <p:nvPr/>
            </p:nvCxnSpPr>
            <p:spPr>
              <a:xfrm flipV="1">
                <a:off x="5445000" y="2852280"/>
                <a:ext cx="280080" cy="496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72" name=""/>
              <p:cNvCxnSpPr/>
              <p:nvPr/>
            </p:nvCxnSpPr>
            <p:spPr>
              <a:xfrm>
                <a:off x="5076720" y="2565000"/>
                <a:ext cx="43272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73" name=""/>
              <p:cNvCxnSpPr/>
              <p:nvPr/>
            </p:nvCxnSpPr>
            <p:spPr>
              <a:xfrm>
                <a:off x="4211280" y="2565000"/>
                <a:ext cx="43236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474" name=""/>
              <p:cNvCxnSpPr/>
              <p:nvPr/>
            </p:nvCxnSpPr>
            <p:spPr>
              <a:xfrm>
                <a:off x="3348000" y="2565000"/>
                <a:ext cx="43272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sp>
            <p:nvSpPr>
              <p:cNvPr id="475" name=""/>
              <p:cNvSpPr/>
              <p:nvPr/>
            </p:nvSpPr>
            <p:spPr>
              <a:xfrm>
                <a:off x="2968560" y="24145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175280" y="1557360"/>
                <a:ext cx="55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825720" y="243360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695840" y="244008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565600" y="244008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270320" y="50371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133960" y="33037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553000" y="416088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968560" y="416736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768840" y="4167360"/>
                <a:ext cx="4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626000" y="4173480"/>
                <a:ext cx="466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394080" y="329724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20:37:48Z</dcterms:created>
  <dc:creator>Дмитрий</dc:creator>
  <dc:description/>
  <dc:language>en-US</dc:language>
  <cp:lastModifiedBy>Дима</cp:lastModifiedBy>
  <dcterms:modified xsi:type="dcterms:W3CDTF">2007-01-25T14:45:15Z</dcterms:modified>
  <cp:revision>2</cp:revision>
  <dc:subject/>
  <dc:title>паг</dc:title>
</cp:coreProperties>
</file>