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2A8-DE5B-4B2A-BD09-711A5F39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626-C237-48A7-967B-3E9F1D6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919-73A8-41CB-83E5-C3271232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186-FC10-4FAC-B2CD-B872138C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A74A-C127-4591-9568-A096EE48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D51F-60E8-460B-BBAB-C6EAC238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9EA0-617E-431C-8726-6CFE78D1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D664-BFE8-424F-8CA7-3F14A80F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ABF-18BC-4682-889F-D407276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27BE-6F38-4DE9-942C-79FF4915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645B-641F-4E45-B26F-5C24BB2E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FE9-4266-4281-A598-1DF3E7E1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7433-D31C-4EED-AD96-E15D2258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7FEE-BDC1-48CB-B69E-0D313295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37DC-3531-4BBD-BD21-5421392E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9072-6BA8-4135-9FFA-D1EB5425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F130-421E-4835-B580-6231CFFF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800-35FC-4524-8699-9CD02002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5B2-7C42-489C-9AF5-FB15B1CC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07E-5D9A-47BF-9E88-6ACC6962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037-475C-41AE-A7BB-3E2E53A5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BE3-2C8B-46AE-84B2-2BBA836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4C3-62EF-4279-8286-1209DD0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ADE-BFF8-4705-A2EA-3A8488E4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D033-B093-4C42-97E8-3E7D9A2CFC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018E-B2F6-4B51-A70F-E926D098AF0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Тыся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е ли вы число 1000 выразить восемью одинаковыми цифрами? При этом, кроме цифр, разрешается пользоваться также знаками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исловой ребус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меет несколько реше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**4   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        *4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4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4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13372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328464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19640" y="443700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4000" y="5589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708360" y="1773360"/>
            <a:ext cx="2016000" cy="4392360"/>
            <a:chOff x="3708360" y="1773360"/>
            <a:chExt cx="2016000" cy="4392360"/>
          </a:xfrm>
        </p:grpSpPr>
        <p:sp>
          <p:nvSpPr>
            <p:cNvPr id="494" name=""/>
            <p:cNvSpPr/>
            <p:nvPr/>
          </p:nvSpPr>
          <p:spPr>
            <a:xfrm>
              <a:off x="3708360" y="2708280"/>
              <a:ext cx="71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59280" y="2205000"/>
              <a:ext cx="865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80000" y="3860640"/>
              <a:ext cx="72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51280" y="5084640"/>
              <a:ext cx="72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51280" y="6165720"/>
              <a:ext cx="72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59280" y="1773360"/>
              <a:ext cx="0" cy="100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37174   943      1343784   94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43         1418       949        14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941                      394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772                      379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97                      15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43                        9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544                      56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544                      56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ервые два решения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1763640" y="2708280"/>
            <a:ext cx="93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19640" y="220500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35280" y="386064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68360" y="5084640"/>
            <a:ext cx="72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68360" y="6165720"/>
            <a:ext cx="93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1964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270828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59640" y="220500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219640" y="386064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51640" y="508464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651640" y="6165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5964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2205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54764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50920" y="5661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0800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88000" y="227664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9272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35640" y="5661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торые два способа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71280" y="1628280"/>
            <a:ext cx="705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00474   846         1202464   8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46         1419         848         14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44                        35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84                        33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07                        15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46                          8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614                        67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614                        67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47640" y="2708280"/>
            <a:ext cx="107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01840" y="2205000"/>
            <a:ext cx="865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19280" y="3860640"/>
            <a:ext cx="93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0920" y="508464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24000" y="6165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0184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76720" y="2708280"/>
            <a:ext cx="1293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2560" y="220500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92720" y="3860640"/>
            <a:ext cx="1150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94200" y="5084640"/>
            <a:ext cx="72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94200" y="6165720"/>
            <a:ext cx="72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256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58920" y="2205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32000" y="335772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92360" y="458136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35280" y="573408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88000" y="220500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0364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6400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508720" y="573408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Деление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141264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7*******   ****7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         **7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7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7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7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7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627280" y="1484280"/>
            <a:ext cx="2808360" cy="4465800"/>
            <a:chOff x="2627280" y="1484280"/>
            <a:chExt cx="2808360" cy="4465800"/>
          </a:xfrm>
        </p:grpSpPr>
        <p:sp>
          <p:nvSpPr>
            <p:cNvPr id="547" name=""/>
            <p:cNvSpPr/>
            <p:nvPr/>
          </p:nvSpPr>
          <p:spPr>
            <a:xfrm>
              <a:off x="2627280" y="17733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27280" y="270828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87640" y="364500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87640" y="465300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48000" y="551664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72000" y="1916280"/>
              <a:ext cx="86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16360" y="2276640"/>
              <a:ext cx="107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16360" y="3213000"/>
              <a:ext cx="115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3640" y="4149720"/>
              <a:ext cx="1008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76720" y="5157720"/>
              <a:ext cx="1008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2360" y="5950080"/>
              <a:ext cx="86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00720" y="1484280"/>
              <a:ext cx="0" cy="100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1341360"/>
            <a:ext cx="6400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375428413   1254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27365           5878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0177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37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799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783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163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37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4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4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2124000" y="1773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24000" y="270828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84360" y="3645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8436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43280" y="551664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00720" y="184464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40000" y="220500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340000" y="3141720"/>
            <a:ext cx="144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00360" y="407664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43280" y="508464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32000" y="6021360"/>
            <a:ext cx="1152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00720" y="141300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88 + 88 + 8 + 8 + 8 = 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вадцать четыр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легко число 24 выразить тремя восьмерками: 8 + 8 + 8. Но можете ли вы сделать то же, пользуясь не восьмерками, а другими тремя одинаковыми цифрами? Задача имеет не одно реш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258560" y="2276280"/>
            <a:ext cx="6553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ествует два реш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 + 2 =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3 =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идцат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легко число 30 выразить тремя пятерками: 5 * 5 + 5. Но можете ли вы сделать то же, пользуясь не восьмерками, а другими тремя одинаковыми цифрами? Задача имеет не одно реш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* 6 – 6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+ 3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3 – 3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агическая звез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естиконечная числовая звезда изображенная на следующем слайде, магическая: все 6 рядов чисел имеют одну и туже сум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+ 6 + 7 + 9 = 26       11 + 6 + 8 + 1 = 26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+ 8 + 12 + 2 = 26     11 + 7 + 5 + 3 =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 + 5 + 10 + 2 = 26     1 + 12 + 10 + 3 = 26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 сумма чисел, расположенных на вершинах звезды, друга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+ 11 + 9 + 3 + 2 + 1 = 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удастся ли вам усовершенствовать эту звезду, расставив числа в кружках так, чтобы и сумма чисел расположенных на вершинах звезды тоже равнялась 26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вез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013360"/>
            <a:ext cx="431640" cy="4316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916360" y="1557360"/>
            <a:ext cx="3024000" cy="3878640"/>
            <a:chOff x="2916360" y="1557360"/>
            <a:chExt cx="3024000" cy="3878640"/>
          </a:xfrm>
        </p:grpSpPr>
        <p:sp>
          <p:nvSpPr>
            <p:cNvPr id="401" name=""/>
            <p:cNvSpPr/>
            <p:nvPr/>
          </p:nvSpPr>
          <p:spPr>
            <a:xfrm>
              <a:off x="4211640" y="155736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16360" y="242100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80000" y="242100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43280" y="242100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08720" y="242100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76720" y="328464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48000" y="328464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16360" y="414972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80000" y="414972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3280" y="414972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08720" y="414972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12" name=""/>
            <p:cNvCxnSpPr>
              <a:stCxn id="403" idx="0"/>
              <a:endCxn id="401" idx="3"/>
            </p:cNvCxnSpPr>
            <p:nvPr/>
          </p:nvCxnSpPr>
          <p:spPr>
            <a:xfrm flipV="1">
              <a:off x="3995640" y="192528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3" name=""/>
            <p:cNvCxnSpPr>
              <a:stCxn id="407" idx="0"/>
              <a:endCxn id="403" idx="3"/>
            </p:cNvCxnSpPr>
            <p:nvPr/>
          </p:nvCxnSpPr>
          <p:spPr>
            <a:xfrm flipV="1">
              <a:off x="3564000" y="278892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4" name=""/>
            <p:cNvCxnSpPr>
              <a:stCxn id="408" idx="0"/>
              <a:endCxn id="407" idx="3"/>
            </p:cNvCxnSpPr>
            <p:nvPr/>
          </p:nvCxnSpPr>
          <p:spPr>
            <a:xfrm flipV="1">
              <a:off x="3132000" y="3652560"/>
              <a:ext cx="2800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5" name=""/>
            <p:cNvCxnSpPr>
              <a:stCxn id="401" idx="5"/>
              <a:endCxn id="404" idx="0"/>
            </p:cNvCxnSpPr>
            <p:nvPr/>
          </p:nvCxnSpPr>
          <p:spPr>
            <a:xfrm>
              <a:off x="4579920" y="192564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6" name=""/>
            <p:cNvCxnSpPr>
              <a:stCxn id="404" idx="5"/>
              <a:endCxn id="406" idx="0"/>
            </p:cNvCxnSpPr>
            <p:nvPr/>
          </p:nvCxnSpPr>
          <p:spPr>
            <a:xfrm>
              <a:off x="5011200" y="2789280"/>
              <a:ext cx="2818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7" name=""/>
            <p:cNvCxnSpPr>
              <a:stCxn id="406" idx="5"/>
              <a:endCxn id="411" idx="0"/>
            </p:cNvCxnSpPr>
            <p:nvPr/>
          </p:nvCxnSpPr>
          <p:spPr>
            <a:xfrm>
              <a:off x="5445000" y="3652920"/>
              <a:ext cx="2800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8" name=""/>
            <p:cNvCxnSpPr>
              <a:stCxn id="408" idx="6"/>
              <a:endCxn id="409" idx="2"/>
            </p:cNvCxnSpPr>
            <p:nvPr/>
          </p:nvCxnSpPr>
          <p:spPr>
            <a:xfrm>
              <a:off x="3348000" y="436536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9" name=""/>
            <p:cNvCxnSpPr/>
            <p:nvPr/>
          </p:nvCxnSpPr>
          <p:spPr>
            <a:xfrm>
              <a:off x="4211280" y="4365360"/>
              <a:ext cx="4323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0" name=""/>
            <p:cNvCxnSpPr/>
            <p:nvPr/>
          </p:nvCxnSpPr>
          <p:spPr>
            <a:xfrm>
              <a:off x="5076720" y="436536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1" name=""/>
            <p:cNvCxnSpPr>
              <a:stCxn id="399" idx="1"/>
              <a:endCxn id="409" idx="4"/>
            </p:cNvCxnSpPr>
            <p:nvPr/>
          </p:nvCxnSpPr>
          <p:spPr>
            <a:xfrm flipH="1" flipV="1">
              <a:off x="3995280" y="458100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2" name=""/>
            <p:cNvCxnSpPr>
              <a:stCxn id="409" idx="1"/>
              <a:endCxn id="407" idx="4"/>
            </p:cNvCxnSpPr>
            <p:nvPr/>
          </p:nvCxnSpPr>
          <p:spPr>
            <a:xfrm flipH="1" flipV="1">
              <a:off x="3563640" y="3715920"/>
              <a:ext cx="2800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3" name=""/>
            <p:cNvCxnSpPr>
              <a:stCxn id="407" idx="1"/>
              <a:endCxn id="402" idx="4"/>
            </p:cNvCxnSpPr>
            <p:nvPr/>
          </p:nvCxnSpPr>
          <p:spPr>
            <a:xfrm flipH="1" flipV="1">
              <a:off x="3131640" y="285228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4" name=""/>
            <p:cNvCxnSpPr>
              <a:stCxn id="399" idx="7"/>
              <a:endCxn id="410" idx="4"/>
            </p:cNvCxnSpPr>
            <p:nvPr/>
          </p:nvCxnSpPr>
          <p:spPr>
            <a:xfrm flipV="1">
              <a:off x="4579920" y="458100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5" name=""/>
            <p:cNvCxnSpPr>
              <a:stCxn id="410" idx="7"/>
              <a:endCxn id="406" idx="4"/>
            </p:cNvCxnSpPr>
            <p:nvPr/>
          </p:nvCxnSpPr>
          <p:spPr>
            <a:xfrm flipV="1">
              <a:off x="5011200" y="3715920"/>
              <a:ext cx="2818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6" name=""/>
            <p:cNvCxnSpPr>
              <a:stCxn id="406" idx="7"/>
              <a:endCxn id="405" idx="4"/>
            </p:cNvCxnSpPr>
            <p:nvPr/>
          </p:nvCxnSpPr>
          <p:spPr>
            <a:xfrm flipV="1">
              <a:off x="5445000" y="285228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7" name=""/>
            <p:cNvCxnSpPr/>
            <p:nvPr/>
          </p:nvCxnSpPr>
          <p:spPr>
            <a:xfrm>
              <a:off x="5076720" y="256500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8" name=""/>
            <p:cNvCxnSpPr/>
            <p:nvPr/>
          </p:nvCxnSpPr>
          <p:spPr>
            <a:xfrm>
              <a:off x="4211280" y="2565000"/>
              <a:ext cx="4323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9" name=""/>
            <p:cNvCxnSpPr/>
            <p:nvPr/>
          </p:nvCxnSpPr>
          <p:spPr>
            <a:xfrm>
              <a:off x="3348000" y="256500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30" name=""/>
            <p:cNvSpPr/>
            <p:nvPr/>
          </p:nvSpPr>
          <p:spPr>
            <a:xfrm>
              <a:off x="2968560" y="241452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75280" y="155736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25720" y="24336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95840" y="24400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65600" y="24400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70320" y="503712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33960" y="330372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53000" y="41608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68560" y="4167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68840" y="416736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26000" y="417348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94080" y="32972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916360" y="1557360"/>
            <a:ext cx="3024000" cy="3887640"/>
            <a:chOff x="2916360" y="1557360"/>
            <a:chExt cx="3024000" cy="3887640"/>
          </a:xfrm>
        </p:grpSpPr>
        <p:sp>
          <p:nvSpPr>
            <p:cNvPr id="444" name=""/>
            <p:cNvSpPr/>
            <p:nvPr/>
          </p:nvSpPr>
          <p:spPr>
            <a:xfrm>
              <a:off x="4211640" y="501336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916360" y="1557360"/>
              <a:ext cx="3024000" cy="3878640"/>
              <a:chOff x="2916360" y="1557360"/>
              <a:chExt cx="3024000" cy="3878640"/>
            </a:xfrm>
          </p:grpSpPr>
          <p:sp>
            <p:nvSpPr>
              <p:cNvPr id="446" name=""/>
              <p:cNvSpPr/>
              <p:nvPr/>
            </p:nvSpPr>
            <p:spPr>
              <a:xfrm>
                <a:off x="4211640" y="155736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916360" y="242100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80000" y="242100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43280" y="242100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08720" y="242100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76720" y="328464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48000" y="328464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16360" y="414972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80000" y="414972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43280" y="414972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08720" y="414972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457" name=""/>
              <p:cNvCxnSpPr>
                <a:stCxn id="448" idx="0"/>
                <a:endCxn id="446" idx="3"/>
              </p:cNvCxnSpPr>
              <p:nvPr/>
            </p:nvCxnSpPr>
            <p:spPr>
              <a:xfrm flipV="1">
                <a:off x="3995640" y="192528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58" name=""/>
              <p:cNvCxnSpPr>
                <a:stCxn id="452" idx="0"/>
                <a:endCxn id="448" idx="3"/>
              </p:cNvCxnSpPr>
              <p:nvPr/>
            </p:nvCxnSpPr>
            <p:spPr>
              <a:xfrm flipV="1">
                <a:off x="3564000" y="278892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59" name=""/>
              <p:cNvCxnSpPr>
                <a:stCxn id="453" idx="0"/>
                <a:endCxn id="452" idx="3"/>
              </p:cNvCxnSpPr>
              <p:nvPr/>
            </p:nvCxnSpPr>
            <p:spPr>
              <a:xfrm flipV="1">
                <a:off x="3132000" y="3652560"/>
                <a:ext cx="2800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0" name=""/>
              <p:cNvCxnSpPr>
                <a:stCxn id="446" idx="5"/>
                <a:endCxn id="449" idx="0"/>
              </p:cNvCxnSpPr>
              <p:nvPr/>
            </p:nvCxnSpPr>
            <p:spPr>
              <a:xfrm>
                <a:off x="4579920" y="192564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1" name=""/>
              <p:cNvCxnSpPr>
                <a:stCxn id="449" idx="5"/>
                <a:endCxn id="451" idx="0"/>
              </p:cNvCxnSpPr>
              <p:nvPr/>
            </p:nvCxnSpPr>
            <p:spPr>
              <a:xfrm>
                <a:off x="5011200" y="2789280"/>
                <a:ext cx="2818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2" name=""/>
              <p:cNvCxnSpPr>
                <a:stCxn id="451" idx="5"/>
                <a:endCxn id="456" idx="0"/>
              </p:cNvCxnSpPr>
              <p:nvPr/>
            </p:nvCxnSpPr>
            <p:spPr>
              <a:xfrm>
                <a:off x="5445000" y="3652920"/>
                <a:ext cx="2800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3" name=""/>
              <p:cNvCxnSpPr>
                <a:stCxn id="453" idx="6"/>
                <a:endCxn id="454" idx="2"/>
              </p:cNvCxnSpPr>
              <p:nvPr/>
            </p:nvCxnSpPr>
            <p:spPr>
              <a:xfrm>
                <a:off x="3348000" y="436536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4" name=""/>
              <p:cNvCxnSpPr/>
              <p:nvPr/>
            </p:nvCxnSpPr>
            <p:spPr>
              <a:xfrm>
                <a:off x="4211280" y="4365360"/>
                <a:ext cx="4323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5" name=""/>
              <p:cNvCxnSpPr/>
              <p:nvPr/>
            </p:nvCxnSpPr>
            <p:spPr>
              <a:xfrm>
                <a:off x="5076720" y="436536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6" name=""/>
              <p:cNvCxnSpPr>
                <a:endCxn id="454" idx="4"/>
              </p:cNvCxnSpPr>
              <p:nvPr/>
            </p:nvCxnSpPr>
            <p:spPr>
              <a:xfrm flipH="1" flipV="1">
                <a:off x="3995280" y="458100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7" name=""/>
              <p:cNvCxnSpPr>
                <a:stCxn id="454" idx="1"/>
                <a:endCxn id="452" idx="4"/>
              </p:cNvCxnSpPr>
              <p:nvPr/>
            </p:nvCxnSpPr>
            <p:spPr>
              <a:xfrm flipH="1" flipV="1">
                <a:off x="3563640" y="3715920"/>
                <a:ext cx="2800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8" name=""/>
              <p:cNvCxnSpPr>
                <a:stCxn id="452" idx="1"/>
                <a:endCxn id="447" idx="4"/>
              </p:cNvCxnSpPr>
              <p:nvPr/>
            </p:nvCxnSpPr>
            <p:spPr>
              <a:xfrm flipH="1" flipV="1">
                <a:off x="3131640" y="285228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9" name=""/>
              <p:cNvCxnSpPr>
                <a:endCxn id="455" idx="4"/>
              </p:cNvCxnSpPr>
              <p:nvPr/>
            </p:nvCxnSpPr>
            <p:spPr>
              <a:xfrm flipV="1">
                <a:off x="4579920" y="458100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0" name=""/>
              <p:cNvCxnSpPr>
                <a:stCxn id="455" idx="7"/>
                <a:endCxn id="451" idx="4"/>
              </p:cNvCxnSpPr>
              <p:nvPr/>
            </p:nvCxnSpPr>
            <p:spPr>
              <a:xfrm flipV="1">
                <a:off x="5011200" y="3715920"/>
                <a:ext cx="2818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1" name=""/>
              <p:cNvCxnSpPr>
                <a:stCxn id="451" idx="7"/>
                <a:endCxn id="450" idx="4"/>
              </p:cNvCxnSpPr>
              <p:nvPr/>
            </p:nvCxnSpPr>
            <p:spPr>
              <a:xfrm flipV="1">
                <a:off x="5445000" y="285228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2" name=""/>
              <p:cNvCxnSpPr/>
              <p:nvPr/>
            </p:nvCxnSpPr>
            <p:spPr>
              <a:xfrm>
                <a:off x="5076720" y="256500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3" name=""/>
              <p:cNvCxnSpPr/>
              <p:nvPr/>
            </p:nvCxnSpPr>
            <p:spPr>
              <a:xfrm>
                <a:off x="4211280" y="2565000"/>
                <a:ext cx="4323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4" name=""/>
              <p:cNvCxnSpPr/>
              <p:nvPr/>
            </p:nvCxnSpPr>
            <p:spPr>
              <a:xfrm>
                <a:off x="3348000" y="256500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475" name=""/>
              <p:cNvSpPr/>
              <p:nvPr/>
            </p:nvSpPr>
            <p:spPr>
              <a:xfrm>
                <a:off x="2968560" y="24145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75280" y="155736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25720" y="24336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95840" y="24400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565600" y="24400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70320" y="50371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133960" y="33037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53000" y="41608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68560" y="4167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68840" y="416736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626000" y="4173480"/>
                <a:ext cx="466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394080" y="32972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0:37:48Z</dcterms:created>
  <dc:creator>Дмитрий</dc:creator>
  <dc:description/>
  <dc:language>en-US</dc:language>
  <cp:lastModifiedBy>Дима</cp:lastModifiedBy>
  <dcterms:modified xsi:type="dcterms:W3CDTF">2007-01-25T14:45:15Z</dcterms:modified>
  <cp:revision>2</cp:revision>
  <dc:subject/>
  <dc:title>паг</dc:title>
</cp:coreProperties>
</file>