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884-55EC-40F1-8A85-1484224D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A51-F006-4679-B114-C5DB8A8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89B-3C0A-4613-BA73-B185F579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672-F109-4097-A0CB-01651955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207-CA49-4916-A777-C3618D1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01D-0432-4367-9F60-50DCF62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020-F2B6-452A-BF38-514C0274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F6B-1162-4E46-9FC0-9CB8221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2A5-5C46-48C5-86EC-03FFA474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DDE-83F3-44F2-9FCF-54324E8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A1E-1637-4B38-A5D5-8606FD69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411-D570-4959-913A-912A841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2088-53A4-483D-9A87-D8CDE8CB3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14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214280" y="2928960"/>
            <a:ext cx="68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рганизация маркетинга в в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142920" y="1265040"/>
            <a:ext cx="1791360" cy="1691280"/>
            <a:chOff x="142920" y="1265040"/>
            <a:chExt cx="1791360" cy="1691280"/>
          </a:xfrm>
        </p:grpSpPr>
        <p:sp>
          <p:nvSpPr>
            <p:cNvPr id="46" name="Oval 17"/>
            <p:cNvSpPr/>
            <p:nvPr/>
          </p:nvSpPr>
          <p:spPr>
            <a:xfrm rot="20876400">
              <a:off x="641160" y="2279880"/>
              <a:ext cx="1248840" cy="5518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24"/>
            <p:cNvGrpSpPr/>
            <p:nvPr/>
          </p:nvGrpSpPr>
          <p:grpSpPr>
            <a:xfrm>
              <a:off x="142920" y="1265040"/>
              <a:ext cx="1418400" cy="1592280"/>
              <a:chOff x="142920" y="1265040"/>
              <a:chExt cx="1418400" cy="1592280"/>
            </a:xfrm>
          </p:grpSpPr>
          <p:sp>
            <p:nvSpPr>
              <p:cNvPr id="48" name="Oval 18"/>
              <p:cNvSpPr/>
              <p:nvPr/>
            </p:nvSpPr>
            <p:spPr>
              <a:xfrm rot="10800000">
                <a:off x="142920" y="1265040"/>
                <a:ext cx="1418400" cy="1592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23"/>
              <p:cNvGrpSpPr/>
              <p:nvPr/>
            </p:nvGrpSpPr>
            <p:grpSpPr>
              <a:xfrm>
                <a:off x="159120" y="1296360"/>
                <a:ext cx="1384920" cy="1551960"/>
                <a:chOff x="159120" y="1296360"/>
                <a:chExt cx="1384920" cy="1551960"/>
              </a:xfrm>
            </p:grpSpPr>
            <p:sp>
              <p:nvSpPr>
                <p:cNvPr id="50" name="Oval 19"/>
                <p:cNvSpPr/>
                <p:nvPr/>
              </p:nvSpPr>
              <p:spPr>
                <a:xfrm rot="10800000">
                  <a:off x="159120" y="1296360"/>
                  <a:ext cx="1384920" cy="15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Oval 20"/>
                <p:cNvSpPr/>
                <p:nvPr/>
              </p:nvSpPr>
              <p:spPr>
                <a:xfrm rot="10800000">
                  <a:off x="212400" y="1382400"/>
                  <a:ext cx="1317600" cy="145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Oval 21"/>
              <p:cNvSpPr/>
              <p:nvPr/>
            </p:nvSpPr>
            <p:spPr>
              <a:xfrm rot="10800000">
                <a:off x="280440" y="1615320"/>
                <a:ext cx="1172520" cy="117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3" name="Object 2"/>
          <p:cNvGraphicFramePr/>
          <p:nvPr/>
        </p:nvGraphicFramePr>
        <p:xfrm>
          <a:off x="358920" y="1500120"/>
          <a:ext cx="960120" cy="11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920" y="1500120"/>
                    <a:ext cx="9601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5"/>
          <p:cNvSpPr/>
          <p:nvPr/>
        </p:nvSpPr>
        <p:spPr>
          <a:xfrm>
            <a:off x="1571760" y="2214720"/>
            <a:ext cx="71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АНКТ-ПЕТЕРБУРГСКИЙ ГОСУДАРСТВЕННЫЙ ЭЛЕКТРОТЕХНИЧЕСКИЙ УНИВЕРСИТЕТ «ЛЭТ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28800" y="557208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8329320" y="642924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6"/>
          <p:cNvSpPr/>
          <p:nvPr/>
        </p:nvSpPr>
        <p:spPr>
          <a:xfrm>
            <a:off x="7715160" y="6454800"/>
            <a:ext cx="1271520" cy="29520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7757280" y="662616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142920" y="64785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eltech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ужба маркетинга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642960" y="1143000"/>
            <a:ext cx="7786800" cy="1123920"/>
            <a:chOff x="642960" y="1143000"/>
            <a:chExt cx="7786800" cy="1123920"/>
          </a:xfrm>
        </p:grpSpPr>
        <p:sp>
          <p:nvSpPr>
            <p:cNvPr id="322" name="AutoShape 8"/>
            <p:cNvSpPr/>
            <p:nvPr/>
          </p:nvSpPr>
          <p:spPr>
            <a:xfrm>
              <a:off x="642960" y="1143000"/>
              <a:ext cx="77868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785880" y="1229040"/>
              <a:ext cx="220824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5744520" y="1229040"/>
              <a:ext cx="254196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2810160" y="1467360"/>
              <a:ext cx="2783880" cy="7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оставление услуг по организации маркетинговой деятельности в интегрированном сегмен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4"/>
            <p:cNvSpPr/>
            <p:nvPr/>
          </p:nvSpPr>
          <p:spPr>
            <a:xfrm>
              <a:off x="3022560" y="1247400"/>
              <a:ext cx="2484360" cy="237960"/>
            </a:xfrm>
            <a:prstGeom prst="rightArrow">
              <a:avLst>
                <a:gd name="adj1" fmla="val 50000"/>
                <a:gd name="adj2" fmla="val 261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500040" y="2571840"/>
            <a:ext cx="8358120" cy="3571920"/>
            <a:chOff x="500040" y="2571840"/>
            <a:chExt cx="8358120" cy="3571920"/>
          </a:xfrm>
        </p:grpSpPr>
        <p:sp>
          <p:nvSpPr>
            <p:cNvPr id="329" name="AutoShape 22"/>
            <p:cNvSpPr/>
            <p:nvPr/>
          </p:nvSpPr>
          <p:spPr>
            <a:xfrm>
              <a:off x="500040" y="2571840"/>
              <a:ext cx="835812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21"/>
            <p:cNvCxnSpPr/>
            <p:nvPr/>
          </p:nvCxnSpPr>
          <p:spPr>
            <a:xfrm flipH="1">
              <a:off x="4285800" y="2749320"/>
              <a:ext cx="24480" cy="339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1" name="Text Box 20"/>
            <p:cNvSpPr/>
            <p:nvPr/>
          </p:nvSpPr>
          <p:spPr>
            <a:xfrm>
              <a:off x="1143000" y="2642760"/>
              <a:ext cx="254700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347080" y="2785680"/>
              <a:ext cx="272844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8"/>
            <p:cNvSpPr/>
            <p:nvPr/>
          </p:nvSpPr>
          <p:spPr>
            <a:xfrm>
              <a:off x="606240" y="3087360"/>
              <a:ext cx="3122280" cy="69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 на рынках труда, образовательных услуг, научно-технической продукции и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3500280" y="4214520"/>
              <a:ext cx="3123360" cy="58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3500280" y="5357520"/>
              <a:ext cx="31244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 на ры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AutoShape 15"/>
            <p:cNvCxnSpPr>
              <a:stCxn id="333" idx="2"/>
              <a:endCxn id="334" idx="0"/>
            </p:cNvCxnSpPr>
            <p:nvPr/>
          </p:nvCxnSpPr>
          <p:spPr>
            <a:xfrm>
              <a:off x="2167920" y="3785760"/>
              <a:ext cx="2895120" cy="42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14"/>
            <p:cNvCxnSpPr>
              <a:stCxn id="334" idx="2"/>
              <a:endCxn id="335" idx="0"/>
            </p:cNvCxnSpPr>
            <p:nvPr/>
          </p:nvCxnSpPr>
          <p:spPr>
            <a:xfrm>
              <a:off x="5061960" y="4796640"/>
              <a:ext cx="1440" cy="56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7"/>
          <p:cNvSpPr/>
          <p:nvPr/>
        </p:nvSpPr>
        <p:spPr>
          <a:xfrm>
            <a:off x="571680" y="1428840"/>
            <a:ext cx="80010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основа маркетинговых исследований в ву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зработанная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и задачи маркетинговых исследований в ву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планирования и проведения маркетингового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анализа первичной информации, полученной в маркетинговом исследовании, с использованием MS Excel и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процесса предоставления услуг службой маркетинга в проведении маркетинговых исследований для подразделений СПбГЭ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составления отчетных материалов по маркетинговому исслед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928800" y="135720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проведения маркетинговых исследо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(личное, телефонн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ы по электронной поч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инные экспертные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вторичных источников информации (СМИ, Интернет, специализированные источники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5"/>
          <p:cNvSpPr/>
          <p:nvPr/>
        </p:nvSpPr>
        <p:spPr>
          <a:xfrm>
            <a:off x="1785960" y="1714680"/>
            <a:ext cx="5357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анкт-Петербургский государственный электротехнический университет «ЛЭ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лужба марке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(812) 234-29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marketing_office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214200" y="1142640"/>
            <a:ext cx="8929800" cy="5102640"/>
            <a:chOff x="214200" y="1142640"/>
            <a:chExt cx="8929800" cy="5102640"/>
          </a:xfrm>
        </p:grpSpPr>
        <p:sp>
          <p:nvSpPr>
            <p:cNvPr id="72" name="AutoShape 33"/>
            <p:cNvSpPr/>
            <p:nvPr/>
          </p:nvSpPr>
          <p:spPr>
            <a:xfrm>
              <a:off x="762840" y="1572120"/>
              <a:ext cx="8381160" cy="46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2"/>
            <p:cNvSpPr/>
            <p:nvPr/>
          </p:nvSpPr>
          <p:spPr>
            <a:xfrm>
              <a:off x="3071880" y="3714480"/>
              <a:ext cx="1857240" cy="47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учно-техническ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1"/>
            <p:cNvSpPr/>
            <p:nvPr/>
          </p:nvSpPr>
          <p:spPr>
            <a:xfrm>
              <a:off x="285480" y="1143000"/>
              <a:ext cx="17438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214200" y="1642680"/>
              <a:ext cx="1851120" cy="3949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5572080" y="1143000"/>
              <a:ext cx="33656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8"/>
            <p:cNvSpPr/>
            <p:nvPr/>
          </p:nvSpPr>
          <p:spPr>
            <a:xfrm>
              <a:off x="5429160" y="1714320"/>
              <a:ext cx="3565440" cy="396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е 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3143520" y="2571840"/>
              <a:ext cx="171432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2714040" y="3195360"/>
              <a:ext cx="2570400" cy="39708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5874840" y="5253840"/>
              <a:ext cx="27691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 научно-технической продукции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2142720" y="5141520"/>
              <a:ext cx="3748320" cy="6346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зультаты научно-техническ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AutoShape 23"/>
            <p:cNvCxnSpPr/>
            <p:nvPr/>
          </p:nvCxnSpPr>
          <p:spPr>
            <a:xfrm flipH="1" flipV="1">
              <a:off x="356040" y="3427560"/>
              <a:ext cx="2351880" cy="90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3" name="AutoShape 22"/>
            <p:cNvCxnSpPr/>
            <p:nvPr/>
          </p:nvCxnSpPr>
          <p:spPr>
            <a:xfrm flipH="1">
              <a:off x="5321520" y="3427200"/>
              <a:ext cx="3321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4" name="AutoShape 21"/>
            <p:cNvCxnSpPr>
              <a:stCxn id="85" idx="0"/>
            </p:cNvCxnSpPr>
            <p:nvPr/>
          </p:nvCxnSpPr>
          <p:spPr>
            <a:xfrm flipV="1">
              <a:off x="3999240" y="1142640"/>
              <a:ext cx="1080" cy="1072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6" name="AutoShape 20"/>
            <p:cNvCxnSpPr/>
            <p:nvPr/>
          </p:nvCxnSpPr>
          <p:spPr>
            <a:xfrm flipV="1">
              <a:off x="5214960" y="2142360"/>
              <a:ext cx="2214720" cy="786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9"/>
            <p:cNvCxnSpPr/>
            <p:nvPr/>
          </p:nvCxnSpPr>
          <p:spPr>
            <a:xfrm flipH="1" flipV="1">
              <a:off x="1139040" y="2038680"/>
              <a:ext cx="1646640" cy="88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AutoShape 18"/>
            <p:cNvCxnSpPr>
              <a:stCxn id="85" idx="4"/>
            </p:cNvCxnSpPr>
            <p:nvPr/>
          </p:nvCxnSpPr>
          <p:spPr>
            <a:xfrm>
              <a:off x="4000320" y="4570560"/>
              <a:ext cx="165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уз как субъект рыноч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8"/>
          <p:cNvSpPr/>
          <p:nvPr/>
        </p:nvSpPr>
        <p:spPr>
          <a:xfrm>
            <a:off x="2714760" y="2214720"/>
            <a:ext cx="2571480" cy="235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образовательн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142920" y="985680"/>
            <a:ext cx="8786520" cy="5142240"/>
            <a:chOff x="142920" y="985680"/>
            <a:chExt cx="8786520" cy="5142240"/>
          </a:xfrm>
        </p:grpSpPr>
        <p:sp>
          <p:nvSpPr>
            <p:cNvPr id="102" name="AutoShape 33"/>
            <p:cNvSpPr/>
            <p:nvPr/>
          </p:nvSpPr>
          <p:spPr>
            <a:xfrm>
              <a:off x="214560" y="985680"/>
              <a:ext cx="8572320" cy="51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4"/>
            <p:cNvSpPr/>
            <p:nvPr/>
          </p:nvSpPr>
          <p:spPr>
            <a:xfrm>
              <a:off x="142920" y="3242880"/>
              <a:ext cx="12855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5"/>
            <p:cNvSpPr/>
            <p:nvPr/>
          </p:nvSpPr>
          <p:spPr>
            <a:xfrm>
              <a:off x="1771200" y="3242880"/>
              <a:ext cx="1199880" cy="39852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AutoShape 36"/>
            <p:cNvCxnSpPr>
              <a:stCxn id="104" idx="1"/>
              <a:endCxn id="103" idx="3"/>
            </p:cNvCxnSpPr>
            <p:nvPr/>
          </p:nvCxnSpPr>
          <p:spPr>
            <a:xfrm flipH="1" flipV="1">
              <a:off x="1427760" y="3441600"/>
              <a:ext cx="3438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" name="Text Box 37"/>
            <p:cNvSpPr/>
            <p:nvPr/>
          </p:nvSpPr>
          <p:spPr>
            <a:xfrm>
              <a:off x="5158080" y="270000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3276720" y="3143520"/>
              <a:ext cx="145440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41"/>
            <p:cNvCxnSpPr/>
            <p:nvPr/>
          </p:nvCxnSpPr>
          <p:spPr>
            <a:xfrm>
              <a:off x="1570320" y="1142640"/>
              <a:ext cx="72360" cy="4287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9" name="AutoShape 42"/>
            <p:cNvCxnSpPr>
              <a:stCxn id="106" idx="3"/>
              <a:endCxn id="110" idx="1"/>
            </p:cNvCxnSpPr>
            <p:nvPr/>
          </p:nvCxnSpPr>
          <p:spPr>
            <a:xfrm flipH="1">
              <a:off x="7213320" y="1072440"/>
              <a:ext cx="2160" cy="4286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1" name="AutoShape 43"/>
            <p:cNvCxnSpPr>
              <a:stCxn id="107" idx="1"/>
              <a:endCxn id="104" idx="3"/>
            </p:cNvCxnSpPr>
            <p:nvPr/>
          </p:nvCxnSpPr>
          <p:spPr>
            <a:xfrm flipH="1">
              <a:off x="2971080" y="3427920"/>
              <a:ext cx="306000" cy="1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44"/>
            <p:cNvCxnSpPr>
              <a:stCxn id="107" idx="3"/>
              <a:endCxn id="106" idx="1"/>
            </p:cNvCxnSpPr>
            <p:nvPr/>
          </p:nvCxnSpPr>
          <p:spPr>
            <a:xfrm flipV="1">
              <a:off x="4731480" y="3042720"/>
              <a:ext cx="42696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Text Box 45"/>
            <p:cNvSpPr/>
            <p:nvPr/>
          </p:nvSpPr>
          <p:spPr>
            <a:xfrm>
              <a:off x="287280" y="112968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6"/>
            <p:cNvSpPr/>
            <p:nvPr/>
          </p:nvSpPr>
          <p:spPr>
            <a:xfrm>
              <a:off x="7471800" y="115812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7"/>
            <p:cNvSpPr/>
            <p:nvPr/>
          </p:nvSpPr>
          <p:spPr>
            <a:xfrm>
              <a:off x="1771920" y="1129680"/>
              <a:ext cx="122796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Товар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8"/>
            <p:cNvSpPr/>
            <p:nvPr/>
          </p:nvSpPr>
          <p:spPr>
            <a:xfrm>
              <a:off x="5527440" y="1142280"/>
              <a:ext cx="12276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9"/>
            <p:cNvSpPr/>
            <p:nvPr/>
          </p:nvSpPr>
          <p:spPr>
            <a:xfrm>
              <a:off x="1149120" y="5499360"/>
              <a:ext cx="122796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5875200" y="5513760"/>
              <a:ext cx="2696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1"/>
            <p:cNvSpPr/>
            <p:nvPr/>
          </p:nvSpPr>
          <p:spPr>
            <a:xfrm>
              <a:off x="7500960" y="27856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уд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2"/>
            <p:cNvSpPr/>
            <p:nvPr/>
          </p:nvSpPr>
          <p:spPr>
            <a:xfrm>
              <a:off x="5158080" y="190008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3"/>
            <p:cNvSpPr/>
            <p:nvPr/>
          </p:nvSpPr>
          <p:spPr>
            <a:xfrm>
              <a:off x="5158080" y="350028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ле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54"/>
            <p:cNvCxnSpPr>
              <a:stCxn id="106" idx="3"/>
              <a:endCxn id="110" idx="1"/>
            </p:cNvCxnSpPr>
            <p:nvPr/>
          </p:nvCxnSpPr>
          <p:spPr>
            <a:xfrm flipV="1">
              <a:off x="4731480" y="2242080"/>
              <a:ext cx="426960" cy="11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55"/>
            <p:cNvCxnSpPr>
              <a:stCxn id="106" idx="3"/>
              <a:endCxn id="110" idx="1"/>
            </p:cNvCxnSpPr>
            <p:nvPr/>
          </p:nvCxnSpPr>
          <p:spPr>
            <a:xfrm flipV="1">
              <a:off x="6917040" y="2213640"/>
              <a:ext cx="58464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56"/>
            <p:cNvSpPr/>
            <p:nvPr/>
          </p:nvSpPr>
          <p:spPr>
            <a:xfrm>
              <a:off x="7489080" y="3500280"/>
              <a:ext cx="1226880" cy="5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пиранты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ктора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57"/>
            <p:cNvCxnSpPr>
              <a:stCxn id="120" idx="3"/>
              <a:endCxn id="123" idx="1"/>
            </p:cNvCxnSpPr>
            <p:nvPr/>
          </p:nvCxnSpPr>
          <p:spPr>
            <a:xfrm flipV="1">
              <a:off x="6917040" y="3778560"/>
              <a:ext cx="572400" cy="6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58"/>
            <p:cNvCxnSpPr>
              <a:stCxn id="107" idx="3"/>
              <a:endCxn id="120" idx="1"/>
            </p:cNvCxnSpPr>
            <p:nvPr/>
          </p:nvCxnSpPr>
          <p:spPr>
            <a:xfrm>
              <a:off x="4731480" y="3429000"/>
              <a:ext cx="426960" cy="41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Text Box 59"/>
            <p:cNvSpPr/>
            <p:nvPr/>
          </p:nvSpPr>
          <p:spPr>
            <a:xfrm>
              <a:off x="5158080" y="430020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полнитель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0"/>
            <p:cNvSpPr/>
            <p:nvPr/>
          </p:nvSpPr>
          <p:spPr>
            <a:xfrm>
              <a:off x="7482960" y="4071960"/>
              <a:ext cx="1375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61"/>
            <p:cNvCxnSpPr>
              <a:stCxn id="106" idx="3"/>
              <a:endCxn id="110" idx="1"/>
            </p:cNvCxnSpPr>
            <p:nvPr/>
          </p:nvCxnSpPr>
          <p:spPr>
            <a:xfrm flipV="1">
              <a:off x="6917040" y="3000600"/>
              <a:ext cx="584640" cy="4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Text Box 63"/>
            <p:cNvSpPr/>
            <p:nvPr/>
          </p:nvSpPr>
          <p:spPr>
            <a:xfrm>
              <a:off x="7500960" y="2000160"/>
              <a:ext cx="1428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битури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4"/>
            <p:cNvSpPr/>
            <p:nvPr/>
          </p:nvSpPr>
          <p:spPr>
            <a:xfrm>
              <a:off x="7482960" y="46432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уш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AutoShape 65"/>
            <p:cNvCxnSpPr>
              <a:stCxn id="106" idx="3"/>
              <a:endCxn id="127" idx="1"/>
            </p:cNvCxnSpPr>
            <p:nvPr/>
          </p:nvCxnSpPr>
          <p:spPr>
            <a:xfrm>
              <a:off x="6916680" y="3042720"/>
              <a:ext cx="566280" cy="12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66"/>
            <p:cNvCxnSpPr>
              <a:stCxn id="120" idx="3"/>
              <a:endCxn id="127" idx="1"/>
            </p:cNvCxnSpPr>
            <p:nvPr/>
          </p:nvCxnSpPr>
          <p:spPr>
            <a:xfrm>
              <a:off x="6916680" y="3842640"/>
              <a:ext cx="566280" cy="44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67"/>
            <p:cNvCxnSpPr>
              <a:stCxn id="126" idx="3"/>
              <a:endCxn id="110" idx="1"/>
            </p:cNvCxnSpPr>
            <p:nvPr/>
          </p:nvCxnSpPr>
          <p:spPr>
            <a:xfrm flipV="1">
              <a:off x="6917040" y="2999880"/>
              <a:ext cx="584640" cy="164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69"/>
            <p:cNvCxnSpPr>
              <a:stCxn id="126" idx="3"/>
              <a:endCxn id="127" idx="1"/>
            </p:cNvCxnSpPr>
            <p:nvPr/>
          </p:nvCxnSpPr>
          <p:spPr>
            <a:xfrm flipV="1">
              <a:off x="6916680" y="4285800"/>
              <a:ext cx="56628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70"/>
            <p:cNvCxnSpPr>
              <a:stCxn id="126" idx="3"/>
              <a:endCxn id="130" idx="1"/>
            </p:cNvCxnSpPr>
            <p:nvPr/>
          </p:nvCxnSpPr>
          <p:spPr>
            <a:xfrm>
              <a:off x="6916680" y="4643280"/>
              <a:ext cx="5662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71"/>
            <p:cNvCxnSpPr>
              <a:stCxn id="126" idx="3"/>
              <a:endCxn id="123" idx="1"/>
            </p:cNvCxnSpPr>
            <p:nvPr/>
          </p:nvCxnSpPr>
          <p:spPr>
            <a:xfrm flipV="1">
              <a:off x="6917040" y="3778560"/>
              <a:ext cx="572400" cy="86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AutoShape 58"/>
            <p:cNvCxnSpPr>
              <a:stCxn id="107" idx="3"/>
            </p:cNvCxnSpPr>
            <p:nvPr/>
          </p:nvCxnSpPr>
          <p:spPr>
            <a:xfrm>
              <a:off x="4731480" y="3428640"/>
              <a:ext cx="413280" cy="107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научно-техническ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71680" y="928800"/>
            <a:ext cx="8143560" cy="5311800"/>
            <a:chOff x="571680" y="928800"/>
            <a:chExt cx="8143560" cy="5311800"/>
          </a:xfrm>
        </p:grpSpPr>
        <p:sp>
          <p:nvSpPr>
            <p:cNvPr id="150" name="AutoShape 4"/>
            <p:cNvSpPr/>
            <p:nvPr/>
          </p:nvSpPr>
          <p:spPr>
            <a:xfrm>
              <a:off x="571680" y="928800"/>
              <a:ext cx="8143560" cy="53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357360" y="26434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ая прод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072480" y="3000240"/>
              <a:ext cx="17578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AutoShape 7"/>
            <p:cNvCxnSpPr>
              <a:stCxn id="151" idx="3"/>
              <a:endCxn id="152" idx="1"/>
            </p:cNvCxnSpPr>
            <p:nvPr/>
          </p:nvCxnSpPr>
          <p:spPr>
            <a:xfrm>
              <a:off x="5028120" y="2985840"/>
              <a:ext cx="1043640" cy="1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571680" y="2928960"/>
              <a:ext cx="148104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AutoShape 9"/>
            <p:cNvCxnSpPr/>
            <p:nvPr/>
          </p:nvCxnSpPr>
          <p:spPr>
            <a:xfrm>
              <a:off x="5543640" y="1279440"/>
              <a:ext cx="28440" cy="3863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56" name="AutoShape 10"/>
            <p:cNvCxnSpPr>
              <a:stCxn id="154" idx="3"/>
              <a:endCxn id="151" idx="1"/>
            </p:cNvCxnSpPr>
            <p:nvPr/>
          </p:nvCxnSpPr>
          <p:spPr>
            <a:xfrm flipV="1">
              <a:off x="2051640" y="2985480"/>
              <a:ext cx="13057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Text Box 11"/>
            <p:cNvSpPr/>
            <p:nvPr/>
          </p:nvSpPr>
          <p:spPr>
            <a:xfrm>
              <a:off x="6310080" y="1280520"/>
              <a:ext cx="1166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3498840" y="1214280"/>
              <a:ext cx="116604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071600" y="5299200"/>
              <a:ext cx="3082320" cy="41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Рынок научно-технической продукции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3333600" y="18226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ИОК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3333600" y="342252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ий консалтин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AutoShape 16"/>
            <p:cNvCxnSpPr>
              <a:stCxn id="154" idx="3"/>
              <a:endCxn id="160" idx="1"/>
            </p:cNvCxnSpPr>
            <p:nvPr/>
          </p:nvCxnSpPr>
          <p:spPr>
            <a:xfrm flipV="1">
              <a:off x="2051640" y="2165400"/>
              <a:ext cx="1281600" cy="104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AutoShape 17"/>
            <p:cNvCxnSpPr>
              <a:stCxn id="154" idx="3"/>
              <a:endCxn id="161" idx="1"/>
            </p:cNvCxnSpPr>
            <p:nvPr/>
          </p:nvCxnSpPr>
          <p:spPr>
            <a:xfrm>
              <a:off x="2051640" y="3214800"/>
              <a:ext cx="1281600" cy="55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18"/>
            <p:cNvSpPr/>
            <p:nvPr/>
          </p:nvSpPr>
          <p:spPr>
            <a:xfrm>
              <a:off x="3333600" y="422316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бъекты интеллектуальной собстве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AutoShape 19"/>
            <p:cNvCxnSpPr>
              <a:stCxn id="160" idx="3"/>
              <a:endCxn id="152" idx="1"/>
            </p:cNvCxnSpPr>
            <p:nvPr/>
          </p:nvCxnSpPr>
          <p:spPr>
            <a:xfrm>
              <a:off x="5004720" y="2165760"/>
              <a:ext cx="1068120" cy="9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AutoShape 20"/>
            <p:cNvCxnSpPr>
              <a:stCxn id="161" idx="3"/>
              <a:endCxn id="152" idx="1"/>
            </p:cNvCxnSpPr>
            <p:nvPr/>
          </p:nvCxnSpPr>
          <p:spPr>
            <a:xfrm flipV="1">
              <a:off x="5004720" y="3142800"/>
              <a:ext cx="1068120" cy="62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AutoShape 21"/>
            <p:cNvCxnSpPr>
              <a:stCxn id="164" idx="3"/>
              <a:endCxn id="152" idx="1"/>
            </p:cNvCxnSpPr>
            <p:nvPr/>
          </p:nvCxnSpPr>
          <p:spPr>
            <a:xfrm flipV="1">
              <a:off x="5004720" y="3142800"/>
              <a:ext cx="1068120" cy="142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AutoShape 17"/>
            <p:cNvCxnSpPr>
              <a:stCxn id="154" idx="3"/>
              <a:endCxn id="164" idx="1"/>
            </p:cNvCxnSpPr>
            <p:nvPr/>
          </p:nvCxnSpPr>
          <p:spPr>
            <a:xfrm>
              <a:off x="2051640" y="3214800"/>
              <a:ext cx="1281600" cy="135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цепция маркетинга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428760" y="1076400"/>
            <a:ext cx="8501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узе – это деятельность, направленная на достижение целей вуза на профильных рынках образовательных услуг, научно-технической продукции и услуг, а также на рынк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428760" y="2928960"/>
            <a:ext cx="83581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маркетинга в деятельности ву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рыночной ориентации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ет формированию стратегии развития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поддержке имиджа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оценивать положение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креплению позиций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довлетворению потребностей всех целевых групп потребителей в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Freeform 4"/>
          <p:cNvSpPr/>
          <p:nvPr/>
        </p:nvSpPr>
        <p:spPr>
          <a:xfrm>
            <a:off x="1028880" y="233352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 rot="10800000">
            <a:off x="6095520" y="13824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214280" y="1525680"/>
            <a:ext cx="66294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пособности вуза к эффективному развитию в условиях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1047600" y="453852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 rot="10800000">
            <a:off x="6114600" y="351648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27240" y="3705120"/>
            <a:ext cx="662940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целостной системы, обеспечивающей рыночную ориентацию вуза и каждого его 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ли организации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357120" y="785880"/>
            <a:ext cx="8786880" cy="5357880"/>
            <a:chOff x="357120" y="785880"/>
            <a:chExt cx="8786880" cy="5357880"/>
          </a:xfrm>
        </p:grpSpPr>
        <p:sp>
          <p:nvSpPr>
            <p:cNvPr id="212" name="AutoShape 54"/>
            <p:cNvSpPr/>
            <p:nvPr/>
          </p:nvSpPr>
          <p:spPr>
            <a:xfrm>
              <a:off x="357120" y="7858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3"/>
            <p:cNvSpPr/>
            <p:nvPr/>
          </p:nvSpPr>
          <p:spPr>
            <a:xfrm>
              <a:off x="357120" y="1428480"/>
              <a:ext cx="2357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2"/>
            <p:cNvSpPr/>
            <p:nvPr/>
          </p:nvSpPr>
          <p:spPr>
            <a:xfrm>
              <a:off x="3496680" y="957600"/>
              <a:ext cx="4119480" cy="37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сегменты рынка и их характеристики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1"/>
            <p:cNvSpPr/>
            <p:nvPr/>
          </p:nvSpPr>
          <p:spPr>
            <a:xfrm>
              <a:off x="3496680" y="130464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есть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0"/>
            <p:cNvSpPr/>
            <p:nvPr/>
          </p:nvSpPr>
          <p:spPr>
            <a:xfrm>
              <a:off x="3496680" y="1585800"/>
              <a:ext cx="3905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ности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9"/>
            <p:cNvSpPr/>
            <p:nvPr/>
          </p:nvSpPr>
          <p:spPr>
            <a:xfrm>
              <a:off x="3496680" y="193248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мы предоставляем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8"/>
            <p:cNvSpPr/>
            <p:nvPr/>
          </p:nvSpPr>
          <p:spPr>
            <a:xfrm>
              <a:off x="3496680" y="2279880"/>
              <a:ext cx="3905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о наше положение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7"/>
            <p:cNvSpPr/>
            <p:nvPr/>
          </p:nvSpPr>
          <p:spPr>
            <a:xfrm>
              <a:off x="428400" y="3000600"/>
              <a:ext cx="220068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6"/>
            <p:cNvSpPr/>
            <p:nvPr/>
          </p:nvSpPr>
          <p:spPr>
            <a:xfrm>
              <a:off x="3452040" y="3022200"/>
              <a:ext cx="5406120" cy="2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ответствуют ли товары/услуги вуза требованиям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5"/>
            <p:cNvSpPr/>
            <p:nvPr/>
          </p:nvSpPr>
          <p:spPr>
            <a:xfrm>
              <a:off x="3463200" y="3371040"/>
              <a:ext cx="5037480" cy="27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ительские свойства товаров/услуг вуз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4"/>
            <p:cNvSpPr/>
            <p:nvPr/>
          </p:nvSpPr>
          <p:spPr>
            <a:xfrm>
              <a:off x="3452040" y="3753720"/>
              <a:ext cx="43984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озицион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3"/>
            <p:cNvSpPr/>
            <p:nvPr/>
          </p:nvSpPr>
          <p:spPr>
            <a:xfrm>
              <a:off x="556920" y="5040000"/>
              <a:ext cx="2229120" cy="6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3488400" y="4556880"/>
              <a:ext cx="551196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формируем каналы продвижения товаров/услуг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1"/>
            <p:cNvSpPr/>
            <p:nvPr/>
          </p:nvSpPr>
          <p:spPr>
            <a:xfrm>
              <a:off x="3471480" y="4816800"/>
              <a:ext cx="56725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коммуницируем с целевыми группами потребителей 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0"/>
            <p:cNvSpPr/>
            <p:nvPr/>
          </p:nvSpPr>
          <p:spPr>
            <a:xfrm>
              <a:off x="3471480" y="508896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реклам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3471480" y="5385960"/>
              <a:ext cx="4958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вигаем товары/услуги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3471480" y="567072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а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37"/>
            <p:cNvCxnSpPr>
              <a:stCxn id="213" idx="3"/>
              <a:endCxn id="214" idx="1"/>
            </p:cNvCxnSpPr>
            <p:nvPr/>
          </p:nvCxnSpPr>
          <p:spPr>
            <a:xfrm flipV="1">
              <a:off x="2714400" y="1143000"/>
              <a:ext cx="782640" cy="57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AutoShape 36"/>
            <p:cNvCxnSpPr>
              <a:stCxn id="213" idx="3"/>
              <a:endCxn id="215" idx="1"/>
            </p:cNvCxnSpPr>
            <p:nvPr/>
          </p:nvCxnSpPr>
          <p:spPr>
            <a:xfrm flipV="1">
              <a:off x="2714400" y="1427760"/>
              <a:ext cx="78264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AutoShape 35"/>
            <p:cNvCxnSpPr>
              <a:stCxn id="213" idx="3"/>
              <a:endCxn id="216" idx="1"/>
            </p:cNvCxnSpPr>
            <p:nvPr/>
          </p:nvCxnSpPr>
          <p:spPr>
            <a:xfrm flipV="1">
              <a:off x="2714400" y="1708560"/>
              <a:ext cx="782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AutoShape 34"/>
            <p:cNvCxnSpPr>
              <a:stCxn id="213" idx="3"/>
              <a:endCxn id="217" idx="1"/>
            </p:cNvCxnSpPr>
            <p:nvPr/>
          </p:nvCxnSpPr>
          <p:spPr>
            <a:xfrm>
              <a:off x="2714400" y="1714320"/>
              <a:ext cx="78264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3" name="AutoShape 33"/>
            <p:cNvCxnSpPr>
              <a:stCxn id="213" idx="3"/>
              <a:endCxn id="218" idx="1"/>
            </p:cNvCxnSpPr>
            <p:nvPr/>
          </p:nvCxnSpPr>
          <p:spPr>
            <a:xfrm>
              <a:off x="2714400" y="1714680"/>
              <a:ext cx="782640" cy="6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4" name="AutoShape 32"/>
            <p:cNvCxnSpPr>
              <a:stCxn id="219" idx="3"/>
              <a:endCxn id="220" idx="1"/>
            </p:cNvCxnSpPr>
            <p:nvPr/>
          </p:nvCxnSpPr>
          <p:spPr>
            <a:xfrm flipV="1">
              <a:off x="2629440" y="3152880"/>
              <a:ext cx="822960" cy="27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AutoShape 31"/>
            <p:cNvCxnSpPr>
              <a:stCxn id="219" idx="3"/>
              <a:endCxn id="221" idx="1"/>
            </p:cNvCxnSpPr>
            <p:nvPr/>
          </p:nvCxnSpPr>
          <p:spPr>
            <a:xfrm>
              <a:off x="2629080" y="3429000"/>
              <a:ext cx="834120" cy="7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AutoShape 30"/>
            <p:cNvCxnSpPr>
              <a:stCxn id="219" idx="3"/>
              <a:endCxn id="222" idx="1"/>
            </p:cNvCxnSpPr>
            <p:nvPr/>
          </p:nvCxnSpPr>
          <p:spPr>
            <a:xfrm>
              <a:off x="2629440" y="3428640"/>
              <a:ext cx="82296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AutoShape 29"/>
            <p:cNvCxnSpPr>
              <a:stCxn id="223" idx="3"/>
              <a:endCxn id="224" idx="1"/>
            </p:cNvCxnSpPr>
            <p:nvPr/>
          </p:nvCxnSpPr>
          <p:spPr>
            <a:xfrm flipV="1">
              <a:off x="2786400" y="4671360"/>
              <a:ext cx="703440" cy="68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AutoShape 28"/>
            <p:cNvCxnSpPr>
              <a:stCxn id="223" idx="3"/>
              <a:endCxn id="225" idx="1"/>
            </p:cNvCxnSpPr>
            <p:nvPr/>
          </p:nvCxnSpPr>
          <p:spPr>
            <a:xfrm flipV="1">
              <a:off x="2786040" y="4908240"/>
              <a:ext cx="685440" cy="44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AutoShape 27"/>
            <p:cNvCxnSpPr>
              <a:stCxn id="223" idx="3"/>
              <a:endCxn id="226" idx="1"/>
            </p:cNvCxnSpPr>
            <p:nvPr/>
          </p:nvCxnSpPr>
          <p:spPr>
            <a:xfrm flipV="1">
              <a:off x="2786040" y="5211360"/>
              <a:ext cx="68544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0" name="AutoShape 26"/>
            <p:cNvCxnSpPr>
              <a:stCxn id="223" idx="3"/>
              <a:endCxn id="227" idx="1"/>
            </p:cNvCxnSpPr>
            <p:nvPr/>
          </p:nvCxnSpPr>
          <p:spPr>
            <a:xfrm>
              <a:off x="2786040" y="5355000"/>
              <a:ext cx="685440" cy="1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AutoShape 25"/>
            <p:cNvCxnSpPr>
              <a:stCxn id="223" idx="3"/>
              <a:endCxn id="228" idx="1"/>
            </p:cNvCxnSpPr>
            <p:nvPr/>
          </p:nvCxnSpPr>
          <p:spPr>
            <a:xfrm>
              <a:off x="2786040" y="5355360"/>
              <a:ext cx="685440" cy="43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AutoShape 24"/>
            <p:cNvSpPr/>
            <p:nvPr/>
          </p:nvSpPr>
          <p:spPr>
            <a:xfrm>
              <a:off x="1393560" y="199440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3"/>
            <p:cNvSpPr/>
            <p:nvPr/>
          </p:nvSpPr>
          <p:spPr>
            <a:xfrm>
              <a:off x="1393560" y="406368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трица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42960" y="1143000"/>
          <a:ext cx="7786800" cy="4572000"/>
        </p:xfrm>
        <a:graphic>
          <a:graphicData uri="http://schemas.openxmlformats.org/drawingml/2006/table">
            <a:tbl>
              <a:tblPr/>
              <a:tblGrid>
                <a:gridCol w="2643120"/>
                <a:gridCol w="1870200"/>
                <a:gridCol w="1495440"/>
                <a:gridCol w="1778040"/>
              </a:tblGrid>
              <a:tr h="120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образователь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научно-технической продукции/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2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кетинговы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ирование востребованной на рынке линейки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движение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е сегменты ры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500040" y="928800"/>
            <a:ext cx="6276960" cy="5214960"/>
            <a:chOff x="500040" y="928800"/>
            <a:chExt cx="6276960" cy="5214960"/>
          </a:xfrm>
        </p:grpSpPr>
        <p:sp>
          <p:nvSpPr>
            <p:cNvPr id="275" name="AutoShape 32"/>
            <p:cNvSpPr/>
            <p:nvPr/>
          </p:nvSpPr>
          <p:spPr>
            <a:xfrm>
              <a:off x="500040" y="1000440"/>
              <a:ext cx="6276960" cy="51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713880" y="928800"/>
              <a:ext cx="2718720" cy="250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1394640" y="1365480"/>
              <a:ext cx="14320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9"/>
            <p:cNvSpPr/>
            <p:nvPr/>
          </p:nvSpPr>
          <p:spPr>
            <a:xfrm>
              <a:off x="2357280" y="2143080"/>
              <a:ext cx="984600" cy="33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857520" y="2071440"/>
              <a:ext cx="1113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27"/>
            <p:cNvCxnSpPr/>
            <p:nvPr/>
          </p:nvCxnSpPr>
          <p:spPr>
            <a:xfrm>
              <a:off x="999720" y="1428480"/>
              <a:ext cx="1180440" cy="76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AutoShape 26"/>
            <p:cNvCxnSpPr/>
            <p:nvPr/>
          </p:nvCxnSpPr>
          <p:spPr>
            <a:xfrm flipV="1">
              <a:off x="2189520" y="1356480"/>
              <a:ext cx="954000" cy="84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25"/>
            <p:cNvCxnSpPr/>
            <p:nvPr/>
          </p:nvCxnSpPr>
          <p:spPr>
            <a:xfrm>
              <a:off x="2189520" y="2197440"/>
              <a:ext cx="25200" cy="123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3" name="Oval 24"/>
            <p:cNvSpPr/>
            <p:nvPr/>
          </p:nvSpPr>
          <p:spPr>
            <a:xfrm>
              <a:off x="3071520" y="3020040"/>
              <a:ext cx="2013120" cy="1837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3588120" y="3193920"/>
              <a:ext cx="10551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4240800" y="4004640"/>
              <a:ext cx="72504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1"/>
            <p:cNvSpPr/>
            <p:nvPr/>
          </p:nvSpPr>
          <p:spPr>
            <a:xfrm>
              <a:off x="3214440" y="3857400"/>
              <a:ext cx="9064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AutoShape 20"/>
            <p:cNvCxnSpPr/>
            <p:nvPr/>
          </p:nvCxnSpPr>
          <p:spPr>
            <a:xfrm>
              <a:off x="3285720" y="3356640"/>
              <a:ext cx="85788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AutoShape 19"/>
            <p:cNvCxnSpPr>
              <a:endCxn id="283" idx="7"/>
            </p:cNvCxnSpPr>
            <p:nvPr/>
          </p:nvCxnSpPr>
          <p:spPr>
            <a:xfrm flipV="1">
              <a:off x="4142880" y="3288600"/>
              <a:ext cx="647640" cy="64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AutoShape 18"/>
            <p:cNvCxnSpPr/>
            <p:nvPr/>
          </p:nvCxnSpPr>
          <p:spPr>
            <a:xfrm>
              <a:off x="4142160" y="3929040"/>
              <a:ext cx="72360" cy="9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0" name="Oval 17"/>
            <p:cNvSpPr/>
            <p:nvPr/>
          </p:nvSpPr>
          <p:spPr>
            <a:xfrm>
              <a:off x="5000400" y="4684680"/>
              <a:ext cx="1624680" cy="1458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6"/>
            <p:cNvSpPr/>
            <p:nvPr/>
          </p:nvSpPr>
          <p:spPr>
            <a:xfrm>
              <a:off x="5357880" y="4851000"/>
              <a:ext cx="8492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5"/>
            <p:cNvSpPr/>
            <p:nvPr/>
          </p:nvSpPr>
          <p:spPr>
            <a:xfrm>
              <a:off x="5949000" y="5357880"/>
              <a:ext cx="56916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10200" y="5339520"/>
              <a:ext cx="89064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AutoShape 13"/>
            <p:cNvCxnSpPr/>
            <p:nvPr/>
          </p:nvCxnSpPr>
          <p:spPr>
            <a:xfrm>
              <a:off x="5142960" y="5000040"/>
              <a:ext cx="7866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AutoShape 12"/>
            <p:cNvCxnSpPr>
              <a:endCxn id="290" idx="7"/>
            </p:cNvCxnSpPr>
            <p:nvPr/>
          </p:nvCxnSpPr>
          <p:spPr>
            <a:xfrm flipV="1">
              <a:off x="5928120" y="4897440"/>
              <a:ext cx="45828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AutoShape 11"/>
            <p:cNvCxnSpPr/>
            <p:nvPr/>
          </p:nvCxnSpPr>
          <p:spPr>
            <a:xfrm>
              <a:off x="5927760" y="5357520"/>
              <a:ext cx="7236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10"/>
            <p:cNvCxnSpPr/>
            <p:nvPr/>
          </p:nvCxnSpPr>
          <p:spPr>
            <a:xfrm>
              <a:off x="3441960" y="2153160"/>
              <a:ext cx="696600" cy="85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9"/>
            <p:cNvCxnSpPr/>
            <p:nvPr/>
          </p:nvCxnSpPr>
          <p:spPr>
            <a:xfrm>
              <a:off x="2214000" y="3428640"/>
              <a:ext cx="85788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8"/>
            <p:cNvCxnSpPr/>
            <p:nvPr/>
          </p:nvCxnSpPr>
          <p:spPr>
            <a:xfrm>
              <a:off x="5092560" y="3875400"/>
              <a:ext cx="549720" cy="83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0" name="AutoShape 7"/>
            <p:cNvCxnSpPr/>
            <p:nvPr/>
          </p:nvCxnSpPr>
          <p:spPr>
            <a:xfrm>
              <a:off x="4286160" y="4857120"/>
              <a:ext cx="71496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Text Box 6"/>
            <p:cNvSpPr/>
            <p:nvPr/>
          </p:nvSpPr>
          <p:spPr>
            <a:xfrm>
              <a:off x="785520" y="3500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5"/>
            <p:cNvSpPr/>
            <p:nvPr/>
          </p:nvSpPr>
          <p:spPr>
            <a:xfrm>
              <a:off x="1928520" y="4571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акуль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"/>
            <p:cNvSpPr/>
            <p:nvPr/>
          </p:nvSpPr>
          <p:spPr>
            <a:xfrm>
              <a:off x="2499840" y="5786280"/>
              <a:ext cx="260964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федра, центр, лабора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46"/>
          <p:cNvSpPr/>
          <p:nvPr/>
        </p:nvSpPr>
        <p:spPr>
          <a:xfrm>
            <a:off x="4143240" y="1143000"/>
            <a:ext cx="500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ированный сегмен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родственных сегмен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образова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научно-технической продук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57:29Z</dcterms:created>
  <dc:creator>Administrator</dc:creator>
  <dc:description/>
  <dc:language>en-US</dc:language>
  <cp:lastModifiedBy>ZooM</cp:lastModifiedBy>
  <dcterms:modified xsi:type="dcterms:W3CDTF">2013-11-07T13:59:37Z</dcterms:modified>
  <cp:revision>469</cp:revision>
  <dc:subject/>
  <dc:title>Слайд 1</dc:title>
</cp:coreProperties>
</file>