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F93-C56B-456D-8E36-174AA7C8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4E3-5446-4AA0-8655-F4E1E903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C17-2F59-4795-B8DA-28E27A06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5B1-5939-4140-8C4A-A7DB1B67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FF66-61A5-4A62-9243-7986F811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A2FF-0BF6-4AF7-8F49-6A31F12C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F90F-391B-43F1-9168-AAD71FB6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CE7D-5343-4868-A527-DF94796A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523E-4549-4847-B47E-A999BD1E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8406-E0DC-4965-8C2E-4141C58A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9B07-DF52-4658-8A75-D6DDC934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53D-8109-40D6-80F3-8E09060D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C259-C810-4025-A330-7819C2D3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739-8064-44FD-928E-72093FF6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1C66-E1C9-4257-9B30-EF57BD7A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B9BF-86B5-49B5-A20D-50333F5C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3D86-AE57-45AA-AFD2-43037F35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A36-8B21-4AE2-86F6-4B6A2D92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C78-7C5A-468C-B759-C3663A61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89E-34E6-41C0-9CC1-938CE75F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942-6854-4620-99D9-77C55FD2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A70-364F-4956-8284-52A51C00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58C-764D-453A-BE7F-95DD36CE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EFF-72A8-42CE-B4F4-E3426203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1F5C-5A73-4EC4-8340-97305CF9659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439C-B919-44AB-A7B9-5D5672E4A5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71640" y="836640"/>
            <a:ext cx="75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сударственны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627280" y="2924280"/>
            <a:ext cx="3673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волы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411280" y="4797360"/>
            <a:ext cx="39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908000" y="981000"/>
            <a:ext cx="554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агодарю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140360" y="2781360"/>
            <a:ext cx="86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84360" y="4581360"/>
            <a:ext cx="460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нимание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176720" cy="4967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971640" y="981000"/>
            <a:ext cx="1800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ерб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2421000"/>
            <a:ext cx="292752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ссийской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55640" y="422100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мперии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971640" y="836640"/>
            <a:ext cx="22320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намя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2421000"/>
            <a:ext cx="29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ссийской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11280" y="4437000"/>
            <a:ext cx="25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мперии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10790" t="54470" r="73024" b="30957"/>
          <a:stretch/>
        </p:blipFill>
        <p:spPr>
          <a:xfrm>
            <a:off x="395280" y="692280"/>
            <a:ext cx="4176720" cy="2387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30441" t="54284" r="54427" b="30471"/>
          <a:stretch/>
        </p:blipFill>
        <p:spPr>
          <a:xfrm>
            <a:off x="4211640" y="3284640"/>
            <a:ext cx="4248000" cy="2414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68360" y="3213000"/>
            <a:ext cx="28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ндреевский флаг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03640" y="6021360"/>
            <a:ext cx="302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лаг России 19 века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58920" y="189000"/>
            <a:ext cx="662616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осударственный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2349360"/>
            <a:ext cx="128772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ерб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9640" y="4221000"/>
            <a:ext cx="237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ССР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544824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6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6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4174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Герб   Росс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608360" cy="5399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13200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рёл -  символ непобедимости и си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вуглавый орел, охраняя государство, смотрит и на запад, и на вост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рона на голове орла – символ законности, означающий, что страна живет по законам чести и справедлив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одной лапе орла скипетр – эмблема власти, а в другой лапе – золотой шар, который называют «держав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кипетр – символ власти, держава – символ могущества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44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44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44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44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60" fill="hold">
                                          <p:stCondLst>
                                            <p:cond delay="144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60" fill="hold">
                                          <p:stCondLst>
                                            <p:cond delay="144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Флаг Росс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32000" y="1125000"/>
            <a:ext cx="3995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елый цвет – это цвет мира. Он говорит о миролюбии нашей стр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920" indent="-889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Arial"/>
              </a:rPr>
              <a:t>Синий цвет – это вера, верность. Народ любит свою страну, защищает её, верен е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920" indent="-889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асный цвет – цвет силы. Это цвет крови, пролитой за Родину и ее независим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2253" t="4410" r="2253" b="4410"/>
          <a:stretch/>
        </p:blipFill>
        <p:spPr>
          <a:xfrm>
            <a:off x="179280" y="1700280"/>
            <a:ext cx="4537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6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692360" y="1628640"/>
            <a:ext cx="5832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имн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4005360"/>
            <a:ext cx="453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лова   Михалкова С.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узыка   Александрова А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402920" y="188640"/>
            <a:ext cx="6697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1. 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Россия – священная наша держа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Россия - любимая наша стра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Могущая воля, великая слава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Твое достоянье на все времена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Припев: Славься Отечество наше свобод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Братских народов союз веков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Предками данная мудрость народная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Славься, страна! Мы гордимся тобой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2. От южных морей до полярного кр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Раскинулись наши леса и по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Одна ты на свете! Одна ты такая! 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Хранимая Богом родная земля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3. Широкий простор для мечты и для жизн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Грядущее нам открывают год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Нам силу дает наша верность Отчиз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Так было, так есть и так будет всегд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10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10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10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1000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1000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1000"/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1000"/>
                                        <p:tgtEl>
                                          <p:spTgt spid="1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2:06:30Z</dcterms:created>
  <dc:creator>Uzer</dc:creator>
  <dc:description/>
  <dc:language>en-US</dc:language>
  <cp:lastModifiedBy>Татьяна</cp:lastModifiedBy>
  <dcterms:modified xsi:type="dcterms:W3CDTF">2010-03-02T15:12:24Z</dcterms:modified>
  <cp:revision>11</cp:revision>
  <dc:subject/>
  <dc:title>Слайд 1</dc:title>
</cp:coreProperties>
</file>