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FD56-F7E9-4043-ADBB-C9423EDA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73AF-588A-4512-824A-D6176BF3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D160-470F-48ED-B813-118CB1623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26CB-6274-49D1-8034-CE821F79F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0226-8780-4966-BAAB-48CAA3EDE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DEC2-B47C-41EA-9B86-B8DDE500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7F04-ACC8-4780-B9D9-5680C4C1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10DC-F77A-4B62-86A0-4EEEA7AC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4E55-FC93-4C0B-9034-9B7695C1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54E2-489A-4520-8D23-E666B830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2FBE-9028-47E1-B253-4A5FC0CF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A3E3-6EFE-46B0-ADCD-9FD4909C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23A6-0A4E-4F36-83A4-FFB53126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9FD8-9A64-4885-9C9F-40F1F5EA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1B64-B137-47DD-9D3F-2226C289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1660-4B11-4B16-A0F9-3B0C5F3ED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80D1-AE5C-4527-AC58-4EF5D8B37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628A-AADE-4CDD-BE17-29F9BBFE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C3E4-0FCA-452E-8A6F-B05EEB9E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B61F-0F0C-4628-8252-F47BA038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4587-FDC5-47C9-98D0-0BDD4B1C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33E2-B819-43DB-A833-0F928BDC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02DB-D2FC-4764-895B-CABF115E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FF7F-3E8B-4346-812E-E0D8C00D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997F-9781-4C6B-9AD6-096D0F7955A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E0C4-F0C1-442B-8607-192A8909C3A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971640" y="836640"/>
            <a:ext cx="7561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осударственны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627280" y="2924280"/>
            <a:ext cx="36734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мволы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411280" y="4797360"/>
            <a:ext cx="396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ссии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6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6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908000" y="981000"/>
            <a:ext cx="5543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ccff"/>
                  </a:solidFill>
                  <a:miter/>
                </a:ln>
                <a:solidFill>
                  <a:srgbClr val="ff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лагодарю</a:t>
            </a:r>
            <a:endParaRPr b="0" lang="en-US" sz="1800" spc="1" strike="noStrike">
              <a:ln w="9360">
                <a:solidFill>
                  <a:srgbClr val="66ccff"/>
                </a:solidFill>
                <a:miter/>
              </a:ln>
              <a:solidFill>
                <a:srgbClr val="ff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140360" y="2781360"/>
            <a:ext cx="863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ccff"/>
                  </a:solidFill>
                  <a:miter/>
                </a:ln>
                <a:solidFill>
                  <a:srgbClr val="ff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за</a:t>
            </a:r>
            <a:endParaRPr b="0" lang="en-US" sz="1800" spc="1" strike="noStrike">
              <a:ln w="9360">
                <a:solidFill>
                  <a:srgbClr val="66ccff"/>
                </a:solidFill>
                <a:miter/>
              </a:ln>
              <a:solidFill>
                <a:srgbClr val="ff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484360" y="4581360"/>
            <a:ext cx="4608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ccff"/>
                  </a:solidFill>
                  <a:miter/>
                </a:ln>
                <a:solidFill>
                  <a:srgbClr val="ff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нимание</a:t>
            </a:r>
            <a:endParaRPr b="0" lang="en-US" sz="1800" spc="1" strike="noStrike">
              <a:ln w="9360">
                <a:solidFill>
                  <a:srgbClr val="66ccff"/>
                </a:solidFill>
                <a:miter/>
              </a:ln>
              <a:solidFill>
                <a:srgbClr val="ff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0" y="1125360"/>
            <a:ext cx="4176720" cy="4967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971640" y="981000"/>
            <a:ext cx="180000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ec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Герб</a:t>
            </a:r>
            <a:endParaRPr b="0" lang="en-US" sz="1800" spc="1" strike="noStrike">
              <a:ln w="9360">
                <a:solidFill>
                  <a:srgbClr val="ccec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9640" y="2421000"/>
            <a:ext cx="292752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ec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оссийской</a:t>
            </a:r>
            <a:endParaRPr b="0" lang="en-US" sz="1800" spc="1" strike="noStrike">
              <a:ln w="9360">
                <a:solidFill>
                  <a:srgbClr val="ccec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55640" y="4221000"/>
            <a:ext cx="2448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ec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мперии</a:t>
            </a:r>
            <a:endParaRPr b="0" lang="en-US" sz="1800" spc="1" strike="noStrike">
              <a:ln w="9360">
                <a:solidFill>
                  <a:srgbClr val="ccec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924360" y="0"/>
            <a:ext cx="496872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971640" y="836640"/>
            <a:ext cx="223200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ec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Знамя</a:t>
            </a:r>
            <a:endParaRPr b="0" lang="en-US" sz="1800" spc="1" strike="noStrike">
              <a:ln w="9360">
                <a:solidFill>
                  <a:srgbClr val="ccec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360" y="2421000"/>
            <a:ext cx="2951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ec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оссийской</a:t>
            </a:r>
            <a:endParaRPr b="0" lang="en-US" sz="1800" spc="1" strike="noStrike">
              <a:ln w="9360">
                <a:solidFill>
                  <a:srgbClr val="ccec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11280" y="4437000"/>
            <a:ext cx="252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ec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мперии</a:t>
            </a:r>
            <a:endParaRPr b="0" lang="en-US" sz="1800" spc="1" strike="noStrike">
              <a:ln w="9360">
                <a:solidFill>
                  <a:srgbClr val="ccec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rcRect l="10790" t="54470" r="73024" b="30957"/>
          <a:stretch/>
        </p:blipFill>
        <p:spPr>
          <a:xfrm>
            <a:off x="395280" y="692280"/>
            <a:ext cx="4176720" cy="23875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rcRect l="30441" t="54284" r="54427" b="30471"/>
          <a:stretch/>
        </p:blipFill>
        <p:spPr>
          <a:xfrm>
            <a:off x="4211640" y="3284640"/>
            <a:ext cx="4248000" cy="24145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468360" y="3213000"/>
            <a:ext cx="2879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ec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Андреевский флаг</a:t>
            </a:r>
            <a:endParaRPr b="0" lang="en-US" sz="1800" spc="1" strike="noStrike">
              <a:ln w="9360">
                <a:solidFill>
                  <a:srgbClr val="ccec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003640" y="6021360"/>
            <a:ext cx="302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ec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Флаг России 19 века</a:t>
            </a:r>
            <a:endParaRPr b="0" lang="en-US" sz="1800" spc="1" strike="noStrike">
              <a:ln w="9360">
                <a:solidFill>
                  <a:srgbClr val="ccec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258920" y="189000"/>
            <a:ext cx="6626160" cy="95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ec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Государственный</a:t>
            </a:r>
            <a:endParaRPr b="0" lang="en-US" sz="1800" spc="1" strike="noStrike">
              <a:ln w="9360">
                <a:solidFill>
                  <a:srgbClr val="ccec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00000" y="2349360"/>
            <a:ext cx="1287720" cy="74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ec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герб</a:t>
            </a:r>
            <a:endParaRPr b="0" lang="en-US" sz="1800" spc="1" strike="noStrike">
              <a:ln w="9360">
                <a:solidFill>
                  <a:srgbClr val="ccec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39640" y="4221000"/>
            <a:ext cx="2376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ec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ССР</a:t>
            </a:r>
            <a:endParaRPr b="0" lang="en-US" sz="1800" spc="1" strike="noStrike">
              <a:ln w="9360">
                <a:solidFill>
                  <a:srgbClr val="ccec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276720" y="1125360"/>
            <a:ext cx="5448240" cy="54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6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6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6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6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6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6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4174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Герб   Росс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608360" cy="53992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132000" y="0"/>
            <a:ext cx="6012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рёл -  символ непобедимости и си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вуглавый орел, охраняя государство, смотрит и на запад, и на восто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орона на голове орла – символ законности, означающий, что страна живет по законам чести и справедлив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одной лапе орла скипетр – эмблема власти, а в другой лапе – золотой шар, который называют «держава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кипетр – символ власти, держава – символ могущества стра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44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44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44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44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60" fill="hold">
                                          <p:stCondLst>
                                            <p:cond delay="144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60" fill="hold">
                                          <p:stCondLst>
                                            <p:cond delay="144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Флаг Росс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32000" y="1125000"/>
            <a:ext cx="3995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Белый цвет – это цвет мира. Он говорит о миролюбии нашей стран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88920" indent="-8892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Arial"/>
              </a:rPr>
              <a:t>Синий цвет – это вера, верность. Народ любит свою страну, защищает её, верен е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88920" indent="-8892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расный цвет – цвет силы. Это цвет крови, пролитой за Родину и ее независимост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2253" t="4410" r="2253" b="4410"/>
          <a:stretch/>
        </p:blipFill>
        <p:spPr>
          <a:xfrm>
            <a:off x="179280" y="1700280"/>
            <a:ext cx="45370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6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6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8000"/>
                            </p:stCondLst>
                            <p:childTnLst>
                              <p:par>
                                <p:cTn id="1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692360" y="1628640"/>
            <a:ext cx="583236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Гимн Росси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11280" y="4005360"/>
            <a:ext cx="4537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лова   Михалкова С.В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музыка   Александрова А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402920" y="188640"/>
            <a:ext cx="66978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1. </a:t>
            </a: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Россия – священная наша держав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Россия - любимая наша стран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Могущая воля, великая слава-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Твое достоянье на все времена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Припев: Славься Отечество наше свободно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Братских народов союз веково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Предками данная мудрость народная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Славься, страна! Мы гордимся тобой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2. От южных морей до полярного кра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Раскинулись наши леса и пол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Одна ты на свете! Одна ты такая! -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Хранимая Богом родная земля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3. Широкий простор для мечты и для жизн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Грядущее нам открывают год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Нам силу дает наша верность Отчизн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Так было, так есть и так будет всегд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6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0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4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8" dur="1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" dur="10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7000"/>
                            </p:stCondLst>
                            <p:childTnLst>
                              <p:par>
                                <p:cTn id="2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0" dur="10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8000"/>
                            </p:stCondLst>
                            <p:childTnLst>
                              <p:par>
                                <p:cTn id="2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4" dur="1000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000"/>
                            </p:stCondLst>
                            <p:childTnLst>
                              <p:par>
                                <p:cTn id="2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8" dur="1000"/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2" dur="1000"/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6" dur="1000"/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1000"/>
                                        <p:tgtEl>
                                          <p:spTgt spid="1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4" dur="1000"/>
                                        <p:tgtEl>
                                          <p:spTgt spid="1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8" dur="1000"/>
                                        <p:tgtEl>
                                          <p:spTgt spid="18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2" dur="1000"/>
                                        <p:tgtEl>
                                          <p:spTgt spid="18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12:06:30Z</dcterms:created>
  <dc:creator>Uzer</dc:creator>
  <dc:description/>
  <dc:language>en-US</dc:language>
  <cp:lastModifiedBy>Татьяна</cp:lastModifiedBy>
  <dcterms:modified xsi:type="dcterms:W3CDTF">2010-03-02T15:12:24Z</dcterms:modified>
  <cp:revision>11</cp:revision>
  <dc:subject/>
  <dc:title>Слайд 1</dc:title>
</cp:coreProperties>
</file>