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6B6-7880-48D8-8612-BF909A50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33B-A554-41DC-A0C0-62F5473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08A-47A8-4BC2-B2CD-FC63387A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F53-306A-45DF-B93F-7DCA42BB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7677-B5E9-4178-9B0D-BEC8C117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D4C2-D06E-46A5-8AAF-5416AE0D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C885-7F83-4165-8553-C814C12F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5F5B-BA8A-4478-826A-EF815102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0460-DA75-48C8-8476-C0C904EA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B01F-F1B6-47F7-B806-94F8147A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16A4-335E-4B1D-A568-4C4C76A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278-6B60-4FED-9487-0F084645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4EAE-912D-498B-9DE7-E011B0DE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FE7E-7A7E-44D4-BB18-79EFA2F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2ED4-DA79-4133-92EA-29B2DB5A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2BA9-2CC1-44F8-84A8-419C8CF1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2668-A7EA-4808-AF26-998ED731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34D-126C-47AA-BEE0-5F9AE277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5F7-FDF3-4D61-800E-0D44BAAB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200-B09F-47D5-9070-A4D75A06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137-5357-4178-99D8-539F9298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C73C-895B-44A8-BEB2-D0F8CA1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8D8-6A78-4B18-8D25-0CA121C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783-47E5-45C7-B573-04FADC1B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4159-9F9D-496A-913A-61EA473B11E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9198-89C5-40BD-9486-621B582CA5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71640" y="836640"/>
            <a:ext cx="75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сударствен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627280" y="2924280"/>
            <a:ext cx="3673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волы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11280" y="4797360"/>
            <a:ext cx="39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08000" y="981000"/>
            <a:ext cx="554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агодарю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140360" y="2781360"/>
            <a:ext cx="86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84360" y="4581360"/>
            <a:ext cx="460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нимание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176720" cy="4967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971640" y="981000"/>
            <a:ext cx="180000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рб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2421000"/>
            <a:ext cx="292752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сийской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55640" y="422100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мперии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971640" y="836640"/>
            <a:ext cx="2232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намя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2421000"/>
            <a:ext cx="29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оссийской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11280" y="4437000"/>
            <a:ext cx="25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мперии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0790" t="54470" r="73024" b="30957"/>
          <a:stretch/>
        </p:blipFill>
        <p:spPr>
          <a:xfrm>
            <a:off x="395280" y="692280"/>
            <a:ext cx="4176720" cy="2387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30441" t="54284" r="54427" b="30471"/>
          <a:stretch/>
        </p:blipFill>
        <p:spPr>
          <a:xfrm>
            <a:off x="4211640" y="3284640"/>
            <a:ext cx="4248000" cy="2414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68360" y="3213000"/>
            <a:ext cx="287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ндреевский флаг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03640" y="6021360"/>
            <a:ext cx="302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Флаг России 19 века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58920" y="189000"/>
            <a:ext cx="662616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осударственный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2349360"/>
            <a:ext cx="128772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рб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9640" y="4221000"/>
            <a:ext cx="237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ec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ССР</a:t>
            </a:r>
            <a:endParaRPr b="0" lang="en-US" sz="1800" spc="1" strike="noStrike">
              <a:ln w="9360">
                <a:solidFill>
                  <a:srgbClr val="ccec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544824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6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6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174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Герб  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608360" cy="5399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13200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рёл -  символ непобедимости и си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вуглавый орел, охраняя государство, смотрит и на запад, и на вост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рона на голове орла – символ законности, означающий, что страна живет по законам чести и справедлив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одной лапе орла скипетр – эмблема власти, а в другой лапе – золотой шар, который называют «держав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кипетр – символ власти, держава – символ могуще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44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44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44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44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60" fill="hold">
                                          <p:stCondLst>
                                            <p:cond delay="144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60" fill="hold">
                                          <p:stCondLst>
                                            <p:cond delay="144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Флаг Росс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32000" y="1125000"/>
            <a:ext cx="3995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елый цвет – это цвет мира. Он говорит о миролюбии нашей стран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920" indent="-889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Arial"/>
              </a:rPr>
              <a:t>Синий цвет – это вера, верность. Народ любит свою страну, защищает её, верен е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920" indent="-889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асный цвет – цвет силы. Это цвет крови, пролитой за Родину и ее независим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253" t="4410" r="2253" b="4410"/>
          <a:stretch/>
        </p:blipFill>
        <p:spPr>
          <a:xfrm>
            <a:off x="179280" y="1700280"/>
            <a:ext cx="4537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6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692360" y="1628640"/>
            <a:ext cx="583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имн Росс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4005360"/>
            <a:ext cx="453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лова   Михалкова С.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узыка   Александрова А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402920" y="188640"/>
            <a:ext cx="6697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1.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Россия – священная наша держа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Россия - любимая наша стра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Могущая воля, великая слава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Твое достоянье на все времена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Припев: Славься Отечество наше свободно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Братских народов союз веково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Предками данная мудрость народная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Славься, страна! Мы гордимся тобой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2. От южных морей до полярного кр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Раскинулись наши леса и по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Одна ты на свете! Одна ты такая! 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Хранимая Богом родная земля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3. Широкий простор для мечты и для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Грядущее нам открывают го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Нам силу дает наша верность Отчизн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gency FB"/>
              </a:rPr>
              <a:t>Так было, так есть и так будет всег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10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10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10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1000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1000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1000"/>
                                        <p:tgtEl>
                                          <p:spTgt spid="1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2:06:30Z</dcterms:created>
  <dc:creator>Uzer</dc:creator>
  <dc:description/>
  <dc:language>en-US</dc:language>
  <cp:lastModifiedBy>Татьяна</cp:lastModifiedBy>
  <dcterms:modified xsi:type="dcterms:W3CDTF">2010-03-02T15:12:24Z</dcterms:modified>
  <cp:revision>11</cp:revision>
  <dc:subject/>
  <dc:title>Слайд 1</dc:title>
</cp:coreProperties>
</file>