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3.png" ContentType="image/png"/>
  <Override PartName="/ppt/media/image44.png" ContentType="image/png"/>
  <Override PartName="/ppt/media/image13.jpeg" ContentType="image/jpeg"/>
  <Override PartName="/ppt/media/image35.png" ContentType="image/png"/>
  <Override PartName="/ppt/media/image5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F48-3D4A-431E-AC0C-499DA9C5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A9B-DD2B-4B64-A561-61DD9CF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E1D-EB5E-4C5F-B6F3-DC64EF9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A13-3647-40C2-970D-24CAE63B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47C-40AF-4E68-9AE6-655AC2ED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907-986E-4816-82CE-545249C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895-9867-476D-9B03-756ABD5F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BDF-20D6-496C-906E-67B2316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4BE-1C29-4AB9-9A24-ECD0BD23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2C1-18C1-4951-A6FC-D9930E4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D15-9505-4E04-A6F1-3D3E070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BD7-B886-4B98-85EC-76A92A4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F6B9-D452-4D18-9DE8-AF47383D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4797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Monotype Corsiva"/>
              </a:rPr>
              <a:t>Мезенская роспис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426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5805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Monotype Corsiva"/>
              </a:rPr>
              <a:t>Николаева Е. А.  МОУ «Северодвинская городская гимназ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олярные</a:t>
            </a:r>
            <a:r>
              <a:rPr b="1" lang="en-US" sz="4000" spc="-1" strike="noStrike">
                <a:solidFill>
                  <a:srgbClr val="ffff66"/>
                </a:solidFill>
                <a:latin typeface="Monotype Corsiva"/>
              </a:rPr>
              <a:t> зн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4000" y="4076640"/>
            <a:ext cx="378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Коловорот, свастика, ярга, посолонь</a:t>
            </a: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- знак Света, Солнца, Жизни. Великая очищающая и оберегающая си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4149720"/>
            <a:ext cx="345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ff66"/>
                </a:solidFill>
                <a:latin typeface="Monotype Corsiva"/>
              </a:rPr>
              <a:t>Громовой знак, громовое колесо – магический громоотвод, знак мужества, воинской доб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51512" b="0"/>
          <a:stretch/>
        </p:blipFill>
        <p:spPr>
          <a:xfrm>
            <a:off x="468360" y="4221000"/>
            <a:ext cx="863640" cy="73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57047" t="0" r="0" b="0"/>
          <a:stretch/>
        </p:blipFill>
        <p:spPr>
          <a:xfrm>
            <a:off x="4716360" y="4221000"/>
            <a:ext cx="723960" cy="7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1125360"/>
            <a:ext cx="1791000" cy="2592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484360" y="1125360"/>
            <a:ext cx="16448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вет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3280" y="1412640"/>
            <a:ext cx="36068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одичный ход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рибывающая, уб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45932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Небо с обла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Дождь с ве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Ве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90440" y="1484280"/>
            <a:ext cx="2686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Земная твер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Речка, бегущая по поверхности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 прогретую распаханную землю брошены с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Лес на горках над оз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В тёплой парующей пашне видны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ле покрылось ростками и 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одземные водяные жилы. Далеко вглубь земли проникают извилист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287600" cy="44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Знаки стихий и доб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Огонь, 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Г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onotype Corsiva"/>
              </a:rPr>
              <a:t>Пожелание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9938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тушки и леб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397240" cy="3743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474336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34920" y="120600"/>
            <a:ext cx="910908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риёмы рисования оленя и ко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266868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29750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095640" cy="299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16692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Мезень, Палощел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1484280"/>
            <a:ext cx="6553080" cy="48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0970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3311280" cy="27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2881440" cy="2625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323856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438280" cy="356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752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2635200" cy="391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2739960" cy="39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29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19572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2627280" cy="36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28382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712880"/>
            <a:ext cx="4608360" cy="389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3800" y="1700280"/>
            <a:ext cx="35100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определения, относящиеся к народному искусству Вы узн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С какими особенностями мезенской росписи Вы познаком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Какие элементы  росписи считаются основными, что они обознач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291120" cy="2692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3497400" cy="424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211640" y="3573360"/>
            <a:ext cx="4562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Элементы мезенской росписи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3573360"/>
            <a:ext cx="2428920" cy="7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200400" cy="103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92720" y="4869000"/>
            <a:ext cx="27622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276720" y="2205000"/>
            <a:ext cx="268596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042920" y="4869000"/>
            <a:ext cx="2879640" cy="93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- наскальный 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7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Каре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40872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Беломорские петроглиф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2420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 из Норвегии и элемент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2492280"/>
            <a:ext cx="4319280" cy="324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60072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onotype Corsiva"/>
              </a:rPr>
              <a:t>Петроглифы и элементы мезенской рос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1073160" cy="287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grayscl/>
            <a:lum contrast="12000"/>
          </a:blip>
          <a:stretch/>
        </p:blipFill>
        <p:spPr>
          <a:xfrm>
            <a:off x="539640" y="1844640"/>
            <a:ext cx="2865600" cy="287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763640" y="5084640"/>
            <a:ext cx="221004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867280" y="2205000"/>
            <a:ext cx="23148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8:05:23Z</dcterms:created>
  <dc:creator>Елена</dc:creator>
  <dc:description/>
  <dc:language>en-US</dc:language>
  <cp:lastModifiedBy>User</cp:lastModifiedBy>
  <dcterms:modified xsi:type="dcterms:W3CDTF">2012-01-09T21:30:20Z</dcterms:modified>
  <cp:revision>24</cp:revision>
  <dc:subject/>
  <dc:title>Мезенская роспись</dc:title>
</cp:coreProperties>
</file>