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29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3.png" ContentType="image/png"/>
  <Override PartName="/ppt/media/image44.png" ContentType="image/png"/>
  <Override PartName="/ppt/media/image13.jpeg" ContentType="image/jpeg"/>
  <Override PartName="/ppt/media/image35.png" ContentType="image/png"/>
  <Override PartName="/ppt/media/image5.jpeg" ContentType="image/jpe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5.png" ContentType="image/png"/>
  <Override PartName="/ppt/media/image46.png" ContentType="image/png"/>
  <Override PartName="/ppt/media/image48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2.jpeg" ContentType="image/jpeg"/>
  <Override PartName="/ppt/media/image34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77F-A0CF-416A-9A46-F3E40914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316-1F67-4834-A607-18D78B37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CDB-0011-4D0B-BE27-C145D0E5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EA3-30F0-4CEA-B28A-316EAFA9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BFC-E9BF-44DE-9F06-CDE61712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570-5D1C-4A12-96E1-13B61918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31E-1C75-4E1B-AC41-F62912C7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FA5-6592-40C0-B273-319FAFE1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CBC-774C-42F6-801D-F9B06624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DB1-B2BA-449E-9099-E3F50B78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2C7B-C6DB-4841-9ECD-932C046F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947E-44DA-418A-99A5-F953DFA0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F027-3E70-4028-A5B9-4A1DBFEFE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47973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Monotype Corsiva"/>
              </a:rPr>
              <a:t>Мезенская роспис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6912000" cy="4265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5640" y="580536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Monotype Corsiva"/>
              </a:rPr>
              <a:t>Николаева Е. А.  МОУ «Северодвинская городская гимназ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Солярные</a:t>
            </a:r>
            <a:r>
              <a:rPr b="1" lang="en-US" sz="4000" spc="-1" strike="noStrike">
                <a:solidFill>
                  <a:srgbClr val="ffff66"/>
                </a:solidFill>
                <a:latin typeface="Monotype Corsiva"/>
              </a:rPr>
              <a:t> зн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64000" y="4076640"/>
            <a:ext cx="3780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onotype Corsiva"/>
              </a:rPr>
              <a:t>     </a:t>
            </a:r>
            <a:r>
              <a:rPr b="1" lang="ru-RU" sz="2800" spc="-1" strike="noStrike">
                <a:solidFill>
                  <a:srgbClr val="ffff66"/>
                </a:solidFill>
                <a:latin typeface="Monotype Corsiva"/>
              </a:rPr>
              <a:t>Коловорот, свастика, ярга, посолонь</a:t>
            </a:r>
            <a:r>
              <a:rPr b="1" lang="en-US" sz="2800" spc="-1" strike="noStrike">
                <a:solidFill>
                  <a:srgbClr val="ffff66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Monotype Corsiva"/>
              </a:rPr>
              <a:t>- знак Света, Солнца, Жизни. Великая очищающая и оберегающая си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7280" y="4149720"/>
            <a:ext cx="345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onotype Corsiva"/>
              </a:rPr>
              <a:t>     </a:t>
            </a:r>
            <a:r>
              <a:rPr b="1" lang="ru-RU" sz="2800" spc="-1" strike="noStrike">
                <a:solidFill>
                  <a:srgbClr val="ffff66"/>
                </a:solidFill>
                <a:latin typeface="Monotype Corsiva"/>
              </a:rPr>
              <a:t>Громовой знак, громовое колесо – магический громоотвод, знак мужества, воинской добл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0" r="51512" b="0"/>
          <a:stretch/>
        </p:blipFill>
        <p:spPr>
          <a:xfrm>
            <a:off x="468360" y="4221000"/>
            <a:ext cx="863640" cy="739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57047" t="0" r="0" b="0"/>
          <a:stretch/>
        </p:blipFill>
        <p:spPr>
          <a:xfrm>
            <a:off x="4716360" y="4221000"/>
            <a:ext cx="723960" cy="700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43280" y="1125360"/>
            <a:ext cx="1791000" cy="2592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484360" y="1125360"/>
            <a:ext cx="164484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Знаки свет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03280" y="1412640"/>
            <a:ext cx="36068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Годичный ход сол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Л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Прибывающая, убыв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45932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Знаки н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0" y="1557360"/>
            <a:ext cx="40384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Небо с обла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Дож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Дождь с вет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Ве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90440" y="1484280"/>
            <a:ext cx="268632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Знаки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Земная твер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Речка, бегущая по поверхности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В прогретую распаханную землю брошены се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Лес на горках над оз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87320" y="1600200"/>
            <a:ext cx="33782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onotype Corsiva"/>
              </a:rPr>
              <a:t>В тёплой парующей пашне видны кор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onotype Corsiva"/>
              </a:rPr>
              <a:t>Поле покрылось ростками и цвет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onotype Corsiva"/>
              </a:rPr>
              <a:t>Подземные водяные жилы. Далеко вглубь земли проникают извилистые кор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287600" cy="44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Знаки стихий и доб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9992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Огонь, теп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Г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Пожелание до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993840" cy="52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Утушки и лебе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67280" y="1916280"/>
            <a:ext cx="2397240" cy="3743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4360" y="1197000"/>
            <a:ext cx="474336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34920" y="120600"/>
            <a:ext cx="9109080" cy="673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Приёмы рисования оленя и ко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2668680" cy="3311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297504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3095640" cy="299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3166920" cy="294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Мезень, Палощел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32000" y="1484280"/>
            <a:ext cx="6553080" cy="48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097080" cy="2819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3311280" cy="27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2881440" cy="2625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87280" y="2133720"/>
            <a:ext cx="3238560" cy="25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438280" cy="356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27525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2635200" cy="3919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2739960" cy="394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299040" cy="3816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3195720" cy="38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2627280" cy="3628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283824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211640" y="1712880"/>
            <a:ext cx="4608360" cy="3898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23800" y="1700280"/>
            <a:ext cx="35100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Какие определения, относящиеся к народному искусству Вы узна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С какими особенностями мезенской росписи Вы познакомилис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Какие элементы  росписи считаются основными, что они обозначаю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549360"/>
            <a:ext cx="3291120" cy="2692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3497400" cy="4248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211640" y="3573360"/>
            <a:ext cx="456264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Элементы мезенской росписи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Упраж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58920" y="3573360"/>
            <a:ext cx="2428920" cy="790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76720" y="3429000"/>
            <a:ext cx="3200400" cy="1038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292720" y="4869000"/>
            <a:ext cx="2762280" cy="942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276720" y="2205000"/>
            <a:ext cx="2685960" cy="65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042920" y="4869000"/>
            <a:ext cx="2879640" cy="93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Петроглиф - наскальный рису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69780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Петроглифы Карел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40872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Беломорские петроглиф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2420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Петроглиф из Норвегии и элемент мезенской рос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2492280"/>
            <a:ext cx="4319280" cy="3246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600720" cy="30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Петроглифы и элементы мезенской рос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780000" y="1844640"/>
            <a:ext cx="1073160" cy="2879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>
            <a:grayscl/>
            <a:lum contrast="12000"/>
          </a:blip>
          <a:stretch/>
        </p:blipFill>
        <p:spPr>
          <a:xfrm>
            <a:off x="539640" y="1844640"/>
            <a:ext cx="2865600" cy="287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763640" y="5084640"/>
            <a:ext cx="2210040" cy="1181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5867280" y="2205000"/>
            <a:ext cx="23148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8:05:23Z</dcterms:created>
  <dc:creator>Елена</dc:creator>
  <dc:description/>
  <dc:language>en-US</dc:language>
  <cp:lastModifiedBy>User</cp:lastModifiedBy>
  <dcterms:modified xsi:type="dcterms:W3CDTF">2012-01-09T21:30:20Z</dcterms:modified>
  <cp:revision>24</cp:revision>
  <dc:subject/>
  <dc:title>Мезенская роспись</dc:title>
</cp:coreProperties>
</file>