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3.png" ContentType="image/png"/>
  <Override PartName="/ppt/media/image44.png" ContentType="image/png"/>
  <Override PartName="/ppt/media/image13.jpeg" ContentType="image/jpeg"/>
  <Override PartName="/ppt/media/image35.png" ContentType="image/png"/>
  <Override PartName="/ppt/media/image5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8B1-1CA0-4C77-A0A8-B2662158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C8A-CFC6-4D40-BE91-7AF6B8C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7C8-AF22-4374-B74A-C5B1DA88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D44-5F71-4A4D-B5EF-44869F70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979-4CA9-4542-84FC-2914CF5E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3B2-E931-41BC-AC89-8C0F31F9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60C-AB9C-4223-9A7E-703E637E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4C6-42F6-4EF0-85B9-7EA64DA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942-4A70-4336-AF4F-FEB177A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32F-D01B-4FE2-814F-226BF02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D8D-8068-4096-8CA6-1CE1320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848-28AE-4EA6-8E31-0D4513D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CD36-3FB2-42E5-A51A-D04581AF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4797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onotype Corsiva"/>
              </a:rPr>
              <a:t>Мезенс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426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5805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Monotype Corsiva"/>
              </a:rPr>
              <a:t>Николаева Е. А.  МОУ «Северодвинская городская гимназ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олярные</a:t>
            </a:r>
            <a:r>
              <a:rPr b="1" lang="en-US" sz="4000" spc="-1" strike="noStrike">
                <a:solidFill>
                  <a:srgbClr val="ffff66"/>
                </a:solidFill>
                <a:latin typeface="Monotype Corsiva"/>
              </a:rPr>
              <a:t>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4000" y="4076640"/>
            <a:ext cx="378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Коловорот, свастика, ярга, посолонь</a:t>
            </a: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- знак Света, Солнца, Жизни. Великая очищающая и оберегающ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4149720"/>
            <a:ext cx="345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Громовой знак, громовое колесо – магический громоотвод, знак мужества, воинской доб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51512" b="0"/>
          <a:stretch/>
        </p:blipFill>
        <p:spPr>
          <a:xfrm>
            <a:off x="468360" y="4221000"/>
            <a:ext cx="863640" cy="73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57047" t="0" r="0" b="0"/>
          <a:stretch/>
        </p:blipFill>
        <p:spPr>
          <a:xfrm>
            <a:off x="4716360" y="4221000"/>
            <a:ext cx="723960" cy="7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791000" cy="259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484360" y="1125360"/>
            <a:ext cx="16448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ве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3606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одичный ход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рибывающая, уб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4593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Небо с обла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 с в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0440" y="1484280"/>
            <a:ext cx="2686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Земная твер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Речка, бегущая по поверхности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 прогретую распаханную землю брошены с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ес на горках над оз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В тёплой парующей пашне видны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ле покрылось ростками и 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дземные водяные жилы. Далеко вглубь земли проникают извилист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28760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тихий и доб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Огонь, 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ожелание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9938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тушки и леб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397240" cy="37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4743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4920" y="120600"/>
            <a:ext cx="910908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риёмы рисования оленя и к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266868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9750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095640" cy="299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16692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Мезень, Палощел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1484280"/>
            <a:ext cx="655308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0970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331128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2881440" cy="262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323856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438280" cy="356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752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35200" cy="391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2739960" cy="39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9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19572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2627280" cy="36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838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712880"/>
            <a:ext cx="4608360" cy="389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3800" y="1700280"/>
            <a:ext cx="3510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определения, относящиеся к народному искусству Вы узн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 какими особенностями мезенской росписи Вы познаком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элементы  росписи считаются основными, что они обознач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291120" cy="269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3497400" cy="424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211640" y="3573360"/>
            <a:ext cx="4562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Элементы мезенской росписи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3573360"/>
            <a:ext cx="2428920" cy="7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200400" cy="103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869000"/>
            <a:ext cx="27622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2205000"/>
            <a:ext cx="268596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2879640" cy="9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- наскальны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Каре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40872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Беломорские петрогли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2420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из Норвегии и элемент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92280"/>
            <a:ext cx="4319280" cy="324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6007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и элементы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1073160" cy="287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grayscl/>
            <a:lum contrast="12000"/>
          </a:blip>
          <a:stretch/>
        </p:blipFill>
        <p:spPr>
          <a:xfrm>
            <a:off x="539640" y="1844640"/>
            <a:ext cx="286560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763640" y="5084640"/>
            <a:ext cx="221004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867280" y="2205000"/>
            <a:ext cx="23148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8:05:23Z</dcterms:created>
  <dc:creator>Елена</dc:creator>
  <dc:description/>
  <dc:language>en-US</dc:language>
  <cp:lastModifiedBy>User</cp:lastModifiedBy>
  <dcterms:modified xsi:type="dcterms:W3CDTF">2012-01-09T21:30:20Z</dcterms:modified>
  <cp:revision>24</cp:revision>
  <dc:subject/>
  <dc:title>Мезенская роспись</dc:title>
</cp:coreProperties>
</file>