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6.png" ContentType="image/png"/>
  <Override PartName="/ppt/media/image3.gif" ContentType="image/gif"/>
  <Override PartName="/ppt/media/image9.png" ContentType="image/png"/>
  <Override PartName="/ppt/media/image29.gif" ContentType="image/gif"/>
  <Override PartName="/ppt/media/image5.gif" ContentType="image/gif"/>
  <Override PartName="/ppt/media/image28.gif" ContentType="image/gif"/>
  <Override PartName="/ppt/media/image8.gif" ContentType="image/gif"/>
  <Override PartName="/ppt/media/image4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2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6.png" ContentType="image/png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21.gif" ContentType="image/gi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CBF-670A-4047-BDF4-A2A04F7A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304-6BF5-480F-97EE-3F8C8A36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069-D7BE-4F94-A59A-29065EB3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003-B9C1-4670-8A4E-A62CBC67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EA6-5742-4E0D-87F3-F72557E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442-2C48-4773-96C0-4E3DDA7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B39-93FF-4AB4-B28E-9812D802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294-C5DA-4C33-8EF3-C3526DF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E31-1CD3-4271-B2BD-4DB02E7A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C46-7895-4920-B970-53A601D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84F-A925-4B18-9B7C-CD4D451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3B4-6B14-4407-8721-5E1444D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FB0A-AB2A-465F-AF09-9DD3ADB3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hyperlink" Target="http://www.9151394.ru/projects/inyaz/fio_mioo/kulbida/web/27march/jack.htm" TargetMode="External"/><Relationship Id="rId4" Type="http://schemas.openxmlformats.org/officeDocument/2006/relationships/hyperlink" Target="http://www.9151394.ru/projects/inyaz/fio_mioo/kulbida/web/27march/jack.htm" TargetMode="External"/><Relationship Id="rId5" Type="http://schemas.openxmlformats.org/officeDocument/2006/relationships/hyperlink" Target="http://www.9151394.ru/projects/inyaz/fio_mioo/kulbida/web/27march/jack.htm" TargetMode="External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01800">
            <a:off x="899640" y="823680"/>
            <a:ext cx="73422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66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HOLIDAYS</a:t>
            </a:r>
            <a:endParaRPr b="1" lang="en-US" sz="1800" spc="1" strike="noStrike">
              <a:ln w="57240">
                <a:solidFill>
                  <a:srgbClr val="ff0066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34099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3024360" cy="291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628640"/>
            <a:ext cx="33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Gteat Britai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don’t go to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on the 1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They begin to study on the second  Tuesday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130560"/>
            <a:ext cx="4824360" cy="372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80000" y="709560"/>
            <a:ext cx="4608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n the 31st of October there is Halowe’en. The symbol of this holiday 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Ja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'lanter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"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. People make it from a pump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Children like Haloween parties, they put on witch’s and  ghost’s dresses. They go “trick or treat”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55640" y="476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809880" cy="413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56000" y="733320"/>
            <a:ext cx="4608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 the 25th of December there is the greatest holiday of all in England – Christmas. People send X-mas cards to their friends and relatives. People buy a Christmas tree and decorate it with toys, coloured balls and ligh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ildren wake up early to find stockings full of small presents on their b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7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1042560"/>
            <a:ext cx="3889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ew Year’s Eve all British celebrate on the 31st of December. Most people see with friends and rel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t midnight they  sings New Year songs and wishes a happy New Year.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7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881080" cy="253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4230000"/>
            <a:ext cx="6408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St. Valentine’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On the 14th of February there is St. Valentine’s Day. People send Valentine’s cards to someone they love. Usually they don’t sing them – you must guess who sent cards to you.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685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1060200"/>
            <a:ext cx="4392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Mother’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In March there is a holiday for English women – Mother’s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People in the family try to help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On that day they visit their mothers and give them presents and “A Mother’s Day 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24784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mother's day roses clipart"/>
          <p:cNvPicPr/>
          <p:nvPr/>
        </p:nvPicPr>
        <p:blipFill>
          <a:blip r:embed="rId3"/>
          <a:stretch/>
        </p:blipFill>
        <p:spPr>
          <a:xfrm>
            <a:off x="1763640" y="3500280"/>
            <a:ext cx="29512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9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8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32360" y="764640"/>
            <a:ext cx="360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17th of March is a national holiday in Ireland – St. Patrick’s day. On that day people wear a shamrock. A shamrock is a plant with three leaves. It is the national symbol of Ire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. Patrick was a man who had wonderful power. He cleared Ireland of snake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3529080" cy="31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00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219640" y="844560"/>
            <a:ext cx="367344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mic Sans MS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April or at the end of March English people celebrate Easter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n Easter Sunday children get chocolate eggs and rabbits.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640160" cy="291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71640" y="554040"/>
            <a:ext cx="2305080" cy="169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24922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03640" y="909000"/>
            <a:ext cx="34102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mic Sans MS"/>
              </a:rPr>
              <a:t>April Fool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April Fool’s Day is on the 1st of April. English children like this day very much. They play jokes and tricks on other people, even on teachers.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457440" cy="345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4267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09880" cy="4076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538920"/>
            <a:ext cx="36720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Father’s day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 June the English people celebrate Father’s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n that day children send cards and give presents to their father’s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34:18Z</dcterms:created>
  <dc:creator>Казанка</dc:creator>
  <dc:description/>
  <dc:language>en-US</dc:language>
  <cp:lastModifiedBy>Казанка</cp:lastModifiedBy>
  <dcterms:modified xsi:type="dcterms:W3CDTF">2008-03-13T11:32:25Z</dcterms:modified>
  <cp:revision>8</cp:revision>
  <dc:subject/>
  <dc:title>Слайд 1</dc:title>
</cp:coreProperties>
</file>