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1.gif" ContentType="image/gif"/>
  <Override PartName="/ppt/media/image6.png" ContentType="image/png"/>
  <Override PartName="/ppt/media/image3.gif" ContentType="image/gif"/>
  <Override PartName="/ppt/media/image9.png" ContentType="image/png"/>
  <Override PartName="/ppt/media/image29.gif" ContentType="image/gif"/>
  <Override PartName="/ppt/media/image5.gif" ContentType="image/gif"/>
  <Override PartName="/ppt/media/image28.gif" ContentType="image/gif"/>
  <Override PartName="/ppt/media/image8.gif" ContentType="image/gif"/>
  <Override PartName="/ppt/media/image4.jpeg" ContentType="image/jpeg"/>
  <Override PartName="/ppt/media/image25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2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6.png" ContentType="image/png"/>
  <Override PartName="/ppt/media/image2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jpeg" ContentType="image/jpeg"/>
  <Override PartName="/ppt/media/image14.gif" ContentType="image/gif"/>
  <Override PartName="/ppt/media/image21.gif" ContentType="image/gif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F6C-4F86-49C1-9E55-024639A4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F31-75F2-4625-9C0F-9FF1E970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880-5276-46B1-B61F-B6B907E6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8ED5-2F78-4DB0-84AA-61A27F95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2F82-183D-4C44-9D53-2E43FDC6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2B18-20ED-4B36-8E42-18DCE2D3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3EA0-1394-4BD8-9F4D-6762B0CE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A8E-BE8E-4E12-9B0D-84945913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909-E7D1-47EC-A716-2B79D0BF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62F2-D78E-4ED6-8EDC-CA95F20A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590-F96A-4278-A39E-8FB0AB78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FF57-B44F-4334-A05D-32665221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E985-255D-4E80-8795-67659DF19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hyperlink" Target="http://www.9151394.ru/projects/inyaz/fio_mioo/kulbida/web/27march/jack.htm" TargetMode="External"/><Relationship Id="rId4" Type="http://schemas.openxmlformats.org/officeDocument/2006/relationships/hyperlink" Target="http://www.9151394.ru/projects/inyaz/fio_mioo/kulbida/web/27march/jack.htm" TargetMode="External"/><Relationship Id="rId5" Type="http://schemas.openxmlformats.org/officeDocument/2006/relationships/hyperlink" Target="http://www.9151394.ru/projects/inyaz/fio_mioo/kulbida/web/27march/jack.htm" TargetMode="External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301800">
            <a:off x="899640" y="823680"/>
            <a:ext cx="734220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0066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HOLIDAYS</a:t>
            </a:r>
            <a:endParaRPr b="1" lang="en-US" sz="1800" spc="1" strike="noStrike">
              <a:ln w="57240">
                <a:solidFill>
                  <a:srgbClr val="ff0066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76360" y="404640"/>
            <a:ext cx="3409920" cy="2971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39640" y="3429000"/>
            <a:ext cx="3024360" cy="2913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219640" y="1628640"/>
            <a:ext cx="338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In Gteat Britai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don’t go to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on the 1</a:t>
            </a:r>
            <a:r>
              <a:rPr b="1" lang="en-US" sz="2800" spc="-1" strike="noStrike" baseline="30000">
                <a:solidFill>
                  <a:srgbClr val="6600cc"/>
                </a:solidFill>
                <a:latin typeface="Comic Sans MS"/>
              </a:rPr>
              <a:t>st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of Sept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They begin to study on the second  Tuesday of Sept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130560"/>
            <a:ext cx="4824360" cy="3727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780000" y="709560"/>
            <a:ext cx="460836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Hallow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On the 31st of October there is Halowe’en. The symbol of this holiday is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"Jack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'lantern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"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. People make it from a pumpk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Children like Haloween parties, they put on witch’s and  ghost’s dresses. They go “trick or treat”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755640" y="47628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3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3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3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809880" cy="4133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356000" y="733320"/>
            <a:ext cx="46087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Christ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On the 25th of December there is the greatest holiday of all in England – Christmas. People send X-mas cards to their friends and relatives. People buy a Christmas tree and decorate it with toys, coloured balls and light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hildren wake up early to find stockings full of small presents on their b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7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380988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859280" y="1042560"/>
            <a:ext cx="38894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New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New Year’s Eve all British celebrate on the 31st of December. Most people see with friends and relati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At midnight they  sings New Year songs and wishes a happy New Year.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700"/>
                            </p:stCondLst>
                            <p:childTnLst>
                              <p:par>
                                <p:cTn id="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2881080" cy="2535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00000" y="4230000"/>
            <a:ext cx="64087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St. Valentine’s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On the 14th of February there is St. Valentine’s Day. People send Valentine’s cards to someone they love. Usually they don’t sing them – you must guess who sent cards to you.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26859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27640" y="1060200"/>
            <a:ext cx="43923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Mother’s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In March there is a holiday for English women – Mother’s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People in the family try to help 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On that day they visit their mothers and give them presents and “A Mother’s Day Ca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2247840" cy="2857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mother's day roses clipart"/>
          <p:cNvPicPr/>
          <p:nvPr/>
        </p:nvPicPr>
        <p:blipFill>
          <a:blip r:embed="rId3"/>
          <a:stretch/>
        </p:blipFill>
        <p:spPr>
          <a:xfrm>
            <a:off x="1763640" y="3500280"/>
            <a:ext cx="295128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900"/>
                            </p:stCondLst>
                            <p:childTnLst>
                              <p:par>
                                <p:cTn id="1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3800"/>
                            </p:stCondLst>
                            <p:childTnLst>
                              <p:par>
                                <p:cTn id="1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932360" y="764640"/>
            <a:ext cx="3603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17th of March is a national holiday in Ireland – St. Patrick’s day. On that day people wear a shamrock. A shamrock is a plant with three leaves. It is the national symbol of Ire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. Patrick was a man who had wonderful power. He cleared Ireland of snakes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03280" y="2997360"/>
            <a:ext cx="3529080" cy="311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000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219640" y="844560"/>
            <a:ext cx="367344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Comic Sans MS"/>
              </a:rPr>
              <a:t>E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In April or at the end of March English people celebrate Easter 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On Easter Sunday children get chocolate eggs and rabbits.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640160" cy="2919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771640" y="554040"/>
            <a:ext cx="2305080" cy="1690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68360" y="2492280"/>
            <a:ext cx="4876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3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3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3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03640" y="909000"/>
            <a:ext cx="341028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Comic Sans MS"/>
              </a:rPr>
              <a:t>April Fool’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April Fool’s Day is on the 1st of April. English children like this day very much. They play jokes and tricks on other people, even on teachers.</a:t>
            </a:r>
            <a:r>
              <a:rPr b="0" lang="ru-RU" sz="28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3457440" cy="3457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68360" y="3357720"/>
            <a:ext cx="42670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3809880" cy="4076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03640" y="538920"/>
            <a:ext cx="367200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Comic Sans MS"/>
              </a:rPr>
              <a:t>Father’s day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 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n June the English people celebrate Father’s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On that day children send cards and give presents to their father’s.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2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2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2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2:34:18Z</dcterms:created>
  <dc:creator>Казанка</dc:creator>
  <dc:description/>
  <dc:language>en-US</dc:language>
  <cp:lastModifiedBy>Казанка</cp:lastModifiedBy>
  <dcterms:modified xsi:type="dcterms:W3CDTF">2008-03-13T11:32:25Z</dcterms:modified>
  <cp:revision>8</cp:revision>
  <dc:subject/>
  <dc:title>Слайд 1</dc:title>
</cp:coreProperties>
</file>