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40.gif" ContentType="image/gif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8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488-2CFF-41F3-B538-46B3CB43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63A-8609-4DDC-8272-8A53A4EE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4F4-4ABB-4E2A-95C7-C74FABD9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CFA-E5C8-4671-8C0C-221E60F6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092-AE02-467F-8AA4-CFA5F7EA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F32-FBA6-4B3F-942F-95B0D850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E81-1137-4252-B199-FE27D18C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31B-AF79-4B0A-8AED-BDBD57B7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CB76-4B7B-472C-BC1D-11C4BEE3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137-60A6-4163-8C2E-A6C9A0D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B12-E621-4A24-8D25-F028C53F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49C5-A96F-4166-BE60-FC1F314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A5E3-EC32-4AF0-A8F3-ECB3E4C8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762280"/>
            <a:ext cx="6248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ylfaen"/>
              </a:rPr>
              <a:t>молекулы</a:t>
            </a:r>
            <a:endParaRPr b="0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42" name=""/>
          <p:cNvSpPr/>
          <p:nvPr/>
        </p:nvSpPr>
        <p:spPr>
          <a:xfrm>
            <a:off x="1754280" y="5791320"/>
            <a:ext cx="537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коловская Евгени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"Беломорская СОШ №3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Фотографии молеку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Людмила\Рабочий стол\кананыхина строение вещ\normal_104381.jpg"/>
          <p:cNvPicPr/>
          <p:nvPr/>
        </p:nvPicPr>
        <p:blipFill>
          <a:blip r:embed="rId1"/>
          <a:stretch/>
        </p:blipFill>
        <p:spPr>
          <a:xfrm>
            <a:off x="3124080" y="1600200"/>
            <a:ext cx="3332160" cy="23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Людмила\Рабочий стол\ДЛЯ гуру\i.jpeg"/>
          <p:cNvPicPr/>
          <p:nvPr/>
        </p:nvPicPr>
        <p:blipFill>
          <a:blip r:embed="rId2"/>
          <a:stretch/>
        </p:blipFill>
        <p:spPr>
          <a:xfrm>
            <a:off x="4343400" y="4191120"/>
            <a:ext cx="3335400" cy="2347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2971800" cy="2954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52280" y="4191120"/>
            <a:ext cx="4343400" cy="2341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553080" y="1143000"/>
            <a:ext cx="223524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315200" y="3919680"/>
            <a:ext cx="16257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модели молекул разных веществ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олекулы одного вещества одинаков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а воды всегда одна и та 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нежи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па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1838160" cy="1838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10280" y="9144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10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086600" y="289548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733920" y="3505320"/>
            <a:ext cx="25016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ЗАКРЕП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1055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а золотой статуи в древнегреческом храме, которую целовали прихожане, за десятки лет замет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худел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чем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появляют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лубл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упенях древних каменны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стниц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31114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изнашиваются подмет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ботинок, и стираются до ды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кти пиджаков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4120" y="3200400"/>
            <a:ext cx="28382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78000"/>
            <a:ext cx="807732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ОПРЕДЕЛЕНИЕ РАЗМЕРОВ МАЛЫХ ТЕЛ МЕТОДОМ РЯДО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вам необходимо определить размеры очень маленьког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ла (хотя бы макового зернышка), и осуществить это с помощью измерительных приборов (например, линейки) невозможно, следует прибегнуть 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"методу рядов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547560"/>
            <a:ext cx="8610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тырехлетняя Маша подкралась у мамы за спиной к зеркалу и вылила себе на голову три флакона французских духов. Как мама, сидя к Маше спиной, догадалась о случившемся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5064" t="6101" r="11107" b="23695"/>
          <a:stretch/>
        </p:blipFill>
        <p:spPr>
          <a:xfrm>
            <a:off x="1523880" y="2209680"/>
            <a:ext cx="5639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Диффуз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явление проникновения частиц одного вещества между частицами друг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126540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62520" y="1676520"/>
            <a:ext cx="1265040" cy="1904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05720" y="1752480"/>
            <a:ext cx="126504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838080" y="3962520"/>
            <a:ext cx="1619280" cy="245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809880" y="3962520"/>
            <a:ext cx="1619280" cy="244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53080" y="3962520"/>
            <a:ext cx="1619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м объясняется явление диффузи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131616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126540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46320" y="2514600"/>
            <a:ext cx="131580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781680" y="15228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Молекул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это частицы, из которых состоят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3341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Молекула веще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это мельчайшая частица данного веще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малая частица воды – молекула в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ая малая частица сахара – молекула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46716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1582560" cy="286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альмары при нападении на ни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ыбрасывают темно – синею жидкость. Почему вода через некоторое время, где находится эта жидкость, становится прозрачной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5908" t="6298" r="31433" b="63385"/>
          <a:stretch/>
        </p:blipFill>
        <p:spPr>
          <a:xfrm>
            <a:off x="1905120" y="2209680"/>
            <a:ext cx="50655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944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наконец, на морском берегу, разбивающем вол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ье сыреет всегда, а на солнце ви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о сохн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деть, однако, нельзя, как влага на нё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д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 и не видно того, как она исчезает от зн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начит, дробится вода на такие мельчай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недоступны они совершенно для наш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46280" y="3581280"/>
            <a:ext cx="260640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00600" y="394344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ж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O   в H O – рыбы дышат растворённым 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ж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т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растворяет соль, сах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ж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ж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йная заварка добавляется в воду и окрашивает её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г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пахи распространяются в воздух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тв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т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5 лет золото и свинец проникают друг в друга на 1 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г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&lt;=&gt;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т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O  из воздуха через кожу проникает внутрь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057400" y="1371600"/>
                <a:ext cx="21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90920" y="1447920"/>
                <a:ext cx="21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676520"/>
                <a:ext cx="21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33720" y="5029200"/>
                <a:ext cx="134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Диффузия в различных средах: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д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ерды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57600" y="23623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4952880"/>
            <a:ext cx="227304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3575160"/>
            <a:ext cx="2441520" cy="3282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019920" y="685800"/>
            <a:ext cx="2571480" cy="1671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867280" y="4419720"/>
            <a:ext cx="30006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т чего зависит скорость диффуз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темп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состояния вещества(агрегатн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рода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Вопросы на засыпку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трудно отвинтить гайку, долго находившуюся в туго завинченном состоянии, хотя болт и гайка сделаны из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ржавеюще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етал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круг гвоздя, забитого в сырую доску, через некоторое время появляется красноватый налёт. Объясните пр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 Чтобы сварить (соединить) два куска железа или стали, их нагревают до определённой температуры, накладывают друг на друга и ударяют по ним молотком. Объясните, зач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 Почему чай заваривают горячей, а не холодной или тёплой вод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Что мешает семикласснику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Васе,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пойманному директором школы на месте курения,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распасться на отдельные молекулы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и врассыпную исчезнуть из вида 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29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екулы состоят из еще более мелких частиц –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томов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ример, молекула воды состоит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из одного атома кислорода и двух атомов водорода.</a:t>
            </a:r>
            <a:r>
              <a:rPr b="1" lang="en-US" sz="2400" spc="-1" strike="noStrike">
                <a:solidFill>
                  <a:srgbClr val="ff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том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свою очередь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состоят из протонов, нейтронов и электр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9920" y="3938760"/>
            <a:ext cx="290196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 Unicode MS"/>
              </a:rPr>
              <a:t>Молекулы и атомы так малы, что представить себе их размеры можно только путем сравнени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размеры молекул"/>
          <p:cNvPicPr/>
          <p:nvPr/>
        </p:nvPicPr>
        <p:blipFill>
          <a:blip r:embed="rId1"/>
          <a:stretch/>
        </p:blipFill>
        <p:spPr>
          <a:xfrm>
            <a:off x="857160" y="2143080"/>
            <a:ext cx="69915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азмеры молеку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262240"/>
            <a:ext cx="830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6440" y="1613520"/>
            <a:ext cx="62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ы стали размером с точку на листе бум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огда все бы тела тоже увеличились и верхушка Эйфелевой  башни достала бы до Луны, люди бы были высотой 1700 км, мыши были бы длинной 100 км, а мухи – 7 км, каждый волос был бы толщиной 100 м, красные тельца нашей крови – эритроциты имели бы в поперечнике 7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овек во столько раз больше ат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о сколько раз он сам меньше звез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801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еще пример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на капля воды содерж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лько же молекул, сколько таких капель в Черном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3357720"/>
            <a:ext cx="33530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Как увидеть молекулу?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е малые частицы как молекулы нельзя увидеть в простой микроскоп. Однако существую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лектронные микроскоп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с их помощью стало возможно получить фотографии молекул и даже атомов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59100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327636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1670040"/>
            <a:ext cx="3416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омы можно увидеть в самые современные электронные микроскоп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2590920" cy="207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00200" y="3809880"/>
            <a:ext cx="3352680" cy="268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3200400" cy="3147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57600" y="1752480"/>
            <a:ext cx="2838600" cy="2135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8240" y="3925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7280" y="6418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16080" y="156384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3080" y="29354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MA</cp:lastModifiedBy>
  <dcterms:modified xsi:type="dcterms:W3CDTF">2009-10-01T07:48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