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40.gif" ContentType="image/gif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2C0-FA8C-4FBA-9510-C01A07A4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C84-F9F0-45AD-A8A9-224515F0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9EC-A653-4622-9079-E820285F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789-5526-47E3-AC74-F4164A9B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1B3-EA2C-4934-8D93-F0345843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067-848E-48DC-A96C-CF2951C7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B3B-EEF9-469F-848E-8801EF6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849-F1CC-40DC-B0CE-CC29D96E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11C-DB5B-4AE8-954F-CF222C8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22E-D948-4FF2-8D4C-E4146BC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DB0-15BB-41FC-BFC5-2BEAD30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F71-31BE-45D3-9F27-1DF9ABE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0B4C-7A88-478C-8EF9-245581C4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762280"/>
            <a:ext cx="6248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ylfaen"/>
              </a:rPr>
              <a:t>молекулы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2" name=""/>
          <p:cNvSpPr/>
          <p:nvPr/>
        </p:nvSpPr>
        <p:spPr>
          <a:xfrm>
            <a:off x="1754280" y="5791320"/>
            <a:ext cx="53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коловская Евгени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"Беломорская СОШ №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Фотографии молеку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Людмила\Рабочий стол\кананыхина строение вещ\normal_104381.jpg"/>
          <p:cNvPicPr/>
          <p:nvPr/>
        </p:nvPicPr>
        <p:blipFill>
          <a:blip r:embed="rId1"/>
          <a:stretch/>
        </p:blipFill>
        <p:spPr>
          <a:xfrm>
            <a:off x="3124080" y="1600200"/>
            <a:ext cx="3332160" cy="23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Людмила\Рабочий стол\ДЛЯ гуру\i.jpeg"/>
          <p:cNvPicPr/>
          <p:nvPr/>
        </p:nvPicPr>
        <p:blipFill>
          <a:blip r:embed="rId2"/>
          <a:stretch/>
        </p:blipFill>
        <p:spPr>
          <a:xfrm>
            <a:off x="4343400" y="4191120"/>
            <a:ext cx="3335400" cy="23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2971800" cy="2954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4343400" cy="234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553080" y="1143000"/>
            <a:ext cx="223524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315200" y="3919680"/>
            <a:ext cx="16257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модели молекул разных веществ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олекулы одного вещества одинаков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а воды всегда одна и та 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неж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п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1838160" cy="183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10280" y="9144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10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086600" y="289548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733920" y="3505320"/>
            <a:ext cx="2501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ЗАКРЕП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105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а золотой статуи в древнегреческом храме, которую целовали прихожане, за десятки лет замет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худел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чем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появляю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убл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упенях древних каме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стниц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31114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изнашиваются подмет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отинок, и стираются до ды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кти пиджаков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4120" y="3200400"/>
            <a:ext cx="28382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78000"/>
            <a:ext cx="80773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ПРЕДЕЛЕНИЕ РАЗМЕРОВ МАЛЫХ ТЕЛ МЕТОДОМ РЯД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вам необходимо определить размеры очень маленьког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а (хотя бы макового зернышка), и осуществить это с помощью измерительных приборов (например, линейки) невозможно, следует прибегнуть 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"методу рядов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547560"/>
            <a:ext cx="8610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ырехлетняя Маша подкралась у мамы за спиной к зеркалу и вылила себе на голову три флакона французских духов. Как мама, сидя к Маше спиной, догадалась о случившемс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5064" t="6101" r="11107" b="23695"/>
          <a:stretch/>
        </p:blipFill>
        <p:spPr>
          <a:xfrm>
            <a:off x="1523880" y="2209680"/>
            <a:ext cx="5639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Диффуз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явление проникновения частиц одного вещества между частицами 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126540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62520" y="1676520"/>
            <a:ext cx="1265040" cy="190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126504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38080" y="3962520"/>
            <a:ext cx="1619280" cy="245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809880" y="3962520"/>
            <a:ext cx="1619280" cy="244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53080" y="3962520"/>
            <a:ext cx="1619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м объясняется явление диффузи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131616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12654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46320" y="2514600"/>
            <a:ext cx="13158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Молекул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это частицы, из которых состоят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3341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Молекула веще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это мельчайшая частица данного вещ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ая частица воды – молекула в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ая частица сахара – молекула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46716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1582560" cy="28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льмары при нападении на ни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ыбрасывают темно – синею жидкость. Почему вода через некоторое время, где находится эта жидкость, становится прозрачной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5908" t="6298" r="31433" b="63385"/>
          <a:stretch/>
        </p:blipFill>
        <p:spPr>
          <a:xfrm>
            <a:off x="1905120" y="2209680"/>
            <a:ext cx="50655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аконец, на морском берегу, разбивающем вол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ье сыреет всегда, а на солнце ви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о сох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еть, однако, нельзя, как влага на н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д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 и не видно того, как она исчезает от зн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, дробится вода на такие мельчай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едоступны они совершенно для наш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46280" y="3581280"/>
            <a:ext cx="260640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00600" y="39434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ж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O   в H O – рыбы дышат растворённым 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ж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растворяет соль, сах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ж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ж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йная заварка добавляется в воду и окрашивает её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г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ахи распространяются в возд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тв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5 лет золото и свинец проникают друг в друга на 1 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O  из воздуха через кожу проникает внутрь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057400" y="137160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90920" y="144792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67652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33720" y="5029200"/>
                <a:ext cx="134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Диффузия в различных средах: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ерды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4952880"/>
            <a:ext cx="22730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3575160"/>
            <a:ext cx="2441520" cy="3282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019920" y="685800"/>
            <a:ext cx="2571480" cy="167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867280" y="4419720"/>
            <a:ext cx="30006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т чего зависит скорость диффуз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темп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состояния вещества(агрегатн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рода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Вопросы на засып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трудно отвинтить гайку, долго находившуюся в туго завинченном состоянии, хотя болт и гайка сделаны из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ржавеюще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ет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круг гвоздя, забитого в сырую доску, через некоторое время появляется красноватый налёт. Объясните пр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 Чтобы сварить (соединить) два куска железа или стали, их нагревают до определённой температуры, накладывают друг на друга и ударяют по ним молотком. Объясните, зач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 Почему чай заваривают горячей, а не холодной или тёплой вод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Что мешает семикласснику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асе,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ойманному директором школы на месте курения,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спасться на отдельные молекулы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 врассыпную исчезнуть из вида 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29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екулы состоят из еще более мелких частиц –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том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имер, молекула воды состоит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из одного атома кислорода и двух атомов водорода.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том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свою очередь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остоят из протонов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9920" y="3938760"/>
            <a:ext cx="29019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Unicode MS"/>
              </a:rPr>
              <a:t>Молекулы и атомы так малы, что представить себе их размеры можно только путем сравнени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размеры молекул"/>
          <p:cNvPicPr/>
          <p:nvPr/>
        </p:nvPicPr>
        <p:blipFill>
          <a:blip r:embed="rId1"/>
          <a:stretch/>
        </p:blipFill>
        <p:spPr>
          <a:xfrm>
            <a:off x="857160" y="2143080"/>
            <a:ext cx="6991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азмеры молеку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62240"/>
            <a:ext cx="830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6440" y="161352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ы стали размером с точку на листе бум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огда все бы тела тоже увеличились и верхушка Эйфелевой  башни достала бы до Луны, люди бы были высотой 1700 км, мыши были бы длинной 100 км, а мухи – 7 км, каждый волос был бы толщиной 100 м, красные тельца нашей крови – эритроциты имели бы в поперечнике 7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овек во столько раз больше ат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о сколько раз он сам меньше зв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80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еще пример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на капля воды содерж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лько же молекул, сколько таких капель в Черном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357720"/>
            <a:ext cx="33530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Как увидеть молекулу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е малые частицы как молекулы нельзя увидеть в простой микроскоп. Однако существую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лектронные микроскоп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с их помощью стало возможно получить фотографии молекул и даже атомов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5910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27636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670040"/>
            <a:ext cx="3416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омы можно увидеть в самые современные электронные микроскоп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3352680" cy="268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3200400" cy="31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57600" y="1752480"/>
            <a:ext cx="2838600" cy="2135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8240" y="3925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7280" y="6418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16080" y="156384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3080" y="29354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MA</cp:lastModifiedBy>
  <dcterms:modified xsi:type="dcterms:W3CDTF">2009-10-01T07:48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