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E0E-1968-4FE1-B2CB-5F810941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D7A-782E-492A-8FFA-9C172745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A2C-C544-43EE-98BF-539D1499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2E7-2087-42F4-AC8D-8496C5BE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1EF-4185-4CF3-8FDD-37067C58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B1B-3CAB-4ED1-864D-6473E561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F87-744E-4093-8E53-B46488D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629-9518-4158-B663-62A6734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601-B0F3-49AA-81EF-F645572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00B-8C2B-48FE-846E-BD59E187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D5C-E7D9-4FAA-9341-D7016AD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2C7-0A91-4D3A-8DFF-4F0D02C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489-472B-40EE-8574-CBBE5EC31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учно – практиче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СБЕРЕЧЬ ЭНЕРГИЮ И ДЕНЬ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Анализ   статистики потребления  и  способы снижения потребления электроэнерг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64000" y="4797360"/>
            <a:ext cx="511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Шевелев А., учащийся 9 класса МОУ «СОШ № 16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й руководитель: Поличкина К.Г., учитель математ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влова С.К. – учитель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874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40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0" y="3789360"/>
            <a:ext cx="3708360" cy="117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3"/>
          <a:stretch/>
        </p:blipFill>
        <p:spPr>
          <a:xfrm>
            <a:off x="0" y="5157720"/>
            <a:ext cx="4610160" cy="1498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7"/>
          <p:cNvSpPr/>
          <p:nvPr/>
        </p:nvSpPr>
        <p:spPr>
          <a:xfrm>
            <a:off x="6227640" y="458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риф 2,1 руб/кВт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 rot="18313200">
            <a:off x="7165080" y="3932640"/>
            <a:ext cx="935280" cy="216000"/>
          </a:xfrm>
          <a:prstGeom prst="rightArrow">
            <a:avLst>
              <a:gd name="adj1" fmla="val 50000"/>
              <a:gd name="adj2" fmla="val 10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0"/>
          <p:cNvSpPr/>
          <p:nvPr/>
        </p:nvSpPr>
        <p:spPr>
          <a:xfrm>
            <a:off x="8172360" y="3284640"/>
            <a:ext cx="97164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4"/>
          <a:stretch/>
        </p:blipFill>
        <p:spPr>
          <a:xfrm>
            <a:off x="4581360" y="515772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88" name="Oval 19"/>
          <p:cNvSpPr/>
          <p:nvPr/>
        </p:nvSpPr>
        <p:spPr>
          <a:xfrm>
            <a:off x="4716360" y="6381720"/>
            <a:ext cx="1225800" cy="38592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Лампа накал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сто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ие раз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нужность пускорегулирующей аппа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ый выход на рабочий реж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ая чувствительность к сбоям в питании и скачкам напря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оксичных компонентов и как следствие отсутствие необходимости в инфраструктуре по сбору и ути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работы на любом роде т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изготовления ламп на самое разное напряжение (от долей вольта до сотен вольт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мерцания и гудения при работе на переменном то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ерывный спектр изл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оятся низкой температуры окружающей сре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ая световая от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малый срок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и чувствительность к уда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овая температура лежит только в пределах 2300—2900 K, что придаёт свету желтоватый отте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накаливания представляют пожарную опасность. Через 30 минут после включения ламп накаливания температура наружной поверхности достигает в зависимости от мощности следующих величин: 40 Вт — 145 °C, 75 Вт — 250 °C, 100 Вт — 290 °C, 200 Вт — 330 °C. При соприкосновении ламп с текстильными материалами их колба нагревается еще силь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20px-%D0%9C%D0%9E"/>
          <p:cNvPicPr/>
          <p:nvPr/>
        </p:nvPicPr>
        <p:blipFill>
          <a:blip r:embed="rId1"/>
          <a:stretch/>
        </p:blipFill>
        <p:spPr>
          <a:xfrm>
            <a:off x="6804000" y="18900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Энергосберегающие лам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ое выделение тепла, что дает возможность ставить лампы большой мощности в компактные светильники и светильники с хрупким стекл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до 80% электроэнергии при том же уровне освещен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службы, превышающий срок службы ламп накаливания от 6 до 15 ра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омерное и мягкое рассеяние света; возможность давать свет разной цветовой темпера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средст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i"/>
          <p:cNvPicPr/>
          <p:nvPr/>
        </p:nvPicPr>
        <p:blipFill>
          <a:blip r:embed="rId1"/>
          <a:stretch/>
        </p:blipFill>
        <p:spPr>
          <a:xfrm>
            <a:off x="179280" y="1484280"/>
            <a:ext cx="4356360" cy="277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Ососбенности энергосберегающих ламп"/>
          <p:cNvPicPr/>
          <p:nvPr/>
        </p:nvPicPr>
        <p:blipFill>
          <a:blip r:embed="rId2"/>
          <a:stretch/>
        </p:blipFill>
        <p:spPr>
          <a:xfrm>
            <a:off x="1116000" y="4581360"/>
            <a:ext cx="266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«Мифы» о вред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едостатки энергосберегающих лам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туть и фосфор хоть и в очень малых количествах, присутствуют внутри энергосберегающих лам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за разогрева длится примерно 2  мину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способленна  к функционированию в низком диапазоне температур (-15-20ºC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"не любят" частого включения и выклю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цена. Цена энергосберегающей лампочки  в 10-20 раз дороже обычной лампочки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проблема: ути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Все энергосберегающие лампы вредны, т.к.  содержат пары ртути,  и неэкологич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Например, в КЛЛ Uniel, "Фотон" и ряда других производителей не применяются вредные для человека и природы пары ртути. В колбу вместо жидкой ртути вводится металлический сплав (т.н. "амальгама" - амальгама кальция). Данная технология расшир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нергосберегающие лампы вредны для глаз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сам по себе встроенный балласт обеспечивает частоту разрядов 30-50 кГц - это 30-50 тысяч раз за секунду, что уже совершенно незаметно для гл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льтрафиолетовое излучение от КЛЛ может вызвать раздражение кож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Воздействие на человека люминесцентного освещения гораздо меньше, чем воздействие естественного солнечно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имущества энергосберегающей ламп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овышенный срок службы и пониженное потребление электро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энергосберегающих ламп ведет к экономии электроэнергии, а значит,  к экономии семейного бюдж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становка датчиков освещенности и датчиков дви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6804000" y="3213000"/>
            <a:ext cx="1008000" cy="57636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6" name="Oval 6"/>
          <p:cNvSpPr/>
          <p:nvPr/>
        </p:nvSpPr>
        <p:spPr>
          <a:xfrm>
            <a:off x="6804000" y="6093000"/>
            <a:ext cx="100800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снижению потребления электро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00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амена ламп накаливания на энергосберегающие лампы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2. Установка датчиков освещенности и датчиков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Тенденция мирового развития свидетельствует о необходимости перехода и в быту, и на производстве  на энергосберегающие лампы и использование энергосберегающих  приборов (датчики света, дви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Экономический эффект от замены ламп накаливания энергосберегающими лампами составляет  2722,61 руб. в год, ожидаемая экономия электроэнергии – 1296480 Вт. Окупаемость  при замене ламп накаливания энергосберегающими лампами  - в среднем от 4 до 6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Энергосберегающие лампы имеют больше положительных свойств, чем отрицательных (основная трудность – утилизац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читывая экономию на электроэнергии при использовании этих ламп и с их срок службы применение энергосберегающих ламп станет для вас и вашего бюджета более выгод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еди энергосберегающих ламп наиболее  экологически и экономически выгодны светодиодные лампы (лампы накаливания – прошлое, энергосберегающие лампы – настоящее, светодиодные лампы – будущ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Благодарим за консульт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банова А.В., Главного энергетика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чкина В.Н., инспектора  по теплоэнергетике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042920" y="54936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июля 2009 года Президент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митрий Медведев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я на засед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ума Госсовета по вопросам 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эффективности отметил, что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повышения энергоэффективности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 запрет на оборот ламп накал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г.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льный закон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 от 23 ноября 2009 г. N 261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"Об энергосбережении и о повыш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энергетической эффективности и о внесении изменений в отдельные законодательные акты Российской Федерации"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ю настоящего Федерального закона являлось  создание правовых, экономических и организационных основ стимулирования энергосбережения и повышения энергетической требований к обороту отдельных товаров, функциональное назначение которых предполагает использование энергетических ресур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0.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 1 января 2011 года к обороту на территории Российской Федерации не допускаются электрические лампы накаливания мощностью сто ватт и более, которые могут быть использованы в цепях переменного тока в целях освещ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медведев"/>
          <p:cNvPicPr/>
          <p:nvPr/>
        </p:nvPicPr>
        <p:blipFill>
          <a:blip r:embed="rId1"/>
          <a:stretch/>
        </p:blipFill>
        <p:spPr>
          <a:xfrm>
            <a:off x="5865840" y="0"/>
            <a:ext cx="3278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 странах Евросою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ыли запрещены производство и импорт ламп накаливания мощностью 100 ватт и выше еще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09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обный закон вступает  в силу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 201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оссии доля использования всех энергосберегающих ламп едва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достигает четырех проц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счетам аналитиков, в течение пяти лет ситуация изменится -  возрастет как минимум до тридцати процентов. С этого года начали уходить с прилавк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м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щностью 100 ватт и выше,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13 году мы не увидим 75-ваттных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, а с 2014 года прекратится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роизводство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и продажа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мощностью 25 ват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производители: существует огромное количество фирм, которые их производят: OSRAM, Wolta, Philips, Nakai, Pila, Zeon, Electrum, Volta (Iskra), Космос, DeLuxe, Kanlux, SunLux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осси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изготовление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нергосберегающих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же начато на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омском электроламповом зав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егодняшний день предприятие- главный поставщ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каливания в регионах Сибири и Дальнего Востока. Открывается завод по изготовлению энергосберегающих ламп в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Послании Государственному Совету и народу Чувашии «В молодежь надо верить» Президент Чувашской Республики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Михаил Васильевич Игнатье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метил: «В условиях посткризисного развития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одним из ключевых направлений в деятель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ов местного самоуправления является </a:t>
            </a:r>
            <a:r>
              <a:rPr b="1" lang="ru-RU" sz="1900" spc="-1" strike="noStrike">
                <a:solidFill>
                  <a:srgbClr val="800000"/>
                </a:solidFill>
                <a:latin typeface="Arial"/>
              </a:rPr>
              <a:t>экономное и рациональное использование энергоресурсов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огласитесь, мы довольно щедро расходуем их, порой целыми днями (и летом, когда светло на улице, и зимой, когда нет необходимости) горят лампочки в подъездах наших домов. А когда получаем квитанции по оплате жилищно-коммунальных услуг и видим там начисления за общедомовые приборы учета электроэнергии, возмущаемся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игнатьенв"/>
          <p:cNvPicPr/>
          <p:nvPr/>
        </p:nvPicPr>
        <p:blipFill>
          <a:blip r:embed="rId1"/>
          <a:stretch/>
        </p:blipFill>
        <p:spPr>
          <a:xfrm>
            <a:off x="457200" y="1941480"/>
            <a:ext cx="4038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и и 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ь, как использование энергосберегающих ламп и энергосберегающих приборов может позволить сэкономить бюджет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оисков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бор информации  о лампах накаливания, энергосберегающих лампах, датчиках света и движения; состояние проблемы энергосбережения в Российской Федер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рактиче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меры энергопотребления ламп накаливания и энергосберегающих ламп в отдельно взятой квартире, расчеты по стоимости энергопотребл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исследователь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равнительный анализ потребления электроэнергии при использовании ламп накаливания и энергосберегающих ламп, расчет экономического эффекта при использовании энергосберегающих ламп и энергосберегающих приборов, анализ полученных данн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Провести сравнительный анализ   свойств энергосберегающих ламп и ламп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роанализировать статистику потребления электроэнергии (на основе анализа потребления электроэнергии в одной отдельно взятой кварти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Исследовать возможности энергосбережения на основе использования энергосберегающих ламп и энергосберегающих приборов (датчи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Разработать мероприятия по снижению потребления электроэнергии (на примере одной отдельно взятой квартиры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ценить экономический эффект от предложенных мероприят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1773360"/>
            <a:ext cx="5364000" cy="345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467240" y="4152960"/>
            <a:ext cx="4676760" cy="27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4467240" y="0"/>
            <a:ext cx="4676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анные опроса показали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о достаточной информацей о свойствах энергосберегающих ламп, экономическом эффекте от их использования в быту и на производстве знает достаточно малая доля опрошенных, большая часть жителей  пока еще недостаточно используют энергосберегающие лампы, не владеют информацией об использовании энергосберегающих приборов на производ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ероприятия в ход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но общее количество потребляемой мощности ламп накаливания за год, затраты на электроэнергию (по лампам накаливания) в отдельно взятой квартире (среднестатистический показатель – двухкомнатная кварти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дсчитаны затраты на электроэнергию при замене ламп накаливания на энергосберегающие лам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авнили затраты на электроэнергию при использования ламп накаливания и энергосберегающих лам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20px-Gluehlampe_01_KMJ"/>
          <p:cNvPicPr/>
          <p:nvPr/>
        </p:nvPicPr>
        <p:blipFill>
          <a:blip r:embed="rId1"/>
          <a:stretch/>
        </p:blipFill>
        <p:spPr>
          <a:xfrm>
            <a:off x="1619280" y="4797360"/>
            <a:ext cx="1368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81" descr=""/>
          <p:cNvPicPr/>
          <p:nvPr/>
        </p:nvPicPr>
        <p:blipFill>
          <a:blip r:embed="rId1"/>
          <a:stretch/>
        </p:blipFill>
        <p:spPr>
          <a:xfrm>
            <a:off x="1187280" y="2174760"/>
            <a:ext cx="1800360" cy="168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2" descr=""/>
          <p:cNvPicPr/>
          <p:nvPr/>
        </p:nvPicPr>
        <p:blipFill>
          <a:blip r:embed="rId2"/>
          <a:stretch/>
        </p:blipFill>
        <p:spPr>
          <a:xfrm>
            <a:off x="5364000" y="2174760"/>
            <a:ext cx="2521080" cy="169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3"/>
          <p:cNvSpPr/>
          <p:nvPr/>
        </p:nvSpPr>
        <p:spPr>
          <a:xfrm>
            <a:off x="1692360" y="1527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84"/>
          <p:cNvSpPr/>
          <p:nvPr/>
        </p:nvSpPr>
        <p:spPr>
          <a:xfrm>
            <a:off x="5867280" y="1527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85"/>
          <p:cNvSpPr/>
          <p:nvPr/>
        </p:nvSpPr>
        <p:spPr>
          <a:xfrm>
            <a:off x="3492360" y="2751120"/>
            <a:ext cx="1440000" cy="647640"/>
          </a:xfrm>
          <a:prstGeom prst="rightArrow">
            <a:avLst>
              <a:gd name="adj1" fmla="val 50000"/>
              <a:gd name="adj2" fmla="val 55586"/>
            </a:avLst>
          </a:prstGeom>
          <a:solidFill>
            <a:srgbClr val="0000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6"/>
          <p:cNvSpPr/>
          <p:nvPr/>
        </p:nvSpPr>
        <p:spPr>
          <a:xfrm>
            <a:off x="755640" y="400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па нака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87"/>
          <p:cNvSpPr/>
          <p:nvPr/>
        </p:nvSpPr>
        <p:spPr>
          <a:xfrm>
            <a:off x="4932360" y="4076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осберегающая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90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800360" cy="95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91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1584360" cy="955440"/>
          </a:xfrm>
          <a:prstGeom prst="rect">
            <a:avLst/>
          </a:prstGeom>
          <a:ln w="0">
            <a:noFill/>
          </a:ln>
        </p:spPr>
      </p:pic>
      <p:sp>
        <p:nvSpPr>
          <p:cNvPr id="74" name="Oval 692"/>
          <p:cNvSpPr/>
          <p:nvPr/>
        </p:nvSpPr>
        <p:spPr>
          <a:xfrm>
            <a:off x="197964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93"/>
          <p:cNvSpPr/>
          <p:nvPr/>
        </p:nvSpPr>
        <p:spPr>
          <a:xfrm>
            <a:off x="630072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4"/>
          <p:cNvSpPr/>
          <p:nvPr/>
        </p:nvSpPr>
        <p:spPr>
          <a:xfrm>
            <a:off x="334800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0/20 = 5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татистики потребления электроэнергии по меся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57400" y="1405080"/>
            <a:ext cx="682920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95280" y="57340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диаграммы видно, что в зимние месяцы потребление э/э выше, чем в летние, что обусловлено более коротким световым днем в зимние месяцы и большим расходом э/э на 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9:47:06Z</dcterms:created>
  <dc:creator>vasily.polichkin</dc:creator>
  <dc:description/>
  <dc:language>en-US</dc:language>
  <cp:lastModifiedBy>ZooM</cp:lastModifiedBy>
  <dcterms:modified xsi:type="dcterms:W3CDTF">2013-11-27T22:19:20Z</dcterms:modified>
  <cp:revision>30</cp:revision>
  <dc:subject/>
  <dc:title>Научно – практическая конференция</dc:title>
</cp:coreProperties>
</file>