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8.jpeg" ContentType="image/jpe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7C0-734B-40D2-8F9C-4D724CFB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87C-D3C9-44E0-987F-43756599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E1B-659E-4CBE-B5AE-6091D295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931-DE9C-44F4-A462-24E1D002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A76-72FD-44D4-A30E-8FF3ABBD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A60-2900-45FC-9C03-3010154D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6F90-FC51-4918-9659-4B610F1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09C-51C0-4072-B90E-D98D5EF6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DE5-4A16-4BC6-A7C5-84CBA587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110-7224-45B5-B4E5-C5550C88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9BB-A5B0-4166-8BBF-C2223F0E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C24-7EA7-4867-B63C-3EF837B8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36DB-3BB7-4E82-8C40-5E2DB78C4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учно – практическая конфе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8208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К СБЕРЕЧЬ ЭНЕРГИЮ И ДЕНЬГ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(Анализ   статистики потребления  и  способы снижения потребления электроэнерг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564000" y="4797360"/>
            <a:ext cx="5111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Шевелев А., учащийся 9 класса МОУ «СОШ № 16»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ый руководитель: Поличкина К.Г., учитель математи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влова С.К. – учитель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874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Замена ламп накаливания на энергосберегающие ламп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406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"/>
          <p:cNvPicPr/>
          <p:nvPr/>
        </p:nvPicPr>
        <p:blipFill>
          <a:blip r:embed="rId2"/>
          <a:stretch/>
        </p:blipFill>
        <p:spPr>
          <a:xfrm>
            <a:off x="0" y="3789360"/>
            <a:ext cx="3708360" cy="117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3"/>
          <a:stretch/>
        </p:blipFill>
        <p:spPr>
          <a:xfrm>
            <a:off x="0" y="5157720"/>
            <a:ext cx="4610160" cy="1498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7"/>
          <p:cNvSpPr/>
          <p:nvPr/>
        </p:nvSpPr>
        <p:spPr>
          <a:xfrm>
            <a:off x="6227640" y="458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риф 2,1 руб/кВт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 rot="18313200">
            <a:off x="7165080" y="3932640"/>
            <a:ext cx="935280" cy="216000"/>
          </a:xfrm>
          <a:prstGeom prst="rightArrow">
            <a:avLst>
              <a:gd name="adj1" fmla="val 50000"/>
              <a:gd name="adj2" fmla="val 10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0"/>
          <p:cNvSpPr/>
          <p:nvPr/>
        </p:nvSpPr>
        <p:spPr>
          <a:xfrm>
            <a:off x="8172360" y="3284640"/>
            <a:ext cx="971640" cy="57600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4"/>
          <a:stretch/>
        </p:blipFill>
        <p:spPr>
          <a:xfrm>
            <a:off x="4581360" y="5157720"/>
            <a:ext cx="1590840" cy="1505160"/>
          </a:xfrm>
          <a:prstGeom prst="rect">
            <a:avLst/>
          </a:prstGeom>
          <a:ln w="0">
            <a:noFill/>
          </a:ln>
        </p:spPr>
      </p:pic>
      <p:sp>
        <p:nvSpPr>
          <p:cNvPr id="88" name="Oval 19"/>
          <p:cNvSpPr/>
          <p:nvPr/>
        </p:nvSpPr>
        <p:spPr>
          <a:xfrm>
            <a:off x="4716360" y="6381720"/>
            <a:ext cx="1225800" cy="38592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Лампа накал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ая сто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большие разм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нужность пускорегулирующей аппа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ый выход на рабочий реж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ысокая чувствительность к сбоям в питании и скачкам напря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токсичных компонентов и как следствие отсутствие необходимости в инфраструктуре по сбору и ути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работы на любом роде то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изготовления ламп на самое разное напряжение (от долей вольта до сотен вольт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мерцания и гудения при работе на переменном то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ерывный спектр излу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оятся низкой температуры окружающей сре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ая световая отдач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малый срок служ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и чувствительность к уда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ветовая температура лежит только в пределах 2300—2900 K, что придаёт свету желтоватый отте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мпы накаливания представляют пожарную опасность. Через 30 минут после включения ламп накаливания температура наружной поверхности достигает в зависимости от мощности следующих величин: 40 Вт — 145 °C, 75 Вт — 250 °C, 100 Вт — 290 °C, 200 Вт — 330 °C. При соприкосновении ламп с текстильными материалами их колба нагревается еще сильн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20px-%D0%9C%D0%9E"/>
          <p:cNvPicPr/>
          <p:nvPr/>
        </p:nvPicPr>
        <p:blipFill>
          <a:blip r:embed="rId1"/>
          <a:stretch/>
        </p:blipFill>
        <p:spPr>
          <a:xfrm>
            <a:off x="6804000" y="189000"/>
            <a:ext cx="20955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Энергосберегающие лам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ысокое выделение тепла, что дает возможность ставить лампы большой мощности в компактные светильники и светильники с хрупким стекл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номия до 80% электроэнергии при том же уровне освещен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службы, превышающий срок службы ламп накаливания от 6 до 15 раз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номерное и мягкое рассеяние света; возможность давать свет разной цветовой температ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номия средст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i"/>
          <p:cNvPicPr/>
          <p:nvPr/>
        </p:nvPicPr>
        <p:blipFill>
          <a:blip r:embed="rId1"/>
          <a:stretch/>
        </p:blipFill>
        <p:spPr>
          <a:xfrm>
            <a:off x="179280" y="1484280"/>
            <a:ext cx="4356360" cy="277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Ососбенности энергосберегающих ламп"/>
          <p:cNvPicPr/>
          <p:nvPr/>
        </p:nvPicPr>
        <p:blipFill>
          <a:blip r:embed="rId2"/>
          <a:stretch/>
        </p:blipFill>
        <p:spPr>
          <a:xfrm>
            <a:off x="1116000" y="4581360"/>
            <a:ext cx="266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«Мифы» о вред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Недостатки энергосберегающих лам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туть и фосфор хоть и в очень малых количествах, присутствуют внутри энергосберегающих лам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за разогрева длится примерно 2  мину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испособленна  к функционированию в низком диапазоне температур (-15-20ºC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ампы "не любят" частого включения и выклю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цена. Цена энергосберегающей лампочки  в 10-20 раз дороже обычной лампочки накали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ая проблема: ути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ф 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Все энергосберегающие лампы вредны, т.к.  содержат пары ртути,  и неэкологич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я Интернет: Например, в КЛЛ Uniel, "Фотон" и ряда других производителей не применяются вредные для человека и природы пары ртути. В колбу вместо жидкой ртути вводится металлический сплав (т.н. "амальгама" - амальгама кальция). Данная технология расширя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ф №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нергосберегающие лампы вредны для глаз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я Интернет: сам по себе встроенный балласт обеспечивает частоту разрядов 30-50 кГц - это 30-50 тысяч раз за секунду, что уже совершенно незаметно для гла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ф №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льтрафиолетовое излучение от КЛЛ может вызвать раздражение кож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я Интернет: Воздействие на человека люминесцентного освещения гораздо меньше, чем воздействие естественного солнечно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имущества энергосберегающей ламп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овышенный срок службы и пониженное потребление электро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энергосберегающих ламп ведет к экономии электроэнергии, а значит,  к экономии семейного бюдж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Установка датчиков освещенности и датчиков движ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532560" cy="265896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>
            <a:off x="6804000" y="3213000"/>
            <a:ext cx="1008000" cy="57636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6532560" cy="2658960"/>
          </a:xfrm>
          <a:prstGeom prst="rect">
            <a:avLst/>
          </a:prstGeom>
          <a:ln w="0">
            <a:noFill/>
          </a:ln>
        </p:spPr>
      </p:pic>
      <p:sp>
        <p:nvSpPr>
          <p:cNvPr id="106" name="Oval 6"/>
          <p:cNvSpPr/>
          <p:nvPr/>
        </p:nvSpPr>
        <p:spPr>
          <a:xfrm>
            <a:off x="6804000" y="6093000"/>
            <a:ext cx="1008000" cy="57600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снижению потребления электро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90000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Замена ламп накаливания на энергосберегающие лампы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2. Установка датчиков освещенности и датчиков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Тенденция мирового развития свидетельствует о необходимости перехода и в быту, и на производстве  на энергосберегающие лампы и использование энергосберегающих  приборов (датчики света, движ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Экономический эффект от замены ламп накаливания энергосберегающими лампами составляет  2722,61 руб. в год, ожидаемая экономия электроэнергии – 1296480 Вт. Окупаемость  при замене ламп накаливания энергосберегающими лампами  - в среднем от 4 до 6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Энергосберегающие лампы имеют больше положительных свойств, чем отрицательных (основная трудность – утилизац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читывая экономию на электроэнергии при использовании этих ламп и с их срок службы применение энергосберегающих ламп станет для вас и вашего бюджета более выгод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еди энергосберегающих ламп наиболее  экологически и экономически выгодны светодиодные лампы (лампы накаливания – прошлое, энергосберегающие лампы – настоящее, светодиодные лампы – будуще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Благодарим за консульт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банова А.В., Главного энергетика ОАО «СанИнБеф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чкина В.Н., инспектора  по теплоэнергетике ОАО «СанИнБеф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1042920" y="549360"/>
            <a:ext cx="7201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210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июля 2009 года Президент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митрий Медведев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ступая на заседа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ума Госсовета по вопросам повы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нергоэффективности отметил, что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ях повышения энергоэффективности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 запрет на оборот ламп накали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9г.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едеральный закон Россий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едерации от 23 ноября 2009 г. N 261-Ф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"Об энергосбережении и о повыш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энергетической эффективности и о внесении изменений в отдельные законодательные акты Российской Федерации"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ю настоящего Федерального закона являлось  создание правовых, экономических и организационных основ стимулирования энергосбережения и повышения энергетической требований к обороту отдельных товаров, функциональное назначение которых предполагает использование энергетических ресурс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0. 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 1 января 2011 года к обороту на территории Российской Федерации не допускаются электрические лампы накаливания мощностью сто ватт и более, которые могут быть использованы в цепях переменного тока в целях освещ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медведев"/>
          <p:cNvPicPr/>
          <p:nvPr/>
        </p:nvPicPr>
        <p:blipFill>
          <a:blip r:embed="rId1"/>
          <a:stretch/>
        </p:blipFill>
        <p:spPr>
          <a:xfrm>
            <a:off x="5865840" y="0"/>
            <a:ext cx="3278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 странах Евросоюз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ыли запрещены производство и импорт ламп накаливания мощностью 100 ватт и выше еще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2009 год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Рос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обный закон вступает  в силу 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 2011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ейча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оссии доля использования всех энергосберегающих ламп едва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достигает четырех проц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асчетам аналитиков, в течение пяти лет ситуация изменится -  возрастет как минимум до тридцати процентов. С этого года начали уходить с прилавко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мп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щностью 100 ватт и выше,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в 2013 году мы не увидим 75-ваттных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лампоче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, а с 2014 года прекратится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производство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 и продажа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лампочек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 мощностью 25 ват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производители: существует огромное количество фирм, которые их производят: OSRAM, Wolta, Philips, Nakai, Pila, Zeon, Electrum, Volta (Iskra), Космос, DeLuxe, Kanlux, SunLux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оссии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изготовление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нергосберегающих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ам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же начато на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омском электроламповом зав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егодняшний день предприятие- главный поставщ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м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каливания в регионах Сибири и Дальнего Востока. Открывается завод по изготовлению энергосберегающих ламп в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анкт-Петербур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Послании Государственному Совету и народу Чувашии «В молодежь надо верить» Президент Чувашской Республики </a:t>
            </a:r>
            <a:r>
              <a:rPr b="0" lang="ru-RU" sz="1900" spc="-1" strike="noStrike">
                <a:solidFill>
                  <a:srgbClr val="800000"/>
                </a:solidFill>
                <a:latin typeface="Arial"/>
              </a:rPr>
              <a:t>Михаил Васильевич Игнатье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тметил: «В условиях посткризисного развития </a:t>
            </a:r>
            <a:r>
              <a:rPr b="0" lang="ru-RU" sz="1900" spc="-1" strike="noStrike">
                <a:solidFill>
                  <a:srgbClr val="800000"/>
                </a:solidFill>
                <a:latin typeface="Arial"/>
              </a:rPr>
              <a:t>одним из ключевых направлений в деятельнос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рганов местного самоуправления является </a:t>
            </a:r>
            <a:r>
              <a:rPr b="1" lang="ru-RU" sz="1900" spc="-1" strike="noStrike">
                <a:solidFill>
                  <a:srgbClr val="800000"/>
                </a:solidFill>
                <a:latin typeface="Arial"/>
              </a:rPr>
              <a:t>экономное и рациональное использование энергоресурсов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огласитесь, мы довольно щедро расходуем их, порой целыми днями (и летом, когда светло на улице, и зимой, когда нет необходимости) горят лампочки в подъездах наших домов. А когда получаем квитанции по оплате жилищно-коммунальных услуг и видим там начисления за общедомовые приборы учета электроэнергии, возмущаемся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игнатьенв"/>
          <p:cNvPicPr/>
          <p:nvPr/>
        </p:nvPicPr>
        <p:blipFill>
          <a:blip r:embed="rId1"/>
          <a:stretch/>
        </p:blipFill>
        <p:spPr>
          <a:xfrm>
            <a:off x="457200" y="1941480"/>
            <a:ext cx="40384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Цели и задач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ь, как использование энергосберегающих ламп и энергосберегающих приборов может позволить сэкономить бюджет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ы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поисковы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сбор информации  о лампах накаливания, энергосберегающих лампах, датчиках света и движения; состояние проблемы энергосбережения в Российской Федераци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практиче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замеры энергопотребления ламп накаливания и энергосберегающих ламп в отдельно взятой квартире, расчеты по стоимости энергопотребл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исследователь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сравнительный анализ потребления электроэнергии при использовании ламп накаливания и энергосберегающих ламп, расчет экономического эффекта при использовании энергосберегающих ламп и энергосберегающих приборов, анализ полученных данны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Провести сравнительный анализ   свойств энергосберегающих ламп и ламп накали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Проанализировать статистику потребления электроэнергии (на основе анализа потребления электроэнергии в одной отдельно взятой кварти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Исследовать возможности энергосбережения на основе использования энергосберегающих ламп и энергосберегающих приборов (датчи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Разработать мероприятия по снижению потребления электроэнергии (на примере одной отдельно взятой квартиры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ценить экономический эффект от предложенных мероприят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0" y="1773360"/>
            <a:ext cx="5364000" cy="3457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4467240" y="4152960"/>
            <a:ext cx="4676760" cy="2705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5"/>
          <a:stretch/>
        </p:blipFill>
        <p:spPr>
          <a:xfrm>
            <a:off x="4467240" y="0"/>
            <a:ext cx="4676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4038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Данные опроса показали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то достаточной информацей о свойствах энергосберегающих ламп, экономическом эффекте от их использования в быту и на производстве знает достаточно малая доля опрошенных, большая часть жителей  пока еще недостаточно используют энергосберегающие лампы, не владеют информацией об использовании энергосберегающих приборов на производ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ероприятия в ходе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читано общее количество потребляемой мощности ламп накаливания за год, затраты на электроэнергию (по лампам накаливания) в отдельно взятой квартире (среднестатистический показатель – двухкомнатная кварти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одсчитаны затраты на электроэнергию при замене ламп накаливания на энергосберегающие лам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авнили затраты на электроэнергию при использования ламп накаливания и энергосберегающих лам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220px-Gluehlampe_01_KMJ"/>
          <p:cNvPicPr/>
          <p:nvPr/>
        </p:nvPicPr>
        <p:blipFill>
          <a:blip r:embed="rId1"/>
          <a:stretch/>
        </p:blipFill>
        <p:spPr>
          <a:xfrm>
            <a:off x="1619280" y="4797360"/>
            <a:ext cx="1368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Замена ламп накаливания на энергосберегающие лампы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81" descr=""/>
          <p:cNvPicPr/>
          <p:nvPr/>
        </p:nvPicPr>
        <p:blipFill>
          <a:blip r:embed="rId1"/>
          <a:stretch/>
        </p:blipFill>
        <p:spPr>
          <a:xfrm>
            <a:off x="1187280" y="2174760"/>
            <a:ext cx="1800360" cy="168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2" descr=""/>
          <p:cNvPicPr/>
          <p:nvPr/>
        </p:nvPicPr>
        <p:blipFill>
          <a:blip r:embed="rId2"/>
          <a:stretch/>
        </p:blipFill>
        <p:spPr>
          <a:xfrm>
            <a:off x="5364000" y="2174760"/>
            <a:ext cx="2521080" cy="1697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83"/>
          <p:cNvSpPr/>
          <p:nvPr/>
        </p:nvSpPr>
        <p:spPr>
          <a:xfrm>
            <a:off x="1692360" y="15271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84"/>
          <p:cNvSpPr/>
          <p:nvPr/>
        </p:nvSpPr>
        <p:spPr>
          <a:xfrm>
            <a:off x="5867280" y="1527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85"/>
          <p:cNvSpPr/>
          <p:nvPr/>
        </p:nvSpPr>
        <p:spPr>
          <a:xfrm>
            <a:off x="3492360" y="2751120"/>
            <a:ext cx="1440000" cy="647640"/>
          </a:xfrm>
          <a:prstGeom prst="rightArrow">
            <a:avLst>
              <a:gd name="adj1" fmla="val 50000"/>
              <a:gd name="adj2" fmla="val 55586"/>
            </a:avLst>
          </a:prstGeom>
          <a:solidFill>
            <a:srgbClr val="0000ff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86"/>
          <p:cNvSpPr/>
          <p:nvPr/>
        </p:nvSpPr>
        <p:spPr>
          <a:xfrm>
            <a:off x="755640" y="4005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ампа нака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87"/>
          <p:cNvSpPr/>
          <p:nvPr/>
        </p:nvSpPr>
        <p:spPr>
          <a:xfrm>
            <a:off x="4932360" y="4076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нергосберегающая ла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90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1800360" cy="95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91" descr=""/>
          <p:cNvPicPr/>
          <p:nvPr/>
        </p:nvPicPr>
        <p:blipFill>
          <a:blip r:embed="rId4"/>
          <a:stretch/>
        </p:blipFill>
        <p:spPr>
          <a:xfrm>
            <a:off x="5724360" y="4869000"/>
            <a:ext cx="1584360" cy="955440"/>
          </a:xfrm>
          <a:prstGeom prst="rect">
            <a:avLst/>
          </a:prstGeom>
          <a:ln w="0">
            <a:noFill/>
          </a:ln>
        </p:spPr>
      </p:pic>
      <p:sp>
        <p:nvSpPr>
          <p:cNvPr id="74" name="Oval 692"/>
          <p:cNvSpPr/>
          <p:nvPr/>
        </p:nvSpPr>
        <p:spPr>
          <a:xfrm>
            <a:off x="1979640" y="5300640"/>
            <a:ext cx="1225440" cy="71928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93"/>
          <p:cNvSpPr/>
          <p:nvPr/>
        </p:nvSpPr>
        <p:spPr>
          <a:xfrm>
            <a:off x="6300720" y="5300640"/>
            <a:ext cx="1225440" cy="71928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94"/>
          <p:cNvSpPr/>
          <p:nvPr/>
        </p:nvSpPr>
        <p:spPr>
          <a:xfrm>
            <a:off x="3348000" y="5013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0/20 = 5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статистики потребления электроэнергии по месяц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157400" y="1405080"/>
            <a:ext cx="6829200" cy="4047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395280" y="5734080"/>
            <a:ext cx="80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диаграммы видно, что в зимние месяцы потребление э/э выше, чем в летние, что обусловлено более коротким световым днем в зимние месяцы и большим расходом э/э на осве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9:47:06Z</dcterms:created>
  <dc:creator>vasily.polichkin</dc:creator>
  <dc:description/>
  <dc:language>en-US</dc:language>
  <cp:lastModifiedBy>ZooM</cp:lastModifiedBy>
  <dcterms:modified xsi:type="dcterms:W3CDTF">2013-11-27T22:19:20Z</dcterms:modified>
  <cp:revision>30</cp:revision>
  <dc:subject/>
  <dc:title>Научно – практическая конференция</dc:title>
</cp:coreProperties>
</file>