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wmf" ContentType="image/x-wmf"/>
  <Override PartName="/ppt/media/image3.wmf" ContentType="image/x-wmf"/>
  <Override PartName="/ppt/media/image4.wmf" ContentType="image/x-wmf"/>
  <Override PartName="/ppt/media/image21.wmf" ContentType="image/x-wmf"/>
  <Override PartName="/ppt/media/image18.jpeg" ContentType="image/jpe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FD1-420D-479D-8BCE-CFF5785B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DB2B-890D-4998-B345-08798B63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FDA5-E072-4DCA-8427-523B2735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71F-E1D4-4F9B-A69A-F7CEAC1B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75D-19A1-4DD0-81A6-18FF0083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B2D-8B58-4296-92EB-757EE791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77DF-112E-4096-BE29-AA4069E1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D33-6ED7-4EB5-A585-7D5E7769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933-C686-41E6-A56B-4750D030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A0C-8BBD-4B6B-AC08-7FD8EB0D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9A43-1716-46AC-B689-A9C75F50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46E-C8F7-4D66-A0C8-A0926F21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7889-9887-4D1F-A48B-5BDC4D4ED1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учно – практическая 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8208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К СБЕРЕЧЬ ЭНЕРГИЮ И ДЕНЬГ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(Анализ   статистики потребления  и  способы снижения потребления электроэнерг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564000" y="4797360"/>
            <a:ext cx="5111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Шевелев А., учащийся 9 класса МОУ «СОШ № 16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учный руководитель: Поличкина К.Г., учитель математи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влова С.К. – учитель физ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874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Замена ламп накаливания на энергосберегающие ламп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406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"/>
          <p:cNvPicPr/>
          <p:nvPr/>
        </p:nvPicPr>
        <p:blipFill>
          <a:blip r:embed="rId2"/>
          <a:stretch/>
        </p:blipFill>
        <p:spPr>
          <a:xfrm>
            <a:off x="0" y="3789360"/>
            <a:ext cx="3708360" cy="1173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"/>
          <p:cNvPicPr/>
          <p:nvPr/>
        </p:nvPicPr>
        <p:blipFill>
          <a:blip r:embed="rId3"/>
          <a:stretch/>
        </p:blipFill>
        <p:spPr>
          <a:xfrm>
            <a:off x="0" y="5157720"/>
            <a:ext cx="4610160" cy="1498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7"/>
          <p:cNvSpPr/>
          <p:nvPr/>
        </p:nvSpPr>
        <p:spPr>
          <a:xfrm>
            <a:off x="6227640" y="4581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риф 2,1 руб/кВт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8"/>
          <p:cNvSpPr/>
          <p:nvPr/>
        </p:nvSpPr>
        <p:spPr>
          <a:xfrm rot="18313200">
            <a:off x="7165080" y="3932640"/>
            <a:ext cx="935280" cy="216000"/>
          </a:xfrm>
          <a:prstGeom prst="rightArrow">
            <a:avLst>
              <a:gd name="adj1" fmla="val 50000"/>
              <a:gd name="adj2" fmla="val 10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0"/>
          <p:cNvSpPr/>
          <p:nvPr/>
        </p:nvSpPr>
        <p:spPr>
          <a:xfrm>
            <a:off x="8172360" y="3284640"/>
            <a:ext cx="971640" cy="57600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3" descr=""/>
          <p:cNvPicPr/>
          <p:nvPr/>
        </p:nvPicPr>
        <p:blipFill>
          <a:blip r:embed="rId4"/>
          <a:stretch/>
        </p:blipFill>
        <p:spPr>
          <a:xfrm>
            <a:off x="4581360" y="5157720"/>
            <a:ext cx="1590840" cy="1505160"/>
          </a:xfrm>
          <a:prstGeom prst="rect">
            <a:avLst/>
          </a:prstGeom>
          <a:ln w="0">
            <a:noFill/>
          </a:ln>
        </p:spPr>
      </p:pic>
      <p:sp>
        <p:nvSpPr>
          <p:cNvPr id="88" name="Oval 19"/>
          <p:cNvSpPr/>
          <p:nvPr/>
        </p:nvSpPr>
        <p:spPr>
          <a:xfrm>
            <a:off x="4716360" y="6381720"/>
            <a:ext cx="1225800" cy="38592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Лампа накал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ая стоим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большие разме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нужность пускорегулирующей аппара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стрый выход на рабочий реж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высокая чувствительность к сбоям в питании и скачкам напряж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токсичных компонентов и как следствие отсутствие необходимости в инфраструктуре по сбору и утил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работы на любом роде то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изготовления ламп на самое разное напряжение (от долей вольта до сотен вольт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мерцания и гудения при работе на переменном то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прерывный спектр излу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боятся низкой температуры окружающей сре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6000" y="19886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кая световая отдач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малый срок служ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упкость и чувствительность к уда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ветовая температура лежит только в пределах 2300—2900 K, что придаёт свету желтоватый оттен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ампы накаливания представляют пожарную опасность. Через 30 минут после включения ламп накаливания температура наружной поверхности достигает в зависимости от мощности следующих величин: 40 Вт — 145 °C, 75 Вт — 250 °C, 100 Вт — 290 °C, 200 Вт — 330 °C. При соприкосновении ламп с текстильными материалами их колба нагревается еще сильн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220px-%D0%9C%D0%9E"/>
          <p:cNvPicPr/>
          <p:nvPr/>
        </p:nvPicPr>
        <p:blipFill>
          <a:blip r:embed="rId1"/>
          <a:stretch/>
        </p:blipFill>
        <p:spPr>
          <a:xfrm>
            <a:off x="6804000" y="189000"/>
            <a:ext cx="20955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Энергосберегающие лам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высокое выделение тепла, что дает возможность ставить лампы большой мощности в компактные светильники и светильники с хрупким стекл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номия до 80% электроэнергии при том же уровне освещеннос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службы, превышающий срок службы ламп накаливания от 6 до 15 раз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вномерное и мягкое рассеяние света; возможность давать свет разной цветовой температу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номия средст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i"/>
          <p:cNvPicPr/>
          <p:nvPr/>
        </p:nvPicPr>
        <p:blipFill>
          <a:blip r:embed="rId1"/>
          <a:stretch/>
        </p:blipFill>
        <p:spPr>
          <a:xfrm>
            <a:off x="179280" y="1484280"/>
            <a:ext cx="4356360" cy="277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Ососбенности энергосберегающих ламп"/>
          <p:cNvPicPr/>
          <p:nvPr/>
        </p:nvPicPr>
        <p:blipFill>
          <a:blip r:embed="rId2"/>
          <a:stretch/>
        </p:blipFill>
        <p:spPr>
          <a:xfrm>
            <a:off x="1116000" y="4581360"/>
            <a:ext cx="266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«Мифы» о вред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Недостатки энергосберегающих лам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туть и фосфор хоть и в очень малых количествах, присутствуют внутри энергосберегающих лам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за разогрева длится примерно 2  мину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приспособленна  к функционированию в низком диапазоне температур (-15-20ºC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ампы "не любят" частого включения и выключ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цена. Цена энергосберегающей лампочки  в 10-20 раз дороже обычной лампочки накали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ая проблема: утил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ф 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Все энергосберегающие лампы вредны, т.к.  содержат пары ртути,  и неэкологичн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я Интернет: Например, в КЛЛ Uniel, "Фотон" и ряда других производителей не применяются вредные для человека и природы пары ртути. В колбу вместо жидкой ртути вводится металлический сплав (т.н. "амальгама" - амальгама кальция). Данная технология расширя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ф №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Энергосберегающие лампы вредны для глаз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я Интернет: сам по себе встроенный балласт обеспечивает частоту разрядов 30-50 кГц - это 30-50 тысяч раз за секунду, что уже совершенно незаметно для гла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ф №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льтрафиолетовое излучение от КЛЛ может вызвать раздражение кож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я Интернет: Воздействие на человека люминесцентного освещения гораздо меньше, чем воздействие естественного солнечног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имущества энергосберегающей ламп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повышенный срок службы и пониженное потребление электроэнер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энергосберегающих ламп ведет к экономии электроэнергии, а значит,  к экономии семейного бюдж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Установка датчиков освещенности и датчиков движен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532560" cy="2658960"/>
          </a:xfrm>
          <a:prstGeom prst="rect">
            <a:avLst/>
          </a:prstGeom>
          <a:ln w="0">
            <a:noFill/>
          </a:ln>
        </p:spPr>
      </p:pic>
      <p:sp>
        <p:nvSpPr>
          <p:cNvPr id="104" name="Oval 4"/>
          <p:cNvSpPr/>
          <p:nvPr/>
        </p:nvSpPr>
        <p:spPr>
          <a:xfrm>
            <a:off x="6804000" y="3213000"/>
            <a:ext cx="1008000" cy="57636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187280" y="3789360"/>
            <a:ext cx="6532560" cy="2658960"/>
          </a:xfrm>
          <a:prstGeom prst="rect">
            <a:avLst/>
          </a:prstGeom>
          <a:ln w="0">
            <a:noFill/>
          </a:ln>
        </p:spPr>
      </p:pic>
      <p:sp>
        <p:nvSpPr>
          <p:cNvPr id="106" name="Oval 6"/>
          <p:cNvSpPr/>
          <p:nvPr/>
        </p:nvSpPr>
        <p:spPr>
          <a:xfrm>
            <a:off x="6804000" y="6093000"/>
            <a:ext cx="1008000" cy="57600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оприятия по снижению потребления электроэнер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90000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Замена ламп накаливания на энергосберегающие лампы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2. Установка датчиков освещенности и датчиков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вод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Тенденция мирового развития свидетельствует о необходимости перехода и в быту, и на производстве  на энергосберегающие лампы и использование энергосберегающих  приборов (датчики света, движ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Экономический эффект от замены ламп накаливания энергосберегающими лампами составляет  2722,61 руб. в год, ожидаемая экономия электроэнергии – 1296480 Вт. Окупаемость  при замене ламп накаливания энергосберегающими лампами  - в среднем от 4 до 6 меся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Энергосберегающие лампы имеют больше положительных свойств, чем отрицательных (основная трудность – утилизац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Учитывая экономию на электроэнергии при использовании этих ламп и с их срок службы применение энергосберегающих ламп станет для вас и вашего бюджета более выгод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реди энергосберегающих ламп наиболее  экологически и экономически выгодны светодиодные лампы (лампы накаливания – прошлое, энергосберегающие лампы – настоящее, светодиодные лампы – будуще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Благодарим за консульта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банова А.В., Главного энергетика ОАО «СанИнБеф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ичкина В.Н., инспектора  по теплоэнергетике ОАО «СанИнБеф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1042920" y="549360"/>
            <a:ext cx="7201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7210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июля 2009 года Президент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Дмитрий Медведев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ступая на засед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идума Госсовета по вопросам повы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оэффективности отметил, что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елях повышения энергоэффективности 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ден запрет на оборот ламп накали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г.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Федеральный закон Россий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Федерации от 23 ноября 2009 г. N 261-Ф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"Об энергосбережении и о повыш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энергетической эффективности и о внесении изменений в отдельные законодательные акты Российской Федерации"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ью настоящего Федерального закона являлось  создание правовых, экономических и организационных основ стимулирования энергосбережения и повышения энергетической требований к обороту отдельных товаров, функциональное назначение которых предполагает использование энергетических ресурс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10. 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 1 января 2011 года к обороту на территории Российской Федерации не допускаются электрические лампы накаливания мощностью сто ватт и более, которые могут быть использованы в цепях переменного тока в целях освеще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медведев"/>
          <p:cNvPicPr/>
          <p:nvPr/>
        </p:nvPicPr>
        <p:blipFill>
          <a:blip r:embed="rId1"/>
          <a:stretch/>
        </p:blipFill>
        <p:spPr>
          <a:xfrm>
            <a:off x="5865840" y="0"/>
            <a:ext cx="32781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В  странах Евросоюз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ыли запрещены производство и импорт ламп накаливания мощностью 100 ватт и выше еще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в 2009 год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В 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добный закон вступает  в силу 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 2011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ейча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России доля использования всех энергосберегающих ламп едва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достигает четырех проц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расчетам аналитиков, в течение пяти лет ситуация изменится -  возрастет как минимум до тридцати процентов. С этого года начали уходить с прилавко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мп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щностью 100 ватт и выше,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в 2013 году мы не увидим 75-ваттных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лампочек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, а с 2014 года прекратится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производство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 и продажа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лампочек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 мощностью 25 ват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производители: существует огромное количество фирм, которые их производят: OSRAM, Wolta, Philips, Nakai, Pila, Zeon, Electrum, Volta (Iskra), Космос, DeLuxe, Kanlux, SunLux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оссии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изготовление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нергосберегающих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лам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же начато на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Томском электроламповом зав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 сегодняшний день предприятие- главный поставщи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м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каливания в регионах Сибири и Дальнего Востока. Открывается завод по изготовлению энергосберегающих ламп в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анкт-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Послании Государственному Совету и народу Чувашии «В молодежь надо верить» Президент Чувашской Республики </a:t>
            </a:r>
            <a:r>
              <a:rPr b="0" lang="ru-RU" sz="1900" spc="-1" strike="noStrike">
                <a:solidFill>
                  <a:srgbClr val="800000"/>
                </a:solidFill>
                <a:latin typeface="Arial"/>
              </a:rPr>
              <a:t>Михаил Васильевич Игнатье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тметил: «В условиях посткризисного развития </a:t>
            </a:r>
            <a:r>
              <a:rPr b="0" lang="ru-RU" sz="1900" spc="-1" strike="noStrike">
                <a:solidFill>
                  <a:srgbClr val="800000"/>
                </a:solidFill>
                <a:latin typeface="Arial"/>
              </a:rPr>
              <a:t>одним из ключевых направлений в деятельност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рганов местного самоуправления является </a:t>
            </a:r>
            <a:r>
              <a:rPr b="1" lang="ru-RU" sz="1900" spc="-1" strike="noStrike">
                <a:solidFill>
                  <a:srgbClr val="800000"/>
                </a:solidFill>
                <a:latin typeface="Arial"/>
              </a:rPr>
              <a:t>экономное и рациональное использование энергоресурсов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огласитесь, мы довольно щедро расходуем их, порой целыми днями (и летом, когда светло на улице, и зимой, когда нет необходимости) горят лампочки в подъездах наших домов. А когда получаем квитанции по оплате жилищно-коммунальных услуг и видим там начисления за общедомовые приборы учета электроэнергии, возмущаемся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игнатьенв"/>
          <p:cNvPicPr/>
          <p:nvPr/>
        </p:nvPicPr>
        <p:blipFill>
          <a:blip r:embed="rId1"/>
          <a:stretch/>
        </p:blipFill>
        <p:spPr>
          <a:xfrm>
            <a:off x="457200" y="1941480"/>
            <a:ext cx="40384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Цели и задач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показать, как использование энергосберегающих ламп и энергосберегающих приборов может позволить сэкономить бюджет сем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ы исследова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поисковы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сбор информации  о лампах накаливания, энергосберегающих лампах, датчиках света и движения; состояние проблемы энергосбережения в Российской Федераци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практическ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замеры энергопотребления ламп накаливания и энергосберегающих ламп в отдельно взятой квартире, расчеты по стоимости энергопотребления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исследователь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сравнительный анализ потребления электроэнергии при использовании ламп накаливания и энергосберегающих ламп, расчет экономического эффекта при использовании энергосберегающих ламп и энергосберегающих приборов, анализ полученных данных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0" y="1628640"/>
            <a:ext cx="403848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Провести сравнительный анализ   свойств энергосберегающих ламп и ламп накали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Проанализировать статистику потребления электроэнергии (на основе анализа потребления электроэнергии в одной отдельно взятой кварти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Исследовать возможности энергосбережения на основе использования энергосберегающих ламп и энергосберегающих приборов (датчик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Разработать мероприятия по снижению потребления электроэнергии (на примере одной отдельно взятой квартиры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Оценить экономический эффект от предложенных мероприят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0" y="1773360"/>
            <a:ext cx="5364000" cy="3457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4"/>
          <a:stretch/>
        </p:blipFill>
        <p:spPr>
          <a:xfrm>
            <a:off x="4467240" y="4152960"/>
            <a:ext cx="4676760" cy="2705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5"/>
          <a:stretch/>
        </p:blipFill>
        <p:spPr>
          <a:xfrm>
            <a:off x="4467240" y="0"/>
            <a:ext cx="4676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анные опроса показали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то достаточной информацей о свойствах энергосберегающих ламп, экономическом эффекте от их использования в быту и на производстве знает достаточно малая доля опрошенных, большая часть жителей  пока еще недостаточно используют энергосберегающие лампы, не владеют информацией об использовании энергосберегающих приборов на производ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Мероприятия в ход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читано общее количество потребляемой мощности ламп накаливания за год, затраты на электроэнергию (по лампам накаливания) в отдельно взятой квартире (среднестатистический показатель – двухкомнатная кварти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одсчитаны затраты на электроэнергию при замене ламп накаливания на энергосберегающие лам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авнили затраты на электроэнергию при использования ламп накаливания и энергосберегающих лам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220px-Gluehlampe_01_KMJ"/>
          <p:cNvPicPr/>
          <p:nvPr/>
        </p:nvPicPr>
        <p:blipFill>
          <a:blip r:embed="rId1"/>
          <a:stretch/>
        </p:blipFill>
        <p:spPr>
          <a:xfrm>
            <a:off x="1619280" y="4797360"/>
            <a:ext cx="13683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87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мена ламп накаливания на энергосберегающие лампы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81" descr=""/>
          <p:cNvPicPr/>
          <p:nvPr/>
        </p:nvPicPr>
        <p:blipFill>
          <a:blip r:embed="rId1"/>
          <a:stretch/>
        </p:blipFill>
        <p:spPr>
          <a:xfrm>
            <a:off x="1187280" y="2174760"/>
            <a:ext cx="1800360" cy="168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2" descr=""/>
          <p:cNvPicPr/>
          <p:nvPr/>
        </p:nvPicPr>
        <p:blipFill>
          <a:blip r:embed="rId2"/>
          <a:stretch/>
        </p:blipFill>
        <p:spPr>
          <a:xfrm>
            <a:off x="5364000" y="2174760"/>
            <a:ext cx="2521080" cy="16970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83"/>
          <p:cNvSpPr/>
          <p:nvPr/>
        </p:nvSpPr>
        <p:spPr>
          <a:xfrm>
            <a:off x="1692360" y="15271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84"/>
          <p:cNvSpPr/>
          <p:nvPr/>
        </p:nvSpPr>
        <p:spPr>
          <a:xfrm>
            <a:off x="5867280" y="15271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85"/>
          <p:cNvSpPr/>
          <p:nvPr/>
        </p:nvSpPr>
        <p:spPr>
          <a:xfrm>
            <a:off x="3492360" y="2751120"/>
            <a:ext cx="1440000" cy="647640"/>
          </a:xfrm>
          <a:prstGeom prst="rightArrow">
            <a:avLst>
              <a:gd name="adj1" fmla="val 50000"/>
              <a:gd name="adj2" fmla="val 55586"/>
            </a:avLst>
          </a:prstGeom>
          <a:solidFill>
            <a:srgbClr val="0000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86"/>
          <p:cNvSpPr/>
          <p:nvPr/>
        </p:nvSpPr>
        <p:spPr>
          <a:xfrm>
            <a:off x="755640" y="4005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мпа нака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87"/>
          <p:cNvSpPr/>
          <p:nvPr/>
        </p:nvSpPr>
        <p:spPr>
          <a:xfrm>
            <a:off x="4932360" y="4076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нергосберегающая лам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90" descr=""/>
          <p:cNvPicPr/>
          <p:nvPr/>
        </p:nvPicPr>
        <p:blipFill>
          <a:blip r:embed="rId3"/>
          <a:stretch/>
        </p:blipFill>
        <p:spPr>
          <a:xfrm>
            <a:off x="1187280" y="4869000"/>
            <a:ext cx="1800360" cy="958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91" descr=""/>
          <p:cNvPicPr/>
          <p:nvPr/>
        </p:nvPicPr>
        <p:blipFill>
          <a:blip r:embed="rId4"/>
          <a:stretch/>
        </p:blipFill>
        <p:spPr>
          <a:xfrm>
            <a:off x="5724360" y="4869000"/>
            <a:ext cx="1584360" cy="955440"/>
          </a:xfrm>
          <a:prstGeom prst="rect">
            <a:avLst/>
          </a:prstGeom>
          <a:ln w="0">
            <a:noFill/>
          </a:ln>
        </p:spPr>
      </p:pic>
      <p:sp>
        <p:nvSpPr>
          <p:cNvPr id="74" name="Oval 692"/>
          <p:cNvSpPr/>
          <p:nvPr/>
        </p:nvSpPr>
        <p:spPr>
          <a:xfrm>
            <a:off x="1979640" y="5300640"/>
            <a:ext cx="1225440" cy="71928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93"/>
          <p:cNvSpPr/>
          <p:nvPr/>
        </p:nvSpPr>
        <p:spPr>
          <a:xfrm>
            <a:off x="6300720" y="5300640"/>
            <a:ext cx="1225440" cy="71928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94"/>
          <p:cNvSpPr/>
          <p:nvPr/>
        </p:nvSpPr>
        <p:spPr>
          <a:xfrm>
            <a:off x="3348000" y="5013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0/20 = 5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статистики потребления электроэнергии по меся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157400" y="1405080"/>
            <a:ext cx="6829200" cy="4047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395280" y="5734080"/>
            <a:ext cx="806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диаграммы видно, что в зимние месяцы потребление э/э выше, чем в летние, что обусловлено более коротким световым днем в зимние месяцы и большим расходом э/э на осве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09:47:06Z</dcterms:created>
  <dc:creator>vasily.polichkin</dc:creator>
  <dc:description/>
  <dc:language>en-US</dc:language>
  <cp:lastModifiedBy>ZooM</cp:lastModifiedBy>
  <dcterms:modified xsi:type="dcterms:W3CDTF">2013-11-27T22:19:20Z</dcterms:modified>
  <cp:revision>30</cp:revision>
  <dc:subject/>
  <dc:title>Научно – практическая конференция</dc:title>
</cp:coreProperties>
</file>