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63C-84B0-42F9-8C23-006250A8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8C6-F606-4973-8DEE-6C4D6FFC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F20-5BAE-43F1-AF19-FC65A2E0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704-6C30-47BA-BDDD-ADFCD56F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3C29-4653-43BB-941A-8FA51FC7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570A-2AED-48B1-B604-FD6A92B1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7B3E-B66E-42DE-AFC7-8DE52923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A87C-E362-4347-ACAA-D77454E5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4B39-64B5-475F-9B19-1B17D9A9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8E4C-92FD-45CA-8D90-13FD2E9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CAF0-F26A-4F59-B093-207BBBD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DB2-D748-46F1-AB23-B8E13680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4BBE-76C9-4F53-9D86-5BA877B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5C5B-1E22-4BE0-A4BF-AE4C49C5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B30E-493F-4971-8B00-54FBBA0C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AF92-FF7A-4D35-BC56-59419BB0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6941-91F8-4909-A4F3-A239229A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769-119B-4DDB-90EC-84D1DCBF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A1E-1F6B-4B7D-A201-D4755854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2A8-7A75-446C-A5BA-746E4AA3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D6E-1DEC-4D9A-8591-569A3F0E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A5B-BA30-4F5F-AFF3-E35091B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438-193E-4415-B2F4-4CBC65A7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456-6C66-43D3-AC27-B8B8603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0895-F1E2-4B87-9E12-A8DE56FDF0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AFBD-87A1-4160-B0FC-6780367C782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071720" y="1857240"/>
            <a:ext cx="5643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Candara"/>
              </a:rPr>
              <a:t>ДУХОВНЫЙ МИР ДРЕВНИХ ОБЩЕСТ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over-small"/>
          <p:cNvPicPr/>
          <p:nvPr/>
        </p:nvPicPr>
        <p:blipFill>
          <a:blip r:embed="rId1"/>
          <a:stretch/>
        </p:blipFill>
        <p:spPr>
          <a:xfrm>
            <a:off x="5508720" y="1413000"/>
            <a:ext cx="3055680" cy="4365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Фрагменты книги «Луньюй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7632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родный муж винит себя, малый человек винит друг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родный муж стойко переносит беды, а низкий человек знает только вы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жен только тот, кто ничего не знает: он не рискует быть непоня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всех преступлений самое тяжкое – это бессердеч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не знаешь слов, нечем познавать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чание – великий друг, который никогда не измен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611280" y="4797360"/>
            <a:ext cx="7777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36 г. до н.э. император У-ди провозгласил конфуцианство офици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й доктриной, а сам Конфуций был обожествл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Безымянный"/>
          <p:cNvPicPr/>
          <p:nvPr/>
        </p:nvPicPr>
        <p:blipFill>
          <a:blip r:embed="rId1"/>
          <a:stretch/>
        </p:blipFill>
        <p:spPr>
          <a:xfrm>
            <a:off x="1547640" y="476280"/>
            <a:ext cx="5975640" cy="388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68360" y="3645000"/>
            <a:ext cx="4824360" cy="2043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фуцианство – одно из ведущих идейных течений в Древнем Кита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HuangShan2"/>
          <p:cNvPicPr/>
          <p:nvPr/>
        </p:nvPicPr>
        <p:blipFill>
          <a:blip r:embed="rId1"/>
          <a:stretch/>
        </p:blipFill>
        <p:spPr>
          <a:xfrm>
            <a:off x="6227640" y="2870280"/>
            <a:ext cx="2916360" cy="3987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95280" y="404640"/>
            <a:ext cx="82803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. до н.э. в Китае наступила эпоха «борющихся царств», приведшая к значительному подъе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зводительных сил и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личных китайских государ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это же время появляются первые китайские философские школы, в том числе и конфуциан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1501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6002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468360" y="33336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оположник конфуцианства – </a:t>
            </a: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Конфуц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551-479 до н.э.), взгляды которого бы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ложены его последователями в книге «Луньюй» («Беседы и суждения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250"/>
          <p:cNvPicPr/>
          <p:nvPr/>
        </p:nvPicPr>
        <p:blipFill>
          <a:blip r:embed="rId1"/>
          <a:stretch/>
        </p:blipFill>
        <p:spPr>
          <a:xfrm>
            <a:off x="2771640" y="220500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539640" y="404640"/>
            <a:ext cx="799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олодости Конфуций был мелким чиновником,  затем основал част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у, в которую принимал учеников вне зависимости от их происхождения и состоя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8360" y="5084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ыкновенные способности и постоянный труд позволили стать мелкому чиновнику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ьному учителю одним из величайших мыслителей древне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108-1"/>
          <p:cNvPicPr/>
          <p:nvPr/>
        </p:nvPicPr>
        <p:blipFill>
          <a:blip r:embed="rId1"/>
          <a:stretch/>
        </p:blipFill>
        <p:spPr>
          <a:xfrm>
            <a:off x="3348000" y="2060640"/>
            <a:ext cx="2495520" cy="290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JiuLong2"/>
          <p:cNvPicPr/>
          <p:nvPr/>
        </p:nvPicPr>
        <p:blipFill>
          <a:blip r:embed="rId1"/>
          <a:stretch/>
        </p:blipFill>
        <p:spPr>
          <a:xfrm>
            <a:off x="-324000" y="34920"/>
            <a:ext cx="7128000" cy="6823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443640" y="404640"/>
            <a:ext cx="270036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Конфуций</a:t>
            </a: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здатель эти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ого учения, оказавшего огром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ияние на развитие духов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политической жизни Китая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яжении свыше двух тысяч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title3"/>
          <p:cNvPicPr/>
          <p:nvPr/>
        </p:nvPicPr>
        <p:blipFill>
          <a:blip r:embed="rId1"/>
          <a:stretch/>
        </p:blipFill>
        <p:spPr>
          <a:xfrm>
            <a:off x="2050920" y="549360"/>
            <a:ext cx="5083200" cy="5616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250920" y="1773360"/>
            <a:ext cx="3384360" cy="3385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фуцианство воспитывало своих последователей в духе уважения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ющим порядкам, по закону «Жень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спосланным неб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292720" y="692280"/>
            <a:ext cx="3562200" cy="5214600"/>
          </a:xfrm>
          <a:prstGeom prst="rect">
            <a:avLst/>
          </a:prstGeom>
          <a:gradFill rotWithShape="0">
            <a:gsLst>
              <a:gs pos="0">
                <a:srgbClr val="000000">
                  <a:alpha val="48235"/>
                </a:srgbClr>
              </a:gs>
              <a:gs pos="100000">
                <a:srgbClr val="e8e8e8">
                  <a:alpha val="32156"/>
                </a:srgbClr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должен соблюдать этот закон и нормы этик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тремиться к нравственному совершенствова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ять обряды, почитать предков, сохранять традицио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ядок, свято соблюдая принципы социальной иерарх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95280" y="3933720"/>
            <a:ext cx="834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Конфуц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работал концепцию идеального человека (цзюньцзы) – благородного муж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ым становятся не по причине происхождения, а путем достижения высоких нравственных качеств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уманности, верности, искрен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раведливости, почтительности по отношению к старш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konfutsij2"/>
          <p:cNvPicPr/>
          <p:nvPr/>
        </p:nvPicPr>
        <p:blipFill>
          <a:blip r:embed="rId1"/>
          <a:stretch/>
        </p:blipFill>
        <p:spPr>
          <a:xfrm>
            <a:off x="2916360" y="333360"/>
            <a:ext cx="3024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BOWING1"/>
          <p:cNvPicPr/>
          <p:nvPr/>
        </p:nvPicPr>
        <p:blipFill>
          <a:blip r:embed="rId1"/>
          <a:stretch/>
        </p:blipFill>
        <p:spPr>
          <a:xfrm>
            <a:off x="-1116000" y="-871560"/>
            <a:ext cx="11088720" cy="7729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Text Box 4"/>
          <p:cNvSpPr/>
          <p:nvPr/>
        </p:nvSpPr>
        <p:spPr>
          <a:xfrm>
            <a:off x="2268360" y="2492280"/>
            <a:ext cx="4535640" cy="3385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гласно Конфуцию, судьба человека определяется «небом», и то, что люди деля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«благородных» и «низких», не может быть изменено. Младший должен безропот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чиняться старш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4365720"/>
            <a:ext cx="7777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ущим направлением в конфуциан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о оправдание госп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илегированных классов и восхва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ебесной вол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ааа"/>
          <p:cNvPicPr/>
          <p:nvPr/>
        </p:nvPicPr>
        <p:blipFill>
          <a:blip r:embed="rId1"/>
          <a:stretch/>
        </p:blipFill>
        <p:spPr>
          <a:xfrm>
            <a:off x="1547640" y="620640"/>
            <a:ext cx="5832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5:02:02Z</dcterms:created>
  <dc:creator>Яшин Сергей, ПКИ-1-03</dc:creator>
  <dc:description/>
  <dc:language>en-US</dc:language>
  <cp:lastModifiedBy>Коля</cp:lastModifiedBy>
  <dcterms:modified xsi:type="dcterms:W3CDTF">2013-03-24T10:46:50Z</dcterms:modified>
  <cp:revision>17</cp:revision>
  <dc:subject/>
  <dc:title>Конфуцианство</dc:title>
</cp:coreProperties>
</file>