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9A6-55C6-47FE-A56F-D3A9FC29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B84-157F-4BD2-BF32-606408DC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6B4-DAF9-4A06-8469-B7A9D9F9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D69-8DF0-4CB0-B758-042D22E6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81D7-1D42-4C0F-B43F-895B193E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84E2-1D8C-4BDA-8364-E275C15C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0620-35BF-4E71-A51F-67A1EB1D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C55A-8ECD-48E5-9665-3B3A3F3D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73D5-A775-4B84-BB20-29581D2D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09AE-F106-478E-A5C3-01E78A76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1590-210B-44DD-B7F3-4F12B52C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421-CFB0-4DC6-8A8C-F6C7C75A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9614-7C23-4929-9B3A-7A3086F4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C089-DE8C-413D-8D4A-EA24DC4C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A840-BBD9-4F69-B759-6A3FADD6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7189-87F4-4D10-938C-EFA5DCFA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526A-ED31-4444-B487-390D556B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369F-A47B-4C7F-B344-A0D4C746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20F-3D7A-4421-BA8C-956E5882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C1D-510D-4CEF-906A-C6D91D8D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E4DB-38AD-4EE6-B756-25A18E12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762-1603-4219-893E-F14590A3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FB9-9AC8-4AD5-AC92-1B4E9826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5A8-A60C-4D1E-BF65-B6336902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2921-64D1-4BCE-AAA5-2FDA4C210E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5CAC-D106-43E7-B6EE-5E731480CE5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1071720" y="1857240"/>
            <a:ext cx="5643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Candara"/>
              </a:rPr>
              <a:t>ДУХОВНЫЙ МИР ДРЕВНИХ ОБЩЕСТ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cover-small"/>
          <p:cNvPicPr/>
          <p:nvPr/>
        </p:nvPicPr>
        <p:blipFill>
          <a:blip r:embed="rId1"/>
          <a:stretch/>
        </p:blipFill>
        <p:spPr>
          <a:xfrm>
            <a:off x="5508720" y="1413000"/>
            <a:ext cx="3055680" cy="4365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Фрагменты книги «Луньюй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763272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агородный муж винит себя, малый человек винит друг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агородный муж стойко переносит беды, а низкий человек знает только вы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ажен только тот, кто ничего не знает: он не рискует быть непоня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всех преступлений самое тяжкое – это бессердеч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не знаешь слов, нечем познавать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чание – великий друг, который никогда не измен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611280" y="4797360"/>
            <a:ext cx="7777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36 г. до н.э. император У-ди провозгласил конфуцианство официа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ой доктриной, а сам Конфуций был обожествл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Безымянный"/>
          <p:cNvPicPr/>
          <p:nvPr/>
        </p:nvPicPr>
        <p:blipFill>
          <a:blip r:embed="rId1"/>
          <a:stretch/>
        </p:blipFill>
        <p:spPr>
          <a:xfrm>
            <a:off x="1547640" y="476280"/>
            <a:ext cx="5975640" cy="388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468360" y="3645000"/>
            <a:ext cx="4824360" cy="2043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фуцианство – одно из ведущих идейных течений в Древнем Кита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HuangShan2"/>
          <p:cNvPicPr/>
          <p:nvPr/>
        </p:nvPicPr>
        <p:blipFill>
          <a:blip r:embed="rId1"/>
          <a:stretch/>
        </p:blipFill>
        <p:spPr>
          <a:xfrm>
            <a:off x="6227640" y="2870280"/>
            <a:ext cx="2916360" cy="3987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95280" y="404640"/>
            <a:ext cx="828036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. до н.э. в Китае наступила эпоха «борющихся царств», приведшая к значительному подъе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изводительных сил и куль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личных китайских государ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это же время появляются первые китайские философские школы, в том числе и конфуциан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1501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6002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468360" y="33336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оположник конфуцианства – </a:t>
            </a: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Конфуц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551-479 до н.э.), взгляды которого бы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ложены его последователями в книге «Луньюй» («Беседы и суждения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250"/>
          <p:cNvPicPr/>
          <p:nvPr/>
        </p:nvPicPr>
        <p:blipFill>
          <a:blip r:embed="rId1"/>
          <a:stretch/>
        </p:blipFill>
        <p:spPr>
          <a:xfrm>
            <a:off x="2771640" y="2205000"/>
            <a:ext cx="3745080" cy="4319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539640" y="404640"/>
            <a:ext cx="799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молодости Конфуций был мелким чиновником,  затем основал частн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колу, в которую принимал учеников вне зависимости от их происхождения и состоя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68360" y="50846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ыкновенные способности и постоянный труд позволили стать мелкому чиновнику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кольному учителю одним из величайших мыслителей древнего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108-1"/>
          <p:cNvPicPr/>
          <p:nvPr/>
        </p:nvPicPr>
        <p:blipFill>
          <a:blip r:embed="rId1"/>
          <a:stretch/>
        </p:blipFill>
        <p:spPr>
          <a:xfrm>
            <a:off x="3348000" y="2060640"/>
            <a:ext cx="2495520" cy="2905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JiuLong2"/>
          <p:cNvPicPr/>
          <p:nvPr/>
        </p:nvPicPr>
        <p:blipFill>
          <a:blip r:embed="rId1"/>
          <a:stretch/>
        </p:blipFill>
        <p:spPr>
          <a:xfrm>
            <a:off x="-324000" y="34920"/>
            <a:ext cx="7128000" cy="6823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443640" y="404640"/>
            <a:ext cx="270036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Конфуций</a:t>
            </a: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создатель этик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ческого учения, оказавшего огром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лияние на развитие духов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политической жизни Китая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яжении свыше двух тысяч л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2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8" descr="title3"/>
          <p:cNvPicPr/>
          <p:nvPr/>
        </p:nvPicPr>
        <p:blipFill>
          <a:blip r:embed="rId1"/>
          <a:stretch/>
        </p:blipFill>
        <p:spPr>
          <a:xfrm>
            <a:off x="2050920" y="549360"/>
            <a:ext cx="5083200" cy="5616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250920" y="1773360"/>
            <a:ext cx="3384360" cy="3385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фуцианство воспитывало своих последователей в духе уважения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ществующим порядкам, по закону «Жень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спосланным неб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292720" y="692280"/>
            <a:ext cx="3562200" cy="5214600"/>
          </a:xfrm>
          <a:prstGeom prst="rect">
            <a:avLst/>
          </a:prstGeom>
          <a:gradFill rotWithShape="0">
            <a:gsLst>
              <a:gs pos="0">
                <a:srgbClr val="000000">
                  <a:alpha val="48235"/>
                </a:srgbClr>
              </a:gs>
              <a:gs pos="100000">
                <a:srgbClr val="e8e8e8">
                  <a:alpha val="32156"/>
                </a:srgbClr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 должен соблюдать этот закон и нормы этик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стремиться к нравственному совершенствован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полнять обряды, почитать предков, сохранять традицион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рядок, свято соблюдая принципы социальной иерарх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95280" y="3933720"/>
            <a:ext cx="8340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Конфуц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зработал концепцию идеального человека (цзюньцзы) – благородного муж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торым становятся не по причине происхождения, а путем достижения высоких нравственных качеств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уманности, верности, искрен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раведливости, почтительности по отношению к старш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konfutsij2"/>
          <p:cNvPicPr/>
          <p:nvPr/>
        </p:nvPicPr>
        <p:blipFill>
          <a:blip r:embed="rId1"/>
          <a:stretch/>
        </p:blipFill>
        <p:spPr>
          <a:xfrm>
            <a:off x="2916360" y="333360"/>
            <a:ext cx="3024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BOWING1"/>
          <p:cNvPicPr/>
          <p:nvPr/>
        </p:nvPicPr>
        <p:blipFill>
          <a:blip r:embed="rId1"/>
          <a:stretch/>
        </p:blipFill>
        <p:spPr>
          <a:xfrm>
            <a:off x="-1116000" y="-871560"/>
            <a:ext cx="11088720" cy="7729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3" name="Text Box 4"/>
          <p:cNvSpPr/>
          <p:nvPr/>
        </p:nvSpPr>
        <p:spPr>
          <a:xfrm>
            <a:off x="2268360" y="2492280"/>
            <a:ext cx="4535640" cy="3385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гласно Конфуцию, судьба человека определяется «небом», и то, что люди деля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«благородных» и «низких», не может быть изменено. Младший должен безропот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чиняться старш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755640" y="4365720"/>
            <a:ext cx="7777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дущим направлением в конфуцианст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о оправдание госп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вилегированных классов и восхва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ебесной вол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ааа"/>
          <p:cNvPicPr/>
          <p:nvPr/>
        </p:nvPicPr>
        <p:blipFill>
          <a:blip r:embed="rId1"/>
          <a:stretch/>
        </p:blipFill>
        <p:spPr>
          <a:xfrm>
            <a:off x="1547640" y="620640"/>
            <a:ext cx="58327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5:02:02Z</dcterms:created>
  <dc:creator>Яшин Сергей, ПКИ-1-03</dc:creator>
  <dc:description/>
  <dc:language>en-US</dc:language>
  <cp:lastModifiedBy>Коля</cp:lastModifiedBy>
  <dcterms:modified xsi:type="dcterms:W3CDTF">2013-03-24T10:46:50Z</dcterms:modified>
  <cp:revision>17</cp:revision>
  <dc:subject/>
  <dc:title>Конфуцианство</dc:title>
</cp:coreProperties>
</file>