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10E-32A3-4BE7-BA01-9CDE46AB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77F-1429-4656-9345-99FB0818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C5C0-6FE3-4C64-99B6-6F778E83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FFD-703B-417E-A6D2-D9813860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ADB7-009B-40FE-A704-487672B3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F07D-125C-490B-8797-DC68DE3D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F81A-67A3-45E3-A935-88B13B9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7C91-D1AE-4BE1-8879-0A1093A9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AB2-9DB8-4EDD-82AD-0E9C14B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48D3-E50A-415B-98D8-0A560195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D278-19F8-4106-82B0-E879DDF8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B41-68B6-40F3-AE85-FC548D68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73B2-E542-4DDB-AB38-8781DF6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4A9C-EDDD-4DB9-910D-C4DAAD5E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EA26-52F6-491D-8C4D-699A3DD4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2218-369F-44C1-B555-9296758E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67FA-B3BA-4519-A969-A4C57B03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C26-4A75-4D7E-9136-A3AAFAD6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FED-D320-482F-850D-DD513D49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990-AC63-4C8C-825F-D6AAC2D5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FAB-FDE4-46C5-9639-22F0D8C6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6A1-C0BC-4F60-928D-A4D1EAAD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5CB-FB66-458C-B540-FAFA839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2A6-DEDC-4D04-9B9D-85700951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FDAC-B071-4075-87D5-B65431F90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5061-858A-406E-BA38-759B079BF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urevestnik.ru/foto/magazine/2003/18/393/1241781600_10834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lexander_fa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ru.wikipedia.org/wiki/&#1060;&#1072;&#1081;&#1083;:Gesine_mor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5f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К.Г.Паустовский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« Корзин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           </a:t>
            </a: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с  еловы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                         </a:t>
            </a:r>
            <a:r>
              <a:rPr b="1" lang="en-US" sz="5400" spc="-1" strike="noStrike">
                <a:solidFill>
                  <a:srgbClr val="cccc00"/>
                </a:solidFill>
                <a:latin typeface="Times New Roman"/>
              </a:rPr>
              <a:t>шишками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8640" y="3716280"/>
            <a:ext cx="2649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Норвегия - это в первую очередь сногсшибательная природа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476280"/>
            <a:ext cx="8207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НАРОДНЫЕ МОТИ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мпозитор решил идти по пути прославления националь-ной норвежской музыки. Он положил в основу своего твор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ества  народные мотивы и стал поистине  национальным компо-                                            зиторо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4762440" cy="6883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9280" y="277920"/>
            <a:ext cx="3827520" cy="35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мер Григ в 1907год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хоронен в Бергене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977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530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 городе есть памятник великому композитору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495440"/>
            <a:ext cx="4572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Алта-фьорд – один из самых протяженных фьордов Норвегии / Фото из Ноpвег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оиск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Найдите в  отрывке «музыкальной пьесы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питет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лицетвор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преде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ближение двух явлений с целью пояснения  одного с другим при помощи признаков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РАВ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оясняет, характеризует какое-либо понятие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ПИТЕТ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ереносит признаки живого существа на явления природы, предметы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ЛИЦЕТВОРЕН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АВНЕНИ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вучала струн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удто плакала Золуш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ы как солн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ЭПИТЕ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епкие пальц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аленькая стру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яющие гл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жный ве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рустальные туфель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ЛИЦЕТВОР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яль мог пе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виши убегал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сковал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меялис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реме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оходы дрем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ег цеплял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станавливал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ницы волновал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уфельки вздрагива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лые ночи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севере в начале лета можно наблюдать такую картину - ночью почти светло, стоят легкие сумерки, так как солнце ненадолго прячется за горизо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имфоническая музы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узыкальные произведения, предназначенные для исполнения симфоническим оркестром. Включает крупные  произведения и небольшие пьесы. Главные жанры: симфония, сюита, увертюр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ТЕСТ - ОПРОС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ЧТО ВЫ ЗНАЕТЕ  (УЗНАЛИ) О ЖИЗНИ И ТВОРЧЕСТВЕ 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К.Г. ПАУСТОВСКОГО ?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огда  родился К.Г. Паустовский?</a:t>
            </a:r>
            <a:r>
              <a:rPr b="0" lang="en-US" sz="3200" spc="-1" strike="noStrike">
                <a:solidFill>
                  <a:srgbClr val="cc99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9.05.1892 г.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огда был напечатан 1-й рассказ Паустовского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В последний год учёбы в гимназии. Рассказ «На воде»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Кем работал Паустовский  в годы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Военным корреспондентом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Основная мысль произведе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…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открыл то прекрасное 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должен жить человек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оизведения Паустовског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Заячьи лап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Кот – ворюг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Барсучий нос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824720" cy="4897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двард Григ- норвежский композито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одился в городе Бергене в 1843 г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Норвегия"/>
          <p:cNvPicPr/>
          <p:nvPr/>
        </p:nvPicPr>
        <p:blipFill>
          <a:blip r:embed="rId1"/>
          <a:stretch/>
        </p:blipFill>
        <p:spPr>
          <a:xfrm>
            <a:off x="971640" y="1628640"/>
            <a:ext cx="7200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Григ из семьи дипломата. Первой учительницей  музыки  для Эдварда стала мать, получившая хорошее музыкальное образовани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349360"/>
            <a:ext cx="3384360" cy="4318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2349360"/>
            <a:ext cx="3384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ом Гри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1380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орве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Норвежские пейзажи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5:25:44Z</dcterms:created>
  <dc:creator>Евгений</dc:creator>
  <dc:description/>
  <dc:language>en-US</dc:language>
  <cp:lastModifiedBy>Евгений</cp:lastModifiedBy>
  <dcterms:modified xsi:type="dcterms:W3CDTF">2009-12-08T16:36:20Z</dcterms:modified>
  <cp:revision>10</cp:revision>
  <dc:subject/>
  <dc:title>К.Г.Паусто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