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328-2545-4182-A64A-0D023F45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085-1794-41E4-8918-0BED1E9D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940-E726-4745-9F64-6296121E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48B-9FFE-4FA8-867B-8DB8085D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1D5D-23F8-4405-BB91-6E7E3EE2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4021-A6EA-4540-90A0-25F05E61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4975-7BAA-49ED-90A8-77C0EF59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63EF-A1D5-4EFE-A085-A5611F24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6BC0-7029-46C4-A6FD-4642CC9C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4B41-CE3F-4FFC-A2B7-5ADB1045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02C8-D667-4DF3-BB7D-823D8701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86F-5F1C-4CFF-AC7E-96B4E7C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36E2-DE4D-45F0-894D-6A65B535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6747-283F-43DE-9E78-0E984AEF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17AE-E35B-42BF-A9A5-FAD44F11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82A1-44E4-43FC-97A2-C99341EB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2C75-ABF6-4442-8DDD-122C1080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1D5-CE6D-4AE5-99FF-62BF41F0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D5B-72DF-4C5E-A732-75D70C21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2C4-F21D-4304-9DB6-589C524F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911-5344-4166-A7F8-E25A8284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AB9-F435-4B89-97F2-7ECD51F8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C58-D472-4FB6-8E1A-AA7ACF61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578-23E1-49AA-BBF9-9FD083C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F64F-C2DF-4CFB-87DB-3F256EAF1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2053-DECE-40CD-89A5-9E49643DF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urevestnik.ru/foto/magazine/2003/18/393/1241781600_10834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lexander_fa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ru.wikipedia.org/wiki/&#1060;&#1072;&#1081;&#1083;:Gesine_mor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К.Г.Паустовский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« Корзин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           </a:t>
            </a: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с  еловы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                         </a:t>
            </a: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шишками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8640" y="3716280"/>
            <a:ext cx="2649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Норвежские пейзажи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Норвежские пейзажи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Норвегия - это в первую очередь сногсшибательная природа / Фото из Ноpвег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07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НАРОДНЫЕ МОТИ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мпозитор решил идти по пути прославления националь-ной норвежской музыки. Он положил в основу своего твор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ества  народные мотивы и стал поистине  национальным компо-                                            зиторо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4762440" cy="68835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9280" y="277920"/>
            <a:ext cx="382752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мер Григ в 1907год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хоронен в Берген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977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530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 городе есть памятник великому композитору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495440"/>
            <a:ext cx="4572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Алта-фьорд – один из самых протяженных фьордов Норвегии / Фото из Ноpвег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иск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Найдите в  отрывке «музыкальной пьесы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равн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пите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лицетвор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преде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ближение двух явлений с целью пояснения  одного с другим при помощи признаков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РАВ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оясняет, характеризует какое-либо понятие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ПИТЕТ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ереносит признаки живого существа на явления природы, предметы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ЛИЦЕТВОР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РАВНЕНИ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вучала струн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удто плакала Золуш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ы как солнц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ЭПИТЕ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репкие паль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ленькая стру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ияющие гл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жный ве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рустальные туфель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ЛИЦЕТВОР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яль мог пе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виши убегал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сковал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меялис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ем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оходы дрем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ег цеплял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станавливал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ицы волновали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уфельки вздрагив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елые ночи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севере в начале лета можно наблюдать такую картину - ночью почти светло, стоят легкие сумерки, так как солнце ненадолго прячется за горизо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имфоническая музы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узыкальные произведения, предназначенные для исполнения симфоническим оркестром. Включает крупные  произведения и небольшие пьесы. Главные жанры: симфония, сюита, увертюр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ТЕСТ - ОПРОС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ЧТО ВЫ ЗНАЕТЕ  (УЗНАЛИ) О ЖИЗНИ И ТВОРЧЕСТВЕ 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.Г. ПАУСТОВСКОГО ?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Когда  родился К.Г. Паустовский?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9.05.1892 г.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Когда был напечатан 1-й рассказ Паустовского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В последний год учёбы в гимназии. Рассказ «На воде»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Кем работал Паустовский  в годы 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Военным корреспондентом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сновная мысль произведен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…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открыл то прекрасное 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должен жить человек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изведения Паустовског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Заячьи лап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Кот – ворюг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Барсучий нос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82472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двард Григ- норвежский композито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одился в городе Бергене в 1843 г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Норвегия"/>
          <p:cNvPicPr/>
          <p:nvPr/>
        </p:nvPicPr>
        <p:blipFill>
          <a:blip r:embed="rId1"/>
          <a:stretch/>
        </p:blipFill>
        <p:spPr>
          <a:xfrm>
            <a:off x="971640" y="1628640"/>
            <a:ext cx="7200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Григ из семьи дипломата. Первой учительницей  музыки  для Эдварда стала мать, получившая хорошее музыкальное образовани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349360"/>
            <a:ext cx="3384360" cy="4318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349360"/>
            <a:ext cx="33847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 Гри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1380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рве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Норвежские пейзажи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5:25:44Z</dcterms:created>
  <dc:creator>Евгений</dc:creator>
  <dc:description/>
  <dc:language>en-US</dc:language>
  <cp:lastModifiedBy>Евгений</cp:lastModifiedBy>
  <dcterms:modified xsi:type="dcterms:W3CDTF">2009-12-08T16:36:20Z</dcterms:modified>
  <cp:revision>10</cp:revision>
  <dc:subject/>
  <dc:title>К.Г.Паусто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