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D386-9483-421C-B5FD-BB088C48B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A476-47A4-4947-8CA9-578E70E81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6FEE-34A4-48C7-82D2-68360437D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1D1F-D734-43A8-B73D-619CFFA47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77602-618E-42B1-9297-EC03E618D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63782-7181-432E-9FB2-FA66DA97B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EA965-3E6C-4BE7-A8EB-E0A503CE4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1C613-1789-4065-96DE-F93806BBB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FEAF0-0875-46A8-92F0-C808A1641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E05AD-813F-48CB-BE59-437C0675B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54856-9A29-49E4-813C-6EAE5525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C117-016C-4BF1-915F-FD84A7916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3D8B0-812E-45FE-B391-BD962788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0B5A3-8259-46AB-81B3-3268C466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834F7-3AB2-4216-A00A-C66D52BDC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41560-1854-4026-B67B-653A26441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447D2-2B9E-4948-9A58-A3556CE98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4381-36D6-4628-A9A2-95F8D86E8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0A5C-4A53-4E57-A89A-F5EA73928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A980-E2E3-40FA-A343-4C491834D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81AA-D91A-4A3C-88E1-FC9D04B23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1B09-C725-46EB-AD85-3AA3DEBB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0A43-8CC5-4A95-8DA4-C082385A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6471-3BBE-4812-B0AC-8A24F42C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3F20-D065-49E7-9EB9-4712EA6EF3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A976C-6D5F-42CF-9713-8A963B49E3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burevestnik.ru/foto/magazine/2003/18/393/1241781600_10834.jpg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Alexander_far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ru.wikipedia.org/wiki/&#1060;&#1072;&#1081;&#1083;:Gesine_mor.jp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5f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К.Г.Паустовский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cc00"/>
                </a:solidFill>
                <a:latin typeface="Times New Roman"/>
              </a:rPr>
              <a:t>« Корзина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cc00"/>
                </a:solidFill>
                <a:latin typeface="Times New Roman"/>
              </a:rPr>
              <a:t>           </a:t>
            </a:r>
            <a:r>
              <a:rPr b="1" lang="en-US" sz="5400" spc="-1" strike="noStrike">
                <a:solidFill>
                  <a:srgbClr val="cccc00"/>
                </a:solidFill>
                <a:latin typeface="Times New Roman"/>
              </a:rPr>
              <a:t>с  еловыми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cc00"/>
                </a:solidFill>
                <a:latin typeface="Times New Roman"/>
              </a:rPr>
              <a:t>                         </a:t>
            </a:r>
            <a:r>
              <a:rPr b="1" lang="en-US" sz="5400" spc="-1" strike="noStrike">
                <a:solidFill>
                  <a:srgbClr val="cccc00"/>
                </a:solidFill>
                <a:latin typeface="Times New Roman"/>
              </a:rPr>
              <a:t>шишками»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8640" y="3716280"/>
            <a:ext cx="264960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Норвежские пейзажи"/>
          <p:cNvPicPr/>
          <p:nvPr/>
        </p:nvPicPr>
        <p:blipFill>
          <a:blip r:embed="rId1"/>
          <a:stretch/>
        </p:blipFill>
        <p:spPr>
          <a:xfrm>
            <a:off x="-25236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Норвежские пейзажи"/>
          <p:cNvPicPr/>
          <p:nvPr/>
        </p:nvPicPr>
        <p:blipFill>
          <a:blip r:embed="rId1"/>
          <a:stretch/>
        </p:blipFill>
        <p:spPr>
          <a:xfrm>
            <a:off x="-60948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Норвегия - это в первую очередь сногсшибательная природа / Фото из Ноpвеги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Нажмите, чтобы посмотреть в полный размер"/>
          <p:cNvPicPr/>
          <p:nvPr/>
        </p:nvPicPr>
        <p:blipFill>
          <a:blip r:embed="rId1"/>
          <a:stretch/>
        </p:blipFill>
        <p:spPr>
          <a:xfrm>
            <a:off x="0" y="0"/>
            <a:ext cx="9144000" cy="69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Нажмите, чтобы посмотреть в полный размер"/>
          <p:cNvPicPr/>
          <p:nvPr/>
        </p:nvPicPr>
        <p:blipFill>
          <a:blip r:embed="rId1"/>
          <a:stretch/>
        </p:blipFill>
        <p:spPr>
          <a:xfrm>
            <a:off x="0" y="0"/>
            <a:ext cx="9144000" cy="709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Нажмите, чтобы посмотреть в полный разме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Нажмите, чтобы посмотреть в полный разме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68360" y="476280"/>
            <a:ext cx="82072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4400" spc="-1" strike="noStrike">
                <a:solidFill>
                  <a:srgbClr val="ffff66"/>
                </a:solidFill>
                <a:latin typeface="Times New Roman"/>
              </a:rPr>
              <a:t>НАРОДНЫЕ МОТИВ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Композитор решил идти по пути прославления националь-ной норвежской музыки. Он положил в основу своего твор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чества  народные мотивы и стал поистине  национальным компо-                                            зитором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-25560"/>
            <a:ext cx="4762440" cy="688356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859280" y="277920"/>
            <a:ext cx="3827520" cy="35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Умер Григ в 1907году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охоронен в Бергене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76360" y="1773360"/>
            <a:ext cx="597708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268360" y="765000"/>
            <a:ext cx="453096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В городе есть памятник великому композитору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79640" y="1495440"/>
            <a:ext cx="45720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Алта-фьорд – один из самых протяженных фьордов Норвегии / Фото из Ноpвеги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2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Поиск.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Найдите в  отрывке «музыкальной пьесы»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636640"/>
            <a:ext cx="8229600" cy="34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Сравнени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Эпитет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Олицетворени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пределени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Сближение двух явлений с целью пояснения  одного с другим при помощи признаков -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РАВН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Поясняет, характеризует какое-либо понятие 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ЭПИТЕТ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Переносит признаки живого существа на явления природы, предметы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ЛИЦЕТВОРЕНИ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РАВНЕНИЕ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вучала струна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будто плакала Золуш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ы как солнц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ЭПИТЕТ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репкие пальц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Маленькая струн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ияющие глаз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ежный вете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Хрустальные туфельк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ЛИЦЕТВОРЕНИ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ояль мог пет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лавиши убегали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тосковали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смеялись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гремел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ароходы дремал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нег цеплялся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останавливалс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иницы волновалис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уфельки вздрагивал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Белые ночи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а севере в начале лета можно наблюдать такую картину - ночью почти светло, стоят легкие сумерки, так как солнце ненадолго прячется за горизонто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имфоническая музык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Музыкальные произведения, предназначенные для исполнения симфоническим оркестром. Включает крупные  произведения и небольшие пьесы. Главные жанры: симфония, сюита, увертюра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79930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ТЕСТ - ОПРОС</a:t>
            </a:r>
            <a:br>
              <a:rPr sz="2400"/>
            </a:b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ЧТО ВЫ ЗНАЕТЕ  (УЗНАЛИ) О ЖИЗНИ И ТВОРЧЕСТВЕ </a:t>
            </a:r>
            <a:br>
              <a:rPr sz="2400"/>
            </a:b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К.Г. ПАУСТОВСКОГО ?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Когда  родился К.Г. Паустовский?</a:t>
            </a:r>
            <a:r>
              <a:rPr b="0" lang="en-US" sz="3200" spc="-1" strike="noStrike">
                <a:solidFill>
                  <a:srgbClr val="cc99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19.05.1892 г.)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Когда был напечатан 1-й рассказ Паустовского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В последний год учёбы в гимназии. Рассказ «На воде»)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Кем работал Паустовский  в годы Великой Отечественной войны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Военным корреспондентом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Основная мысль произведения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«…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открыл то прекрасное ,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чем должен жить человек»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роизведения Паустовского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«Заячьи лапы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«Кот – ворюга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«Барсучий нос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08000" y="1700280"/>
            <a:ext cx="4824720" cy="48974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Эдвард Григ- норвежский композитор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Родился в городе Бергене в 1843 г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0" name="" descr="Норвегия"/>
          <p:cNvPicPr/>
          <p:nvPr/>
        </p:nvPicPr>
        <p:blipFill>
          <a:blip r:embed="rId1"/>
          <a:stretch/>
        </p:blipFill>
        <p:spPr>
          <a:xfrm>
            <a:off x="971640" y="1628640"/>
            <a:ext cx="720072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000" y="277920"/>
            <a:ext cx="8218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Григ из семьи дипломата. Первой учительницей  музыки  для Эдварда стала мать, получившая хорошее музыкальное образование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2349360"/>
            <a:ext cx="3384360" cy="43182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19640" y="2349360"/>
            <a:ext cx="338472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Дом Григ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6913800" cy="44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Норвег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7" name="" descr="Норвежские пейзажи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4T15:25:44Z</dcterms:created>
  <dc:creator>Евгений</dc:creator>
  <dc:description/>
  <dc:language>en-US</dc:language>
  <cp:lastModifiedBy>Евгений</cp:lastModifiedBy>
  <dcterms:modified xsi:type="dcterms:W3CDTF">2009-12-08T16:36:20Z</dcterms:modified>
  <cp:revision>10</cp:revision>
  <dc:subject/>
  <dc:title>К.Г.Паустовски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