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A55-96B9-4118-9CFB-0B69511E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1C6-CA6F-4B5E-8623-8779697F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A20-E19E-4775-B60C-4392E3BE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B05-3B61-4EBF-BCAB-1890B57A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D18-D227-4FD7-9AD0-6ECDD413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FD8-4F5B-4142-A05A-241C635D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023-7D93-4223-861D-4E174851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49B-76B1-42A0-8C04-99E65AF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C08-B106-4EE6-8020-F03E7EC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BB4-BC5D-4BF2-9B4D-A46FA52C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6C8-7BD1-4698-8134-7261D51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9E1-987F-4797-ABE1-4DA90CF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DEE-6D14-40DA-AA95-4350ED4FD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3520" y="76212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циально-педагогическая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деятельность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о здоровьесбережению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ладших школьников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2" name="Picture 8" descr="Рисунок11"/>
          <p:cNvPicPr/>
          <p:nvPr/>
        </p:nvPicPr>
        <p:blipFill>
          <a:blip r:embed="rId1"/>
          <a:stretch/>
        </p:blipFill>
        <p:spPr>
          <a:xfrm>
            <a:off x="6553080" y="4929120"/>
            <a:ext cx="19908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 u="sng">
                <a:solidFill>
                  <a:srgbClr val="660033"/>
                </a:solidFill>
                <a:uFillTx/>
                <a:latin typeface="Bookman Old Style"/>
              </a:rPr>
              <a:t>Здоровьесбережение школьников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истема мер, направленных на сохранение и укрепление их здоровья с использованием здоровьеразвивающих и здоровьесберегающих технолог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age0011"/>
          <p:cNvPicPr/>
          <p:nvPr/>
        </p:nvPicPr>
        <p:blipFill>
          <a:blip r:embed="rId1"/>
          <a:stretch/>
        </p:blipFill>
        <p:spPr>
          <a:xfrm>
            <a:off x="3429000" y="457200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19181900"/>
          <p:cNvPicPr/>
          <p:nvPr/>
        </p:nvPicPr>
        <p:blipFill>
          <a:blip r:embed="rId2"/>
          <a:stretch/>
        </p:blipFill>
        <p:spPr>
          <a:xfrm>
            <a:off x="5791320" y="335268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19183600"/>
          <p:cNvPicPr/>
          <p:nvPr/>
        </p:nvPicPr>
        <p:blipFill>
          <a:blip r:embed="rId3"/>
          <a:stretch/>
        </p:blipFill>
        <p:spPr>
          <a:xfrm>
            <a:off x="304920" y="3352680"/>
            <a:ext cx="28954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6"/>
          <p:cNvSpPr txBox="1"/>
          <p:nvPr/>
        </p:nvSpPr>
        <p:spPr>
          <a:xfrm>
            <a:off x="609480" y="3049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мпоненты здоровьесбережения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ование в области здоровь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хранение и укрепление здоровь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ьесберегающей грамот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ое и психологическое воспит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здоровой сре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упреждение вредных привыч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мотивации к ЗО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3049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Школьные факторы риска,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влияющие на состояние здоровья учащихся: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ое влияние внутришкольной среды на здоровье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нсификация учеб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оответствие методик и технологий обучения возрастным и функциональным возможностям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циональная организация учебной деятельности, в том числе физкультурно-оздоровите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ссовая педагогическая тактика (или тактика педагогических воздейст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5000"/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функциональная грамотность педагогов и родителей в вопросах охраны и укрепления здоровья, как своего, так 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4"/>
          <p:cNvSpPr/>
          <p:nvPr/>
        </p:nvSpPr>
        <p:spPr>
          <a:xfrm>
            <a:off x="4572000" y="1714680"/>
            <a:ext cx="144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133720" y="1600200"/>
            <a:ext cx="5141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ЬЕСБЕРЕЖЕНИЕ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819520" y="2209680"/>
            <a:ext cx="37702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Цель и задачи здоровьесбережения учащихс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ьесберегающая инфраструктура образоват. учреждения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75248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ая организация учебного процесса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85768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физкультурно-оздоровитель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 работы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257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. работа с учащимися по формир. ЗОЖ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47712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ител. методическая работа с педагогами и родителями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7543800" y="2971800"/>
            <a:ext cx="914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 бл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актика и динамика наблюдений за состоянием здоровья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4686480" y="262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3314880" y="262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1752480" y="5562720"/>
            <a:ext cx="594072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охранение и укрепление здоровья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ение и укрепление здоровья младших школьник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457200" y="5867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2514600" y="4572000"/>
            <a:ext cx="411012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ритерии оценки здоровья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ЗУН, мотивы, уровень работоспособности, рациональное питание, оценка наличия вредных привычек, закаливание и личная гигиена, положительные эмоции, оптимальный двигательный режим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572000" y="54100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80172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343044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205884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582948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708660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8342280" y="4000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801720" y="4114800"/>
            <a:ext cx="754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457200" y="2438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457200" y="243792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553080" y="24382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 flipV="1">
            <a:off x="80172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 flipV="1">
            <a:off x="205884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"/>
          <p:cNvSpPr/>
          <p:nvPr/>
        </p:nvSpPr>
        <p:spPr>
          <a:xfrm flipV="1">
            <a:off x="33148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9"/>
          <p:cNvSpPr/>
          <p:nvPr/>
        </p:nvSpPr>
        <p:spPr>
          <a:xfrm flipV="1">
            <a:off x="58294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0"/>
          <p:cNvSpPr/>
          <p:nvPr/>
        </p:nvSpPr>
        <p:spPr>
          <a:xfrm flipV="1">
            <a:off x="708660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 flipV="1">
            <a:off x="8342280" y="28573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801720" y="2857680"/>
            <a:ext cx="754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769608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8686800" y="243828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53352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й заказ общества в сфере общего образов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358128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ные характеристики здорового школьни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4"/>
          <p:cNvSpPr/>
          <p:nvPr/>
        </p:nvSpPr>
        <p:spPr>
          <a:xfrm>
            <a:off x="6553080" y="6858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ый стандарт среднего общего образов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>
            <a:off x="1523880" y="1371600"/>
            <a:ext cx="64800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3"/>
          <p:cNvSpPr/>
          <p:nvPr/>
        </p:nvSpPr>
        <p:spPr>
          <a:xfrm flipH="1">
            <a:off x="7314840" y="1371600"/>
            <a:ext cx="609480" cy="34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5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 rot="16200000">
            <a:off x="-1009440" y="3981600"/>
            <a:ext cx="2857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 rot="16200000">
            <a:off x="7277040" y="3924360"/>
            <a:ext cx="2895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Ъ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115560" y="10584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1"/>
          <p:cNvSpPr txBox="1"/>
          <p:nvPr/>
        </p:nvSpPr>
        <p:spPr>
          <a:xfrm>
            <a:off x="228600" y="152280"/>
            <a:ext cx="861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труктура модели здоровьесбережения младших школьников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Изучить инфрастуктуру образовательного учреждения и скорректировать ее на здоровьесберегающую деятель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Определить рациональную организацию учебного процес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роанализировать организацию физкультурно-оздоровительной работы в школе и повысить ее эффективн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рганизовать просветительско-воспитательную работу с учащимися, направленную на формирование мотивации к здоровому образу жизни, ценности здоровь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Повысить квалификацию работников общеобразовательного учреждения, а также  уровень знаний родителей по проблемам охраны и укрепления здоровья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Вести систематическую профилактику и динамику наблюдений за состоянием здоровья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. Формировать гигиенические знания, умения и навыки через учебные дисцип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28600" y="1828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Задачи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04920" y="2286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ль: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ение и  укрепление здоровья младших школьников в процессе обучения в соответствии с возможностям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514600" y="3808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сновные направления: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доровьесберегающая инфраструктура образовательного учреж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циональная организация учеб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я физкультурно оздоровитель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светительско-воспитательная работа с учащимися, направленная на формирование мотивации к собственному здоровью, ценности здоровья и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светительско-методическая работа с педагогами и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 бл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филактика и динамика наблюдений за состоянием здоровь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9"/>
          <p:cNvSpPr/>
          <p:nvPr/>
        </p:nvSpPr>
        <p:spPr>
          <a:xfrm>
            <a:off x="380880" y="3200400"/>
            <a:ext cx="86108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 flipH="1">
            <a:off x="1218960" y="28954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0880" y="1295280"/>
            <a:ext cx="247680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циальный заказ общества в сфере общего образо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205740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3809880" y="373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571500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739152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3124080" y="1295280"/>
            <a:ext cx="213372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дельные характеристики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разовательной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готов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5562720" y="1295280"/>
            <a:ext cx="3352680" cy="16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сударственный стандарт среднего общего образо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7"/>
          <p:cNvSpPr/>
          <p:nvPr/>
        </p:nvSpPr>
        <p:spPr>
          <a:xfrm flipH="1">
            <a:off x="1219320" y="2895480"/>
            <a:ext cx="31240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 flipH="1">
            <a:off x="1371600" y="2895480"/>
            <a:ext cx="60199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0"/>
          <p:cNvSpPr txBox="1"/>
          <p:nvPr/>
        </p:nvSpPr>
        <p:spPr>
          <a:xfrm>
            <a:off x="1066680" y="22860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Технология реализации модели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здоровьесбережения младших школьников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457200" y="3505320"/>
            <a:ext cx="16002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2286000" y="35053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4038480" y="3505320"/>
            <a:ext cx="1752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бор оптимальных  форм,                                                                               методов, средст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6019920" y="350532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7620120" y="350532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1143000" y="39625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8305920" y="41148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8"/>
          <p:cNvSpPr/>
          <p:nvPr/>
        </p:nvSpPr>
        <p:spPr>
          <a:xfrm flipH="1">
            <a:off x="1142640" y="525780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914400" y="1066680"/>
            <a:ext cx="7391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df59f388fbf3"/>
          <p:cNvPicPr/>
          <p:nvPr/>
        </p:nvPicPr>
        <p:blipFill>
          <a:blip r:embed="rId1"/>
          <a:stretch/>
        </p:blipFill>
        <p:spPr>
          <a:xfrm>
            <a:off x="2057400" y="4564080"/>
            <a:ext cx="5029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28:0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