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1.gif" ContentType="image/gif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8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C7D-61E0-4D18-9AD1-38D28473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11C-E834-4ABE-8991-928AF9E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F1C-799E-4B73-91BF-83245C57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547-CD4D-4620-8C6B-B01F8D82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A65-DF6B-4B97-A7B3-254B343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78E-DCB7-4DA9-967D-B92A18D9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43D-EA3C-45FF-B753-32E3BA0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177-7C0A-41EC-AD3F-751865B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0AE-5DAD-4EAA-B616-662D21B4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E5A-A342-4A9A-B419-FA677DA0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D1C-7E13-44B0-9C26-F553200B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14C-8382-4DB0-822E-19E1CFCA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5156-64F9-47F2-AFC5-4ECE8F91B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o-name.ru/historical-events/francia.ht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обретать знания- храбрость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умножать их – мудрость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 умело приумножать- великое искусств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NASTYA\Desktop\0_85500_32531758_XL.gif"/>
          <p:cNvPicPr/>
          <p:nvPr/>
        </p:nvPicPr>
        <p:blipFill>
          <a:blip r:embed="rId2"/>
          <a:stretch/>
        </p:blipFill>
        <p:spPr>
          <a:xfrm>
            <a:off x="2556000" y="2565360"/>
            <a:ext cx="3200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Если хотите научиться плавать,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смело входите в воду, а если 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хотите научиться решать задачи,</a:t>
            </a:r>
            <a:br>
              <a:rPr sz="3200"/>
            </a:br>
            <a:r>
              <a:rPr b="0" i="1" lang="ru-RU" sz="3200" spc="-1" strike="noStrike">
                <a:solidFill>
                  <a:srgbClr val="262673"/>
                </a:solidFill>
                <a:latin typeface="Arial"/>
              </a:rPr>
              <a:t>то решай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Дж. По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9596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professor01"/>
          <p:cNvPicPr/>
          <p:nvPr/>
        </p:nvPicPr>
        <p:blipFill>
          <a:blip r:embed="rId1"/>
          <a:stretch/>
        </p:blipFill>
        <p:spPr>
          <a:xfrm>
            <a:off x="7380360" y="0"/>
            <a:ext cx="1655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Решите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з пункта А в пункт В, расстояние между которыми 30 км, одновременно выехали автомобилист и велосипедист. Известно, что в час автомобилист проезжает на 40 км больше, чем велосипедист. Определите скорость велосипедиста, если известно, что он прибыл в пункт В на 2 часа 24 минуты позже автомобилист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Решите самостоя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улыбкаРАДУГИ.gif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ефлексия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Информация о д/з.: вариант 27- 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NASTYA\Desktop\789216554.gif"/>
          <p:cNvPicPr/>
          <p:nvPr/>
        </p:nvPicPr>
        <p:blipFill>
          <a:blip r:embed="rId1"/>
          <a:stretch/>
        </p:blipFill>
        <p:spPr>
          <a:xfrm>
            <a:off x="2916360" y="3357720"/>
            <a:ext cx="302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То, что вы были  вынуждены открыть сами, оставляет в вашем уме дорожку, которой вы можете снова воспользоваться, когда в этом возникнет необходимо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немецкий учёный физик 18-го века Лихтенберг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451640" y="189000"/>
            <a:ext cx="1692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ag00630_"/>
          <p:cNvPicPr/>
          <p:nvPr/>
        </p:nvPicPr>
        <p:blipFill>
          <a:blip r:embed="rId1"/>
          <a:stretch/>
        </p:blipFill>
        <p:spPr>
          <a:xfrm>
            <a:off x="4716360" y="191628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Копает "/>
          <p:cNvPicPr/>
          <p:nvPr/>
        </p:nvPicPr>
        <p:blipFill>
          <a:blip r:embed="rId2"/>
          <a:stretch/>
        </p:blipFill>
        <p:spPr>
          <a:xfrm>
            <a:off x="1692360" y="3860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Теор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1f1"/>
          <p:cNvPicPr/>
          <p:nvPr/>
        </p:nvPicPr>
        <p:blipFill>
          <a:blip r:embed="rId1"/>
          <a:stretch/>
        </p:blipFill>
        <p:spPr>
          <a:xfrm>
            <a:off x="7812000" y="62064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Users\NASTYA\Desktop\34c4e3995ac6.gif"/>
          <p:cNvPicPr/>
          <p:nvPr/>
        </p:nvPicPr>
        <p:blipFill>
          <a:blip r:embed="rId2"/>
          <a:stretch/>
        </p:blipFill>
        <p:spPr>
          <a:xfrm>
            <a:off x="1476360" y="1484280"/>
            <a:ext cx="65548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Муниципальное общеобразовательное учреждение «Средняя общеобразовательная школа № 56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48440" y="1270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067280" y="3789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9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учитель Швецова  Надежд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86000" y="4865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г.Саратов,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eople1.gif"/>
          <p:cNvPicPr/>
          <p:nvPr/>
        </p:nvPicPr>
        <p:blipFill>
          <a:blip r:embed="rId1"/>
          <a:stretch/>
        </p:blipFill>
        <p:spPr>
          <a:xfrm>
            <a:off x="1187280" y="3500280"/>
            <a:ext cx="2880000" cy="2232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0"/>
          <p:cNvSpPr/>
          <p:nvPr/>
        </p:nvSpPr>
        <p:spPr>
          <a:xfrm>
            <a:off x="1476360" y="20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шение уравнений, приводимых к  квадра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1f1"/>
          <p:cNvPicPr/>
          <p:nvPr/>
        </p:nvPicPr>
        <p:blipFill>
          <a:blip r:embed="rId2"/>
          <a:stretch/>
        </p:blipFill>
        <p:spPr>
          <a:xfrm>
            <a:off x="7812000" y="549360"/>
            <a:ext cx="11430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Обобщить, систематизировать и углубить учебный материал с целью подготовки к ГИ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Развивать внимание, память, речь, логическое мышление, самостоятельность.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Воспитать стремление достигнуть поставленную цель, чувство ответственности, уверенности в себе, умение работать в коллекти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doc17"/>
          <p:cNvPicPr/>
          <p:nvPr/>
        </p:nvPicPr>
        <p:blipFill>
          <a:blip r:embed="rId1"/>
          <a:stretch/>
        </p:blipFill>
        <p:spPr>
          <a:xfrm>
            <a:off x="7451640" y="476280"/>
            <a:ext cx="1465200" cy="137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NASTYA\Desktop\0081812165.jpg"/>
          <p:cNvPicPr/>
          <p:nvPr/>
        </p:nvPicPr>
        <p:blipFill>
          <a:blip r:embed="rId2"/>
          <a:stretch/>
        </p:blipFill>
        <p:spPr>
          <a:xfrm>
            <a:off x="7164360" y="4724280"/>
            <a:ext cx="165564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viet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588000" y="47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(1540-16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284720" y="148428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анцузский</a:t>
            </a: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 математик, положивший начало алгебре как науке о преобразовании выражений, о решении уравнений в общем виде, создатель буквенного и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Решите уравнения </a:t>
            </a:r>
            <a:r>
              <a:rPr b="1" i="1" lang="ru-RU" sz="2800" spc="-1" strike="noStrike">
                <a:solidFill>
                  <a:srgbClr val="262673"/>
                </a:solidFill>
                <a:latin typeface="Arial"/>
              </a:rPr>
              <a:t>(устно)</a:t>
            </a: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ОТВЕ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реше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4x²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3. 3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12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. 7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-3x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5. -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±√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-7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,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.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NASTYA\Desktop\10355.jpg"/>
          <p:cNvPicPr/>
          <p:nvPr/>
        </p:nvPicPr>
        <p:blipFill>
          <a:blip r:embed="rId1"/>
          <a:stretch/>
        </p:blipFill>
        <p:spPr>
          <a:xfrm>
            <a:off x="3276720" y="414972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Сар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NASTYA\Desktop\ponte-fra-saratov-e-engels.jpg"/>
          <p:cNvPicPr/>
          <p:nvPr/>
        </p:nvPicPr>
        <p:blipFill>
          <a:blip r:embed="rId1"/>
          <a:stretch/>
        </p:blipFill>
        <p:spPr>
          <a:xfrm>
            <a:off x="1262160" y="1766880"/>
            <a:ext cx="661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+ 2 (х+3)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²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+ 2 (Х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²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+6х + 9)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-81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усть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 x²+6x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(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9)-81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 ²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+2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-63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олуч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9   или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+9 =0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²+6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-7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3                   х </a:t>
            </a: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-7, х </a:t>
            </a:r>
            <a:r>
              <a:rPr b="1" lang="ru-RU" sz="10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твет: -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7; -3;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ешит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84360" y="836640"/>
                <a:ext cx="6408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Прямоугольник 5"/>
          <p:cNvSpPr/>
          <p:nvPr/>
        </p:nvSpPr>
        <p:spPr>
          <a:xfrm>
            <a:off x="3492360" y="17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1403280" y="26370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1476360" y="3068640"/>
            <a:ext cx="1582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971640" y="4076640"/>
            <a:ext cx="407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042920" y="2205000"/>
            <a:ext cx="432000" cy="1800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1989000" y="22017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2142360" y="2239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1547640" y="2349360"/>
                <a:ext cx="2664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5"/>
              <p:cNvSpPr txBox="1"/>
              <p:nvPr/>
            </p:nvSpPr>
            <p:spPr>
              <a:xfrm>
                <a:off x="1476360" y="3068640"/>
                <a:ext cx="2808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швецова</dc:creator>
  <dc:description/>
  <dc:language>en-US</dc:language>
  <cp:lastModifiedBy>NASTYA</cp:lastModifiedBy>
  <dcterms:modified xsi:type="dcterms:W3CDTF">2013-12-24T06:34:22Z</dcterms:modified>
  <cp:revision>63</cp:revision>
  <dc:subject/>
  <dc:title>Алгебра 9 класс.</dc:title>
</cp:coreProperties>
</file>