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128-D6F0-44C8-A9C4-FA079739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1E4-3717-49E5-9E8F-C1ED514A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984-0189-4053-88C6-7524CD28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596-2351-4A28-9323-A1B9C487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DD0-8DA7-4B0B-85C1-7C4F05D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A99-1571-4BA3-A195-31673A8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E2F-777C-4497-A848-F208C95A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D86-0C4B-4C4C-8139-57EFEA5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E64-74BB-4F44-B9E3-E47CD6D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4E8-A37B-4B6C-9F5C-02D4EA2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94B-DD78-4636-B5AF-7EEA089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E6C-CB3E-4C70-8D52-62941AFB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75F9-FB2A-4F99-9B73-9F3AD441A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o-name.ru/historical-events/francia.ht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обретать знания- храбрость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умножать их – мудрость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умело приумножать- великое искус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NASTYA\Desktop\0_85500_32531758_XL.gif"/>
          <p:cNvPicPr/>
          <p:nvPr/>
        </p:nvPicPr>
        <p:blipFill>
          <a:blip r:embed="rId2"/>
          <a:stretch/>
        </p:blipFill>
        <p:spPr>
          <a:xfrm>
            <a:off x="2556000" y="2565360"/>
            <a:ext cx="3200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Если хотите научиться плавать,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смело входите в воду, а если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хотите научиться решать задачи,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решай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ж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professor01"/>
          <p:cNvPicPr/>
          <p:nvPr/>
        </p:nvPicPr>
        <p:blipFill>
          <a:blip r:embed="rId1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з пункта А в пункт В, расстояние между которыми 30 км, одновременно выехали автомобилист и велосипедист. Известно, что в час автомобилист проезжает на 40 км больше, чем велосипедист. Определите скорость велосипедиста, если известно, что он прибыл в пункт В на 2 часа 24 минуты позже автомобилист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шите самостоя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улыбкаРАДУГИ.gif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ефлексия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Информация о д/з.: вариант 27- 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NASTYA\Desktop\789216554.gif"/>
          <p:cNvPicPr/>
          <p:nvPr/>
        </p:nvPicPr>
        <p:blipFill>
          <a:blip r:embed="rId1"/>
          <a:stretch/>
        </p:blipFill>
        <p:spPr>
          <a:xfrm>
            <a:off x="2916360" y="3357720"/>
            <a:ext cx="302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То, что вы были  вынуждены открыть сами, оставляет в вашем уме дорожку, которой вы можете снова воспользоваться, когда в этом возникнет необходим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немецкий учёный физик 18-го века Лихтенбер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ag00630_"/>
          <p:cNvPicPr/>
          <p:nvPr/>
        </p:nvPicPr>
        <p:blipFill>
          <a:blip r:embed="rId1"/>
          <a:stretch/>
        </p:blipFill>
        <p:spPr>
          <a:xfrm>
            <a:off x="4716360" y="191628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Копает "/>
          <p:cNvPicPr/>
          <p:nvPr/>
        </p:nvPicPr>
        <p:blipFill>
          <a:blip r:embed="rId2"/>
          <a:stretch/>
        </p:blipFill>
        <p:spPr>
          <a:xfrm>
            <a:off x="1692360" y="3860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Теор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NASTYA\Desktop\34c4e3995ac6.gif"/>
          <p:cNvPicPr/>
          <p:nvPr/>
        </p:nvPicPr>
        <p:blipFill>
          <a:blip r:embed="rId2"/>
          <a:stretch/>
        </p:blipFill>
        <p:spPr>
          <a:xfrm>
            <a:off x="1476360" y="1484280"/>
            <a:ext cx="65548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Муниципальное общеобразовательное учреждение «Средняя общеобразовательная школа № 56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067280" y="378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9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учитель Швецова  Надежд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86000" y="4865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г.Саратов,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eople1.gif"/>
          <p:cNvPicPr/>
          <p:nvPr/>
        </p:nvPicPr>
        <p:blipFill>
          <a:blip r:embed="rId1"/>
          <a:stretch/>
        </p:blipFill>
        <p:spPr>
          <a:xfrm>
            <a:off x="1187280" y="3500280"/>
            <a:ext cx="2880000" cy="2232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0"/>
          <p:cNvSpPr/>
          <p:nvPr/>
        </p:nvSpPr>
        <p:spPr>
          <a:xfrm>
            <a:off x="1476360" y="20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шение уравнений, приводимых к  квадра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f1"/>
          <p:cNvPicPr/>
          <p:nvPr/>
        </p:nvPicPr>
        <p:blipFill>
          <a:blip r:embed="rId2"/>
          <a:stretch/>
        </p:blipFill>
        <p:spPr>
          <a:xfrm>
            <a:off x="7812000" y="549360"/>
            <a:ext cx="11430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Обобщить, систематизировать и углубить учебный материал с целью подготовки к ГИ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Развивать внимание, память, речь, логическое мышление, самостоятельность.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Воспитать стремление достигнуть поставленную цель, чувство ответственности, уверенности в себе, умение работать в коллекти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doc17"/>
          <p:cNvPicPr/>
          <p:nvPr/>
        </p:nvPicPr>
        <p:blipFill>
          <a:blip r:embed="rId1"/>
          <a:stretch/>
        </p:blipFill>
        <p:spPr>
          <a:xfrm>
            <a:off x="7451640" y="476280"/>
            <a:ext cx="1465200" cy="137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ASTYA\Desktop\0081812165.jpg"/>
          <p:cNvPicPr/>
          <p:nvPr/>
        </p:nvPicPr>
        <p:blipFill>
          <a:blip r:embed="rId2"/>
          <a:stretch/>
        </p:blipFill>
        <p:spPr>
          <a:xfrm>
            <a:off x="7164360" y="4724280"/>
            <a:ext cx="165564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iet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588000" y="47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(1540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284720" y="148428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узский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 математик, положивший начало алгебре как науке о преобразовании выражений, о решении уравнений в общем виде, создатель буквенного и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Решите уравнения </a:t>
            </a:r>
            <a:r>
              <a:rPr b="1" i="1" lang="ru-RU" sz="2800" spc="-1" strike="noStrike">
                <a:solidFill>
                  <a:srgbClr val="262673"/>
                </a:solidFill>
                <a:latin typeface="Arial"/>
              </a:rPr>
              <a:t>(устно)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ОТ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реш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4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3. 3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12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. 7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-3x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5. -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±√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-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.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NASTYA\Desktop\10355.jpg"/>
          <p:cNvPicPr/>
          <p:nvPr/>
        </p:nvPicPr>
        <p:blipFill>
          <a:blip r:embed="rId1"/>
          <a:stretch/>
        </p:blipFill>
        <p:spPr>
          <a:xfrm>
            <a:off x="3276720" y="414972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ар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NASTYA\Desktop\ponte-fra-saratov-e-engels.jpg"/>
          <p:cNvPicPr/>
          <p:nvPr/>
        </p:nvPicPr>
        <p:blipFill>
          <a:blip r:embed="rId1"/>
          <a:stretch/>
        </p:blipFill>
        <p:spPr>
          <a:xfrm>
            <a:off x="1262160" y="1766880"/>
            <a:ext cx="661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+ 2 (х+3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+ 2 (Х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²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+6х + 9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-81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усть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 x²+6x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(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9)-81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-63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луч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 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+9 =0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-7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3                   х </a:t>
            </a: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7, х </a:t>
            </a:r>
            <a:r>
              <a:rPr b="1" lang="ru-RU" sz="1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: -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7; -3;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84360" y="836640"/>
                <a:ext cx="6408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Прямоугольник 5"/>
          <p:cNvSpPr/>
          <p:nvPr/>
        </p:nvSpPr>
        <p:spPr>
          <a:xfrm>
            <a:off x="349236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1403280" y="2637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476360" y="3068640"/>
            <a:ext cx="158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971640" y="4076640"/>
            <a:ext cx="407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042920" y="2205000"/>
            <a:ext cx="432000" cy="1800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989000" y="22017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2142360" y="2239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1547640" y="2349360"/>
                <a:ext cx="2664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5"/>
              <p:cNvSpPr txBox="1"/>
              <p:nvPr/>
            </p:nvSpPr>
            <p:spPr>
              <a:xfrm>
                <a:off x="1476360" y="3068640"/>
                <a:ext cx="2808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швецова</dc:creator>
  <dc:description/>
  <dc:language>en-US</dc:language>
  <cp:lastModifiedBy>NASTYA</cp:lastModifiedBy>
  <dcterms:modified xsi:type="dcterms:W3CDTF">2013-12-24T06:34:22Z</dcterms:modified>
  <cp:revision>63</cp:revision>
  <dc:subject/>
  <dc:title>Алгебра 9 класс.</dc:title>
</cp:coreProperties>
</file>