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gif" ContentType="image/gif"/>
  <Override PartName="/ppt/media/image3.wmf" ContentType="image/x-wm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073-B461-4EBC-8E66-842B307F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B1B-B725-44B9-82E0-E3BB79E7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FED-AEBF-4EA3-A6A0-29F9C9C1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CA0-BB27-4AC9-9381-14B9E688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83D-67A6-41CE-BAC1-6C6D2DE8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CE5-787F-4862-B748-E59DC4AB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748D-0ACB-4175-8EFB-E9281BC9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CA9-5593-4585-8D5E-B41D1449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6E1-06FB-4504-B669-C1A3ECDD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405-49A8-4DC6-9D3D-53357839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9F2A-3EA8-42CA-8B44-CF12EEDD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475-74EE-4882-89D5-DEAB0DE6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1C30-DDCC-478B-8207-F4CD48B7B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00cc00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G_Cooper"/>
              </a:rPr>
              <a:t>Урок развития речи в 5 классе по программе под редакцией профессора В.В. Бабайцев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G_Cooper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tScript"/>
              </a:rPr>
              <a:t>Разработала учитель русского языка и литературы Е.Ю.Нефедова(Инсарская средняя школа №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78920" y="52524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tScript"/>
              </a:rPr>
              <a:t>Русский язык. 5 класс</a:t>
            </a:r>
            <a:r>
              <a:rPr b="0" lang="en-US" sz="6600" spc="-1" strike="noStrike">
                <a:solidFill>
                  <a:srgbClr val="000000"/>
                </a:solidFill>
                <a:latin typeface="ArtScript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G_Cooper"/>
              </a:rPr>
              <a:t>Научный стил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G_Coop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_Cooper"/>
              </a:rPr>
              <a:t>Це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точная передача научных знаний (научной информац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G_Coop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_Cooper"/>
              </a:rPr>
              <a:t>Особенности стил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научные термины, сложные предложения, однозначные слова, союз потому ч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G_Coop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G_Cooper"/>
              </a:rPr>
              <a:t>Сфера употребле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учебники, словари, энциклопедии, научные статьи и кни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Чтение теоретического материала на стр.63. Упр.113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Стр.79, упр.1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001818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_Cooper"/>
              </a:rPr>
              <a:t>Художественный стиль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G_Coop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G_Cooper"/>
              </a:rPr>
              <a:t>Цел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воздействие на читателя или слуш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G_Coop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_Cooper"/>
              </a:rPr>
              <a:t>Особенности стил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метафоры, сравнения, эпитеты, олицетворения и другие средства выразительности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G_Coop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_Cooper"/>
              </a:rPr>
              <a:t>Сфера употреблен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стихи, рассказы, повести, романы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Чтение теоретического материала на стр.65-66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Упр.130 (1,2,3),</a:t>
            </a:r>
            <a:r>
              <a:rPr b="0" i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стр.81-82, упр.153</a:t>
            </a:r>
            <a:r>
              <a:rPr b="0" i="1" lang="en-US" sz="21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tScript"/>
              </a:rPr>
              <a:t>Подводим итоги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 какими стилями речи вы познакомилис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ова цель разговорного стиля?     Научного? Художественног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чём заключаются особенности научного стил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де используется научный стил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ова цель художественного стил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ой стиль используется в стихах,                 рассказах, повестях, романах, поэмах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10640" y="17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книга" descr=""/>
          <p:cNvPicPr/>
          <p:nvPr/>
        </p:nvPicPr>
        <p:blipFill>
          <a:blip r:embed="rId1"/>
          <a:stretch/>
        </p:blipFill>
        <p:spPr>
          <a:xfrm>
            <a:off x="6227640" y="692280"/>
            <a:ext cx="273708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tScript"/>
              </a:rPr>
              <a:t>Домашнее задан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13-1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Упр.114 (подсказки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4!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5-17. Упр.136 (подсказки в п.15!!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32000" y="2924280"/>
            <a:ext cx="5905440" cy="33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лаю удачи!!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333399"/>
            </a:gs>
            <a:gs pos="100000">
              <a:srgbClr val="ff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23640" y="33336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tScript"/>
              </a:rPr>
              <a:t>Тема урока: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tScript"/>
              </a:rPr>
              <a:t> </a:t>
            </a:r>
            <a:r>
              <a:rPr b="0" lang="en-US" sz="10000" spc="-1" strike="noStrike">
                <a:solidFill>
                  <a:srgbClr val="000000"/>
                </a:solidFill>
                <a:latin typeface="ArtScript"/>
              </a:rPr>
              <a:t>«Стили речи»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09840" y="551664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рок-лекция с элементами бес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tScript"/>
              </a:rPr>
              <a:t>Цели урока: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_Cooper"/>
              </a:rPr>
              <a:t>1.Познакомить уча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_Cooper"/>
              </a:rPr>
              <a:t>со стилями ре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_Cooper"/>
              </a:rPr>
              <a:t>с делением стилей на книжные и разговорн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_Cooper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G_Cooper"/>
              </a:rPr>
              <a:t>с особенностями стилей и сферой их употреб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_Cooper"/>
              </a:rPr>
              <a:t>2.Развивать связную устную речь учащих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7850160" y="5157720"/>
          <a:ext cx="1165320" cy="15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0160" y="5157720"/>
                    <a:ext cx="116532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tScript"/>
              </a:rPr>
              <a:t>Это интересно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VivaldiD"/>
              </a:rPr>
              <a:t>Слово стиль происходит от греческого </a:t>
            </a:r>
            <a:r>
              <a:rPr b="0" i="1" lang="en-US" sz="3200" spc="-1" strike="noStrike">
                <a:solidFill>
                  <a:srgbClr val="000000"/>
                </a:solidFill>
                <a:latin typeface="AG_Cooper"/>
              </a:rPr>
              <a:t>stilos</a:t>
            </a:r>
            <a:r>
              <a:rPr b="0" i="1" lang="en-US" sz="3200" spc="-1" strike="noStrike">
                <a:solidFill>
                  <a:srgbClr val="000000"/>
                </a:solidFill>
                <a:latin typeface="VivaldiD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VivaldiD"/>
              </a:rPr>
              <a:t>и означает «палочка». В древности и в средние века писали стержнем из дерева, кости, мет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ivaldiD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VivaldiD"/>
              </a:rPr>
              <a:t>Один конец стержня был заострен, им и писали на сырых глиняных плитках, бересте, на вощеных дощечках; другой - -в виде лопаточки, им , повернув стержень- «стиль»,стирали написанное. Таким образом автор совершенствовал свое сочинение. Отсюда выражение «часто перевертывай стиль», т.е. исправляй, перерабатывай свое произ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37400" y="5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24Y4WT" descr=""/>
          <p:cNvPicPr/>
          <p:nvPr/>
        </p:nvPicPr>
        <p:blipFill>
          <a:blip r:embed="rId1"/>
          <a:stretch/>
        </p:blipFill>
        <p:spPr>
          <a:xfrm>
            <a:off x="7236000" y="5248440"/>
            <a:ext cx="175068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50000">
              <a:srgbClr val="0000cc"/>
            </a:gs>
            <a:gs pos="100000">
              <a:srgbClr val="9900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tScript"/>
              </a:rPr>
              <a:t>Что такое стиль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952200"/>
            <a:ext cx="843588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В словаре С.И. Ожегова дается такое толкование слова стиль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1)  Характерный вид, разновидность чего-нибудь, выражающаяся  в каких-нибудь особенных признаках, свойствах художественного оформления. 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Например: русский национальный стиль. Стиль одежды. Архитектурный стиль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2) Метод совокупность приемов какой-нибудь работы, деятельности, поведения. 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Например: стиль в работе. Стиль плавания. Этот поступок совершенно в его стиле(он всегда так поступает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3) Совокупность приемов использования средств языка для выражения тех или иных идей, мыслей в различных условиях речевой практики. </a:t>
            </a:r>
            <a:r>
              <a:rPr b="0" i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Например: стиль художественной литературы. Научный стиль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174160" y="5516640"/>
          <a:ext cx="1006200" cy="13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4160" y="5516640"/>
                    <a:ext cx="100620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tScript"/>
              </a:rPr>
              <a:t>Мы узнали что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ли речи- это приемы и средства языка для выражения мыслей в зависимости от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и высказы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что такое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цель высказы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разговор дру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объясн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ответ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пересказ художественного произве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написание  сочинения или и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написание заявле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: для каждой цели высказывания существуют разные стили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462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2917800"/>
            <a:ext cx="2592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2917800"/>
            <a:ext cx="2592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3925800"/>
            <a:ext cx="2016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38560" y="1909800"/>
            <a:ext cx="2592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4560" y="19098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или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0920" y="2341440"/>
            <a:ext cx="720720" cy="576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620720" y="2341440"/>
            <a:ext cx="720720" cy="57636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365800"/>
            <a:ext cx="2520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932360" y="3349800"/>
            <a:ext cx="720720" cy="20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3080" y="3349800"/>
            <a:ext cx="720720" cy="20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500360" y="3349800"/>
            <a:ext cx="1152360" cy="57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53080" y="3349800"/>
            <a:ext cx="1152360" cy="57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5080" y="29178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ни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9178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гово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4388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блиц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5365800"/>
            <a:ext cx="2521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39258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удоже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53658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фициально-дел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3925800"/>
            <a:ext cx="2016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39258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76360" y="260280"/>
            <a:ext cx="6191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ArtScript"/>
              </a:rPr>
              <a:t>Запомните!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96000" y="981000"/>
            <a:ext cx="38098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tScript"/>
              </a:rPr>
              <a:t>Физминутка</a:t>
            </a:r>
            <a:br>
              <a:rPr sz="7000"/>
            </a:br>
            <a:r>
              <a:rPr b="0" lang="en-US" sz="7000" spc="-1" strike="noStrike">
                <a:solidFill>
                  <a:srgbClr val="000000"/>
                </a:solidFill>
                <a:latin typeface="ArtScript"/>
              </a:rPr>
              <a:t>«кошка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торожно, словно кош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 дивана, до окош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 носочках я пройдус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яду и в кольцо свернус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 теперь пора проснуть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спрямиться, потянуть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Я легко с дивана спрыгн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инку я дугою выгн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43640" y="2637000"/>
            <a:ext cx="24051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90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G_Cooper"/>
              </a:rPr>
              <a:t>Разговорный стил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G_Cooper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G_Cooper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меняться сведениями, мыслями или поделиться чувствами с близкими, хорошо знакомыми людь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G_Cooper"/>
              </a:rPr>
              <a:t>Особенности сти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разговорные слова и выра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G_Cooper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G_Cooper"/>
              </a:rPr>
              <a:t>Сфера употреб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домашняя или другая неофициальная обстановка, а также дружеские письма, посл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тение теоретического материала на стр. 58, упр. 102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i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стр. 74, упр.1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6:18:12Z</dcterms:created>
  <dc:creator>Школа</dc:creator>
  <dc:description/>
  <dc:language>en-US</dc:language>
  <cp:lastModifiedBy>Мама</cp:lastModifiedBy>
  <dcterms:modified xsi:type="dcterms:W3CDTF">2009-01-26T19:08:44Z</dcterms:modified>
  <cp:revision>6</cp:revision>
  <dc:subject/>
  <dc:title>Слайд 1</dc:title>
</cp:coreProperties>
</file>