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gif" ContentType="image/gif"/>
  <Override PartName="/ppt/media/image3.wmf" ContentType="image/x-wmf"/>
  <Override PartName="/ppt/media/image4.gif" ContentType="image/gif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7166-E756-4752-B2E0-820CE4ECA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EDAB-F678-4017-9E78-D8C496A3F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0427-119C-48AF-94F1-6A5FBF3F5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1A3B-3B97-43CD-B52F-F01F01658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74A0-B18F-4644-80B0-DB3841CDD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BEF0-C0EF-4FB2-BD0F-2844EAE2C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FACA-1309-4480-BC10-BAA867C72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146D-29C2-489E-AC07-B40774318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D49A-7389-47D8-9404-41120E85C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5674-7C22-4AD7-918A-A6A61A9A3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7B34-9350-4622-BA57-3F7774DAE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A70F-69E3-4B0F-A17D-B7EF21FC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C1EDC-57AD-4FFE-A6E7-1C5C1BABE2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00cc00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22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G_Cooper"/>
              </a:rPr>
              <a:t>Урок развития речи в 5 классе по программе под редакцией профессора В.В. Бабайцево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G_Cooper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tScript"/>
              </a:rPr>
              <a:t>Разработала учитель русского языка и литературы Е.Ю.Нефедова(Инсарская средняя школа №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178920" y="52524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tScript"/>
              </a:rPr>
              <a:t>Русский язык. 5 класс</a:t>
            </a:r>
            <a:r>
              <a:rPr b="0" lang="en-US" sz="6600" spc="-1" strike="noStrike">
                <a:solidFill>
                  <a:srgbClr val="000000"/>
                </a:solidFill>
                <a:latin typeface="ArtScript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5000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G_Cooper"/>
              </a:rPr>
              <a:t>Научный стиль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G_Coop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G_Cooper"/>
              </a:rPr>
              <a:t>Цел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точная передача научных знаний (научной информаци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G_Coop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G_Cooper"/>
              </a:rPr>
              <a:t>Особенности стиля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научные термины, сложные предложения, однозначные слова, союз потому чт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G_Coop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G_Cooper"/>
              </a:rPr>
              <a:t>Сфера употребления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учебники, словари, энциклопедии, научные статьи и книг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Чтение теоретического материала на стр.63. Упр.113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Стр.79, упр.1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2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1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001818"/>
            </a:gs>
            <a:gs pos="100000">
              <a:srgbClr val="0099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G_Cooper"/>
              </a:rPr>
              <a:t>Художественный стиль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G_Coop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G_Cooper"/>
              </a:rPr>
              <a:t>Цел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воздействие на читателя или слушате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G_Coop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_Cooper"/>
              </a:rPr>
              <a:t>Особенности стиля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метафоры, сравнения, эпитеты, олицетворения и другие средства выразительности ре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G_Coop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_Cooper"/>
              </a:rPr>
              <a:t>Сфера употребления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стихи, рассказы, повести, романы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Чтение теоретического материала на стр.65-66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Упр.130 (1,2,3),</a:t>
            </a:r>
            <a:r>
              <a:rPr b="0" i="1" lang="en-US" sz="2100" spc="-1" strike="noStrike" u="sng">
                <a:solidFill>
                  <a:srgbClr val="ffffff"/>
                </a:solidFill>
                <a:uFillTx/>
                <a:latin typeface="Arial"/>
              </a:rPr>
              <a:t>стр.81-82, упр.153</a:t>
            </a:r>
            <a:r>
              <a:rPr b="0" i="1" lang="en-US" sz="21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2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2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tScript"/>
              </a:rPr>
              <a:t>Подводим итоги.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 какими стилями речи вы познакомились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акова цель разговорного стиля?     Научного? Художественного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 чём заключаются особенности научного стиля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Где используется научный стиль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акова цель художественного стиля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акой стиль используется в стихах,                 рассказах, повестях, романах, поэмах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910640" y="175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книга" descr=""/>
          <p:cNvPicPr/>
          <p:nvPr/>
        </p:nvPicPr>
        <p:blipFill>
          <a:blip r:embed="rId1"/>
          <a:stretch/>
        </p:blipFill>
        <p:spPr>
          <a:xfrm>
            <a:off x="6227640" y="692280"/>
            <a:ext cx="2737080" cy="19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7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2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7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2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7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2" dur="10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50000">
              <a:srgbClr val="fee7f2"/>
            </a:gs>
            <a:gs pos="100000">
              <a:srgbClr val="fbeac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tScript"/>
              </a:rPr>
              <a:t>Домашнее задание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§13-1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.Упр.114 (подсказки 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4!!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15-17. Упр.136 (подсказки в п.15!!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32000" y="2924280"/>
            <a:ext cx="5905440" cy="333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Желаю удачи!!!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50000">
              <a:srgbClr val="333399"/>
            </a:gs>
            <a:gs pos="100000">
              <a:srgbClr val="ff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323640" y="333360"/>
            <a:ext cx="7993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tScript"/>
              </a:rPr>
              <a:t>Тема урока: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tScript"/>
              </a:rPr>
              <a:t> </a:t>
            </a:r>
            <a:r>
              <a:rPr b="0" lang="en-US" sz="10000" spc="-1" strike="noStrike">
                <a:solidFill>
                  <a:srgbClr val="000000"/>
                </a:solidFill>
                <a:latin typeface="ArtScript"/>
              </a:rPr>
              <a:t>«Стили речи»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09840" y="5516640"/>
            <a:ext cx="58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рок-лекция с элементами бесе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tScript"/>
              </a:rPr>
              <a:t>Цели урока: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3116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_Cooper"/>
              </a:rPr>
              <a:t>1.Познакомить учащих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_Cooper"/>
              </a:rPr>
              <a:t>со стилями реч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_Cooper"/>
              </a:rPr>
              <a:t>с делением стилей на книжные и разговорны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_Cooper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G_Cooper"/>
              </a:rPr>
              <a:t>с особенностями стилей и сферой их употреб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_Cooper"/>
              </a:rPr>
              <a:t>2.Развивать связную устную речь учащих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7850160" y="5157720"/>
          <a:ext cx="1165320" cy="155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50160" y="5157720"/>
                    <a:ext cx="1165320" cy="15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tScript"/>
              </a:rPr>
              <a:t>Это интересно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3200" spc="-1" strike="noStrike">
                <a:solidFill>
                  <a:srgbClr val="000000"/>
                </a:solidFill>
                <a:latin typeface="VivaldiD"/>
              </a:rPr>
              <a:t>Слово стиль происходит от греческого </a:t>
            </a:r>
            <a:r>
              <a:rPr b="0" i="1" lang="en-US" sz="3200" spc="-1" strike="noStrike">
                <a:solidFill>
                  <a:srgbClr val="000000"/>
                </a:solidFill>
                <a:latin typeface="AG_Cooper"/>
              </a:rPr>
              <a:t>stilos</a:t>
            </a:r>
            <a:r>
              <a:rPr b="0" i="1" lang="en-US" sz="3200" spc="-1" strike="noStrike">
                <a:solidFill>
                  <a:srgbClr val="000000"/>
                </a:solidFill>
                <a:latin typeface="VivaldiD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VivaldiD"/>
              </a:rPr>
              <a:t>и означает «палочка». В древности и в средние века писали стержнем из дерева, кости, метал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ivaldiD"/>
              </a:rPr>
              <a:t>     </a:t>
            </a:r>
            <a:r>
              <a:rPr b="0" i="1" lang="ru-RU" sz="3200" spc="-1" strike="noStrike">
                <a:solidFill>
                  <a:srgbClr val="000000"/>
                </a:solidFill>
                <a:latin typeface="VivaldiD"/>
              </a:rPr>
              <a:t>Один конец стержня был заострен, им и писали на сырых глиняных плитках, бересте, на вощеных дощечках; другой - -в виде лопаточки, им , повернув стержень- «стиль»,стирали написанное. Таким образом автор совершенствовал свое сочинение. Отсюда выражение «часто перевертывай стиль», т.е. исправляй, перерабатывай свое произве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637400" y="54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24Y4WT" descr=""/>
          <p:cNvPicPr/>
          <p:nvPr/>
        </p:nvPicPr>
        <p:blipFill>
          <a:blip r:embed="rId1"/>
          <a:stretch/>
        </p:blipFill>
        <p:spPr>
          <a:xfrm>
            <a:off x="7236000" y="5248440"/>
            <a:ext cx="1750680" cy="150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cc"/>
            </a:gs>
            <a:gs pos="50000">
              <a:srgbClr val="0000cc"/>
            </a:gs>
            <a:gs pos="100000">
              <a:srgbClr val="9900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tScript"/>
              </a:rPr>
              <a:t>Что такое стиль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952200"/>
            <a:ext cx="8435880" cy="57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В словаре С.И. Ожегова дается такое толкование слова стиль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1)  Характерный вид, разновидность чего-нибудь, выражающаяся  в каких-нибудь особенных признаках, свойствах художественного оформления. </a:t>
            </a:r>
            <a:r>
              <a:rPr b="0" i="1" lang="en-US" sz="2300" spc="-1" strike="noStrike" u="sng">
                <a:solidFill>
                  <a:srgbClr val="ffffff"/>
                </a:solidFill>
                <a:uFillTx/>
                <a:latin typeface="Arial"/>
              </a:rPr>
              <a:t>Например: русский национальный стиль. Стиль одежды. Архитектурный стиль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2) Метод совокупность приемов какой-нибудь работы, деятельности, поведения. </a:t>
            </a:r>
            <a:r>
              <a:rPr b="0" i="1" lang="en-US" sz="2300" spc="-1" strike="noStrike" u="sng">
                <a:solidFill>
                  <a:srgbClr val="ffffff"/>
                </a:solidFill>
                <a:uFillTx/>
                <a:latin typeface="Arial"/>
              </a:rPr>
              <a:t>Например: стиль в работе. Стиль плавания. Этот поступок совершенно в его стиле(он всегда так поступает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3) Совокупность приемов использования средств языка для выражения тех или иных идей, мыслей в различных условиях речевой практики. </a:t>
            </a:r>
            <a:r>
              <a:rPr b="0" i="1" lang="en-US" sz="2300" spc="-1" strike="noStrike" u="sng">
                <a:solidFill>
                  <a:srgbClr val="ffffff"/>
                </a:solidFill>
                <a:uFillTx/>
                <a:latin typeface="Arial"/>
              </a:rPr>
              <a:t>Например: стиль художественной литературы. Научный стиль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8174160" y="5516640"/>
          <a:ext cx="1006200" cy="134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74160" y="5516640"/>
                    <a:ext cx="1006200" cy="13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tScript"/>
              </a:rPr>
              <a:t>Мы узнали что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или речи- это приемы и средства языка для выражения мыслей в зависимости от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цели высказы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 что такое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цель высказыва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разговор друз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объяснение нового матери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ответ на уро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пересказ художественного произвед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написание  сочинения или из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написание заявлени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вод: для каждой цели высказывания существуют разные стили ре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046240" cy="16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2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20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8" dur="500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79280" y="2917800"/>
            <a:ext cx="259236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356000" y="2917800"/>
            <a:ext cx="259236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56360" y="3925800"/>
            <a:ext cx="201600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38560" y="1909800"/>
            <a:ext cx="259236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914560" y="19098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или ре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0920" y="2341440"/>
            <a:ext cx="720720" cy="57636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1620720" y="2341440"/>
            <a:ext cx="720720" cy="57636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365800"/>
            <a:ext cx="2520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932360" y="3349800"/>
            <a:ext cx="720720" cy="20160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653080" y="3349800"/>
            <a:ext cx="720720" cy="20160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4500360" y="3349800"/>
            <a:ext cx="1152360" cy="5760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653080" y="3349800"/>
            <a:ext cx="1152360" cy="5760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45080" y="29178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ниж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29178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говор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543888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ублицис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11280" y="5365800"/>
            <a:ext cx="2521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156360" y="39258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удожестве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95640" y="536580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фициально-дел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32000" y="3925800"/>
            <a:ext cx="201636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59280" y="392580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уч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476360" y="260280"/>
            <a:ext cx="61912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ArtScript"/>
              </a:rPr>
              <a:t>Запомните!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796000" y="981000"/>
            <a:ext cx="3809880" cy="15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tScript"/>
              </a:rPr>
              <a:t>Физминутка</a:t>
            </a:r>
            <a:br>
              <a:rPr sz="7000"/>
            </a:br>
            <a:r>
              <a:rPr b="0" lang="en-US" sz="7000" spc="-1" strike="noStrike">
                <a:solidFill>
                  <a:srgbClr val="000000"/>
                </a:solidFill>
                <a:latin typeface="ArtScript"/>
              </a:rPr>
              <a:t>«кошка»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сторожно, словно кошка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о дивана, до окош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 носочках я пройдусь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яду и в кольцо свернус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 теперь пора проснуться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аспрямиться, потянуть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Я легко с дивана спрыгну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пинку я дугою выгн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443640" y="2637000"/>
            <a:ext cx="240516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50000">
              <a:srgbClr val="d1c39f"/>
            </a:gs>
            <a:gs pos="100000">
              <a:srgbClr val="ffefd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7640" y="274320"/>
            <a:ext cx="90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G_Cooper"/>
              </a:rPr>
              <a:t>Разговорный стиль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78544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G_Cooper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G_Cooper"/>
              </a:rPr>
              <a:t>Цел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обменяться сведениями, мыслями или поделиться чувствами с близкими, хорошо знакомыми людь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G_Cooper"/>
              </a:rPr>
              <a:t>Особенности стил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разговорные слова и выраж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G_Cooper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G_Cooper"/>
              </a:rPr>
              <a:t>Сфера употребле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домашняя или другая неофициальная обстановка, а также дружеские письма, посл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Чтение теоретического материала на стр. 58, упр. 102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r>
              <a:rPr b="0" i="1" lang="ru-RU" sz="2500" spc="-1" strike="noStrike" u="sng">
                <a:solidFill>
                  <a:srgbClr val="000000"/>
                </a:solidFill>
                <a:uFillTx/>
                <a:latin typeface="Arial"/>
              </a:rPr>
              <a:t>стр. 74, упр.12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2T16:18:12Z</dcterms:created>
  <dc:creator>Школа</dc:creator>
  <dc:description/>
  <dc:language>en-US</dc:language>
  <cp:lastModifiedBy>Мама</cp:lastModifiedBy>
  <dcterms:modified xsi:type="dcterms:W3CDTF">2009-01-26T19:08:44Z</dcterms:modified>
  <cp:revision>6</cp:revision>
  <dc:subject/>
  <dc:title>Слайд 1</dc:title>
</cp:coreProperties>
</file>