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00E-B82D-4B9A-B9E0-F83F7DF7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60C-8FE0-4BF3-8B48-FC85CDF8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A78-FD2A-45D8-80AB-9AFD4768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8AF-4884-459E-B6E2-DB90C87D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4CF8-6A1E-4973-B825-7A0BBAC7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1255-609D-468F-82D1-BAA53544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FCF2-5B96-444E-9FBD-4991169F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5186-51E3-4124-95D4-5040912D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8936-A7AE-4F35-9169-23834334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7915-BB10-47A6-9520-E430D40A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618B-967A-4A6F-BCBE-53864409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7E8-A4B6-426D-BADD-E8CEF084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4094-C75A-45DA-A705-7BE98B02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3E95-6F3D-4BCE-AF7E-5E447C08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7B96-D679-45CD-A9BF-000B8560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F385-D54E-4298-B3DE-6AFFC73C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AFD7-BF7B-447F-915C-E8E82A08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B7C-9F85-4763-B1FD-91452F7A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945-43CD-4F2F-A037-C882625C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C58-0735-4F60-BD67-6530F0FE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861-53E5-4976-A6EE-4474AEBB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4F3-CB38-470B-9FC7-3A7A8A8E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0DF-1E21-4FEA-8615-A1D557F5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088-E0D2-4BC2-A5A3-5DA9D5A6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5089-49B3-401C-82ED-EFE6F399D9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10D3-5DA3-466F-96DA-6DD794F62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8D1C-8A9A-47C3-93A2-74A2EC4FAA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B414-6EDF-4E0A-B161-C6736D07B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Дата 4"/>
          <p:cNvSpPr/>
          <p:nvPr/>
        </p:nvSpPr>
        <p:spPr>
          <a:xfrm>
            <a:off x="6715080" y="714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4A15-1BD4-4BDD-A6AE-195CE087F8E4}" type="datetime">
              <a:rPr b="1" lang="en-US" sz="24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777080" cy="1089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187280" y="2421000"/>
            <a:ext cx="6842160" cy="436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556000" y="2852640"/>
            <a:ext cx="4752720" cy="6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Прямоугольник 3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6834240" cy="1103400"/>
          </a:xfrm>
          <a:prstGeom prst="rect">
            <a:avLst/>
          </a:prstGeom>
          <a:ln w="0">
            <a:noFill/>
          </a:ln>
        </p:spPr>
      </p:pic>
      <p:sp>
        <p:nvSpPr>
          <p:cNvPr id="8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0DC3-5D5B-4FBF-A115-6D11244314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4" descr=""/>
          <p:cNvPicPr/>
          <p:nvPr/>
        </p:nvPicPr>
        <p:blipFill>
          <a:blip r:embed="rId3"/>
          <a:stretch/>
        </p:blipFill>
        <p:spPr>
          <a:xfrm>
            <a:off x="3143160" y="1500120"/>
            <a:ext cx="2714760" cy="3786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1547640" y="1844640"/>
            <a:ext cx="642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953735"/>
                </a:solidFill>
                <a:latin typeface="Arial"/>
              </a:rPr>
              <a:t>?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9"/>
          <p:cNvSpPr/>
          <p:nvPr/>
        </p:nvSpPr>
        <p:spPr>
          <a:xfrm>
            <a:off x="6013440" y="1916280"/>
            <a:ext cx="1250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953735"/>
                </a:solidFill>
                <a:latin typeface="Arial"/>
              </a:rPr>
              <a:t>?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10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7327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5D94-F491-44D1-9649-9F43CD7338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3214800" y="928800"/>
            <a:ext cx="2649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2700360" y="1268280"/>
            <a:ext cx="3395520" cy="3673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851280" y="836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818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332000" y="5013360"/>
            <a:ext cx="705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В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a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+ 2HCl = BaCl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+ H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411280" y="1052640"/>
            <a:ext cx="3959280" cy="3473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68360" y="4724280"/>
            <a:ext cx="842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В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a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+ H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O + C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 = BaC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3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+ H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O</a:t>
            </a:r>
            <a:r>
              <a:rPr b="1" lang="en-US" sz="4000" spc="-1" strike="noStrike" baseline="-25000">
                <a:solidFill>
                  <a:srgbClr val="d60093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16000" y="836640"/>
            <a:ext cx="698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оение молекул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Рисунок 19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44640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4" descr=""/>
          <p:cNvPicPr/>
          <p:nvPr/>
        </p:nvPicPr>
        <p:blipFill>
          <a:blip r:embed="rId2"/>
          <a:stretch/>
        </p:blipFill>
        <p:spPr>
          <a:xfrm>
            <a:off x="3059280" y="19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116000" y="836640"/>
            <a:ext cx="698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оение молекул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26920" y="836640"/>
            <a:ext cx="7345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Химические свойст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56000" y="2565360"/>
            <a:ext cx="4464000" cy="898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27280" y="3789360"/>
            <a:ext cx="446400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2987640" y="2133720"/>
            <a:ext cx="165564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203480" y="2565360"/>
            <a:ext cx="1291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018240" y="2492280"/>
            <a:ext cx="1488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6604920" y="2492280"/>
            <a:ext cx="1223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7"/>
          <p:cNvCxnSpPr/>
          <p:nvPr/>
        </p:nvCxnSpPr>
        <p:spPr>
          <a:xfrm>
            <a:off x="971280" y="4436640"/>
            <a:ext cx="6769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Rectangle 8"/>
          <p:cNvSpPr/>
          <p:nvPr/>
        </p:nvSpPr>
        <p:spPr>
          <a:xfrm>
            <a:off x="4948560" y="2492280"/>
            <a:ext cx="851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268360" y="2276640"/>
            <a:ext cx="7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924360" y="2205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5292720" y="213372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6804000" y="213372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3492360" y="4149720"/>
            <a:ext cx="432000" cy="503280"/>
          </a:xfrm>
          <a:custGeom>
            <a:avLst/>
            <a:gdLst>
              <a:gd name="textAreaLeft" fmla="*/ 177840 w 432000"/>
              <a:gd name="textAreaRight" fmla="*/ 254160 w 43200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3419640" y="494172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>
            <a:off x="1692360" y="4149720"/>
            <a:ext cx="431640" cy="503280"/>
          </a:xfrm>
          <a:custGeom>
            <a:avLst/>
            <a:gdLst>
              <a:gd name="textAreaLeft" fmla="*/ 177840 w 431640"/>
              <a:gd name="textAreaRight" fmla="*/ 253800 w 4316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5292720" y="4149720"/>
            <a:ext cx="431640" cy="503280"/>
          </a:xfrm>
          <a:custGeom>
            <a:avLst/>
            <a:gdLst>
              <a:gd name="textAreaLeft" fmla="*/ 177840 w 431640"/>
              <a:gd name="textAreaRight" fmla="*/ 253800 w 4316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8"/>
          <p:cNvSpPr/>
          <p:nvPr/>
        </p:nvSpPr>
        <p:spPr>
          <a:xfrm>
            <a:off x="1908000" y="4437000"/>
            <a:ext cx="1800360" cy="731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1"/>
          <p:cNvSpPr/>
          <p:nvPr/>
        </p:nvSpPr>
        <p:spPr>
          <a:xfrm>
            <a:off x="3708360" y="3778200"/>
            <a:ext cx="2003400" cy="695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1476360" y="479736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5510160" y="4768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2195640" y="4437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4284720" y="3860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В-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09:21:55Z</dcterms:created>
  <dc:creator>Гимназия 1</dc:creator>
  <dc:description/>
  <cp:keywords/>
  <dc:language>en-US</dc:language>
  <cp:lastModifiedBy>user</cp:lastModifiedBy>
  <dcterms:modified xsi:type="dcterms:W3CDTF">2011-04-04T15:38:11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649990</vt:lpwstr>
  </property>
</Properties>
</file>