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51A-4447-4F8A-B67C-C52FAAA4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895-1385-4CBB-8255-33A14504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ACF-6469-4D5E-B15A-659B2736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E01-D24F-4C7B-8957-CDF5E773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B033-D12D-4607-8B15-722033F2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6195-B306-43E1-A9FB-41CBF469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01CE-0AC0-4B72-8219-63AD838A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20BA-3627-43D3-AC3A-B9A16ABF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F40D-1989-4D7C-B640-1222BE53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114A-0425-4FAC-86F6-3358562B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D7FF-7254-4B64-9306-5777A2D2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A71-EC68-4505-85DF-08E90C23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99E6-507E-43B5-9630-59DFFB5E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C279-70A2-4B27-BBB8-74410FB2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547B-8C4F-4223-A650-9521801E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BD16-5BA3-4FD9-AE47-DA3FF1BC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EBEE-9446-4254-AB36-FED75A44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917-0C35-41BA-BB90-11068DC4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D5F-493F-4958-BC14-99DD9EF0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BF0-7C2A-4CBE-97DF-95D42302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2E1-9451-449C-959D-3C87DF9C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BCF-DBAC-4F7F-B7A8-C9FFED7D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735-93E7-4459-A98C-647B9B9C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ED3-AEEA-466D-BC79-791E8F34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AD45-8F8D-44D0-8E89-B2B80BDA53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1A9F-164A-4E5E-B561-7224E650F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02CD-D0E7-48C0-AE22-9FE4C0B412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3DA4-710C-4CE1-B763-95847572F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4"/>
          <p:cNvSpPr/>
          <p:nvPr/>
        </p:nvSpPr>
        <p:spPr>
          <a:xfrm>
            <a:off x="6715080" y="714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9756-63C9-47D0-BA97-549DEEC56D9C}" type="datetime">
              <a:rPr b="1" lang="en-US" sz="24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777080" cy="108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6842160" cy="436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56000" y="2852640"/>
            <a:ext cx="4752720" cy="6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3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6834240" cy="1103400"/>
          </a:xfrm>
          <a:prstGeom prst="rect">
            <a:avLst/>
          </a:prstGeom>
          <a:ln w="0">
            <a:noFill/>
          </a:ln>
        </p:spPr>
      </p:pic>
      <p:sp>
        <p:nvSpPr>
          <p:cNvPr id="8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EF4A-1704-4F6A-BFDF-285377E7EB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3"/>
          <a:stretch/>
        </p:blipFill>
        <p:spPr>
          <a:xfrm>
            <a:off x="3143160" y="1500120"/>
            <a:ext cx="2714760" cy="3786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1547640" y="1844640"/>
            <a:ext cx="642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953735"/>
                </a:solidFill>
                <a:latin typeface="Arial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6013440" y="1916280"/>
            <a:ext cx="1250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953735"/>
                </a:solidFill>
                <a:latin typeface="Arial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10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7327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94A6-3551-445A-9273-DA764C8324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3214800" y="928800"/>
            <a:ext cx="2649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2700360" y="1268280"/>
            <a:ext cx="3395520" cy="367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851280" y="836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818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332000" y="5013360"/>
            <a:ext cx="705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a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2HCl = BaCl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H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11280" y="1052640"/>
            <a:ext cx="3959280" cy="3473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68360" y="4724280"/>
            <a:ext cx="84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a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H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O + C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 = BaC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H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16000" y="836640"/>
            <a:ext cx="698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оение молекул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Рисунок 19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4464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116000" y="836640"/>
            <a:ext cx="698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оение молекул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26920" y="836640"/>
            <a:ext cx="7345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имические свой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4464000" cy="898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27280" y="3789360"/>
            <a:ext cx="446400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2987640" y="2133720"/>
            <a:ext cx="165564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203480" y="2565360"/>
            <a:ext cx="1291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018240" y="2492280"/>
            <a:ext cx="1488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604920" y="2492280"/>
            <a:ext cx="1223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7"/>
          <p:cNvCxnSpPr/>
          <p:nvPr/>
        </p:nvCxnSpPr>
        <p:spPr>
          <a:xfrm>
            <a:off x="971280" y="4436640"/>
            <a:ext cx="676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Rectangle 8"/>
          <p:cNvSpPr/>
          <p:nvPr/>
        </p:nvSpPr>
        <p:spPr>
          <a:xfrm>
            <a:off x="4948560" y="2492280"/>
            <a:ext cx="851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268360" y="2276640"/>
            <a:ext cx="7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924360" y="2205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5292720" y="21337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6804000" y="21337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3492360" y="4149720"/>
            <a:ext cx="432000" cy="503280"/>
          </a:xfrm>
          <a:custGeom>
            <a:avLst/>
            <a:gdLst>
              <a:gd name="textAreaLeft" fmla="*/ 177840 w 432000"/>
              <a:gd name="textAreaRight" fmla="*/ 254160 w 432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3419640" y="49417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1692360" y="4149720"/>
            <a:ext cx="431640" cy="503280"/>
          </a:xfrm>
          <a:custGeom>
            <a:avLst/>
            <a:gdLst>
              <a:gd name="textAreaLeft" fmla="*/ 177840 w 431640"/>
              <a:gd name="textAreaRight" fmla="*/ 253800 w 4316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5292720" y="4149720"/>
            <a:ext cx="431640" cy="503280"/>
          </a:xfrm>
          <a:custGeom>
            <a:avLst/>
            <a:gdLst>
              <a:gd name="textAreaLeft" fmla="*/ 177840 w 431640"/>
              <a:gd name="textAreaRight" fmla="*/ 253800 w 4316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8"/>
          <p:cNvSpPr/>
          <p:nvPr/>
        </p:nvSpPr>
        <p:spPr>
          <a:xfrm>
            <a:off x="1908000" y="4437000"/>
            <a:ext cx="1800360" cy="731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3708360" y="3778200"/>
            <a:ext cx="2003400" cy="695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1476360" y="4797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5510160" y="4768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195640" y="4437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4284720" y="3860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9:21:55Z</dcterms:created>
  <dc:creator>Гимназия 1</dc:creator>
  <dc:description/>
  <cp:keywords/>
  <dc:language>en-US</dc:language>
  <cp:lastModifiedBy>user</cp:lastModifiedBy>
  <dcterms:modified xsi:type="dcterms:W3CDTF">2011-04-04T15:38:11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649990</vt:lpwstr>
  </property>
</Properties>
</file>