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4ED8-67FC-4CB6-95AE-A8C5AA8B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454-F882-4E95-82FC-3F4B2F48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DA8A-D1C0-481D-8A53-97B3F2D4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354-0208-42BA-90A5-420CB2A4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7FB0-CD8C-4315-AA6B-4E754DAA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BF2A-452F-4CC0-9EC6-89319C56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B03C-4C0C-43F3-A275-89A3AD70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103E-612A-4AE7-9831-AFDCB3EE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0D90-63C2-42AB-AC2A-8CED0AF4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0255-4DB2-4B01-8890-807BFF31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0044-13CC-4B00-91DB-30D977DE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E42-576A-4827-9892-15942768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3FDD-435E-487F-BEFA-4870899E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B25D-F8EC-4F3B-BBED-AE81D448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73D6-A20C-4524-B516-C8FFFC66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7BFC-FBCC-49DE-93DB-F1329F8E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F20B-AC1C-47DB-87B0-AC7DFD6B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046-1958-4FEF-B1EF-645EB3BC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0F1-8B98-496C-976A-8B815BDF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EF0-4E72-4AC8-898C-49D2D234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9DD-33AC-49FC-8363-773A7ECE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6C9-FAB3-4D2E-9100-4C76E1BD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782-BA64-4364-B100-08F810BD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E60-63BF-49EE-99F0-7C282B28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D670-E9C4-4D1D-9962-13017C04BF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264B-F9D3-40BD-9484-68AD9F1B30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0033"/>
                </a:solidFill>
                <a:latin typeface="Times New Roman"/>
              </a:rPr>
              <a:t>«ЗОЛОТОЙ ВЕК» РУССКОЙ КУЛЬТУРЫ</a:t>
            </a:r>
            <a:br>
              <a:rPr sz="6600"/>
            </a:br>
            <a:r>
              <a:rPr b="0" lang="ru-RU" sz="6000" spc="-1" strike="noStrike">
                <a:solidFill>
                  <a:srgbClr val="330033"/>
                </a:solidFill>
                <a:latin typeface="Times New Roman"/>
              </a:rPr>
              <a:t>начало </a:t>
            </a:r>
            <a:r>
              <a:rPr b="0" lang="en-US" sz="6000" spc="-1" strike="noStrike">
                <a:solidFill>
                  <a:srgbClr val="330033"/>
                </a:solidFill>
                <a:latin typeface="Times New Roman"/>
              </a:rPr>
              <a:t>XIX </a:t>
            </a:r>
            <a:r>
              <a:rPr b="0" lang="ru-RU" sz="6000" spc="-1" strike="noStrike">
                <a:solidFill>
                  <a:srgbClr val="330033"/>
                </a:solidFill>
                <a:latin typeface="Times New Roman"/>
              </a:rPr>
              <a:t>век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Михайловский дворец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.И. Росс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1158" b="26292"/>
          <a:stretch/>
        </p:blipFill>
        <p:spPr>
          <a:xfrm>
            <a:off x="1258920" y="1658880"/>
            <a:ext cx="626580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0033"/>
                </a:solidFill>
                <a:latin typeface="Times New Roman"/>
              </a:rPr>
              <a:t>АРХИТЕКТУРА </a:t>
            </a:r>
            <a:br>
              <a:rPr sz="6600"/>
            </a:br>
            <a:r>
              <a:rPr b="1" lang="en-US" sz="6600" spc="-1" strike="noStrike">
                <a:solidFill>
                  <a:srgbClr val="330033"/>
                </a:solidFill>
                <a:latin typeface="Times New Roman"/>
              </a:rPr>
              <a:t>Москвы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дание Большого театра в Москве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.И. Бов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440000"/>
            <a:ext cx="85690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амятник Минину и Пожарскому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.П. Мартос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1598760"/>
            <a:ext cx="70567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Никольский собор в Омске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11400" y="1197000"/>
            <a:ext cx="50878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0033"/>
                </a:solidFill>
                <a:latin typeface="Times New Roman"/>
              </a:rPr>
              <a:t>ЖИВОПИСЬ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рл Брюллов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Автопортр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6261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рл Брюллов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Всадниц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551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рл Брюллов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Последний день Помпе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704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Александр Андреевич Иванов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Автопортр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11400" y="1484280"/>
            <a:ext cx="48290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Цель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Дать представление о наиболее значительных достижениях и наиболее видных деятелях русской культуры первой полов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XIX столе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Иванов А.А.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Явление Христа народ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-3556" t="16907" r="1971" b="21015"/>
          <a:stretch/>
        </p:blipFill>
        <p:spPr>
          <a:xfrm>
            <a:off x="684360" y="1596960"/>
            <a:ext cx="734364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ипренский Орест Адамович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Автопортр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40160" y="1628640"/>
            <a:ext cx="42703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ипренский О.А.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Портрет А.С. Пушкин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4335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ипренский О.А.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Портрет Челищева А.А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11400" y="1557360"/>
            <a:ext cx="4762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ипренский О.А.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Портрет Алексея Томило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12840" y="1557360"/>
            <a:ext cx="4761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опинин Василий Андреевич</a:t>
            </a:r>
            <a:br>
              <a:rPr sz="3800"/>
            </a:b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Автопортр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11400" y="1484280"/>
            <a:ext cx="48290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опинин В.А.</a:t>
            </a:r>
            <a:br>
              <a:rPr sz="3800"/>
            </a:b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Портрет сын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11400" y="1484280"/>
            <a:ext cx="48290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опинин В.А.</a:t>
            </a:r>
            <a:br>
              <a:rPr sz="3800"/>
            </a:b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Кружевниц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11400" y="1557360"/>
            <a:ext cx="47642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опинин В.А.</a:t>
            </a:r>
            <a:br>
              <a:rPr sz="3800"/>
            </a:b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Портрет купчихи Е.И. Карзинкино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7642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Федотов Павел Андреевич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Автопортр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11400" y="1557360"/>
            <a:ext cx="47642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лан уро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рхитектура и скульп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ивопи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атр и музы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Федотов П.А.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Сватовство майор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042920" y="1617840"/>
            <a:ext cx="67690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Федотов П.А.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Свежий кавалер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11400" y="1557360"/>
            <a:ext cx="47642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ТЕАТР И МУЗЫК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Щепкин Михаил Семенович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7628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Мочалов Павел Степанович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 роли Мейна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11400" y="1557360"/>
            <a:ext cx="47642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линка Михаил Иванович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11400" y="1557360"/>
            <a:ext cx="47642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Даргомыжский Александр Сергеевич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111400" y="1413000"/>
            <a:ext cx="48927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93116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0033"/>
                </a:solidFill>
                <a:latin typeface="Times New Roman"/>
              </a:rPr>
              <a:t>АРХИТЕКТУРА </a:t>
            </a:r>
            <a:br>
              <a:rPr sz="7200"/>
            </a:br>
            <a:r>
              <a:rPr b="1" lang="en-US" sz="7200" spc="-1" strike="noStrike">
                <a:solidFill>
                  <a:srgbClr val="330033"/>
                </a:solidFill>
                <a:latin typeface="Times New Roman"/>
              </a:rPr>
              <a:t>Санкт-Петербурга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дание Адмиралтейства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ект А.Д. Захаро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01880" y="1600200"/>
            <a:ext cx="3408120" cy="4853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203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занский собор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А.Н. Воронихин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529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«Укротитель коня» на Анечкином мосту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.К. Клод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46480" y="1628640"/>
            <a:ext cx="4464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саакиевский собор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. Монферран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11400" y="1628640"/>
            <a:ext cx="4699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дание Александринского театра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.И. Росс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11400" y="1557360"/>
            <a:ext cx="4762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07:51:56Z</dcterms:created>
  <dc:creator>User</dc:creator>
  <dc:description/>
  <dc:language>en-US</dc:language>
  <cp:lastModifiedBy>кабинет истории</cp:lastModifiedBy>
  <dcterms:modified xsi:type="dcterms:W3CDTF">2010-02-08T06:51:03Z</dcterms:modified>
  <cp:revision>7</cp:revision>
  <dc:subject/>
  <dc:title>«ЗОЛОТОЙ ВЕК» РУССКОЙ КУЛЬТУРЫ начало XIX века</dc:title>
</cp:coreProperties>
</file>