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EE3-5751-451D-93DB-10373E9C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820-BB88-455E-9EF6-9302D7F4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ECB-DEB3-4DC9-90CE-28199F17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A3D-8B5A-4790-ACD3-0CB9C1E5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0756-A891-4357-875C-3380B1D8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CBD1-351E-4376-9F06-42A79351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C907-438D-4F4A-9E54-8FCD8DF6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EDD8-6835-40C9-BC35-93CF9D53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836F-4C46-48FA-9C94-16608F08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30B6-C700-4403-B82E-0F8A7C1E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E584-6C55-430F-9F91-0F8CF4C2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E00-AECA-44D7-8EE1-1317829A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BB19-4ECC-471E-AD6A-0FF74AB9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60C8-44E0-4946-946C-B95521BE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38F6-033F-4715-8AE3-F3B7C27E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71A4-7DBA-4532-A61B-3AF966BC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56EA-A16E-4D89-A954-BF2FA02A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83D-7296-4351-99C1-13A1DCE5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01E-40F0-4F82-9348-4B2F16DA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357-81A7-4D58-9DB7-3CEA3ABE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EC6-65E4-425E-9C82-E97AA863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110-FCE0-42CF-BC4B-905D4ED4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EF2-AD9A-4866-AC0B-6509BD72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F78-A129-4E02-95A9-703F1CAE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C9A7-8EB5-46FD-A8DC-3BFB77DC28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6685-22B6-4E26-8C10-D7E9B89521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0033"/>
                </a:solidFill>
                <a:latin typeface="Times New Roman"/>
              </a:rPr>
              <a:t>«ЗОЛОТОЙ ВЕК» РУССКОЙ КУЛЬТУРЫ</a:t>
            </a:r>
            <a:br>
              <a:rPr sz="6600"/>
            </a:b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начало </a:t>
            </a:r>
            <a:r>
              <a:rPr b="0" lang="en-US" sz="6000" spc="-1" strike="noStrike">
                <a:solidFill>
                  <a:srgbClr val="330033"/>
                </a:solidFill>
                <a:latin typeface="Times New Roman"/>
              </a:rPr>
              <a:t>XIX </a:t>
            </a: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ихайловский дворец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.И. Росс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1158" b="26292"/>
          <a:stretch/>
        </p:blipFill>
        <p:spPr>
          <a:xfrm>
            <a:off x="1258920" y="1658880"/>
            <a:ext cx="62658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0033"/>
                </a:solidFill>
                <a:latin typeface="Times New Roman"/>
              </a:rPr>
              <a:t>АРХИТЕКТУРА </a:t>
            </a:r>
            <a:br>
              <a:rPr sz="6600"/>
            </a:br>
            <a:r>
              <a:rPr b="1" lang="en-US" sz="6600" spc="-1" strike="noStrike">
                <a:solidFill>
                  <a:srgbClr val="330033"/>
                </a:solidFill>
                <a:latin typeface="Times New Roman"/>
              </a:rPr>
              <a:t>Москвы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дание Большого театра в Москве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.И. Бов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440000"/>
            <a:ext cx="85690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мятник Минину и Пожарскому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.П. Мартос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1598760"/>
            <a:ext cx="70567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Никольский собор в Омске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11400" y="1197000"/>
            <a:ext cx="50878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0033"/>
                </a:solidFill>
                <a:latin typeface="Times New Roman"/>
              </a:rPr>
              <a:t>ЖИВОПИСЬ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рл Брюлл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626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рл Брюлл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Всадниц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551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рл Брюлл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следний день Помпе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0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лександр Андреевич Иван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11400" y="1484280"/>
            <a:ext cx="48290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Цель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Дать представление о наиболее значительных достижениях и наиболее видных деятелях русской культуры первой полов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XIX ст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ванов А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Явление Христа наро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-3556" t="16907" r="1971" b="21015"/>
          <a:stretch/>
        </p:blipFill>
        <p:spPr>
          <a:xfrm>
            <a:off x="684360" y="1596960"/>
            <a:ext cx="734364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рест Адамович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40160" y="1628640"/>
            <a:ext cx="4270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ртрет А.С. Пушки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33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ртрет Челищева А.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11400" y="1557360"/>
            <a:ext cx="4762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ртрет Алексея Томило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12840" y="1557360"/>
            <a:ext cx="4761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асилий Андреевич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11400" y="1484280"/>
            <a:ext cx="48290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.А.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Портрет сы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11400" y="1484280"/>
            <a:ext cx="48290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.А.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Кружевниц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.А.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Портрет купчихи Е.И. Карзинкино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едотов Павел Андреевич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лан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хитектура и скульп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воп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атр и музы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едотов П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Сватовство майо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42920" y="1617840"/>
            <a:ext cx="6769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едотов П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Свежий кава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ТЕАТР И МУЗЫ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Щепкин Михаил Семен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762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очалов Павел Степанович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 роли Мейна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линка Михаил Иван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Даргомыжский Александр Сергеевич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111400" y="1413000"/>
            <a:ext cx="48927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93116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0033"/>
                </a:solidFill>
                <a:latin typeface="Times New Roman"/>
              </a:rPr>
              <a:t>АРХИТЕКТУРА </a:t>
            </a:r>
            <a:br>
              <a:rPr sz="7200"/>
            </a:br>
            <a:r>
              <a:rPr b="1" lang="en-US" sz="7200" spc="-1" strike="noStrike">
                <a:solidFill>
                  <a:srgbClr val="330033"/>
                </a:solidFill>
                <a:latin typeface="Times New Roman"/>
              </a:rPr>
              <a:t>Санкт-Петербурга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дание Адмиралтейства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ект А.Д. Захаро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01880" y="1600200"/>
            <a:ext cx="3408120" cy="4853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203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занский собор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.Н. Воронихин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529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Укротитель коня» на Анечкином мосту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.К. Клод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46480" y="1628640"/>
            <a:ext cx="446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аакиевский собор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. Монферран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11400" y="1628640"/>
            <a:ext cx="469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дание Александринского театра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.И. Росс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2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7:51:56Z</dcterms:created>
  <dc:creator>User</dc:creator>
  <dc:description/>
  <dc:language>en-US</dc:language>
  <cp:lastModifiedBy>кабинет истории</cp:lastModifiedBy>
  <dcterms:modified xsi:type="dcterms:W3CDTF">2010-02-08T06:51:03Z</dcterms:modified>
  <cp:revision>7</cp:revision>
  <dc:subject/>
  <dc:title>«ЗОЛОТОЙ ВЕК» РУССКОЙ КУЛЬТУРЫ начало XIX века</dc:title>
</cp:coreProperties>
</file>