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FEB-8ACE-4166-BBDA-D531FB16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5EF-204C-49D4-84EC-2F968619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214-DA82-404F-B7A0-75C716F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BE0-CBA5-45D8-ADFD-BF377263F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350-082C-4460-84AC-E7D3D0DF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4B50-6A8E-413B-8D96-B32EE32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B69F-B70F-4B13-B727-6C274265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5E11-349C-4CFB-B03E-768BD72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DB9-789B-4E62-BA1E-E5468F7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738A-FCE1-4E54-BD37-CF3EB561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4CAA-1670-4738-943F-9A553F76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15C-C6A5-46B9-B46E-AFB671C0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D305-8514-4F1B-96AA-408431F5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1EFF-F04B-4B04-843C-299593E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C59F-F887-478A-9191-AE90AC7A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762E-6DF0-4C2A-ABE4-69FF43F2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896A-19E2-4F48-A466-C34DFBCD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F1D-9353-4FA9-A77F-97C868D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E51-10E5-4133-9D1C-E80E04A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FA6-50B8-45F7-A3B6-8482C857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657-AE1A-4142-A490-B82CD0B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F91-9781-4C54-A3B2-B3A9FFC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608-BA01-49F4-B1B6-729EC79F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170-67F9-4AA9-A9E9-38E1951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E9F-8FF6-401B-AEB5-CF3D994694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980A-6BFD-44DB-9591-CE8CAF6ADE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0033"/>
                </a:solidFill>
                <a:latin typeface="Times New Roman"/>
              </a:rPr>
              <a:t>«ЗОЛОТОЙ ВЕК» РУССКОЙ КУЛЬТУРЫ</a:t>
            </a:r>
            <a:br>
              <a:rPr sz="6600"/>
            </a:b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начало </a:t>
            </a:r>
            <a:r>
              <a:rPr b="0" lang="en-US" sz="6000" spc="-1" strike="noStrike">
                <a:solidFill>
                  <a:srgbClr val="330033"/>
                </a:solidFill>
                <a:latin typeface="Times New Roman"/>
              </a:rPr>
              <a:t>XIX </a:t>
            </a:r>
            <a:r>
              <a:rPr b="0" lang="ru-RU" sz="6000" spc="-1" strike="noStrike">
                <a:solidFill>
                  <a:srgbClr val="330033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йловский дворец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158" b="26292"/>
          <a:stretch/>
        </p:blipFill>
        <p:spPr>
          <a:xfrm>
            <a:off x="1258920" y="1658880"/>
            <a:ext cx="62658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6600"/>
            </a:br>
            <a:r>
              <a:rPr b="1" lang="en-US" sz="6600" spc="-1" strike="noStrike">
                <a:solidFill>
                  <a:srgbClr val="330033"/>
                </a:solidFill>
                <a:latin typeface="Times New Roman"/>
              </a:rPr>
              <a:t>Москвы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дание Большого театра в Москве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И. Бов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440000"/>
            <a:ext cx="856908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мятник Минину и Пожарском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.П. Мартос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1598760"/>
            <a:ext cx="7056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икольский собор в Омске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11400" y="1197000"/>
            <a:ext cx="5087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ЖИВОПИСЬ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6261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Всад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51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рл Брюлл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следний день Помпе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04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лександр Андреевич Иванов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Дать представление о наиболее значительных достижениях и наиболее видных деятелях русской культуры первой полов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XIX ст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ванов А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Явление Христа наро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-3556" t="16907" r="1971" b="21015"/>
          <a:stretch/>
        </p:blipFill>
        <p:spPr>
          <a:xfrm>
            <a:off x="684360" y="1596960"/>
            <a:ext cx="734364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рест Адамо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40160" y="1628640"/>
            <a:ext cx="4270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.С. Пушк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Челищева А.А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ипренский О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Портрет Алексея Томил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12840" y="1557360"/>
            <a:ext cx="4761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асилий Андреевич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сы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11400" y="1484280"/>
            <a:ext cx="48290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Кружевниц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пинин В.А.</a:t>
            </a:r>
            <a:br>
              <a:rPr sz="3800"/>
            </a:b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ортрет купчихи Е.И. Карзинкино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авел Андреевич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Автопортр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лан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рхитектура и скульп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атр и музы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атовство майо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1617840"/>
            <a:ext cx="6769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едотов П.А.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Свежий кава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ТЕАТР И МУЗЫК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Щепкин Михаил Семе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7628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очалов Павел Степанович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 роли Мейна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линка Михаил Иванович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11400" y="1557360"/>
            <a:ext cx="47642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аргомыжский Александр Сергее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111400" y="1413000"/>
            <a:ext cx="4892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93116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АРХИТЕКТУРА </a:t>
            </a:r>
            <a:br>
              <a:rPr sz="7200"/>
            </a:br>
            <a:r>
              <a:rPr b="1" lang="en-US" sz="7200" spc="-1" strike="noStrike">
                <a:solidFill>
                  <a:srgbClr val="330033"/>
                </a:solidFill>
                <a:latin typeface="Times New Roman"/>
              </a:rPr>
              <a:t>Санкт-Петербурга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дмиралтейств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ект А.Д. Захаро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01880" y="1600200"/>
            <a:ext cx="3408120" cy="4853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203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занский собор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А.Н. Воронихи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529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Укротитель коня» на Анечкином мосту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.К. Клод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6480" y="1628640"/>
            <a:ext cx="446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аакиевский собор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. Монферран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1400" y="1628640"/>
            <a:ext cx="469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дание Александринского театр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.И. Росс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11400" y="1557360"/>
            <a:ext cx="4762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07:51:56Z</dcterms:created>
  <dc:creator>User</dc:creator>
  <dc:description/>
  <dc:language>en-US</dc:language>
  <cp:lastModifiedBy>кабинет истории</cp:lastModifiedBy>
  <dcterms:modified xsi:type="dcterms:W3CDTF">2010-02-08T06:51:03Z</dcterms:modified>
  <cp:revision>7</cp:revision>
  <dc:subject/>
  <dc:title>«ЗОЛОТОЙ ВЕК» РУССКОЙ КУЛЬТУРЫ начало XIX века</dc:title>
</cp:coreProperties>
</file>