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A78-0C30-4853-9720-25CB82B5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4F74-7757-46BA-B456-AE579F19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7E9-F5B1-4540-914C-794BAB54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61B-BDC2-486E-A768-CDEFF1B6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1D8-0013-4B5F-B1B9-7CF041B7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444D-94BB-4BFB-B90F-23493CED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3A4-8D48-4BF6-8183-D0122B61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25B-1E68-4556-9DB6-720F892D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653-8C1F-482B-9370-AE42C6F5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F5B-64DE-4BE5-9211-A15CE6C1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9BA2-B921-487E-BB05-74C1D241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471-FE7B-449D-95B1-8F6A1689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7D40-762A-4EAA-9A63-679B591F2A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Деление текста на час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3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уляли ребята в лесу. Вдруг за кустами мелькнул лисий хво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бята бросились за лисицей. Поднялся шум, крик. Все лесные звери разбежали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скали, искали дети лису в лесу, да так и не наш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4920" y="907560"/>
            <a:ext cx="8209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68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уляли ребята в лесу. 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Вдруг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за кустами 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мелькнул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лисий хво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бята бросились за лисицей. Поднялся 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шум, крик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Все лесные звери разбежали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Искали, искал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дети лису в лесу, да так и не наш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Делить текст на част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3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уляли ребята в лесу. Вдруг за кустами мелькнул лисий хво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Ребята бросились за лисицей. Поднялся шум, крик. Все лесные звери разбежали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Искали, искали дети лису в лесу, да так и не наш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765000"/>
            <a:ext cx="79930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Искали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искали дети лису в лесу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да так и не нашл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40000" y="2349360"/>
            <a:ext cx="4032360" cy="57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997360"/>
            <a:ext cx="863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4149720"/>
            <a:ext cx="403236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95640" y="4797360"/>
            <a:ext cx="79236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5805360"/>
            <a:ext cx="395928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341360"/>
            <a:ext cx="86364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981000"/>
            <a:ext cx="18730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исий хвост. Прогулка. В лес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Переполох в лесу. Звери разбежалис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Не нашли лису. Лиса убежа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76720" y="3327480"/>
            <a:ext cx="3672000" cy="3290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19632600">
            <a:off x="120600" y="1715760"/>
            <a:ext cx="8964720" cy="28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b02ba"/>
                    </a:gs>
                  </a:gsLst>
                  <a:lin ang="12768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урок.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0b02ba"/>
                  </a:gs>
                </a:gsLst>
                <a:lin ang="12768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20:52:03Z</dcterms:created>
  <dc:creator>Александра</dc:creator>
  <dc:description/>
  <dc:language>en-US</dc:language>
  <cp:lastModifiedBy>Чернышова Наталья Сергеевна</cp:lastModifiedBy>
  <dcterms:modified xsi:type="dcterms:W3CDTF">2006-11-17T19:15:14Z</dcterms:modified>
  <cp:revision>12</cp:revision>
  <dc:subject/>
  <dc:title>Слайд 1</dc:title>
</cp:coreProperties>
</file>