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5DD-A3C5-42A3-900F-088008F5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FCA-9320-4520-A4EA-5CDEDBA7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6A0-DE92-4807-A4FA-FD2AC081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273C-113A-45B1-B6A1-39C6E9FF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F603-69E4-49BE-AD6A-7E8F0CE5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F17-B9C8-408E-BD96-25141A2C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CF1-BAF8-40A4-8BA1-D02575FC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BE3-DC68-4A5A-AD2D-131FA011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035-50C3-4C5B-B4D6-AFC8C107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FE5-5902-4632-9B20-F8620671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F69-E256-406B-ADD8-A313CBDF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488-059B-44C7-ADB7-CCFC2671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3F96-3E5C-4EEE-9661-1F61F9C94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Деление текста на час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уляли ребята в лесу. Вдруг за кустами мелькнул лисий хво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бята бросились за лисицей. Поднялся шум, крик. Все лесные звери разбежали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скали, искали дети лису в лесу, да так и не наш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4920" y="90756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68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уляли ребята в лесу.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Вдру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за кустами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мелькнул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лисий хво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бята бросились за лисицей. Поднялся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шум, крик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Все лесные звери разбежали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Искали, искал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дети лису в лесу, да так и не наш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Делить текст на част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уляли ребята в лесу. Вдруг за кустами мелькнул лисий хво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Ребята бросились за лисицей. Поднялся шум, крик. Все лесные звери разбежали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Искали, искали дети лису в лесу, да так и не наш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765000"/>
            <a:ext cx="79930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Искали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искали дети лису в лесу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да так и не нашл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40000" y="2349360"/>
            <a:ext cx="4032360" cy="57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997360"/>
            <a:ext cx="863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149720"/>
            <a:ext cx="403236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95640" y="4797360"/>
            <a:ext cx="792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5805360"/>
            <a:ext cx="395928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341360"/>
            <a:ext cx="86364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981000"/>
            <a:ext cx="18730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исий хвост. Прогулка. В лес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Переполох в лесу. Звери разбежали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Не нашли лису. Лиса убежа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76720" y="3327480"/>
            <a:ext cx="3672000" cy="3290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19632600">
            <a:off x="120600" y="1715760"/>
            <a:ext cx="8964720" cy="28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b02ba"/>
                    </a:gs>
                  </a:gsLst>
                  <a:lin ang="1276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.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b02ba"/>
                  </a:gs>
                </a:gsLst>
                <a:lin ang="1276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0:52:03Z</dcterms:created>
  <dc:creator>Александра</dc:creator>
  <dc:description/>
  <dc:language>en-US</dc:language>
  <cp:lastModifiedBy>Чернышова Наталья Сергеевна</cp:lastModifiedBy>
  <dcterms:modified xsi:type="dcterms:W3CDTF">2006-11-17T19:15:14Z</dcterms:modified>
  <cp:revision>12</cp:revision>
  <dc:subject/>
  <dc:title>Слайд 1</dc:title>
</cp:coreProperties>
</file>