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B15-8443-47A7-9CF9-B697B517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F0D-5474-47B9-95DC-DB67B77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4D-C591-4B55-92C6-6C26310B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40A-3416-4170-8DA2-66C35464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A10-5FAB-447C-B456-7C6F6B1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9BD-BD0A-4112-AB5D-5C25A349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BC3-9472-4872-95BD-809D4FB7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15A-9FFE-455A-ABA8-CE2C060A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A6E-AEDE-4BF6-9E83-DBA4C6F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01C-163F-4697-A3BB-90F20D9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04F-776E-4986-92A4-65FDF3A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D0A-BFC2-4A72-BB29-3068E06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118-4042-43CD-A987-D46D4A452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Деление текста на ча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дру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 кустами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мелькну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шум, кри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Искали, искал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елить текст на ча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765000"/>
            <a:ext cx="799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Искали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искали дети лису в лесу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да так и не наш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2349360"/>
            <a:ext cx="4032360" cy="57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997360"/>
            <a:ext cx="86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49720"/>
            <a:ext cx="4032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4797360"/>
            <a:ext cx="792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5805360"/>
            <a:ext cx="395928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341360"/>
            <a:ext cx="863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981000"/>
            <a:ext cx="18730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сий хвост. Прогулка. В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Переполох в лесу. Звери разбежал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Не нашли лису. Лиса убеж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3327480"/>
            <a:ext cx="3672000" cy="329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9632600">
            <a:off x="120600" y="1715760"/>
            <a:ext cx="896472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b02ba"/>
                    </a:gs>
                  </a:gsLst>
                  <a:lin ang="1276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.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b02ba"/>
                  </a:gs>
                </a:gsLst>
                <a:lin ang="1276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0:52:03Z</dcterms:created>
  <dc:creator>Александра</dc:creator>
  <dc:description/>
  <dc:language>en-US</dc:language>
  <cp:lastModifiedBy>Чернышова Наталья Сергеевна</cp:lastModifiedBy>
  <dcterms:modified xsi:type="dcterms:W3CDTF">2006-11-17T19:15:14Z</dcterms:modified>
  <cp:revision>12</cp:revision>
  <dc:subject/>
  <dc:title>Слайд 1</dc:title>
</cp:coreProperties>
</file>