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3924-F877-4458-9450-E0C2916C6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8D7A-8585-4F54-A0A7-011F8050D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2B3F-E51C-43E2-B2DC-1E7E0B123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4BE0-F557-4DC8-A3B3-2CE5E86A3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6F75E-05E3-48AA-983D-D56192BD9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E8338-DC5B-4076-BDA3-00C90955E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5C334-1BE5-45C9-82F2-A45B437C7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9EE71-2620-48D5-A836-F7F8CA55F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BE6DE-E078-44E5-AD26-DDA3DD8BB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74BE2-6B96-421C-A17D-672A0666A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F9982-AEC0-4624-BE50-D7455B529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9F94-92FF-4128-ADA0-58BD41F26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78F96-BA98-494E-B124-2CDF71988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8B5D5-A286-41EE-B285-5AC11A694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5F809-FCB1-4F5C-B770-932BB35ED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E4855-628F-4E1E-92FC-2AA944842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51BF9-BE44-4A37-9146-E68982D93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47BB-B992-4A6C-9F41-33B681239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1B30-D4ED-454F-A38E-03486EF2E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8003-63CD-41BA-8286-D11A5CA29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8159-5769-4178-900D-D6EE402B7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14C0-2184-488E-8BEF-33221AEBB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7EF8-1597-4A4B-8D0A-B8EC20DC1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2728-A906-4CAE-B28C-B102E39EB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2F5CD-5A50-4211-ADC7-FBCD3B56B38B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80A24-67C9-4076-BE2D-3FB494F6F7A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A96FA-AB76-4682-9788-FA0CFA736868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31BE5-5872-4702-A174-B4CCD424D11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0;&#1099;&#1087;&#1095;&#1072;&#1082;&#1080;" TargetMode="External"/><Relationship Id="rId2" Type="http://schemas.openxmlformats.org/officeDocument/2006/relationships/hyperlink" Target="http://ru.wikipedia.org/wiki/&#1057;&#1091;&#1083;&#1090;&#1072;&#1085;" TargetMode="External"/><Relationship Id="rId3" Type="http://schemas.openxmlformats.org/officeDocument/2006/relationships/hyperlink" Target="http://ru.wikipedia.org/w/index.php?title=&#1052;&#1072;&#1089;&#1091;&#1076;_&#1080;&#1073;&#1085;_&#1052;&#1091;&#1093;&#1072;&#1084;&#1084;&#1077;&#1076;&amp;action=edit&amp;redlink=1" TargetMode="External"/><Relationship Id="rId4" Type="http://schemas.openxmlformats.org/officeDocument/2006/relationships/hyperlink" Target="http://ru.wikipedia.org/w/index.php?title=&#1052;&#1072;&#1089;&#1091;&#1076;_&#1080;&#1073;&#1085;_&#1052;&#1091;&#1093;&#1072;&#1084;&#1084;&#1077;&#1076;&amp;action=edit&amp;redlink=1" TargetMode="External"/><Relationship Id="rId5" Type="http://schemas.openxmlformats.org/officeDocument/2006/relationships/hyperlink" Target="http://ru.wikipedia.org/wiki/1133" TargetMode="External"/><Relationship Id="rId6" Type="http://schemas.openxmlformats.org/officeDocument/2006/relationships/hyperlink" Target="http://ru.wikipedia.org/wiki/1152" TargetMode="External"/><Relationship Id="rId7" Type="http://schemas.openxmlformats.org/officeDocument/2006/relationships/hyperlink" Target="http://ru.wikipedia.org/wiki/1136_&#1075;&#1086;&#1076;" TargetMode="External"/><Relationship Id="rId8" Type="http://schemas.openxmlformats.org/officeDocument/2006/relationships/hyperlink" Target="http://ru.wikipedia.org/wiki/&#1040;&#1088;&#1088;&#1072;&#1085;_(&#1086;&#1073;&#1083;&#1072;&#1089;&#1090;&#1100;_&#1074;_&#1047;&#1072;&#1082;&#1072;&#1074;&#1082;&#1072;&#1079;&#1100;&#1077;)" TargetMode="External"/><Relationship Id="rId9" Type="http://schemas.openxmlformats.org/officeDocument/2006/relationships/hyperlink" Target="http://ru.wikipedia.org/wiki/&#1056;&#1077;&#1075;&#1077;&#1085;&#1090;" TargetMode="External"/><Relationship Id="rId10" Type="http://schemas.openxmlformats.org/officeDocument/2006/relationships/image" Target="../media/image2.jpeg"/><Relationship Id="rId1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1160_&#1075;&#1086;&#1076;" TargetMode="External"/><Relationship Id="rId2" Type="http://schemas.openxmlformats.org/officeDocument/2006/relationships/hyperlink" Target="http://ru.wikipedia.org/w/index.php?title=&#1040;&#1088;&#1089;&#1083;&#1072;&#1085;&#1096;&#1072;&#1093;&amp;action=edit&amp;redlink=1" TargetMode="External"/><Relationship Id="rId3" Type="http://schemas.openxmlformats.org/officeDocument/2006/relationships/hyperlink" Target="http://ru.wikipedia.org/wiki/&#1064;&#1080;&#1088;&#1074;&#1072;&#1085;" TargetMode="External"/><Relationship Id="rId4" Type="http://schemas.openxmlformats.org/officeDocument/2006/relationships/hyperlink" Target="http://ru.wikipedia.org/wiki/&#1043;&#1088;&#1091;&#1079;&#1080;&#1103;" TargetMode="External"/><Relationship Id="rId5" Type="http://schemas.openxmlformats.org/officeDocument/2006/relationships/hyperlink" Target="http://ru.wikipedia.org/wiki/&#1048;&#1088;&#1072;&#1085;" TargetMode="External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u.wikipedia.org/w/index.php?title=&#1048;&#1088;&#1072;&#1082;&#1089;&#1080;&#1081;_&#1057;&#1077;&#1083;&#1100;&#1076;&#1078;&#1091;&#1082;&#1089;&#1082;&#1080;&#1081;_&#1089;&#1091;&#1083;&#1090;&#1072;&#1085;&#1072;&#1090;&amp;action=edit&amp;redlink=1" TargetMode="External"/><Relationship Id="rId2" Type="http://schemas.openxmlformats.org/officeDocument/2006/relationships/hyperlink" Target="http://ru.wikipedia.org/wiki/1166" TargetMode="External"/><Relationship Id="rId3" Type="http://schemas.openxmlformats.org/officeDocument/2006/relationships/hyperlink" Target="http://ru.wikipedia.org/wiki/1169_&#1075;&#1086;&#1076;" TargetMode="External"/><Relationship Id="rId4" Type="http://schemas.openxmlformats.org/officeDocument/2006/relationships/hyperlink" Target="http://ru.wikipedia.org/wiki/&#1057;&#1102;&#1085;&#1080;&#1082;" TargetMode="External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1175" TargetMode="External"/><Relationship Id="rId2" Type="http://schemas.openxmlformats.org/officeDocument/2006/relationships/hyperlink" Target="http://ru.wikipedia.org/wiki/1186" TargetMode="External"/><Relationship Id="rId3" Type="http://schemas.openxmlformats.org/officeDocument/2006/relationships/hyperlink" Target="http://ru.wikipedia.org/wiki/&#1053;&#1072;&#1093;&#1095;&#1099;&#1074;&#1072;&#1085;" TargetMode="External"/><Relationship Id="rId4" Type="http://schemas.openxmlformats.org/officeDocument/2006/relationships/hyperlink" Target="http://ru.wikipedia.org/wiki/&#1061;&#1072;&#1084;&#1072;&#1076;&#1072;&#1085;" TargetMode="External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1175" TargetMode="External"/><Relationship Id="rId2" Type="http://schemas.openxmlformats.org/officeDocument/2006/relationships/hyperlink" Target="http://ru.wikipedia.org/wiki/1186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5;&#1088;&#1077;&#1089;&#1090;&#1086;&#1083;" TargetMode="External"/><Relationship Id="rId2" Type="http://schemas.openxmlformats.org/officeDocument/2006/relationships/hyperlink" Target="http://ru.wikipedia.org/w/index.php?title=&#1058;&#1086;&#1075;&#1088;&#1091;&#1083;_III&amp;action=edit&amp;redlink=1" TargetMode="External"/><Relationship Id="rId3" Type="http://schemas.openxmlformats.org/officeDocument/2006/relationships/hyperlink" Target="http://ru.wikipedia.org/w/index.php?title=&#1058;&#1086;&#1075;&#1088;&#1091;&#1083;_III&amp;action=edit&amp;redlink=1" TargetMode="External"/><Relationship Id="rId4" Type="http://schemas.openxmlformats.org/officeDocument/2006/relationships/hyperlink" Target="http://ru.wikipedia.org/wiki/&#1057;&#1091;&#1083;&#1090;&#1072;&#1085;" TargetMode="External"/><Relationship Id="rId5" Type="http://schemas.openxmlformats.org/officeDocument/2006/relationships/hyperlink" Target="http://ru.wikipedia.org/w/index.php?title=&#1048;&#1085;&#1072;&#1085;&#1076;&#1078;_&#1061;&#1072;&#1090;&#1091;&#1085;&amp;action=edit&amp;redlink=1" TargetMode="External"/><Relationship Id="rId6" Type="http://schemas.openxmlformats.org/officeDocument/2006/relationships/hyperlink" Target="http://ru.wikipedia.org/w/index.php?title=&#1048;&#1085;&#1072;&#1085;&#1076;&#1078;_&#1061;&#1072;&#1090;&#1091;&#1085;&amp;action=edit&amp;redlink=1" TargetMode="External"/><Relationship Id="rId7" Type="http://schemas.openxmlformats.org/officeDocument/2006/relationships/hyperlink" Target="http://ru.wikipedia.org/w/index.php?title=&#1048;&#1085;&#1072;&#1085;&#1076;&#1078;_&#1061;&#1072;&#1090;&#1091;&#1085;&amp;action=edit&amp;redlink=1" TargetMode="External"/><Relationship Id="rId8" Type="http://schemas.openxmlformats.org/officeDocument/2006/relationships/hyperlink" Target="http://ru.wikipedia.org/w/index.php?title=&#1043;&#1091;&#1090;&#1083;&#1091;&#1075;_&#1048;&#1085;&#1072;&#1085;&#1076;&#1078;&amp;action=edit&amp;redlink=1" TargetMode="External"/><Relationship Id="rId9" Type="http://schemas.openxmlformats.org/officeDocument/2006/relationships/hyperlink" Target="http://ru.wikipedia.org/w/index.php?title=&#1043;&#1091;&#1090;&#1083;&#1091;&#1075;_&#1048;&#1085;&#1072;&#1085;&#1076;&#1078;&amp;action=edit&amp;redlink=1" TargetMode="External"/><Relationship Id="rId10" Type="http://schemas.openxmlformats.org/officeDocument/2006/relationships/hyperlink" Target="http://ru.wikipedia.org/w/index.php?title=&#1043;&#1091;&#1090;&#1083;&#1091;&#1075;_&#1048;&#1085;&#1072;&#1085;&#1076;&#1078;&amp;action=edit&amp;redlink=1" TargetMode="External"/><Relationship Id="rId11" Type="http://schemas.openxmlformats.org/officeDocument/2006/relationships/image" Target="../media/image5.jpeg"/><Relationship Id="rId1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89080" y="4919400"/>
            <a:ext cx="6369120" cy="3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Государство Атабеков (1136-1225г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8210520" cy="5465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C68D76DC-ED35-40C9-8511-1BDE43B5533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Абу Бекр (1191-1210гг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5205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табеку Абубекру -сыну Мухаммед Джахана Пехлевана, пришлось бороться против грузинской царицы Тамары (1184-1213 гг.), ширваншаха Ахситан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своего  сводных братьев Гутлуг Инаджа Амирмирана,который,поссорившись с ним,перешел на сторону его врагов.В </a:t>
            </a:r>
            <a:r>
              <a:rPr b="0" lang="ru-RU" sz="2000" spc="-1" strike="noStrike">
                <a:solidFill>
                  <a:srgbClr val="9933ff"/>
                </a:solidFill>
                <a:latin typeface="Arial"/>
              </a:rPr>
              <a:t>1194 г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000" spc="-1" strike="noStrike">
                <a:solidFill>
                  <a:srgbClr val="6767ff"/>
                </a:solidFill>
                <a:latin typeface="Arial"/>
              </a:rPr>
              <a:t>в битве при Шамкире и Байлаган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юзники нанесли Абубекру большое поражение и обратили его в бегство.Гянджа перешла в руки Амирмирана но после ухода грузин.гянджинцы убили Амир Амирана.Гянджа перешла снова под власть Атабе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5364000" y="1341360"/>
            <a:ext cx="324036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A28A4A-5358-46C9-9BF0-47AFE4C0A58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Абу Бекр (1191-1210гг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410544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767ff"/>
                </a:solidFill>
                <a:latin typeface="Arial"/>
              </a:rPr>
              <a:t>1203г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царица Тамара 25 дней безуспешно осаждала Гянджу.Разори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абил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767ff"/>
                </a:solidFill>
                <a:latin typeface="Arial"/>
              </a:rPr>
              <a:t>1208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ле смерти Агсунгуридов присоединил Марагинскую обла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500720" y="1557360"/>
            <a:ext cx="1834920" cy="44640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372360" y="1628640"/>
            <a:ext cx="2457360" cy="4481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AF827C-CA68-4CB1-BDDA-C95AC124486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Атабек Узбек(</a:t>
            </a:r>
            <a:r>
              <a:rPr b="0" lang="ru-RU" sz="3800" spc="-1" strike="noStrike">
                <a:solidFill>
                  <a:srgbClr val="6767ff"/>
                </a:solidFill>
                <a:latin typeface="Arial"/>
              </a:rPr>
              <a:t>1210-1225</a:t>
            </a: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гг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8000" y="1483920"/>
            <a:ext cx="511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210-1211- грабительский поход Тамары Взять Нахчыван не смогла.Разорила Маранд,Миян,Ахар,Казвин,,Уджан.Тебриз(правительница города Захида хатун) откупилс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5867280" y="1700280"/>
            <a:ext cx="3110040" cy="396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9CC2AC-600F-47BC-8768-E568F38ED79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Атабек Узбек(</a:t>
            </a:r>
            <a:r>
              <a:rPr b="0" lang="ru-RU" sz="3800" spc="-1" strike="noStrike">
                <a:solidFill>
                  <a:srgbClr val="6767ff"/>
                </a:solidFill>
                <a:latin typeface="Arial"/>
              </a:rPr>
              <a:t>1210-1225</a:t>
            </a: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гг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259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тупив на престол атабек Узбек практически являлся марионеткой в руках феодалов, а предпринятый им неудачный поход на Ираки-Аджем и нашествие монголов 1220-1222гг ещё более ухудшили его положение. Из-за 3-й атаки монголов на Тебриз во время этого нашествия бежал в Нахичевань. Однако и после 3-й атаки город сумел откупи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859280" y="2349360"/>
            <a:ext cx="3745080" cy="360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F2ACD4-036C-497A-B1C7-C29BDFA854E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Атабек Узбек(</a:t>
            </a:r>
            <a:r>
              <a:rPr b="0" lang="ru-RU" sz="3800" spc="-1" strike="noStrike">
                <a:solidFill>
                  <a:srgbClr val="6767ff"/>
                </a:solidFill>
                <a:latin typeface="Arial"/>
              </a:rPr>
              <a:t>1210-1225</a:t>
            </a: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гг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76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-за атаки сына хорезмшаха Мухаммеда Джелал ад-Дина на Марагу Узбек бежал в Тебриз, где и умер. В результате смерти Узбека государство Ильденизидов пало.в 1225г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16360" y="1628640"/>
            <a:ext cx="4103640" cy="3745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AC7BF7-DC6A-4EE6-8698-C34C859B77C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Система управления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767ff"/>
                </a:solidFill>
                <a:latin typeface="Arial"/>
              </a:rPr>
              <a:t>Главный везирь-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значал чиновников,следил за налог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767ff"/>
                </a:solidFill>
                <a:latin typeface="Arial"/>
              </a:rPr>
              <a:t>Туграйи-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чальник государственной канцеля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767ff"/>
                </a:solidFill>
                <a:latin typeface="Arial"/>
              </a:rPr>
              <a:t>Сахиби-диван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военные де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ичным имуществом атабека-занимался </a:t>
            </a:r>
            <a:r>
              <a:rPr b="0" lang="ru-RU" sz="3200" spc="-1" strike="noStrike">
                <a:solidFill>
                  <a:srgbClr val="6767ff"/>
                </a:solidFill>
                <a:latin typeface="Arial"/>
              </a:rPr>
              <a:t>Диван(личный суд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E6DD4A-5C10-4EB9-8B24-B8FAA92A8E8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Система управления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рритория делилась на провинции во главе с наместник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ородами управляли </a:t>
            </a:r>
            <a:r>
              <a:rPr b="0" lang="ru-RU" sz="3200" spc="-1" strike="noStrike">
                <a:solidFill>
                  <a:srgbClr val="6767ff"/>
                </a:solidFill>
                <a:latin typeface="Arial"/>
              </a:rPr>
              <a:t>наиб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логи собирали-</a:t>
            </a:r>
            <a:r>
              <a:rPr b="0" lang="ru-RU" sz="3200" spc="-1" strike="noStrike">
                <a:solidFill>
                  <a:srgbClr val="6767ff"/>
                </a:solidFill>
                <a:latin typeface="Arial"/>
              </a:rPr>
              <a:t>дар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767ff"/>
                </a:solidFill>
                <a:latin typeface="Arial"/>
              </a:rPr>
              <a:t>Столиц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767ff"/>
                </a:solidFill>
                <a:latin typeface="Arial"/>
              </a:rPr>
              <a:t>Нахчыван,Хамадан,Тебриз,Гяндж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B9B36A-619C-4F97-BC3E-01D2DF09E31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9440" y="274680"/>
            <a:ext cx="82170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Основатель государства</a:t>
            </a:r>
            <a:br>
              <a:rPr sz="1900"/>
            </a:b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Шамседдин Ильдениз</a:t>
            </a:r>
            <a:br>
              <a:rPr sz="1900"/>
            </a:b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1136-1175гг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440208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происхождению раб-</a:t>
            </a:r>
            <a:r>
              <a:rPr b="0" lang="ru-RU" sz="2400" spc="-1" strike="noStrike" u="sng">
                <a:solidFill>
                  <a:srgbClr val="6767ff"/>
                </a:solidFill>
                <a:uFillTx/>
                <a:latin typeface="Arial"/>
                <a:hlinkClick r:id="rId1"/>
              </a:rPr>
              <a:t>кыпча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к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 </a:t>
            </a:r>
            <a:r>
              <a:rPr b="0" lang="ru-RU" sz="2400" spc="-1" strike="noStrike" u="sng">
                <a:solidFill>
                  <a:srgbClr val="6767ff"/>
                </a:solidFill>
                <a:uFillTx/>
                <a:latin typeface="Arial"/>
                <a:hlinkClick r:id="rId2"/>
              </a:rPr>
              <a:t>султану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400" spc="-1" strike="noStrike" u="sng">
                <a:solidFill>
                  <a:srgbClr val="6767ff"/>
                </a:solidFill>
                <a:uFillTx/>
                <a:latin typeface="Arial"/>
                <a:hlinkClick r:id="rId3"/>
              </a:rPr>
              <a:t>Масуду</a:t>
            </a:r>
            <a:r>
              <a:rPr b="0" lang="ru-RU" sz="2400" spc="-1" strike="noStrike" u="sng">
                <a:solidFill>
                  <a:srgbClr val="6767ff"/>
                </a:solidFill>
                <a:uFillTx/>
                <a:latin typeface="Arial"/>
                <a:hlinkClick r:id="rId4"/>
              </a:rPr>
              <a:t> ибн Мухаммеду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(</a:t>
            </a:r>
            <a:r>
              <a:rPr b="0" lang="ru-RU" sz="2400" spc="-1" strike="noStrike" u="sng">
                <a:solidFill>
                  <a:srgbClr val="6767ff"/>
                </a:solidFill>
                <a:uFillTx/>
                <a:latin typeface="Arial"/>
                <a:hlinkClick r:id="rId5"/>
              </a:rPr>
              <a:t>113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0" lang="ru-RU" sz="2400" spc="-1" strike="noStrike" u="sng">
                <a:solidFill>
                  <a:srgbClr val="6767ff"/>
                </a:solidFill>
                <a:uFillTx/>
                <a:latin typeface="Arial"/>
                <a:hlinkClick r:id="rId6"/>
              </a:rPr>
              <a:t>115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, который в </a:t>
            </a:r>
            <a:r>
              <a:rPr b="0" lang="ru-RU" sz="2400" spc="-1" strike="noStrike" u="sng">
                <a:solidFill>
                  <a:srgbClr val="6767ff"/>
                </a:solidFill>
                <a:uFillTx/>
                <a:latin typeface="Arial"/>
                <a:hlinkClick r:id="rId7"/>
              </a:rPr>
              <a:t>1136 году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назначает его наместником </a:t>
            </a:r>
            <a:r>
              <a:rPr b="0" lang="ru-RU" sz="2400" spc="-1" strike="noStrike" u="sng">
                <a:solidFill>
                  <a:srgbClr val="6767ff"/>
                </a:solidFill>
                <a:uFillTx/>
                <a:latin typeface="Arial"/>
                <a:hlinkClick r:id="rId8"/>
              </a:rPr>
              <a:t>Арран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и Южного Азербайджана, с резиденцией в Бард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ле смерти Масуда Шамсаддин женится на его вдове и становится самостоятельным властителем на северо-западных территориях Иранско-сельджукского султаната </a:t>
            </a:r>
            <a:r>
              <a:rPr b="0" lang="ru-RU" sz="2400" spc="-1" strike="noStrike" u="sng">
                <a:solidFill>
                  <a:srgbClr val="6767ff"/>
                </a:solidFill>
                <a:uFillTx/>
                <a:latin typeface="Arial"/>
                <a:hlinkClick r:id="rId9"/>
              </a:rPr>
              <a:t>регенто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султана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0"/>
          <a:stretch/>
        </p:blipFill>
        <p:spPr>
          <a:xfrm>
            <a:off x="4932360" y="1413000"/>
            <a:ext cx="3743280" cy="4762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70CE8E-6355-43AA-8FF7-C260420E9A6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Шамседдин Ильдениз</a:t>
            </a:r>
            <a:br>
              <a:rPr sz="2100"/>
            </a:b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1136-1175гг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 </a:t>
            </a:r>
            <a:r>
              <a:rPr b="0" lang="ru-RU" sz="3600" spc="-1" strike="noStrike" u="sng">
                <a:solidFill>
                  <a:srgbClr val="6767ff"/>
                </a:solidFill>
                <a:uFillTx/>
                <a:latin typeface="Arial"/>
                <a:hlinkClick r:id="rId1"/>
              </a:rPr>
              <a:t>1160 году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 он получает титул "Великого Атабека", добивается провозглашения султаном своего пасынка </a:t>
            </a:r>
            <a:r>
              <a:rPr b="0" lang="ru-RU" sz="3600" spc="-1" strike="noStrike" u="sng">
                <a:solidFill>
                  <a:srgbClr val="6767ff"/>
                </a:solidFill>
                <a:uFillTx/>
                <a:latin typeface="Arial"/>
                <a:hlinkClick r:id="rId2"/>
              </a:rPr>
              <a:t>Арсланшаха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 объединяет в своём государстве весь Южный и значительную часть Северного Азербайджана — до границ с </a:t>
            </a:r>
            <a:r>
              <a:rPr b="0" lang="ru-RU" sz="3600" spc="-1" strike="noStrike" u="sng">
                <a:solidFill>
                  <a:srgbClr val="6767ff"/>
                </a:solidFill>
                <a:uFillTx/>
                <a:latin typeface="Arial"/>
                <a:hlinkClick r:id="rId3"/>
              </a:rPr>
              <a:t>Ширваном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 и с </a:t>
            </a:r>
            <a:r>
              <a:rPr b="0" lang="ru-RU" sz="3600" spc="-1" strike="noStrike" u="sng">
                <a:solidFill>
                  <a:srgbClr val="6767ff"/>
                </a:solidFill>
                <a:uFillTx/>
                <a:latin typeface="Arial"/>
                <a:hlinkClick r:id="rId4"/>
              </a:rPr>
              <a:t>Грузией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, и весь Западный </a:t>
            </a:r>
            <a:r>
              <a:rPr b="0" lang="ru-RU" sz="3600" spc="-1" strike="noStrike" u="sng">
                <a:solidFill>
                  <a:srgbClr val="6767ff"/>
                </a:solidFill>
                <a:uFillTx/>
                <a:latin typeface="Arial"/>
                <a:hlinkClick r:id="rId5"/>
              </a:rPr>
              <a:t>Иран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90D347-3D9E-4ADD-A679-49733123A9A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Шамседдин Ильдениз</a:t>
            </a:r>
            <a:br>
              <a:rPr sz="2100"/>
            </a:b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1136-1175гг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ле чего Шамсаддин Эльдениз сам начал править </a:t>
            </a:r>
            <a:r>
              <a:rPr b="0" lang="ru-RU" sz="2800" spc="-1" strike="noStrike" u="sng">
                <a:solidFill>
                  <a:srgbClr val="6767ff"/>
                </a:solidFill>
                <a:uFillTx/>
                <a:latin typeface="Arial"/>
                <a:hlinkClick r:id="rId1"/>
              </a:rPr>
              <a:t>Иракским Сельджукским султанато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3 августа 1161 года, близ Хамадана, Шамсаддин разбил восставших эмиров и вскоре захватил город Рей. В июле 1163 года, объединенные силы эмиров, во главе с Шамсаддином совершили поход в Грузию, где нанесли тяжелое поражение грузинским войскам и завоевали Двин. В </a:t>
            </a:r>
            <a:r>
              <a:rPr b="0" lang="ru-RU" sz="2800" spc="-1" strike="noStrike" u="sng">
                <a:solidFill>
                  <a:srgbClr val="6767ff"/>
                </a:solidFill>
                <a:uFillTx/>
                <a:latin typeface="Arial"/>
                <a:hlinkClick r:id="rId2"/>
              </a:rPr>
              <a:t>1166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0" lang="ru-RU" sz="2800" spc="-1" strike="noStrike" u="sng">
                <a:solidFill>
                  <a:srgbClr val="6767ff"/>
                </a:solidFill>
                <a:uFillTx/>
                <a:latin typeface="Arial"/>
                <a:hlinkClick r:id="rId3"/>
              </a:rPr>
              <a:t>1169 годах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Шамсаддин присоединяет к своим владениям </a:t>
            </a:r>
            <a:r>
              <a:rPr b="0" lang="ru-RU" sz="2800" spc="-1" strike="noStrike" u="sng">
                <a:solidFill>
                  <a:srgbClr val="6767ff"/>
                </a:solidFill>
                <a:uFillTx/>
                <a:latin typeface="Arial"/>
                <a:hlinkClick r:id="rId4"/>
              </a:rPr>
              <a:t>Сюник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E1207A-1DDC-4E77-BABB-2C22422D43A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Мухаммед Джахана Пехлеван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3400"/>
            </a:b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3400" spc="-1" strike="noStrike" u="sng">
                <a:solidFill>
                  <a:srgbClr val="6767ff"/>
                </a:solidFill>
                <a:uFillTx/>
                <a:latin typeface="Arial"/>
                <a:hlinkClick r:id="rId1"/>
              </a:rPr>
              <a:t>1175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0" lang="ru-RU" sz="3400" spc="-1" strike="noStrike" u="sng">
                <a:solidFill>
                  <a:srgbClr val="6767ff"/>
                </a:solidFill>
                <a:uFillTx/>
                <a:latin typeface="Arial"/>
                <a:hlinkClick r:id="rId2"/>
              </a:rPr>
              <a:t>1186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606888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енес столицу государ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 </a:t>
            </a:r>
            <a:r>
              <a:rPr b="0" lang="ru-RU" sz="2800" spc="-1" strike="noStrike" u="sng">
                <a:solidFill>
                  <a:srgbClr val="6767ff"/>
                </a:solidFill>
                <a:uFillTx/>
                <a:latin typeface="Arial"/>
                <a:hlinkClick r:id="rId3"/>
              </a:rPr>
              <a:t>Нахчыван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в </a:t>
            </a:r>
            <a:r>
              <a:rPr b="0" lang="ru-RU" sz="2800" spc="-1" strike="noStrike" u="sng">
                <a:solidFill>
                  <a:srgbClr val="6767ff"/>
                </a:solidFill>
                <a:uFillTx/>
                <a:latin typeface="Arial"/>
                <a:hlinkClick r:id="rId4"/>
              </a:rPr>
              <a:t>Хамадан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 1175г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175г- освободил Тебриз от Ахсунгуридов сломил сопротивление Сельджукских эмиров и усилил центральную власть. В этот период  Азербайджаном правил его младший брат  Гызыл Арсл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>
            <a:off x="5867280" y="1628640"/>
            <a:ext cx="3097440" cy="40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D344AA-4738-41B1-992E-633C2A2D92A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Мухаммед Джахана Пехлеван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3400"/>
            </a:b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3400" spc="-1" strike="noStrike" u="sng">
                <a:solidFill>
                  <a:srgbClr val="6767ff"/>
                </a:solidFill>
                <a:uFillTx/>
                <a:latin typeface="Arial"/>
                <a:hlinkClick r:id="rId1"/>
              </a:rPr>
              <a:t>1175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0" lang="ru-RU" sz="3400" spc="-1" strike="noStrike" u="sng">
                <a:solidFill>
                  <a:srgbClr val="6767ff"/>
                </a:solidFill>
                <a:uFillTx/>
                <a:latin typeface="Arial"/>
                <a:hlinkClick r:id="rId2"/>
              </a:rPr>
              <a:t>1186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94920" y="1412640"/>
            <a:ext cx="4321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ледняя дипломатическая победа –Ахлатское соглашение 1185г с правителем Сирии Салахадином Юсиф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5796000" y="1268280"/>
            <a:ext cx="2743200" cy="477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85795D-B78C-42A1-A82A-438E73C5B56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Гызыл-Арслан(1186-1191гг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556596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ызыл-Арслан долгое время боролся с дворовой оппозицией и крупными феодальными группировками, которые стремились захватить </a:t>
            </a:r>
            <a:r>
              <a:rPr b="0" lang="ru-RU" sz="2400" spc="-1" strike="noStrike" u="sng">
                <a:solidFill>
                  <a:srgbClr val="6767ff"/>
                </a:solidFill>
                <a:uFillTx/>
                <a:latin typeface="Arial"/>
                <a:hlinkClick r:id="rId1"/>
              </a:rPr>
              <a:t>престо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В борьбе против Кызыл-Арслана объединился </a:t>
            </a:r>
            <a:r>
              <a:rPr b="0" lang="ru-RU" sz="2400" spc="-1" strike="noStrike" u="sng">
                <a:solidFill>
                  <a:srgbClr val="6767ff"/>
                </a:solidFill>
                <a:uFillTx/>
                <a:latin typeface="Arial"/>
                <a:hlinkClick r:id="rId2"/>
              </a:rPr>
              <a:t>Тогрул</a:t>
            </a:r>
            <a:r>
              <a:rPr b="0" lang="ru-RU" sz="2400" spc="-1" strike="noStrike" u="sng">
                <a:solidFill>
                  <a:srgbClr val="6767ff"/>
                </a:solidFill>
                <a:uFillTx/>
                <a:latin typeface="Arial"/>
                <a:hlinkClick r:id="rId3"/>
              </a:rPr>
              <a:t> II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формально носивший титул </a:t>
            </a:r>
            <a:r>
              <a:rPr b="0" lang="ru-RU" sz="2400" spc="-1" strike="noStrike" u="sng">
                <a:solidFill>
                  <a:srgbClr val="6767ff"/>
                </a:solidFill>
                <a:uFillTx/>
                <a:latin typeface="Arial"/>
                <a:hlinkClick r:id="rId4"/>
              </a:rPr>
              <a:t>султан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и недовольные сельджукские эмиры а также жена Мухаммеда Джахана Пехлевана </a:t>
            </a:r>
            <a:r>
              <a:rPr b="0" lang="ru-RU" sz="2400" spc="-1" strike="noStrike" u="sng">
                <a:solidFill>
                  <a:srgbClr val="6767ff"/>
                </a:solidFill>
                <a:uFillTx/>
                <a:latin typeface="Arial"/>
                <a:hlinkClick r:id="rId5"/>
              </a:rPr>
              <a:t>Инандж</a:t>
            </a:r>
            <a:r>
              <a:rPr b="0" lang="ru-RU" sz="2400" spc="-1" strike="noStrike" u="sng">
                <a:solidFill>
                  <a:srgbClr val="6767ff"/>
                </a:solidFill>
                <a:uFillTx/>
                <a:latin typeface="Arial"/>
                <a:hlinkClick r:id="rId6"/>
              </a:rPr>
              <a:t> </a:t>
            </a:r>
            <a:r>
              <a:rPr b="0" lang="ru-RU" sz="2400" spc="-1" strike="noStrike" u="sng">
                <a:solidFill>
                  <a:srgbClr val="6767ff"/>
                </a:solidFill>
                <a:uFillTx/>
                <a:latin typeface="Arial"/>
                <a:hlinkClick r:id="rId7"/>
              </a:rPr>
              <a:t>Хатун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а также племенники </a:t>
            </a:r>
            <a:r>
              <a:rPr b="0" lang="ru-RU" sz="2400" spc="-1" strike="noStrike" u="sng">
                <a:solidFill>
                  <a:srgbClr val="6767ff"/>
                </a:solidFill>
                <a:uFillTx/>
                <a:latin typeface="Arial"/>
                <a:hlinkClick r:id="rId8"/>
              </a:rPr>
              <a:t>Гутлуг</a:t>
            </a:r>
            <a:r>
              <a:rPr b="0" lang="ru-RU" sz="2400" spc="-1" strike="noStrike" u="sng">
                <a:solidFill>
                  <a:srgbClr val="6767ff"/>
                </a:solidFill>
                <a:uFillTx/>
                <a:latin typeface="Arial"/>
                <a:hlinkClick r:id="rId9"/>
              </a:rPr>
              <a:t> </a:t>
            </a:r>
            <a:r>
              <a:rPr b="0" lang="ru-RU" sz="2400" spc="-1" strike="noStrike" u="sng">
                <a:solidFill>
                  <a:srgbClr val="6767ff"/>
                </a:solidFill>
                <a:uFillTx/>
                <a:latin typeface="Arial"/>
                <a:hlinkClick r:id="rId10"/>
              </a:rPr>
              <a:t>Инандж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и Амир Амиран Ома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1"/>
          <a:stretch/>
        </p:blipFill>
        <p:spPr>
          <a:xfrm>
            <a:off x="6300720" y="1413000"/>
            <a:ext cx="230508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8110A0-470A-4DE5-B9B4-4581EDCF875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Гызыл-Арслан(1186-1191гг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507672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 1190 году Кызыл-Арслан победил в сражении и взял в плен Тогрула III и его сына Меликшаха. В 1191 году Кызыл Арслан с согласия Халифа Ан-Насира провозгласил себя султаном. Таким образом азербайджанские атабеки, независимо правившие Иракским и Сельджукским султанатом еще со времен Шамседдина Эльдениза, теперь захватили и формальную власть, то есть титул султан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5148360" y="1341360"/>
            <a:ext cx="3671640" cy="4608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3732F6-B223-42FB-9E2B-39DFA3E3836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Гызыл-Арслан(1186-1191гг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835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итическая стабильность вызванная политикой Кызыл-Арслана продолжалась недолго. Крупные феодалы и Инандж Хатун, недовольные усилением центральной власти устроили заговор и убили Кызыл-Арслана. Начались междоусобицы в результате власть захватил 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бу Бак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(1191-12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148360" y="1700280"/>
            <a:ext cx="3671640" cy="4392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9A8CF4-F659-420F-997B-E7C34B9475B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1T16:08:15Z</dcterms:created>
  <dc:creator>Seving Safaraliyeva </dc:creator>
  <dc:description/>
  <dc:language>en-US</dc:language>
  <cp:lastModifiedBy>Seving Safaraliyeva </cp:lastModifiedBy>
  <dcterms:modified xsi:type="dcterms:W3CDTF">2011-09-21T17:35:05Z</dcterms:modified>
  <cp:revision>8</cp:revision>
  <dc:subject/>
  <dc:title>Слайд 1</dc:title>
</cp:coreProperties>
</file>