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F61-8732-4DD9-8FC3-502FC0DB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419-0B80-456D-9B17-5EC3C7B0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CC2-951F-493B-804D-FD3F8C0E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063-E3EF-4390-B544-7DD0AB61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FF07-FA5B-4FB9-BAED-61B7A099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DC3B-1CE8-48D5-A54A-A0740A4A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FDB8-8A4D-40A9-8543-1811607D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DA13-AC31-4598-ACF1-9F08DB37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EFA8-1ABA-46D7-BE57-D1941FDB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2B32-D967-45A6-83F8-1349D87A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4239-DABB-4D5C-9AB7-3445130D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750-8D1F-492E-AFDB-93389C3F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E07D-7867-4A56-8AB6-2B899FA6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E97C-7CA2-445B-AEC5-36D6FAA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08C1-89FC-4F89-B21A-BF6BFFF2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4D4E-02AE-491C-99C0-91E1793E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8551-A4D3-4E43-AFB8-D18EC1D7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846-1277-49C1-8E84-0026F151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DCE-E052-4E1E-B148-9213D7AB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176-9D35-4F2B-BA9A-9E6A2264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155-3895-4766-8313-A7F43559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E9E-7F0C-446B-8A41-36F898E7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147-835C-4C55-817E-84BC972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422-1343-4BAC-898E-6BBC199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3FA9-6A47-48D9-AC83-299BA5DBA27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EEB2-9599-45FD-B522-F51AAD9686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CF86-9A9F-4836-8BDB-9EF5FF81427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B133-F835-4FE5-B5EB-62777A6439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99;&#1087;&#1095;&#1072;&#1082;&#1080;" TargetMode="External"/><Relationship Id="rId2" Type="http://schemas.openxmlformats.org/officeDocument/2006/relationships/hyperlink" Target="http://ru.wikipedia.org/wiki/&#1057;&#1091;&#1083;&#1090;&#1072;&#1085;" TargetMode="External"/><Relationship Id="rId3" Type="http://schemas.openxmlformats.org/officeDocument/2006/relationships/hyperlink" Target="http://ru.wikipedia.org/w/index.php?title=&#1052;&#1072;&#1089;&#1091;&#1076;_&#1080;&#1073;&#1085;_&#1052;&#1091;&#1093;&#1072;&#1084;&#1084;&#1077;&#1076;&amp;action=edit&amp;redlink=1" TargetMode="External"/><Relationship Id="rId4" Type="http://schemas.openxmlformats.org/officeDocument/2006/relationships/hyperlink" Target="http://ru.wikipedia.org/w/index.php?title=&#1052;&#1072;&#1089;&#1091;&#1076;_&#1080;&#1073;&#1085;_&#1052;&#1091;&#1093;&#1072;&#1084;&#1084;&#1077;&#1076;&amp;action=edit&amp;redlink=1" TargetMode="External"/><Relationship Id="rId5" Type="http://schemas.openxmlformats.org/officeDocument/2006/relationships/hyperlink" Target="http://ru.wikipedia.org/wiki/1133" TargetMode="External"/><Relationship Id="rId6" Type="http://schemas.openxmlformats.org/officeDocument/2006/relationships/hyperlink" Target="http://ru.wikipedia.org/wiki/1152" TargetMode="External"/><Relationship Id="rId7" Type="http://schemas.openxmlformats.org/officeDocument/2006/relationships/hyperlink" Target="http://ru.wikipedia.org/wiki/1136_&#1075;&#1086;&#1076;" TargetMode="External"/><Relationship Id="rId8" Type="http://schemas.openxmlformats.org/officeDocument/2006/relationships/hyperlink" Target="http://ru.wikipedia.org/wiki/&#1040;&#1088;&#1088;&#1072;&#1085;_(&#1086;&#1073;&#1083;&#1072;&#1089;&#1090;&#1100;_&#1074;_&#1047;&#1072;&#1082;&#1072;&#1074;&#1082;&#1072;&#1079;&#1100;&#1077;)" TargetMode="External"/><Relationship Id="rId9" Type="http://schemas.openxmlformats.org/officeDocument/2006/relationships/hyperlink" Target="http://ru.wikipedia.org/wiki/&#1056;&#1077;&#1075;&#1077;&#1085;&#1090;" TargetMode="Externa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160_&#1075;&#1086;&#1076;" TargetMode="External"/><Relationship Id="rId2" Type="http://schemas.openxmlformats.org/officeDocument/2006/relationships/hyperlink" Target="http://ru.wikipedia.org/w/index.php?title=&#1040;&#1088;&#1089;&#1083;&#1072;&#1085;&#1096;&#1072;&#1093;&amp;action=edit&amp;redlink=1" TargetMode="External"/><Relationship Id="rId3" Type="http://schemas.openxmlformats.org/officeDocument/2006/relationships/hyperlink" Target="http://ru.wikipedia.org/wiki/&#1064;&#1080;&#1088;&#1074;&#1072;&#1085;" TargetMode="External"/><Relationship Id="rId4" Type="http://schemas.openxmlformats.org/officeDocument/2006/relationships/hyperlink" Target="http://ru.wikipedia.org/wiki/&#1043;&#1088;&#1091;&#1079;&#1080;&#1103;" TargetMode="External"/><Relationship Id="rId5" Type="http://schemas.openxmlformats.org/officeDocument/2006/relationships/hyperlink" Target="http://ru.wikipedia.org/wiki/&#1048;&#1088;&#1072;&#1085;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8;&#1088;&#1072;&#1082;&#1089;&#1080;&#1081;_&#1057;&#1077;&#1083;&#1100;&#1076;&#1078;&#1091;&#1082;&#1089;&#1082;&#1080;&#1081;_&#1089;&#1091;&#1083;&#1090;&#1072;&#1085;&#1072;&#1090;&amp;action=edit&amp;redlink=1" TargetMode="External"/><Relationship Id="rId2" Type="http://schemas.openxmlformats.org/officeDocument/2006/relationships/hyperlink" Target="http://ru.wikipedia.org/wiki/1166" TargetMode="External"/><Relationship Id="rId3" Type="http://schemas.openxmlformats.org/officeDocument/2006/relationships/hyperlink" Target="http://ru.wikipedia.org/wiki/1169_&#1075;&#1086;&#1076;" TargetMode="External"/><Relationship Id="rId4" Type="http://schemas.openxmlformats.org/officeDocument/2006/relationships/hyperlink" Target="http://ru.wikipedia.org/wiki/&#1057;&#1102;&#1085;&#1080;&#1082;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175" TargetMode="External"/><Relationship Id="rId2" Type="http://schemas.openxmlformats.org/officeDocument/2006/relationships/hyperlink" Target="http://ru.wikipedia.org/wiki/1186" TargetMode="External"/><Relationship Id="rId3" Type="http://schemas.openxmlformats.org/officeDocument/2006/relationships/hyperlink" Target="http://ru.wikipedia.org/wiki/&#1053;&#1072;&#1093;&#1095;&#1099;&#1074;&#1072;&#1085;" TargetMode="External"/><Relationship Id="rId4" Type="http://schemas.openxmlformats.org/officeDocument/2006/relationships/hyperlink" Target="http://ru.wikipedia.org/wiki/&#1061;&#1072;&#1084;&#1072;&#1076;&#1072;&#1085;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175" TargetMode="External"/><Relationship Id="rId2" Type="http://schemas.openxmlformats.org/officeDocument/2006/relationships/hyperlink" Target="http://ru.wikipedia.org/wiki/1186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89;&#1090;&#1086;&#1083;" TargetMode="External"/><Relationship Id="rId2" Type="http://schemas.openxmlformats.org/officeDocument/2006/relationships/hyperlink" Target="http://ru.wikipedia.org/w/index.php?title=&#1058;&#1086;&#1075;&#1088;&#1091;&#1083;_III&amp;action=edit&amp;redlink=1" TargetMode="External"/><Relationship Id="rId3" Type="http://schemas.openxmlformats.org/officeDocument/2006/relationships/hyperlink" Target="http://ru.wikipedia.org/w/index.php?title=&#1058;&#1086;&#1075;&#1088;&#1091;&#1083;_III&amp;action=edit&amp;redlink=1" TargetMode="External"/><Relationship Id="rId4" Type="http://schemas.openxmlformats.org/officeDocument/2006/relationships/hyperlink" Target="http://ru.wikipedia.org/wiki/&#1057;&#1091;&#1083;&#1090;&#1072;&#1085;" TargetMode="External"/><Relationship Id="rId5" Type="http://schemas.openxmlformats.org/officeDocument/2006/relationships/hyperlink" Target="http://ru.wikipedia.org/w/index.php?title=&#1048;&#1085;&#1072;&#1085;&#1076;&#1078;_&#1061;&#1072;&#1090;&#1091;&#1085;&amp;action=edit&amp;redlink=1" TargetMode="External"/><Relationship Id="rId6" Type="http://schemas.openxmlformats.org/officeDocument/2006/relationships/hyperlink" Target="http://ru.wikipedia.org/w/index.php?title=&#1048;&#1085;&#1072;&#1085;&#1076;&#1078;_&#1061;&#1072;&#1090;&#1091;&#1085;&amp;action=edit&amp;redlink=1" TargetMode="External"/><Relationship Id="rId7" Type="http://schemas.openxmlformats.org/officeDocument/2006/relationships/hyperlink" Target="http://ru.wikipedia.org/w/index.php?title=&#1048;&#1085;&#1072;&#1085;&#1076;&#1078;_&#1061;&#1072;&#1090;&#1091;&#1085;&amp;action=edit&amp;redlink=1" TargetMode="External"/><Relationship Id="rId8" Type="http://schemas.openxmlformats.org/officeDocument/2006/relationships/hyperlink" Target="http://ru.wikipedia.org/w/index.php?title=&#1043;&#1091;&#1090;&#1083;&#1091;&#1075;_&#1048;&#1085;&#1072;&#1085;&#1076;&#1078;&amp;action=edit&amp;redlink=1" TargetMode="External"/><Relationship Id="rId9" Type="http://schemas.openxmlformats.org/officeDocument/2006/relationships/hyperlink" Target="http://ru.wikipedia.org/w/index.php?title=&#1043;&#1091;&#1090;&#1083;&#1091;&#1075;_&#1048;&#1085;&#1072;&#1085;&#1076;&#1078;&amp;action=edit&amp;redlink=1" TargetMode="External"/><Relationship Id="rId10" Type="http://schemas.openxmlformats.org/officeDocument/2006/relationships/hyperlink" Target="http://ru.wikipedia.org/w/index.php?title=&#1043;&#1091;&#1090;&#1083;&#1091;&#1075;_&#1048;&#1085;&#1072;&#1085;&#1076;&#1078;&amp;action=edit&amp;redlink=1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89080" y="4919400"/>
            <a:ext cx="63691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о Атабеков (1136-1225г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210520" cy="546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17FB9A8-6C46-43F6-88A9-A16FBFF89A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бу Бекр (1191-1210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520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абеку Абубекру -сыну Мухаммед Джахана Пехлевана, пришлось бороться против грузинской царицы Тамары (1184-1213 гг.), ширваншаха Ахсита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воего  сводных братьев Гутлуг Инаджа Амирмирана,который,поссорившись с ним,перешел на сторону его врагов.В </a:t>
            </a: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1194 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6767ff"/>
                </a:solidFill>
                <a:latin typeface="Arial"/>
              </a:rPr>
              <a:t>в битве при Шамкире и Байлага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юзники нанесли Абубекру большое поражение и обратили его в бегство.Гянджа перешла в руки Амирмирана но после ухода грузин.гянджинцы убили Амир Амирана.Гянджа перешла снова под власть Атаб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24036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DFC4D-DCE6-4C50-83F5-50E20D935D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бу Бекр (1191-1210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105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1203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царица Тамара 25 дней безуспешно осаждала Гянджу.Разор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би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120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Агсунгуридов присоединил Марагинскую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1834920" cy="44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457360" cy="44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CF983-62D0-429F-B14E-BE71CF2ED6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табек Узбек(</a:t>
            </a:r>
            <a:r>
              <a:rPr b="0" lang="ru-RU" sz="3800" spc="-1" strike="noStrike">
                <a:solidFill>
                  <a:srgbClr val="6767ff"/>
                </a:solidFill>
                <a:latin typeface="Arial"/>
              </a:rPr>
              <a:t>1210-122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511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10-1211- грабительский поход Тамары Взять Нахчыван не смогла.Разорила Маранд,Миян,Ахар,Казвин,,Уджан.Тебриз(правительница города Захида хатун) откуп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311004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CD5A2-C966-4C57-863D-F54CFEDDAF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табек Узбек(</a:t>
            </a:r>
            <a:r>
              <a:rPr b="0" lang="ru-RU" sz="3800" spc="-1" strike="noStrike">
                <a:solidFill>
                  <a:srgbClr val="6767ff"/>
                </a:solidFill>
                <a:latin typeface="Arial"/>
              </a:rPr>
              <a:t>1210-122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упив на престол атабек Узбек практически являлся марионеткой в руках феодалов, а предпринятый им неудачный поход на Ираки-Аджем и нашествие монголов 1220-1222гг ещё более ухудшили его положение. Из-за 3-й атаки монголов на Тебриз во время этого нашествия бежал в Нахичевань. Однако и после 3-й атаки город сумел откуп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745080" cy="36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83290-1262-4225-ABA7-6A33958980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табек Узбек(</a:t>
            </a:r>
            <a:r>
              <a:rPr b="0" lang="ru-RU" sz="3800" spc="-1" strike="noStrike">
                <a:solidFill>
                  <a:srgbClr val="6767ff"/>
                </a:solidFill>
                <a:latin typeface="Arial"/>
              </a:rPr>
              <a:t>1210-122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-за атаки сына хорезмшаха Мухаммеда Джелал ад-Дина на Марагу Узбек бежал в Тебриз, где и умер. В результате смерти Узбека государство Ильденизидов пало.в 1225г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103640" cy="374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543FD-1013-4001-9E6A-80D8D7614F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истема управ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Главный везирь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ал чиновников,следил за нало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Туграйи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государственной канцеля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Сахиби-див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енные 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м имуществом атабека-занимался </a:t>
            </a: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Диван(личный су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EB577-7A41-4930-B6F0-ACABD3117B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истема управ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я делилась на провинции во главе с намес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ами управляли </a:t>
            </a: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на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ги собирали-</a:t>
            </a: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да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Сто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Нахчыван,Хамадан,Тебриз,Гянд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6A961-9E2C-442D-A1AA-A4ED180681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440" y="274680"/>
            <a:ext cx="8217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снователь государства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Шамседдин Ильдениз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136-1175г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402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оисхождению раб-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кыпч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султа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Масуду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 ибн Мухамме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113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115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который в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1136 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значает его наместником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Арр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Южного Азербайджана, с резиденцией в Бар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мерти Масуда Шамсаддин женится на его вдове и становится самостоятельным властителем на северо-западных территориях Иранско-сельджукского султаната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рег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улт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4932360" y="1413000"/>
            <a:ext cx="3743280" cy="47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E839D-9AA2-4A1F-8481-8747D1A913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амседдин Ильдени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136-1175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1160 год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он получает титул "Великого Атабека", добивается провозглашения султаном своего пасынка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Арсланшах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объединяет в своём государстве весь Южный и значительную часть Северного Азербайджана — до границ с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Ширвано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и с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Груз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 весь Западный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Ира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07A5F-0342-40A4-811B-1CA790D196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амседдин Ильдени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136-1175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чего Шамсаддин Эльдениз сам начал править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Иракским Сельджукским султана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3 августа 1161 года, близ Хамадана, Шамсаддин разбил восставших эмиров и вскоре захватил город Рей. В июле 1163 года, объединенные силы эмиров, во главе с Шамсаддином совершили поход в Грузию, где нанесли тяжелое поражение грузинским войскам и завоевали Двин. В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16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1169 год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Шамсаддин присоединяет к своим владениям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Сю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5282E-1F3A-4EE8-96D5-0DD29060E4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ухаммед Джахана Пехлеван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1175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186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6068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нес столицу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Нахчыв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Хамад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175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75г- освободил Тебриз от Ахсунгуридов сломил сопротивление Сельджукских эмиров и усилил центральную власть. В этот период  Азербайджаном правил его младший брат  Гызыл Арс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867280" y="1628640"/>
            <a:ext cx="309744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1A735-FEB7-4FF9-A71A-A63480B330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ухаммед Джахана Пехлеван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1175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186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32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яя дипломатическая победа –Ахлатское соглашение 1185г с правителем Сирии Салахадином Юсиф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2743200" cy="477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B7833-955A-4601-BCD5-1561EE9710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ызыл-Арслан(1186-1191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56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ызыл-Арслан долгое время боролся с дворовой оппозицией и крупными феодальными группировками, которые стремились захватить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прест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борьбе против Кызыл-Арслана объединился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Тогрул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 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формально носивший титул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султ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недовольные сельджукские эмиры а также жена Мухаммеда Джахана Пехлевана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Инандж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Хату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а также племенники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Гутлуг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Инанд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Амир Амиран Ом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6300720" y="1413000"/>
            <a:ext cx="230508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FDF5F-C767-4342-BCCE-B3554AE6C2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ызыл-Арслан(1186-1191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076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1190 году Кызыл-Арслан победил в сражении и взял в плен Тогрула III и его сына Меликшаха. В 1191 году Кызыл Арслан с согласия Халифа Ан-Насира провозгласил себя султаном. Таким образом азербайджанские атабеки, независимо правившие Иракским и Сельджукским султанатом еще со времен Шамседдина Эльдениза, теперь захватили и формальную власть, то есть титул султ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67164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8E526-44FC-4383-BD25-FA27D02A3A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ызыл-Арслан(1186-1191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ая стабильность вызванная политикой Кызыл-Арслана продолжалась недолго. Крупные феодалы и Инандж Хатун, недовольные усилением центральной власти устроили заговор и убили Кызыл-Арслана. Начались междоусобицы в результате власть захватил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у Ба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1191-12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67164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7081E-AAFD-48AC-8BB3-89BDA07D9D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6:08:15Z</dcterms:created>
  <dc:creator>Seving Safaraliyeva </dc:creator>
  <dc:description/>
  <dc:language>en-US</dc:language>
  <cp:lastModifiedBy>Seving Safaraliyeva </cp:lastModifiedBy>
  <dcterms:modified xsi:type="dcterms:W3CDTF">2011-09-21T17:35:05Z</dcterms:modified>
  <cp:revision>8</cp:revision>
  <dc:subject/>
  <dc:title>Слайд 1</dc:title>
</cp:coreProperties>
</file>