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A771-B05A-43AC-AE82-A047B8C3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E5F8-AF10-4E14-934A-853ACFCF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4E6A-1A1C-4FCB-825C-30C03F9E2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2FBB-A39A-4634-A60C-73907A72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42CC-212A-46EC-B242-FC90A916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0F4D-A9A3-4250-9437-2BE557EA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1E30-42FE-4CA3-B369-DDFCD121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9ACB-B9B5-4423-917B-E4040E58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484D-5354-479B-B214-21872B6E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1755-10A2-4804-A59E-E7170890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10BD-5088-4A83-B452-24538209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56B9-8322-4C06-88D8-E62ACE37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3DD8-1417-434A-82D1-2DE19917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FCE5-7A14-4761-81D9-31E597A4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DECE-AE8D-4542-AF0D-B008D479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7815-84D6-473F-A7CC-B7B8F0286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B363-BA78-4D0F-B409-821C87AFE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E867-0E4C-4972-8DFA-BA0DA57A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C068-24F7-422E-95B7-D488AD43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C307-7779-48F3-897A-31C3C453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01FD-E66F-45E8-995A-D61D7723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5B35-EF49-4049-8003-AA5BDCBC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0E39-8670-4E75-ACF0-68B7BECF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E4ED-D0C7-4F5A-82AA-0DEF0185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4E95-1870-4E2A-A78F-00705DEC4F9F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D1F4-830F-48BA-808D-4729A8D5A5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3F10-01D8-4C3A-87EF-EC5F9F5E7D0B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A774-407C-4C64-B747-0A6FD4D12A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99;&#1087;&#1095;&#1072;&#1082;&#1080;" TargetMode="External"/><Relationship Id="rId2" Type="http://schemas.openxmlformats.org/officeDocument/2006/relationships/hyperlink" Target="http://ru.wikipedia.org/wiki/&#1057;&#1091;&#1083;&#1090;&#1072;&#1085;" TargetMode="External"/><Relationship Id="rId3" Type="http://schemas.openxmlformats.org/officeDocument/2006/relationships/hyperlink" Target="http://ru.wikipedia.org/w/index.php?title=&#1052;&#1072;&#1089;&#1091;&#1076;_&#1080;&#1073;&#1085;_&#1052;&#1091;&#1093;&#1072;&#1084;&#1084;&#1077;&#1076;&amp;action=edit&amp;redlink=1" TargetMode="External"/><Relationship Id="rId4" Type="http://schemas.openxmlformats.org/officeDocument/2006/relationships/hyperlink" Target="http://ru.wikipedia.org/w/index.php?title=&#1052;&#1072;&#1089;&#1091;&#1076;_&#1080;&#1073;&#1085;_&#1052;&#1091;&#1093;&#1072;&#1084;&#1084;&#1077;&#1076;&amp;action=edit&amp;redlink=1" TargetMode="External"/><Relationship Id="rId5" Type="http://schemas.openxmlformats.org/officeDocument/2006/relationships/hyperlink" Target="http://ru.wikipedia.org/wiki/1133" TargetMode="External"/><Relationship Id="rId6" Type="http://schemas.openxmlformats.org/officeDocument/2006/relationships/hyperlink" Target="http://ru.wikipedia.org/wiki/1152" TargetMode="External"/><Relationship Id="rId7" Type="http://schemas.openxmlformats.org/officeDocument/2006/relationships/hyperlink" Target="http://ru.wikipedia.org/wiki/1136_&#1075;&#1086;&#1076;" TargetMode="External"/><Relationship Id="rId8" Type="http://schemas.openxmlformats.org/officeDocument/2006/relationships/hyperlink" Target="http://ru.wikipedia.org/wiki/&#1040;&#1088;&#1088;&#1072;&#1085;_(&#1086;&#1073;&#1083;&#1072;&#1089;&#1090;&#1100;_&#1074;_&#1047;&#1072;&#1082;&#1072;&#1074;&#1082;&#1072;&#1079;&#1100;&#1077;)" TargetMode="External"/><Relationship Id="rId9" Type="http://schemas.openxmlformats.org/officeDocument/2006/relationships/hyperlink" Target="http://ru.wikipedia.org/wiki/&#1056;&#1077;&#1075;&#1077;&#1085;&#1090;" TargetMode="External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160_&#1075;&#1086;&#1076;" TargetMode="External"/><Relationship Id="rId2" Type="http://schemas.openxmlformats.org/officeDocument/2006/relationships/hyperlink" Target="http://ru.wikipedia.org/w/index.php?title=&#1040;&#1088;&#1089;&#1083;&#1072;&#1085;&#1096;&#1072;&#1093;&amp;action=edit&amp;redlink=1" TargetMode="External"/><Relationship Id="rId3" Type="http://schemas.openxmlformats.org/officeDocument/2006/relationships/hyperlink" Target="http://ru.wikipedia.org/wiki/&#1064;&#1080;&#1088;&#1074;&#1072;&#1085;" TargetMode="External"/><Relationship Id="rId4" Type="http://schemas.openxmlformats.org/officeDocument/2006/relationships/hyperlink" Target="http://ru.wikipedia.org/wiki/&#1043;&#1088;&#1091;&#1079;&#1080;&#1103;" TargetMode="External"/><Relationship Id="rId5" Type="http://schemas.openxmlformats.org/officeDocument/2006/relationships/hyperlink" Target="http://ru.wikipedia.org/wiki/&#1048;&#1088;&#1072;&#1085;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48;&#1088;&#1072;&#1082;&#1089;&#1080;&#1081;_&#1057;&#1077;&#1083;&#1100;&#1076;&#1078;&#1091;&#1082;&#1089;&#1082;&#1080;&#1081;_&#1089;&#1091;&#1083;&#1090;&#1072;&#1085;&#1072;&#1090;&amp;action=edit&amp;redlink=1" TargetMode="External"/><Relationship Id="rId2" Type="http://schemas.openxmlformats.org/officeDocument/2006/relationships/hyperlink" Target="http://ru.wikipedia.org/wiki/1166" TargetMode="External"/><Relationship Id="rId3" Type="http://schemas.openxmlformats.org/officeDocument/2006/relationships/hyperlink" Target="http://ru.wikipedia.org/wiki/1169_&#1075;&#1086;&#1076;" TargetMode="External"/><Relationship Id="rId4" Type="http://schemas.openxmlformats.org/officeDocument/2006/relationships/hyperlink" Target="http://ru.wikipedia.org/wiki/&#1057;&#1102;&#1085;&#1080;&#1082;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175" TargetMode="External"/><Relationship Id="rId2" Type="http://schemas.openxmlformats.org/officeDocument/2006/relationships/hyperlink" Target="http://ru.wikipedia.org/wiki/1186" TargetMode="External"/><Relationship Id="rId3" Type="http://schemas.openxmlformats.org/officeDocument/2006/relationships/hyperlink" Target="http://ru.wikipedia.org/wiki/&#1053;&#1072;&#1093;&#1095;&#1099;&#1074;&#1072;&#1085;" TargetMode="External"/><Relationship Id="rId4" Type="http://schemas.openxmlformats.org/officeDocument/2006/relationships/hyperlink" Target="http://ru.wikipedia.org/wiki/&#1061;&#1072;&#1084;&#1072;&#1076;&#1072;&#1085;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175" TargetMode="External"/><Relationship Id="rId2" Type="http://schemas.openxmlformats.org/officeDocument/2006/relationships/hyperlink" Target="http://ru.wikipedia.org/wiki/1186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8;&#1077;&#1089;&#1090;&#1086;&#1083;" TargetMode="External"/><Relationship Id="rId2" Type="http://schemas.openxmlformats.org/officeDocument/2006/relationships/hyperlink" Target="http://ru.wikipedia.org/w/index.php?title=&#1058;&#1086;&#1075;&#1088;&#1091;&#1083;_III&amp;action=edit&amp;redlink=1" TargetMode="External"/><Relationship Id="rId3" Type="http://schemas.openxmlformats.org/officeDocument/2006/relationships/hyperlink" Target="http://ru.wikipedia.org/w/index.php?title=&#1058;&#1086;&#1075;&#1088;&#1091;&#1083;_III&amp;action=edit&amp;redlink=1" TargetMode="External"/><Relationship Id="rId4" Type="http://schemas.openxmlformats.org/officeDocument/2006/relationships/hyperlink" Target="http://ru.wikipedia.org/wiki/&#1057;&#1091;&#1083;&#1090;&#1072;&#1085;" TargetMode="External"/><Relationship Id="rId5" Type="http://schemas.openxmlformats.org/officeDocument/2006/relationships/hyperlink" Target="http://ru.wikipedia.org/w/index.php?title=&#1048;&#1085;&#1072;&#1085;&#1076;&#1078;_&#1061;&#1072;&#1090;&#1091;&#1085;&amp;action=edit&amp;redlink=1" TargetMode="External"/><Relationship Id="rId6" Type="http://schemas.openxmlformats.org/officeDocument/2006/relationships/hyperlink" Target="http://ru.wikipedia.org/w/index.php?title=&#1048;&#1085;&#1072;&#1085;&#1076;&#1078;_&#1061;&#1072;&#1090;&#1091;&#1085;&amp;action=edit&amp;redlink=1" TargetMode="External"/><Relationship Id="rId7" Type="http://schemas.openxmlformats.org/officeDocument/2006/relationships/hyperlink" Target="http://ru.wikipedia.org/w/index.php?title=&#1048;&#1085;&#1072;&#1085;&#1076;&#1078;_&#1061;&#1072;&#1090;&#1091;&#1085;&amp;action=edit&amp;redlink=1" TargetMode="External"/><Relationship Id="rId8" Type="http://schemas.openxmlformats.org/officeDocument/2006/relationships/hyperlink" Target="http://ru.wikipedia.org/w/index.php?title=&#1043;&#1091;&#1090;&#1083;&#1091;&#1075;_&#1048;&#1085;&#1072;&#1085;&#1076;&#1078;&amp;action=edit&amp;redlink=1" TargetMode="External"/><Relationship Id="rId9" Type="http://schemas.openxmlformats.org/officeDocument/2006/relationships/hyperlink" Target="http://ru.wikipedia.org/w/index.php?title=&#1043;&#1091;&#1090;&#1083;&#1091;&#1075;_&#1048;&#1085;&#1072;&#1085;&#1076;&#1078;&amp;action=edit&amp;redlink=1" TargetMode="External"/><Relationship Id="rId10" Type="http://schemas.openxmlformats.org/officeDocument/2006/relationships/hyperlink" Target="http://ru.wikipedia.org/w/index.php?title=&#1043;&#1091;&#1090;&#1083;&#1091;&#1075;_&#1048;&#1085;&#1072;&#1085;&#1076;&#1078;&amp;action=edit&amp;redlink=1" TargetMode="External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89080" y="4919400"/>
            <a:ext cx="636912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сударство Атабеков (1136-1225г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210520" cy="546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2303C07-1083-4ABA-A9EC-DD8C39338D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Абу Бекр (1191-1210гг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520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табеку Абубекру -сыну Мухаммед Джахана Пехлевана, пришлось бороться против грузинской царицы Тамары (1184-1213 гг.), ширваншаха Ахсита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своего  сводных братьев Гутлуг Инаджа Амирмирана,который,поссорившись с ним,перешел на сторону его врагов.В </a:t>
            </a:r>
            <a:r>
              <a:rPr b="0" lang="ru-RU" sz="2000" spc="-1" strike="noStrike">
                <a:solidFill>
                  <a:srgbClr val="9933ff"/>
                </a:solidFill>
                <a:latin typeface="Arial"/>
              </a:rPr>
              <a:t>1194 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6767ff"/>
                </a:solidFill>
                <a:latin typeface="Arial"/>
              </a:rPr>
              <a:t>в битве при Шамкире и Байлаган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юзники нанесли Абубекру большое поражение и обратили его в бегство.Гянджа перешла в руки Амирмирана но после ухода грузин.гянджинцы убили Амир Амирана.Гянджа перешла снова под власть Атабе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64000" y="1341360"/>
            <a:ext cx="324036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E5C928-F5E2-4B7C-9373-9F5EE3A337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Абу Бекр (1191-1210гг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4105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67ff"/>
                </a:solidFill>
                <a:latin typeface="Arial"/>
              </a:rPr>
              <a:t>1203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царица Тамара 25 дней безуспешно осаждала Гянджу.Разор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би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67ff"/>
                </a:solidFill>
                <a:latin typeface="Arial"/>
              </a:rPr>
              <a:t>1208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смерти Агсунгуридов присоединил Марагинскую обл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00720" y="1557360"/>
            <a:ext cx="1834920" cy="4464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372360" y="1628640"/>
            <a:ext cx="2457360" cy="448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C04718-5FE6-4E40-B6D2-2627C3D57C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Атабек Узбек(</a:t>
            </a:r>
            <a:r>
              <a:rPr b="0" lang="ru-RU" sz="3800" spc="-1" strike="noStrike">
                <a:solidFill>
                  <a:srgbClr val="6767ff"/>
                </a:solidFill>
                <a:latin typeface="Arial"/>
              </a:rPr>
              <a:t>1210-1225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гг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511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10-1211- грабительский поход Тамары Взять Нахчыван не смогла.Разорила Маранд,Миян,Ахар,Казвин,,Уджан.Тебриз(правительница города Захида хатун) откупил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867280" y="1700280"/>
            <a:ext cx="3110040" cy="39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13D2A9-A6AB-430F-BE01-4F67118B35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Атабек Узбек(</a:t>
            </a:r>
            <a:r>
              <a:rPr b="0" lang="ru-RU" sz="3800" spc="-1" strike="noStrike">
                <a:solidFill>
                  <a:srgbClr val="6767ff"/>
                </a:solidFill>
                <a:latin typeface="Arial"/>
              </a:rPr>
              <a:t>1210-1225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гг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упив на престол атабек Узбек практически являлся марионеткой в руках феодалов, а предпринятый им неудачный поход на Ираки-Аджем и нашествие монголов 1220-1222гг ещё более ухудшили его положение. Из-за 3-й атаки монголов на Тебриз во время этого нашествия бежал в Нахичевань. Однако и после 3-й атаки город сумел откуп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859280" y="2349360"/>
            <a:ext cx="3745080" cy="360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3278D6-5222-40EA-8301-485E78FB23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Атабек Узбек(</a:t>
            </a:r>
            <a:r>
              <a:rPr b="0" lang="ru-RU" sz="3800" spc="-1" strike="noStrike">
                <a:solidFill>
                  <a:srgbClr val="6767ff"/>
                </a:solidFill>
                <a:latin typeface="Arial"/>
              </a:rPr>
              <a:t>1210-1225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гг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76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-за атаки сына хорезмшаха Мухаммеда Джелал ад-Дина на Марагу Узбек бежал в Тебриз, где и умер. В результате смерти Узбека государство Ильденизидов пало.в 1225г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16360" y="1628640"/>
            <a:ext cx="4103640" cy="374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19A657-1287-45B3-A80E-F798E1A23C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Система управлен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67ff"/>
                </a:solidFill>
                <a:latin typeface="Arial"/>
              </a:rPr>
              <a:t>Главный везирь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начал чиновников,следил за налог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67ff"/>
                </a:solidFill>
                <a:latin typeface="Arial"/>
              </a:rPr>
              <a:t>Туграйи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альник государственной канцеля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67ff"/>
                </a:solidFill>
                <a:latin typeface="Arial"/>
              </a:rPr>
              <a:t>Сахиби-дива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оенные д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чным имуществом атабека-занимался </a:t>
            </a:r>
            <a:r>
              <a:rPr b="0" lang="ru-RU" sz="3200" spc="-1" strike="noStrike">
                <a:solidFill>
                  <a:srgbClr val="6767ff"/>
                </a:solidFill>
                <a:latin typeface="Arial"/>
              </a:rPr>
              <a:t>Диван(личный су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42892D-3452-40F0-894E-8985E70D69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Система управлен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рритория делилась на провинции во главе с наместн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одами управляли </a:t>
            </a:r>
            <a:r>
              <a:rPr b="0" lang="ru-RU" sz="3200" spc="-1" strike="noStrike">
                <a:solidFill>
                  <a:srgbClr val="6767ff"/>
                </a:solidFill>
                <a:latin typeface="Arial"/>
              </a:rPr>
              <a:t>наи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логи собирали-</a:t>
            </a:r>
            <a:r>
              <a:rPr b="0" lang="ru-RU" sz="3200" spc="-1" strike="noStrike">
                <a:solidFill>
                  <a:srgbClr val="6767ff"/>
                </a:solidFill>
                <a:latin typeface="Arial"/>
              </a:rPr>
              <a:t>дар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67ff"/>
                </a:solidFill>
                <a:latin typeface="Arial"/>
              </a:rPr>
              <a:t>Стол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67ff"/>
                </a:solidFill>
                <a:latin typeface="Arial"/>
              </a:rPr>
              <a:t>Нахчыван,Хамадан,Тебриз,Гяндж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4E42E6-86EE-4098-9A28-E750B02B48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9440" y="274680"/>
            <a:ext cx="8217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снователь государства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Шамседдин Ильдениз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1136-1175гг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402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роисхождению раб-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кыпча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султан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Масуду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 ибн Мухаммед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(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113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115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который в 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7"/>
              </a:rPr>
              <a:t>1136 год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назначает его наместником 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8"/>
              </a:rPr>
              <a:t>Арра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 Южного Азербайджана, с резиденцией в Бар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смерти Масуда Шамсаддин женится на его вдове и становится самостоятельным властителем на северо-западных территориях Иранско-сельджукского султаната 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9"/>
              </a:rPr>
              <a:t>регент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султан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0"/>
          <a:stretch/>
        </p:blipFill>
        <p:spPr>
          <a:xfrm>
            <a:off x="4932360" y="1413000"/>
            <a:ext cx="3743280" cy="476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F11D0B-55A8-4CAF-91DC-8690F7EF8B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Шамседдин Ильдениз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1136-1175гг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 </a:t>
            </a:r>
            <a:r>
              <a:rPr b="0" lang="ru-RU" sz="36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1160 году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он получает титул "Великого Атабека", добивается провозглашения султаном своего пасынка </a:t>
            </a:r>
            <a:r>
              <a:rPr b="0" lang="ru-RU" sz="36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Арсланшах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объединяет в своём государстве весь Южный и значительную часть Северного Азербайджана — до границ с </a:t>
            </a:r>
            <a:r>
              <a:rPr b="0" lang="ru-RU" sz="36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Ширвано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и с </a:t>
            </a:r>
            <a:r>
              <a:rPr b="0" lang="ru-RU" sz="36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Грузие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и весь Западный </a:t>
            </a:r>
            <a:r>
              <a:rPr b="0" lang="ru-RU" sz="36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Иран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7CD8FB-D094-4DB9-8C99-D29487D29F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Шамседдин Ильдениз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1136-1175гг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чего Шамсаддин Эльдениз сам начал править </a:t>
            </a:r>
            <a:r>
              <a:rPr b="0" lang="ru-RU" sz="28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Иракским Сельджукским султана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3 августа 1161 года, близ Хамадана, Шамсаддин разбил восставших эмиров и вскоре захватил город Рей. В июле 1163 года, объединенные силы эмиров, во главе с Шамсаддином совершили поход в Грузию, где нанесли тяжелое поражение грузинским войскам и завоевали Двин. В </a:t>
            </a:r>
            <a:r>
              <a:rPr b="0" lang="ru-RU" sz="28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116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28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1169 года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Шамсаддин присоединяет к своим владениям </a:t>
            </a:r>
            <a:r>
              <a:rPr b="0" lang="ru-RU" sz="28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Сюни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8E3C92-2B8A-4F3E-88B3-7F0794D037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Мухаммед Джахана Пехлеван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4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1175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34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1186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60688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нес столицу госуда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 </a:t>
            </a:r>
            <a:r>
              <a:rPr b="0" lang="ru-RU" sz="28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Нахчыва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в </a:t>
            </a:r>
            <a:r>
              <a:rPr b="0" lang="ru-RU" sz="28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Хамада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1175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175г- освободил Тебриз от Ахсунгуридов сломил сопротивление Сельджукских эмиров и усилил центральную власть. В этот период  Азербайджаном правил его младший брат  Гызыл Арс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5867280" y="1628640"/>
            <a:ext cx="3097440" cy="40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B1B6C3-6620-4E55-B3BB-4C74A73C10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Мухаммед Джахана Пехлеван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34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1175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34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1186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4321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дняя дипломатическая победа –Ахлатское соглашение 1185г с правителем Сирии Салахадином Юсиф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796000" y="1268280"/>
            <a:ext cx="2743200" cy="477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99A516-DE3B-4756-A6ED-CC160CBF49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Гызыл-Арслан(1186-1191гг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5565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ызыл-Арслан долгое время боролся с дворовой оппозицией и крупными феодальными группировками, которые стремились захватить 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престо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борьбе против Кызыл-Арслана объединился 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Тогрул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 I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формально носивший титул 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султа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 недовольные сельджукские эмиры а также жена Мухаммеда Джахана Пехлевана 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Инандж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 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7"/>
              </a:rPr>
              <a:t>Хату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а также племенники 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8"/>
              </a:rPr>
              <a:t>Гутлуг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9"/>
              </a:rPr>
              <a:t> 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10"/>
              </a:rPr>
              <a:t>Инандж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 Амир Амиран Ома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1"/>
          <a:stretch/>
        </p:blipFill>
        <p:spPr>
          <a:xfrm>
            <a:off x="6300720" y="1413000"/>
            <a:ext cx="230508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85E14E-C011-41C8-AE2F-A42F08C7EA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Гызыл-Арслан(1186-1191гг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0767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 1190 году Кызыл-Арслан победил в сражении и взял в плен Тогрула III и его сына Меликшаха. В 1191 году Кызыл Арслан с согласия Халифа Ан-Насира провозгласил себя султаном. Таким образом азербайджанские атабеки, независимо правившие Иракским и Сельджукским султанатом еще со времен Шамседдина Эльдениза, теперь захватили и формальную власть, то есть титул султа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148360" y="1341360"/>
            <a:ext cx="3671640" cy="460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33E7EA-0D43-45DB-A91F-7BEB6ED63B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Гызыл-Арслан(1186-1191гг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83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итическая стабильность вызванная политикой Кызыл-Арслана продолжалась недолго. Крупные феодалы и Инандж Хатун, недовольные усилением центральной власти устроили заговор и убили Кызыл-Арслана. Начались междоусобицы в результате власть захватил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бу Бак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(1191-12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148360" y="1700280"/>
            <a:ext cx="3671640" cy="439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D149C7-DA08-4CC1-A7D7-54F0020114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16:08:15Z</dcterms:created>
  <dc:creator>Seving Safaraliyeva </dc:creator>
  <dc:description/>
  <dc:language>en-US</dc:language>
  <cp:lastModifiedBy>Seving Safaraliyeva </cp:lastModifiedBy>
  <dcterms:modified xsi:type="dcterms:W3CDTF">2011-09-21T17:35:05Z</dcterms:modified>
  <cp:revision>8</cp:revision>
  <dc:subject/>
  <dc:title>Слайд 1</dc:title>
</cp:coreProperties>
</file>