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CD24-56BF-4E54-BCD5-2491DDDB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ED0-73C7-4DC7-BABC-8676A21D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551-83B1-48C5-AB20-8966080F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A09C-9A71-4038-A014-8CF355CE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BA1F-C5F7-4E98-84DC-622B3C06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AFC5-9093-472D-80F3-60DFD03F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553B-0C94-4528-9B79-51844724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7E9B-0809-45D0-9C32-375EC56A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3037-0FF5-4CE7-97C8-3008C8F1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80F3-5841-4658-99F3-168A2554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D205-CB50-44F8-814D-407DF335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9E3E-0159-4AEF-A85E-275C7183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22C7-37F6-4967-A34E-DEFCBAD2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02AA-6BC9-43D6-A717-3BD1B4FB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E234-1F8B-43AB-9670-2A32617B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3FE8-3298-4C42-840D-68B05E5C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4300-A2B7-42E7-957B-7E2FB303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7D70A-B5E1-4C41-8681-C1715A93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CD2F6-1A3E-4565-BCC1-603F5D7D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2F371-2B92-45EC-97E1-8E4CCCF2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BC66F-C9DE-4234-B6EF-88715196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25C7F-D645-4DFE-9227-581D0F64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1759-40ED-43FD-8269-DFA6FFC2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6E617-05DA-4259-B3D6-BA225CCB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0CCAC-E4C6-4190-831D-1FE91245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BA2AF-FFE2-41E3-9D1B-F8481369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1FB37-5F30-46AB-B76E-A62D7162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A36DB-9BA5-40CD-853D-9C96AC1A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F95FC-3786-449C-85CF-C5E4E02E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45F56-5D04-48C8-96D0-E4AE518F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629-2EF6-4038-839D-B48A2848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9ED-E20E-473E-9AAB-61A47E36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6544-68F4-4F2F-B8B2-CCDFAB48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336-4A8D-460D-9776-CEADBD9A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DFD-574B-498F-BB71-AB82FEB2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748-8732-44DD-8827-952C9857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BBE0-0FD7-4F2D-9828-77DE9B270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5DC7-3EAC-45D0-A408-03C89DF04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5C03-4137-413C-AE2C-2AB96B143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4724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Взгляните на рисунок: пар, вырывающийся из чайника невидимой струей, вскоре конденсируется – превращается в туман (скопление мельчайших капелек вод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Объясните что должно происходить с паром, чтобы мы наблюдали конденсацию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Ответ: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пар должен отдать теплоту окружающим телам. В результате он превратится в жидкость или туман, а окружающие его тела нагреются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Струя пара, вырывающаяся из кипящего чайника, обычно невидима. Однако вскоре пар конденсируется - превращается в мельчайшие капельки воды. Они образуют беловатое облако тумана."/>
          <p:cNvPicPr/>
          <p:nvPr/>
        </p:nvPicPr>
        <p:blipFill>
          <a:blip r:embed="rId1"/>
          <a:stretch/>
        </p:blipFill>
        <p:spPr>
          <a:xfrm>
            <a:off x="5024520" y="1371600"/>
            <a:ext cx="2977920" cy="4343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Documents and Settings\Администратор\Рабочий стол\для презентаций\ссылка.jpg"/>
          <p:cNvPicPr/>
          <p:nvPr/>
        </p:nvPicPr>
        <p:blipFill>
          <a:blip r:embed="rId2"/>
          <a:stretch/>
        </p:blipFill>
        <p:spPr>
          <a:xfrm>
            <a:off x="1122480" y="530280"/>
            <a:ext cx="111420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Таблиц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rcRect l="4335" t="6555" r="15935" b="34496"/>
          <a:stretch/>
        </p:blipFill>
        <p:spPr>
          <a:xfrm>
            <a:off x="0" y="1357200"/>
            <a:ext cx="8858160" cy="3500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 мере кипения масса жидкости уменьшается – говорят, что она "выкипает". Пар, покидающий сосуд, уносит с собой часть внутренней энерг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этому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для поддержания кипения жидкости необходимо постоянно передавать ей теплот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09480" y="457200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личество этой теплоты легко подсчитать по формуле: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ОК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853920" y="208080"/>
            <a:ext cx="1676520" cy="1212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183040" cy="1165320"/>
          </a:xfrm>
          <a:prstGeom prst="rect">
            <a:avLst/>
          </a:prstGeom>
          <a:ln w="57240">
            <a:solidFill>
              <a:srgbClr val="558ed5"/>
            </a:solidFill>
            <a:miter/>
          </a:ln>
        </p:spPr>
      </p:pic>
      <p:pic>
        <p:nvPicPr>
          <p:cNvPr id="158" name="TextBox 5" descr=""/>
          <p:cNvPicPr/>
          <p:nvPr/>
        </p:nvPicPr>
        <p:blipFill>
          <a:blip r:embed="rId3"/>
          <a:stretch/>
        </p:blipFill>
        <p:spPr>
          <a:xfrm>
            <a:off x="219240" y="1109520"/>
            <a:ext cx="5797440" cy="451080"/>
          </a:xfrm>
          <a:prstGeom prst="rect">
            <a:avLst/>
          </a:prstGeom>
          <a:ln w="0">
            <a:noFill/>
          </a:ln>
        </p:spPr>
      </p:pic>
      <p:cxnSp>
        <p:nvCxnSpPr>
          <p:cNvPr id="159" name="Прямая со стрелкой 7"/>
          <p:cNvCxnSpPr/>
          <p:nvPr/>
        </p:nvCxnSpPr>
        <p:spPr>
          <a:xfrm>
            <a:off x="1857240" y="1356840"/>
            <a:ext cx="643320" cy="2520"/>
          </a:xfrm>
          <a:prstGeom prst="straightConnector1">
            <a:avLst/>
          </a:prstGeom>
          <a:ln w="2844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160" name="Прямоугольник 8"/>
          <p:cNvSpPr/>
          <p:nvPr/>
        </p:nvSpPr>
        <p:spPr>
          <a:xfrm>
            <a:off x="285840" y="1571760"/>
            <a:ext cx="31338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цесс: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ИП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4"/>
          <a:srcRect l="0" t="0" r="-6895" b="0"/>
          <a:stretch/>
        </p:blipFill>
        <p:spPr>
          <a:xfrm>
            <a:off x="357120" y="4500720"/>
            <a:ext cx="2500560" cy="12715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0"/>
          <p:cNvSpPr/>
          <p:nvPr/>
        </p:nvSpPr>
        <p:spPr>
          <a:xfrm>
            <a:off x="285840" y="2000160"/>
            <a:ext cx="850104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кипение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зывается интенсивное (бурное) парообразование, происходящее по всему объему жидкости за счет возникновения и всплытия на поверхность многочисленных пузырей па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285840" y="3571920"/>
            <a:ext cx="371484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кипени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 при нормальном атмосферном давлении (рис.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108000" y="5715000"/>
            <a:ext cx="4176720" cy="105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ис. б), в) – при низком атмосферном давлении,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t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кипен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ниже табличн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4643280" y="3789360"/>
            <a:ext cx="41436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m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– это удельная теплота парообраз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диница измерения [ Дж / кг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1"/>
          <p:cNvSpPr/>
          <p:nvPr/>
        </p:nvSpPr>
        <p:spPr>
          <a:xfrm>
            <a:off x="3582000" y="428760"/>
            <a:ext cx="29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Таблиц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rcRect l="6316" t="7535" r="8454" b="64230"/>
          <a:stretch/>
        </p:blipFill>
        <p:spPr>
          <a:xfrm>
            <a:off x="142920" y="1428840"/>
            <a:ext cx="90010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8964" t="6924" r="7381" b="10455"/>
          <a:stretch/>
        </p:blipFill>
        <p:spPr>
          <a:xfrm>
            <a:off x="0" y="1500120"/>
            <a:ext cx="8845560" cy="5072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Documents and Settings\Администратор\Рабочий стол\для презентаций\ссылка.jpg"/>
          <p:cNvPicPr/>
          <p:nvPr/>
        </p:nvPicPr>
        <p:blipFill>
          <a:blip r:embed="rId2"/>
          <a:stretch/>
        </p:blipFill>
        <p:spPr>
          <a:xfrm>
            <a:off x="1122480" y="530280"/>
            <a:ext cx="111420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643040" y="214200"/>
            <a:ext cx="5257800" cy="3759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42667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18 с облаком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денса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бразовавшегося вследствие локального изменения давления при переходе звукового барь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§1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; §20;  Упр. 10(5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: № 112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8" descr="C:\Documents and Settings\Администратор\Рабочий стол\Картинки\E33CAX7L7GZCA0JU4GHCAGOEMK7CA91M88GCAN4J3ZDCAQXHLQHCAVYGWZGCAGFAQCVCAOAZXB6CASS2MP5CAJNPUZ5CAIEIQSFCAS1DFPCCAVWJT52CA9LT6Q8CAC0QTFYCARGU5JLCAP74YJB.jpg"/>
          <p:cNvPicPr/>
          <p:nvPr/>
        </p:nvPicPr>
        <p:blipFill>
          <a:blip r:embed="rId1"/>
          <a:stretch/>
        </p:blipFill>
        <p:spPr>
          <a:xfrm>
            <a:off x="762120" y="533520"/>
            <a:ext cx="749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85880" y="100008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ff"/>
                </a:solidFill>
                <a:latin typeface="Calibri"/>
              </a:rPr>
              <a:t>КИПЕНИ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57200" y="2571480"/>
            <a:ext cx="64008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УДЕЛЬНАЯ ТЕПЛОТА ПАРООБРАЗОВАНИЯ и КОНДЕНСА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3571920" y="4572000"/>
            <a:ext cx="167940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Прохождение процесс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5029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ссмотрим пузырек, возникающий около горячего дна сосуда. Увеличиваясь в объеме, пузырек увеличивает площадь своего соприкосновения с еще недостаточно прогревшейся водой. В результате воздух и пар внутри пузырька охлаждаются, их давление уменьшается, и тяжесть слоя воды "захлопывает" пузырек. В это время закипающая вода издает характерный шу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Шум создается растущими и захлопывающимися пузырьками. Постепенно вода прогревается, и давление пара внутри пузырьков уже не уменьшается. Пузырьки перестают захлопываться и начинают ра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 этого момента шум становится тише. По мере увеличения объема пузырьков возрастает архимедова сила, и они начинают всплывать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7" descr="Вблизи горячего дна сосуда зарождаются пузырьки пара. Пока жидкость еще недостаточно прогрета, они быстро захлопываются. По мере ее прогревания пузырьки будут увеличиваться и всплывать - жидкость закипит."/>
          <p:cNvPicPr/>
          <p:nvPr/>
        </p:nvPicPr>
        <p:blipFill>
          <a:blip r:embed="rId1"/>
          <a:stretch/>
        </p:blipFill>
        <p:spPr>
          <a:xfrm>
            <a:off x="5786280" y="928800"/>
            <a:ext cx="1930680" cy="2895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5715000" y="4071960"/>
            <a:ext cx="212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Кипение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кипение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называется интенсивное (бурное) парообразование, происходящее по всему объему жидкости за счет возникновения и всплытия на поверхность многочисленных пузырей па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3276720" y="4506840"/>
            <a:ext cx="14112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85840" y="3938760"/>
            <a:ext cx="794376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ыты показывают, что во время кипения температура жидкости и пара над ее поверхностью одинакова и остается постоянной до полного выкипания жидк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7" descr="До полного выкипания воды ее температура, а также температура образующегося пара остаются постоянными. Так происходит не только с водой, но и со всеми другими кипящими жидкостями."/>
          <p:cNvPicPr/>
          <p:nvPr/>
        </p:nvPicPr>
        <p:blipFill>
          <a:blip r:embed="rId1"/>
          <a:stretch/>
        </p:blipFill>
        <p:spPr>
          <a:xfrm>
            <a:off x="1571760" y="428760"/>
            <a:ext cx="49528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1" i="1" lang="ru-RU" sz="4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кипения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=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con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атмосферное давление не меняетс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р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ns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о вне зависимости от способа и скорости нагревания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аждая жидкость всегда кипит при строго определенной температуре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емпература кипения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– одна из характеристик ве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0" t="0" r="75028" b="0"/>
          <a:stretch/>
        </p:blipFill>
        <p:spPr>
          <a:xfrm>
            <a:off x="7812000" y="4653000"/>
            <a:ext cx="9525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</cp:lastModifiedBy>
  <dcterms:modified xsi:type="dcterms:W3CDTF">2009-10-22T04:14:38Z</dcterms:modified>
  <cp:revision>13</cp:revision>
  <dc:subject/>
  <dc:title>Слайд 1</dc:title>
</cp:coreProperties>
</file>