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5BF-9C29-4031-9109-EBC7291E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A2B-45F5-41AA-9DE2-6D516AAD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49C-36F9-46DA-A734-DBB4A5C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23B-B568-47FC-9290-C7BAF686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B70D-7754-4366-852F-94310B60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59D-C0CC-4049-967C-EE4F7F7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EE2B-778D-4CF7-9E8F-8C37DC63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8AE3-AB8D-4916-9391-5307145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5A39-560A-4C86-BEB6-D135F4D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A4E-3D8F-4FB3-9D22-32D88F9D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381F-2674-4B8E-8D96-CFF70E0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91E-48B4-4DA5-95A6-E44756E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1D6-7858-4F01-A804-5CF23BC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2738-2154-4E29-A702-DA6FC272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CEA-B5AD-4C16-9546-E0E63EF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2BA-F3F9-4900-A7CB-6BA71479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FAE-8A76-4B22-BE1C-ABB2E21C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A13F-8554-45A0-8B5B-6DBD1768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2D23-CFC3-4E5D-89FB-7CFF320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CDB7-9F6B-4FC0-B0F8-13FC5CC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AA12-65A2-40AD-A31A-F6DBF28C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2F0A-E03F-4C5B-8589-559F9DD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958-ECA6-474B-AD0F-84C8E0F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05F9-81BA-4B4E-BB7D-84AD05A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5496-3496-4BBB-842E-3C4FB54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5546-3187-4F27-BDBE-83EE520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B075-4950-47DA-9D42-113670A8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B1C3-7990-4D7E-A31A-EB7DFC8A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DD36-5458-48C1-8AA5-67F67D7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8CDE-915F-4AD0-8F64-0C1071A7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B15-6217-4C50-801A-FFA968BD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9F0-7360-47A3-8D99-F09CE10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B28-ED6B-4556-A331-2011183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7E0-F41B-440F-9904-2A53161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B3E-D8B6-426B-9C4C-208179D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CCE-68A0-4576-BE6A-8A137BA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3918-96BC-49E0-9718-829FCDDC2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340-82FD-4244-A119-0B08F8C92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EEF-2D28-4C22-A1E6-401F46E98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724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Взгляните на рисунок: пар, вырывающийся из чайника невидимой струей, вскоре конденсируется – превращается в туман (скопление мельчайших капелек во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Объясните что должно происходить с паром, чтобы мы наблюдали конденсаци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пар должен отдать теплоту окружающим телам. В результате он превратится в жидкость или туман, а окружающие его тела нагреются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Струя пара, вырывающаяся из кипящего чайника, обычно невидима. Однако вскоре пар конденсируется - превращается в мельчайшие капельки воды. Они образуют беловатое облако тумана."/>
          <p:cNvPicPr/>
          <p:nvPr/>
        </p:nvPicPr>
        <p:blipFill>
          <a:blip r:embed="rId1"/>
          <a:stretch/>
        </p:blipFill>
        <p:spPr>
          <a:xfrm>
            <a:off x="5024520" y="1371600"/>
            <a:ext cx="297792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Таблиц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4335" t="6555" r="15935" b="34496"/>
          <a:stretch/>
        </p:blipFill>
        <p:spPr>
          <a:xfrm>
            <a:off x="0" y="1357200"/>
            <a:ext cx="8858160" cy="350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мере кипения масса жидкости уменьшается – говорят, что она "выкипает". Пар, покидающий сосуд, уносит с собой часть внутренней энерг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ля поддержания кипения жидкости необходимо постоянно передавать ей тепло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09480" y="4572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ичество этой теплоты легко подсчитать по формуле: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О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167652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183040" cy="11653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58" name="TextBox 5" descr=""/>
          <p:cNvPicPr/>
          <p:nvPr/>
        </p:nvPicPr>
        <p:blipFill>
          <a:blip r:embed="rId3"/>
          <a:stretch/>
        </p:blipFill>
        <p:spPr>
          <a:xfrm>
            <a:off x="219240" y="1109520"/>
            <a:ext cx="5797440" cy="45108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7"/>
          <p:cNvCxnSpPr/>
          <p:nvPr/>
        </p:nvCxnSpPr>
        <p:spPr>
          <a:xfrm>
            <a:off x="1857240" y="1356840"/>
            <a:ext cx="643320" cy="252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60" name="Прямоугольник 8"/>
          <p:cNvSpPr/>
          <p:nvPr/>
        </p:nvSpPr>
        <p:spPr>
          <a:xfrm>
            <a:off x="285840" y="1571760"/>
            <a:ext cx="31338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П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rcRect l="0" t="0" r="-6895" b="0"/>
          <a:stretch/>
        </p:blipFill>
        <p:spPr>
          <a:xfrm>
            <a:off x="357120" y="4500720"/>
            <a:ext cx="2500560" cy="1271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0"/>
          <p:cNvSpPr/>
          <p:nvPr/>
        </p:nvSpPr>
        <p:spPr>
          <a:xfrm>
            <a:off x="285840" y="2000160"/>
            <a:ext cx="8501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ипени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5840" y="3571920"/>
            <a:ext cx="37148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при нормальном атмосферном давлении (рис.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08000" y="5715000"/>
            <a:ext cx="4176720" cy="10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. б), в) – при низком атмосферном давлении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ниже таблич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643280" y="3789360"/>
            <a:ext cx="41436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это удельная теплота парообраз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диница измерения [ Дж / кг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582000" y="428760"/>
            <a:ext cx="29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аб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rcRect l="6316" t="7535" r="8454" b="64230"/>
          <a:stretch/>
        </p:blipFill>
        <p:spPr>
          <a:xfrm>
            <a:off x="142920" y="1428840"/>
            <a:ext cx="9001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8964" t="6924" r="7381" b="10455"/>
          <a:stretch/>
        </p:blipFill>
        <p:spPr>
          <a:xfrm>
            <a:off x="0" y="1500120"/>
            <a:ext cx="8845560" cy="507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643040" y="214200"/>
            <a:ext cx="5257800" cy="375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18 с облако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денса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разовавшегося вследствие локального изменения давления при переходе звукового барь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§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; §20;  Упр. 10(5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: № 112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C:\Documents and Settings\Администратор\Рабочий стол\Картинки\E33CAX7L7GZCA0JU4GHCAGOEMK7CA91M88GCAN4J3ZDCAQXHLQHCAVYGWZGCAGFAQCVCAOAZXB6CASS2MP5CAJNPUZ5CAIEIQSFCAS1DFPCCAVWJT52CA9LT6Q8CAC0QTFYCARGU5JLCAP74YJB.jpg"/>
          <p:cNvPicPr/>
          <p:nvPr/>
        </p:nvPicPr>
        <p:blipFill>
          <a:blip r:embed="rId1"/>
          <a:stretch/>
        </p:blipFill>
        <p:spPr>
          <a:xfrm>
            <a:off x="762120" y="533520"/>
            <a:ext cx="749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Calibri"/>
              </a:rPr>
              <a:t>КИПЕ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57200" y="25714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УДЕЛЬНАЯ ТЕПЛОТА ПАРООБРАЗОВАНИЯ и КОНДЕНС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571920" y="4572000"/>
            <a:ext cx="16794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охождение процес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смотрим пузырек, возникающий около горячего дна сосуда. Увеличиваясь в объеме, пузырек увеличивает площадь своего соприкосновения с еще недостаточно прогревшейся водой. В результате воздух и пар внутри пузырька охлаждаются, их давление уменьшается, и тяжесть слоя воды "захлопывает" пузырек. В это время закипающая вода издает характерный шу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ум создается растущими и захлопывающимися пузырьками. Постепенно вода прогревается, и давление пара внутри пузырьков уже не уменьшается. Пузырьки перестают захлопываться и начинают р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 этого момента шум становится тише. По мере увеличения объема пузырьков возрастает архимедова сила, и они начинают всплывать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Вблизи горячего дна сосуда зарождаются пузырьки пара. Пока жидкость еще недостаточно прогрета, они быстро захлопываются. По мере ее прогревания пузырьки будут увеличиваться и всплывать - жидкость закипит."/>
          <p:cNvPicPr/>
          <p:nvPr/>
        </p:nvPicPr>
        <p:blipFill>
          <a:blip r:embed="rId1"/>
          <a:stretch/>
        </p:blipFill>
        <p:spPr>
          <a:xfrm>
            <a:off x="5786280" y="92880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715000" y="4071960"/>
            <a:ext cx="212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Кип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ипени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3276720" y="4506840"/>
            <a:ext cx="1411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840" y="3938760"/>
            <a:ext cx="794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ыты показывают, что во время кипения температура жидкости и пара над ее поверхностью одинакова и остается постоянной до полного выкипания жидк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До полного выкипания воды ее температура, а также температура образующегося пара остаются постоянными. Так происходит не только с водой, но и со всеми другими кипящими жидкостями."/>
          <p:cNvPicPr/>
          <p:nvPr/>
        </p:nvPicPr>
        <p:blipFill>
          <a:blip r:embed="rId1"/>
          <a:stretch/>
        </p:blipFill>
        <p:spPr>
          <a:xfrm>
            <a:off x="1571760" y="428760"/>
            <a:ext cx="4952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1" i="1" lang="ru-RU" sz="4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атмосферное давление не меняет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вне зависимости от способа и скорости нагревани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ая жидкость всегда кипит при строго определенной температур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мпература кипе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– одна из характеристик ве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0" r="75028" b="0"/>
          <a:stretch/>
        </p:blipFill>
        <p:spPr>
          <a:xfrm>
            <a:off x="7812000" y="4653000"/>
            <a:ext cx="95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09-10-22T04:14:38Z</dcterms:modified>
  <cp:revision>13</cp:revision>
  <dc:subject/>
  <dc:title>Слайд 1</dc:title>
</cp:coreProperties>
</file>