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894A-928E-45AD-9444-CE17A6E4B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D6BD-B7E6-4519-B02D-05FE656EC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459F-7D1A-43A6-A658-B1100CA6F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9907-AB5D-40DE-B350-71D01F0C6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60E90-12F9-46F2-8144-3C1D8BE12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B6A01-9F9C-4A30-96B3-D57D0A16A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BDFAE-38B9-49DA-B77B-BFD6A2D12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C1F3E-6B01-4FE7-868B-C2E1D7B4E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A7F26-A37D-418D-A166-B0D2BAA7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AFC3D-6501-47BC-9A2A-2135B96AE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4C167-9F8F-4749-8F61-5F7A46D6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0FB8-6A6A-4AA9-91A0-88CCBC9FD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5EA2E-83C7-471D-BAFC-02F58286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CF786-7930-45F7-9D51-B29BA43F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C84E5-A02A-4AA3-BE1B-77DE870F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268A8-7F14-40F0-873E-672172416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CCDE0-C131-46E8-AC80-3D0BEFB53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A8FCC-1F14-4144-868B-E00B1CD4B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E5803-85C7-4140-BFA9-F88DCD4D5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08E3E-9E66-4ACC-82AB-FCDE49E5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778B3-21A5-4924-930D-44CD50525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12542-1352-43E3-BE8B-698B08487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9D01-3447-4B21-9D07-845D865CC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24351-75EF-426C-8394-56F60B721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B9B18-8063-487A-AB66-304FF666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4650A-7425-4F2A-92AC-8D678F47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57706-90AD-46E6-9650-128CAFA6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7053E-2B7F-4F67-83FD-1C38D0B64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C658E-4939-41C0-A781-7985E1117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6CD8F-B3B9-4FFD-8E86-470AD2D08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83DA-94B3-47BD-8270-B15DBF20C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C24B-54A8-40DB-A504-CF11FEFDD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8718-B15F-41EC-803A-7E171AAD4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FE0E-F5F4-4790-9F63-58DE4549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E5A9-A645-42CE-BB44-FD6FEB6E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C6D8-9344-4737-B80C-346A9A99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AB188-56F0-4DE9-81DC-18117F119D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F6536-29A7-4C32-BE4C-1C58DFBFA2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86DD8-2F3E-49ED-A8F5-D14981F2B7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??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47246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Взгляните на рисунок: пар, вырывающийся из чайника невидимой струей, вскоре конденсируется – превращается в туман (скопление мельчайших капелек воды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Объясните что должно происходить с паром, чтобы мы наблюдали конденсацию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Ответ: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пар должен отдать теплоту окружающим телам. В результате он превратится в жидкость или туман, а окружающие его тела нагреются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7" descr="Струя пара, вырывающаяся из кипящего чайника, обычно невидима. Однако вскоре пар конденсируется - превращается в мельчайшие капельки воды. Они образуют беловатое облако тумана."/>
          <p:cNvPicPr/>
          <p:nvPr/>
        </p:nvPicPr>
        <p:blipFill>
          <a:blip r:embed="rId1"/>
          <a:stretch/>
        </p:blipFill>
        <p:spPr>
          <a:xfrm>
            <a:off x="5024520" y="1371600"/>
            <a:ext cx="2977920" cy="4343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C:\Documents and Settings\Администратор\Рабочий стол\для презентаций\ссылка.jpg"/>
          <p:cNvPicPr/>
          <p:nvPr/>
        </p:nvPicPr>
        <p:blipFill>
          <a:blip r:embed="rId2"/>
          <a:stretch/>
        </p:blipFill>
        <p:spPr>
          <a:xfrm>
            <a:off x="1122480" y="530280"/>
            <a:ext cx="1114200" cy="12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Таблиц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rcRect l="4335" t="6555" r="15935" b="34496"/>
          <a:stretch/>
        </p:blipFill>
        <p:spPr>
          <a:xfrm>
            <a:off x="0" y="1357200"/>
            <a:ext cx="8858160" cy="35006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о мере кипения масса жидкости уменьшается – говорят, что она "выкипает". Пар, покидающий сосуд, уносит с собой часть внутренней энерги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оэтому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для поддержания кипения жидкости необходимо постоянно передавать ей теплоту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609480" y="457200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личество этой теплоты легко подсчитать по формуле: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ОК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6" descr=""/>
          <p:cNvPicPr/>
          <p:nvPr/>
        </p:nvPicPr>
        <p:blipFill>
          <a:blip r:embed="rId1"/>
          <a:stretch/>
        </p:blipFill>
        <p:spPr>
          <a:xfrm>
            <a:off x="853920" y="208080"/>
            <a:ext cx="1676520" cy="1212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"/>
          <p:cNvPicPr/>
          <p:nvPr/>
        </p:nvPicPr>
        <p:blipFill>
          <a:blip r:embed="rId2"/>
          <a:stretch/>
        </p:blipFill>
        <p:spPr>
          <a:xfrm>
            <a:off x="6300720" y="260280"/>
            <a:ext cx="2183040" cy="1165320"/>
          </a:xfrm>
          <a:prstGeom prst="rect">
            <a:avLst/>
          </a:prstGeom>
          <a:ln w="57240">
            <a:solidFill>
              <a:srgbClr val="558ed5"/>
            </a:solidFill>
            <a:miter/>
          </a:ln>
        </p:spPr>
      </p:pic>
      <p:pic>
        <p:nvPicPr>
          <p:cNvPr id="158" name="TextBox 5" descr=""/>
          <p:cNvPicPr/>
          <p:nvPr/>
        </p:nvPicPr>
        <p:blipFill>
          <a:blip r:embed="rId3"/>
          <a:stretch/>
        </p:blipFill>
        <p:spPr>
          <a:xfrm>
            <a:off x="219240" y="1109520"/>
            <a:ext cx="5797440" cy="451080"/>
          </a:xfrm>
          <a:prstGeom prst="rect">
            <a:avLst/>
          </a:prstGeom>
          <a:ln w="0">
            <a:noFill/>
          </a:ln>
        </p:spPr>
      </p:pic>
      <p:cxnSp>
        <p:nvCxnSpPr>
          <p:cNvPr id="159" name="Прямая со стрелкой 7"/>
          <p:cNvCxnSpPr/>
          <p:nvPr/>
        </p:nvCxnSpPr>
        <p:spPr>
          <a:xfrm>
            <a:off x="1857240" y="1356840"/>
            <a:ext cx="643320" cy="2520"/>
          </a:xfrm>
          <a:prstGeom prst="straightConnector1">
            <a:avLst/>
          </a:prstGeom>
          <a:ln w="28440">
            <a:solidFill>
              <a:srgbClr val="17375e"/>
            </a:solidFill>
            <a:miter/>
            <a:tailEnd len="med" type="arrow" w="med"/>
          </a:ln>
        </p:spPr>
      </p:cxnSp>
      <p:sp>
        <p:nvSpPr>
          <p:cNvPr id="160" name="Прямоугольник 8"/>
          <p:cNvSpPr/>
          <p:nvPr/>
        </p:nvSpPr>
        <p:spPr>
          <a:xfrm>
            <a:off x="285840" y="1571760"/>
            <a:ext cx="313380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оцесс: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ИП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4"/>
          <a:srcRect l="0" t="0" r="-6895" b="0"/>
          <a:stretch/>
        </p:blipFill>
        <p:spPr>
          <a:xfrm>
            <a:off x="357120" y="4500720"/>
            <a:ext cx="2500560" cy="1271520"/>
          </a:xfrm>
          <a:prstGeom prst="rect">
            <a:avLst/>
          </a:prstGeom>
          <a:ln w="0">
            <a:noFill/>
          </a:ln>
        </p:spPr>
      </p:pic>
      <p:sp>
        <p:nvSpPr>
          <p:cNvPr id="162" name="TextBox 10"/>
          <p:cNvSpPr/>
          <p:nvPr/>
        </p:nvSpPr>
        <p:spPr>
          <a:xfrm>
            <a:off x="285840" y="2000160"/>
            <a:ext cx="8501040" cy="155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кипением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называется интенсивное (бурное) парообразование, происходящее по всему объему жидкости за счет возникновения и всплытия на поверхность многочисленных пузырей па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2"/>
          <p:cNvSpPr/>
          <p:nvPr/>
        </p:nvSpPr>
        <p:spPr>
          <a:xfrm>
            <a:off x="285840" y="3571920"/>
            <a:ext cx="3714840" cy="10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кипения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 при нормальном атмосферном давлении (рис.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3"/>
          <p:cNvSpPr/>
          <p:nvPr/>
        </p:nvSpPr>
        <p:spPr>
          <a:xfrm>
            <a:off x="108000" y="5715000"/>
            <a:ext cx="4176720" cy="10504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ис. б), в) – при низком атмосферном давлении,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t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кипения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 ниже табличной велич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4"/>
          <p:cNvSpPr/>
          <p:nvPr/>
        </p:nvSpPr>
        <p:spPr>
          <a:xfrm>
            <a:off x="4643280" y="3789360"/>
            <a:ext cx="4143600" cy="228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m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;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д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– это удельная теплота парообразова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единица измерения [ Дж / кг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Прямоугольник 1"/>
          <p:cNvSpPr/>
          <p:nvPr/>
        </p:nvSpPr>
        <p:spPr>
          <a:xfrm>
            <a:off x="3582000" y="428760"/>
            <a:ext cx="295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Таблиц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rcRect l="6316" t="7535" r="8454" b="64230"/>
          <a:stretch/>
        </p:blipFill>
        <p:spPr>
          <a:xfrm>
            <a:off x="142920" y="1428840"/>
            <a:ext cx="9001080" cy="3500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??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rcRect l="8964" t="6924" r="7381" b="10455"/>
          <a:stretch/>
        </p:blipFill>
        <p:spPr>
          <a:xfrm>
            <a:off x="0" y="1500120"/>
            <a:ext cx="8845560" cy="5072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C:\Documents and Settings\Администратор\Рабочий стол\для презентаций\ссылка.jpg"/>
          <p:cNvPicPr/>
          <p:nvPr/>
        </p:nvPicPr>
        <p:blipFill>
          <a:blip r:embed="rId2"/>
          <a:stretch/>
        </p:blipFill>
        <p:spPr>
          <a:xfrm>
            <a:off x="1122480" y="530280"/>
            <a:ext cx="1114200" cy="12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7" descr=""/>
          <p:cNvPicPr/>
          <p:nvPr/>
        </p:nvPicPr>
        <p:blipFill>
          <a:blip r:embed="rId1"/>
          <a:stretch/>
        </p:blipFill>
        <p:spPr>
          <a:xfrm>
            <a:off x="1643040" y="214200"/>
            <a:ext cx="5257800" cy="3759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426672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18 с облаком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нденсат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образовавшегося вследствие локального изменения давления при переходе звукового барье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§1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; §20;  Упр. 10(5)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Л: № 1123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Рисунок 8" descr="C:\Documents and Settings\Администратор\Рабочий стол\Картинки\E33CAX7L7GZCA0JU4GHCAGOEMK7CA91M88GCAN4J3ZDCAQXHLQHCAVYGWZGCAGFAQCVCAOAZXB6CASS2MP5CAJNPUZ5CAIEIQSFCAS1DFPCCAVWJT52CA9LT6Q8CAC0QTFYCARGU5JLCAP74YJB.jpg"/>
          <p:cNvPicPr/>
          <p:nvPr/>
        </p:nvPicPr>
        <p:blipFill>
          <a:blip r:embed="rId1"/>
          <a:stretch/>
        </p:blipFill>
        <p:spPr>
          <a:xfrm>
            <a:off x="762120" y="533520"/>
            <a:ext cx="7491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85880" y="1000080"/>
            <a:ext cx="7772400" cy="18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fffff"/>
                </a:solidFill>
                <a:latin typeface="Calibri"/>
              </a:rPr>
              <a:t>КИПЕНИЕ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57200" y="2571480"/>
            <a:ext cx="64008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alibri"/>
              </a:rPr>
              <a:t>УДЕЛЬНАЯ ТЕПЛОТА ПАРООБРАЗОВАНИЯ и КОНДЕНСАЦИ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2"/>
          <a:stretch/>
        </p:blipFill>
        <p:spPr>
          <a:xfrm>
            <a:off x="3571920" y="4572000"/>
            <a:ext cx="167940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Прохождение процесс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50292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Рассмотрим пузырек, возникающий около горячего дна сосуда. Увеличиваясь в объеме, пузырек увеличивает площадь своего соприкосновения с еще недостаточно прогревшейся водой. В результате воздух и пар внутри пузырька охлаждаются, их давление уменьшается, и тяжесть слоя воды "захлопывает" пузырек. В это время закипающая вода издает характерный шу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Шум создается растущими и захлопывающимися пузырьками. Постепенно вода прогревается, и давление пара внутри пузырьков уже не уменьшается. Пузырьки перестают захлопываться и начинают рас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 этого момента шум становится тише. По мере увеличения объема пузырьков возрастает архимедова сила, и они начинают всплывать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7" descr="Вблизи горячего дна сосуда зарождаются пузырьки пара. Пока жидкость еще недостаточно прогрета, они быстро захлопываются. По мере ее прогревания пузырьки будут увеличиваться и всплывать - жидкость закипит."/>
          <p:cNvPicPr/>
          <p:nvPr/>
        </p:nvPicPr>
        <p:blipFill>
          <a:blip r:embed="rId1"/>
          <a:stretch/>
        </p:blipFill>
        <p:spPr>
          <a:xfrm>
            <a:off x="5786280" y="928800"/>
            <a:ext cx="1930680" cy="28954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"/>
          <p:cNvPicPr/>
          <p:nvPr/>
        </p:nvPicPr>
        <p:blipFill>
          <a:blip r:embed="rId2"/>
          <a:stretch/>
        </p:blipFill>
        <p:spPr>
          <a:xfrm>
            <a:off x="5715000" y="4071960"/>
            <a:ext cx="212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Кипение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кипение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называется интенсивное (бурное) парообразование, происходящее по всему объему жидкости за счет возникновения и всплытия на поверхность многочисленных пузырей пар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3276720" y="4506840"/>
            <a:ext cx="141120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285840" y="3938760"/>
            <a:ext cx="794376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пыты показывают, что во время кипения температура жидкости и пара над ее поверхностью одинакова и остается постоянной до полного выкипания жидкост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7" descr="До полного выкипания воды ее температура, а также температура образующегося пара остаются постоянными. Так происходит не только с водой, но и со всеми другими кипящими жидкостями."/>
          <p:cNvPicPr/>
          <p:nvPr/>
        </p:nvPicPr>
        <p:blipFill>
          <a:blip r:embed="rId1"/>
          <a:stretch/>
        </p:blipFill>
        <p:spPr>
          <a:xfrm>
            <a:off x="1571760" y="428760"/>
            <a:ext cx="495288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1" i="1" lang="ru-RU" sz="44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кипения </a:t>
            </a:r>
            <a:r>
              <a:rPr b="1" i="1" lang="ru-RU" sz="4400" spc="-1" strike="noStrike">
                <a:solidFill>
                  <a:srgbClr val="000000"/>
                </a:solidFill>
                <a:latin typeface="Calibri"/>
                <a:ea typeface="Arial"/>
              </a:rPr>
              <a:t>= 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con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2876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атмосферное давление не меняется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р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onst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то вне зависимости от способа и скорости нагревания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каждая жидкость всегда кипит при строго определенной температуре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этому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температура кипения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 – одна из характеристик вещест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rcRect l="0" t="0" r="75028" b="0"/>
          <a:stretch/>
        </p:blipFill>
        <p:spPr>
          <a:xfrm>
            <a:off x="7812000" y="4653000"/>
            <a:ext cx="95256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</cp:lastModifiedBy>
  <dcterms:modified xsi:type="dcterms:W3CDTF">2009-10-22T04:14:38Z</dcterms:modified>
  <cp:revision>13</cp:revision>
  <dc:subject/>
  <dc:title>Слайд 1</dc:title>
</cp:coreProperties>
</file>