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797-F3AC-4ABA-A585-090275BC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8C3-D1C9-41C4-8624-716A0435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503-0228-46BD-8FC6-7FAC81E8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175-E62A-44AD-9D9F-4AEE4A2D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FAC-6A1C-4300-9259-FADF0415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E783-FDD9-4A42-8404-AA98BF7C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507F-2021-4BE4-B1F0-0E75D81F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4E08-82E0-4909-99DD-9EFEA053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8FE-B0E6-4E26-AC4A-31E367DD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0E1B-FE57-4332-A59D-E97D6B5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57F3-94B0-45B9-8019-4CF71D3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567-FFB3-4CEB-AE9E-815C24BE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5E66-5CFE-4059-AFF0-EA3EFF3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D67D-7024-41E0-976A-AB445A1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3ED4-492C-4200-967D-08AF0A3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BF67-4115-446C-8920-50E9C96E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B0C5-5539-4FE0-975C-656BC93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4B8-3BCC-4C3F-9E9B-28608A60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B2E-E8A0-4385-8351-A99A194A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4A60-63D2-4AC0-9D9D-62A82A3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81A-18DB-42AF-B9A1-6B155B2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DCC-EFB8-4BA4-B39B-80453E0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8D9-2B95-4F2C-96E4-0EE988D2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0BF-45C3-4E27-8CC0-D9957A3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6699"/>
              </a:gs>
              <a:gs pos="100000">
                <a:srgbClr val="005a8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462B-EC48-4535-B8FD-8B39963DE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254a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5682"/>
                  </a:gs>
                  <a:gs pos="100000">
                    <a:srgbClr val="00669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a86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5d8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68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4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a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6f9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6b9c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6090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60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394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254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25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254a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254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2B9-9756-48ED-8C54-4358D77BE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Arial"/>
              </a:rPr>
              <a:t>Дидактическая игра как средство повышения интереса к урокам русского языка и литературы</a:t>
            </a: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фронова Ольга Евген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У «Георгиевская средняя общеобразовательная 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c0c0"/>
                </a:solidFill>
                <a:latin typeface="Arial"/>
              </a:rPr>
              <a:t>Путешествие в страну «Глаголию»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маршрут – «Не спеши языком, торопись делом» (глаголы движе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маршрут – «Любишь кататься, люби и саночки возить» (глаголы чувств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маршрут – «Слово не воробей – вылетит, не поймаешь» (глаголы реч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маршрут – «Как аукнется, так и откликнется» (глаголы звуча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удо-дворник перед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ребущими руками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одну минуту сгреб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огромнейш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гроб. (снегоочиститель)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ть у нас в квартир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бот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го огром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обот.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бит робот чистоту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гудит, как лайн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ТУ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пылесо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Литературная гостина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7" name="Рисунок 3" descr="C:\Documents and Settings\Ольга\Мои документы\Мои результаты сканирования\2009-11 (ноя)\сканирование0001.jpg"/>
          <p:cNvPicPr/>
          <p:nvPr/>
        </p:nvPicPr>
        <p:blipFill>
          <a:blip r:embed="rId1"/>
          <a:stretch/>
        </p:blipFill>
        <p:spPr>
          <a:xfrm>
            <a:off x="292572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Создание кроссворда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249" name="Рисунок 8" descr="C:\Documents and Settings\Ольга\Мои документы\Мои результаты сканирования\2009-12 (дек)\сканирование0002.jpg"/>
          <p:cNvPicPr/>
          <p:nvPr/>
        </p:nvPicPr>
        <p:blipFill>
          <a:blip r:embed="rId1"/>
          <a:stretch/>
        </p:blipFill>
        <p:spPr>
          <a:xfrm>
            <a:off x="1187280" y="1012680"/>
            <a:ext cx="70567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правлены на создание поиска решения проблемы при самостоятельной работе учащихся, поскольку вся система методов при этом направлена на всестороннее развитие школьника, развитие его познавательных потребностей, на формирование интеллектуально активной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Контрол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троль над деятельностью учащихся на уроках русского языка и литературы самый разнообразный. Это и текущий контроль на уроках, который может происходить в виде тематического опроса, творческого диктанта, теста, самостоятельной работы. Составление проектов, презентаций, кроссвордов, игровых словариков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4"/>
          <p:cNvGraphicFramePr/>
          <p:nvPr/>
        </p:nvGraphicFramePr>
        <p:xfrm>
          <a:off x="457200" y="1413000"/>
          <a:ext cx="8229600" cy="47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13000"/>
                    <a:ext cx="822960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71880" y="1428840"/>
          <a:ext cx="3143160" cy="41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28840"/>
                    <a:ext cx="314316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Результат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3084480" cy="547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C:\Documents and Settings\Зоя\Мои документы\Мои рисунки\Ермола\Ермола 039.jpg"/>
          <p:cNvPicPr/>
          <p:nvPr/>
        </p:nvPicPr>
        <p:blipFill>
          <a:blip r:embed="rId2"/>
          <a:stretch/>
        </p:blipFill>
        <p:spPr>
          <a:xfrm>
            <a:off x="6153120" y="1413000"/>
            <a:ext cx="2882880" cy="5273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276720" y="1268280"/>
            <a:ext cx="2950920" cy="5400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на уроках дидактических игр и занимательного материала способствует созданию у учеников эмоционального настроя, вызывает положительное отношение к выполняемой работе, улучшает общую работоспособность, дает возможность повторить один и тот же материал разными спосо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833480" y="1463040"/>
            <a:ext cx="662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Для того, чтобы ученик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орошо, нужн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для того, чтобы он учил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отно, нужно, чтобы то, ч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ат ученика, было понятно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нимательно, и чтобы душе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лы его были в самых выгод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ловиях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c0c0"/>
                </a:solidFill>
                <a:latin typeface="Arial"/>
              </a:rPr>
              <a:t>Игровая технология способствует:</a:t>
            </a:r>
            <a:br>
              <a:rPr sz="4000"/>
            </a:b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ю положительной познавательной мотивации учения у школьник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ию интеллектуальных качеств учащегося в соответствии с его «зоной ближайшего развития»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имулирует развитие познавательных и творческих способностей школь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ть творческие, интеллектуальные способности учащихся  в процессе изучения русского языка и литературы через дидактическую иг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Arial"/>
              </a:rPr>
              <a:t>Задачи:</a:t>
            </a: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сформировать положительную мотивацию к изучению русского языка и литературы через дидактические иг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лючить учащихся в продуктивную мыслительную деятельность,   стимулируемую  игровыми ситуаци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ое воображение и способность открывать новые знания, находить новые способы  учебного дей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.С. Газман пишет: «Природа создала детские игры для всесторонней подготовки к жизни. Поэтому игра имеет генетическую связь со всеми видами деятельности человека и выступает как специфическая форма познания, труда, общения, искусства, спорта и т.д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ие игры - это разновидность игр с правилами, специально создаваемых педагогикой в целях обучения и воспитания детей. Игры направлены на решение конкретных задач обучения детей, но в то же время в них проявляется воспитательное и развивающее влияние игров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Diagram 6"/>
          <p:cNvGrpSpPr/>
          <p:nvPr/>
        </p:nvGrpSpPr>
        <p:grpSpPr>
          <a:xfrm>
            <a:off x="1716480" y="676440"/>
            <a:ext cx="5636520" cy="5361840"/>
            <a:chOff x="1716480" y="676440"/>
            <a:chExt cx="5636520" cy="5361840"/>
          </a:xfrm>
        </p:grpSpPr>
        <p:sp>
          <p:nvSpPr>
            <p:cNvPr id="223" name="_s1028"/>
            <p:cNvSpPr/>
            <p:nvPr/>
          </p:nvSpPr>
          <p:spPr>
            <a:xfrm>
              <a:off x="3048120" y="676440"/>
              <a:ext cx="2974680" cy="297648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1029"/>
            <p:cNvSpPr/>
            <p:nvPr/>
          </p:nvSpPr>
          <p:spPr>
            <a:xfrm rot="4320000">
              <a:off x="3989880" y="136260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1030"/>
            <p:cNvSpPr/>
            <p:nvPr/>
          </p:nvSpPr>
          <p:spPr>
            <a:xfrm rot="8640000">
              <a:off x="3630600" y="247176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1031"/>
            <p:cNvSpPr/>
            <p:nvPr/>
          </p:nvSpPr>
          <p:spPr>
            <a:xfrm rot="12960000">
              <a:off x="2463840" y="2471400"/>
              <a:ext cx="2975040" cy="297648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76480"/>
                <a:gd name="textAreaBottom" fmla="*/ 2976840 h 297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1032"/>
            <p:cNvSpPr/>
            <p:nvPr/>
          </p:nvSpPr>
          <p:spPr>
            <a:xfrm rot="17280000">
              <a:off x="2102760" y="1362960"/>
              <a:ext cx="2976480" cy="297504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_s1033"/>
            <p:cNvSpPr/>
            <p:nvPr/>
          </p:nvSpPr>
          <p:spPr>
            <a:xfrm>
              <a:off x="5299200" y="8049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Дидактическ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_s1034"/>
            <p:cNvSpPr/>
            <p:nvPr/>
          </p:nvSpPr>
          <p:spPr>
            <a:xfrm>
              <a:off x="6110280" y="329724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ая задач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1035"/>
            <p:cNvSpPr/>
            <p:nvPr/>
          </p:nvSpPr>
          <p:spPr>
            <a:xfrm>
              <a:off x="3990960" y="4838760"/>
              <a:ext cx="109368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гровые действ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1036"/>
            <p:cNvSpPr/>
            <p:nvPr/>
          </p:nvSpPr>
          <p:spPr>
            <a:xfrm>
              <a:off x="1870200" y="3298680"/>
              <a:ext cx="10936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авила игр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1037"/>
            <p:cNvSpPr/>
            <p:nvPr/>
          </p:nvSpPr>
          <p:spPr>
            <a:xfrm>
              <a:off x="2678040" y="806400"/>
              <a:ext cx="1094040" cy="10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езульт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3039480" y="2613600"/>
              <a:ext cx="285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Структура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дидактической игры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54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Виды дидактической игры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68360" y="126828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утеше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ли игры-экскурс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348000" y="2276640"/>
            <a:ext cx="2089080" cy="165708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предпо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3708360" y="458136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«Кто больше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6659640" y="4292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емаф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6659640" y="162864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Игры-зага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611280" y="4149720"/>
            <a:ext cx="2089080" cy="1657440"/>
          </a:xfrm>
          <a:prstGeom prst="flowChartAlternate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 "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Я нач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а ты продолжи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59:14Z</dcterms:created>
  <dc:creator>Анатолий</dc:creator>
  <dc:description/>
  <dc:language>en-US</dc:language>
  <cp:lastModifiedBy>Ольга</cp:lastModifiedBy>
  <dcterms:modified xsi:type="dcterms:W3CDTF">2010-04-28T17:30:03Z</dcterms:modified>
  <cp:revision>7</cp:revision>
  <dc:subject/>
  <dc:title>Дидактическая игра как средство повышения интереса к урокам русского языка и литературы </dc:title>
</cp:coreProperties>
</file>