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0273-C988-41AC-94D3-C6621BC9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B4E3-CE2B-4F5F-ADB3-1E1C3C99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E6BD-E9DF-49E8-93CE-147A8876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FB2D-A827-4910-AEC5-22654994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6C84-DDFF-4028-B1A3-31020850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85F4-1D99-45D0-994E-AA8469C4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0F79-A708-4AEC-BBA5-343C835A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8C33-B30B-4328-9C95-30FFC02D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C4CB-4873-4018-B587-D05785CD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E449-01BB-4150-8240-FE9F2B5F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8008-5437-459A-9ADF-25972616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9EC8-0981-42CD-8CE4-DB5D4720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AF7E-8EBA-4613-AB3A-8EBB24AA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258A-9B7F-4AC5-920F-97362C69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CE9D-3FD2-4528-8BBB-747AE88A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EC23-1342-4ED5-8C30-3B5704E0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FFE0-96B8-4EE6-AB40-ACB98B9F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EEDB-FE71-40E3-8770-B3FAEBC7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31B9-EB53-4B6D-8C60-8F4BC480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8936-5E5A-4B10-B40F-3C1743F7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6388-553D-4F9B-B933-D1814308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A1F1-2BCF-4265-A530-4977312D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40F3-94C0-4C19-A49F-3B7548E9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E2F5-0C56-42B2-A53F-E87539C9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6699"/>
              </a:gs>
              <a:gs pos="100000">
                <a:srgbClr val="005a8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544B-1B91-4E7F-9273-0BD30389C6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3DF5-32C2-48F7-ADB8-CA252BF2F8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c0c0"/>
                </a:solidFill>
                <a:latin typeface="Arial"/>
              </a:rPr>
              <a:t>Дидактическая игра как средство повышения интереса к урокам русского языка и литературы</a:t>
            </a:r>
            <a:r>
              <a:rPr b="0" lang="en-US" sz="48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фронова Ольга Евгень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читель русского языка и литерату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У «Георгиевская средняя общеобразовательная школ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Путешествие в страну «Глаголию»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маршрут – «Не спеши языком, торопись делом» (глаголы движени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маршрут – «Любишь кататься, люби и саночки возить» (глаголы чувства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маршрут – «Слово не воробей – вылетит, не поймаешь» (глаголы речи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маршрут – «Как аукнется, так и откликнется» (глаголы звучания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удо-дворник перед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ми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гребущими руками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одну минуту сгреб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огромнейш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гроб. (снегоочиститель)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ть у нас в квартир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бот,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него огром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обот.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юбит робот чистоту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гудит, как лайне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ТУ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пылесо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Литературная гостиная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47" name="Рисунок 3" descr="C:\Documents and Settings\Ольга\Мои документы\Мои результаты сканирования\2009-11 (ноя)\сканирование0001.jpg"/>
          <p:cNvPicPr/>
          <p:nvPr/>
        </p:nvPicPr>
        <p:blipFill>
          <a:blip r:embed="rId1"/>
          <a:stretch/>
        </p:blipFill>
        <p:spPr>
          <a:xfrm>
            <a:off x="2925720" y="1600200"/>
            <a:ext cx="3290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Создание кроссворда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49" name="Рисунок 8" descr="C:\Documents and Settings\Ольга\Мои документы\Мои результаты сканирования\2009-12 (дек)\сканирование0002.jpg"/>
          <p:cNvPicPr/>
          <p:nvPr/>
        </p:nvPicPr>
        <p:blipFill>
          <a:blip r:embed="rId1"/>
          <a:stretch/>
        </p:blipFill>
        <p:spPr>
          <a:xfrm>
            <a:off x="1187280" y="1012680"/>
            <a:ext cx="70567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Методы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правлены на создание поиска решения проблемы при самостоятельной работе учащихся, поскольку вся система методов при этом направлена на всестороннее развитие школьника, развитие его познавательных потребностей, на формирование интеллектуально активной лич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Контроль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троль над деятельностью учащихся на уроках русского языка и литературы самый разнообразный. Это и текущий контроль на уроках, который может происходить в виде тематического опроса, творческого диктанта, теста, самостоятельной работы. Составление проектов, презентаций, кроссвордов, игровых словариков и т.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Object 4"/>
          <p:cNvGraphicFramePr/>
          <p:nvPr/>
        </p:nvGraphicFramePr>
        <p:xfrm>
          <a:off x="457200" y="1413000"/>
          <a:ext cx="8229600" cy="47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13000"/>
                    <a:ext cx="8229600" cy="47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Результат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Результат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71880" y="1428840"/>
          <a:ext cx="3143160" cy="416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1880" y="1428840"/>
                    <a:ext cx="314316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Результат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3084480" cy="5472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C:\Documents and Settings\Зоя\Мои документы\Мои рисунки\Ермола\Ермола 039.jpg"/>
          <p:cNvPicPr/>
          <p:nvPr/>
        </p:nvPicPr>
        <p:blipFill>
          <a:blip r:embed="rId2"/>
          <a:stretch/>
        </p:blipFill>
        <p:spPr>
          <a:xfrm>
            <a:off x="6153120" y="1413000"/>
            <a:ext cx="2882880" cy="5273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3276720" y="1268280"/>
            <a:ext cx="2950920" cy="54007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3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пользование на уроках дидактических игр и занимательного материала способствует созданию у учеников эмоционального настроя, вызывает положительное отношение к выполняемой работе, улучшает общую работоспособность, дает возможность повторить один и тот же материал разными способ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1833480" y="1463040"/>
            <a:ext cx="6626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Для того, чтобы ученик учил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хорошо, нужно, чтобы он учил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хотно, для того, чтобы он учил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хотно, нужно, чтобы то, че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чат ученика, было понятно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нимательно, и чтобы душе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илы его были в самых выгод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словиях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.Н.Толст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Игровая технология способствует:</a:t>
            </a:r>
            <a:br>
              <a:rPr sz="4000"/>
            </a:b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рмированию положительной познавательной мотивации учения у школьников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тию интеллектуальных качеств учащегося в соответствии с его «зоной ближайшего развития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имулирует развитие познавательных и творческих способностей школьн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рмировать творческие, интеллектуальные способности учащихся  в процессе изучения русского языка и литературы через дидактическую игр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Arial"/>
              </a:rPr>
              <a:t>Задачи:</a:t>
            </a: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сформировать положительную мотивацию к изучению русского языка и литературы через дидактические иг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ключить учащихся в продуктивную мыслительную деятельность,   стимулируемую  игровыми ситуация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развивать творческое воображение и способность открывать новые знания, находить новые способы  учебного дей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.С. Газман пишет: «Природа создала детские игры для всесторонней подготовки к жизни. Поэтому игра имеет генетическую связь со всеми видами деятельности человека и выступает как специфическая форма познания, труда, общения, искусства, спорта и т.д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идактические игры - это разновидность игр с правилами, специально создаваемых педагогикой в целях обучения и воспитания детей. Игры направлены на решение конкретных задач обучения детей, но в то же время в них проявляется воспитательное и развивающее влияние игровой деятель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Diagram 6"/>
          <p:cNvGrpSpPr/>
          <p:nvPr/>
        </p:nvGrpSpPr>
        <p:grpSpPr>
          <a:xfrm>
            <a:off x="1716480" y="676440"/>
            <a:ext cx="5636520" cy="5361840"/>
            <a:chOff x="1716480" y="676440"/>
            <a:chExt cx="5636520" cy="5361840"/>
          </a:xfrm>
        </p:grpSpPr>
        <p:sp>
          <p:nvSpPr>
            <p:cNvPr id="223" name="_s1028"/>
            <p:cNvSpPr/>
            <p:nvPr/>
          </p:nvSpPr>
          <p:spPr>
            <a:xfrm>
              <a:off x="3048120" y="676440"/>
              <a:ext cx="2974680" cy="2976480"/>
            </a:xfrm>
            <a:custGeom>
              <a:avLst/>
              <a:gdLst>
                <a:gd name="textAreaLeft" fmla="*/ 0 w 2974680"/>
                <a:gd name="textAreaRight" fmla="*/ 2975040 w 2974680"/>
                <a:gd name="textAreaTop" fmla="*/ 0 h 2976480"/>
                <a:gd name="textAreaBottom" fmla="*/ 2976840 h 297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_s1029"/>
            <p:cNvSpPr/>
            <p:nvPr/>
          </p:nvSpPr>
          <p:spPr>
            <a:xfrm rot="4320000">
              <a:off x="3989880" y="1362600"/>
              <a:ext cx="2976480" cy="2975040"/>
            </a:xfrm>
            <a:custGeom>
              <a:avLst/>
              <a:gdLst>
                <a:gd name="textAreaLeft" fmla="*/ 0 w 2976480"/>
                <a:gd name="textAreaRight" fmla="*/ 2976840 w 2976480"/>
                <a:gd name="textAreaTop" fmla="*/ 0 h 2975040"/>
                <a:gd name="textAreaBottom" fmla="*/ 2975400 h 297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1030"/>
            <p:cNvSpPr/>
            <p:nvPr/>
          </p:nvSpPr>
          <p:spPr>
            <a:xfrm rot="8640000">
              <a:off x="3630600" y="2471760"/>
              <a:ext cx="2975040" cy="2976480"/>
            </a:xfrm>
            <a:custGeom>
              <a:avLst/>
              <a:gdLst>
                <a:gd name="textAreaLeft" fmla="*/ 0 w 2975040"/>
                <a:gd name="textAreaRight" fmla="*/ 2975400 w 2975040"/>
                <a:gd name="textAreaTop" fmla="*/ 0 h 2976480"/>
                <a:gd name="textAreaBottom" fmla="*/ 2976840 h 297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_s1031"/>
            <p:cNvSpPr/>
            <p:nvPr/>
          </p:nvSpPr>
          <p:spPr>
            <a:xfrm rot="12960000">
              <a:off x="2463840" y="2471400"/>
              <a:ext cx="2975040" cy="2976480"/>
            </a:xfrm>
            <a:custGeom>
              <a:avLst/>
              <a:gdLst>
                <a:gd name="textAreaLeft" fmla="*/ 0 w 2975040"/>
                <a:gd name="textAreaRight" fmla="*/ 2975400 w 2975040"/>
                <a:gd name="textAreaTop" fmla="*/ 0 h 2976480"/>
                <a:gd name="textAreaBottom" fmla="*/ 2976840 h 297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1032"/>
            <p:cNvSpPr/>
            <p:nvPr/>
          </p:nvSpPr>
          <p:spPr>
            <a:xfrm rot="17280000">
              <a:off x="2102760" y="1362960"/>
              <a:ext cx="2976480" cy="2975040"/>
            </a:xfrm>
            <a:custGeom>
              <a:avLst/>
              <a:gdLst>
                <a:gd name="textAreaLeft" fmla="*/ 0 w 2976480"/>
                <a:gd name="textAreaRight" fmla="*/ 2976840 w 2976480"/>
                <a:gd name="textAreaTop" fmla="*/ 0 h 2975040"/>
                <a:gd name="textAreaBottom" fmla="*/ 2975400 h 297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_s1033"/>
            <p:cNvSpPr/>
            <p:nvPr/>
          </p:nvSpPr>
          <p:spPr>
            <a:xfrm>
              <a:off x="5299200" y="804960"/>
              <a:ext cx="109368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Дидактическая задач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_s1034"/>
            <p:cNvSpPr/>
            <p:nvPr/>
          </p:nvSpPr>
          <p:spPr>
            <a:xfrm>
              <a:off x="6110280" y="3297240"/>
              <a:ext cx="109368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Игровая задач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_s1035"/>
            <p:cNvSpPr/>
            <p:nvPr/>
          </p:nvSpPr>
          <p:spPr>
            <a:xfrm>
              <a:off x="3990960" y="4838760"/>
              <a:ext cx="109368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Игровые действ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_s1036"/>
            <p:cNvSpPr/>
            <p:nvPr/>
          </p:nvSpPr>
          <p:spPr>
            <a:xfrm>
              <a:off x="1870200" y="3298680"/>
              <a:ext cx="1093680" cy="10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Правила игр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_s1037"/>
            <p:cNvSpPr/>
            <p:nvPr/>
          </p:nvSpPr>
          <p:spPr>
            <a:xfrm>
              <a:off x="2678040" y="806400"/>
              <a:ext cx="109404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Результа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19"/>
            <p:cNvSpPr/>
            <p:nvPr/>
          </p:nvSpPr>
          <p:spPr>
            <a:xfrm>
              <a:off x="3039480" y="2613600"/>
              <a:ext cx="2855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Структур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дидактической игры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Виды дидактической игры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468360" y="1268280"/>
            <a:ext cx="2089080" cy="1657440"/>
          </a:xfrm>
          <a:prstGeom prst="flowChartAlternateProcess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гры-путеше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ли игры-экскурс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3348000" y="2276640"/>
            <a:ext cx="2089080" cy="1657080"/>
          </a:xfrm>
          <a:prstGeom prst="flowChartAlternateProcess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гры-предполо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3708360" y="4581360"/>
            <a:ext cx="2089080" cy="1657440"/>
          </a:xfrm>
          <a:prstGeom prst="flowChartAlternateProcess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гра «Кто больше?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6659640" y="4292640"/>
            <a:ext cx="2089080" cy="1657440"/>
          </a:xfrm>
          <a:prstGeom prst="flowChartAlternateProcess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Семафо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10"/>
          <p:cNvSpPr/>
          <p:nvPr/>
        </p:nvSpPr>
        <p:spPr>
          <a:xfrm>
            <a:off x="6659640" y="1628640"/>
            <a:ext cx="2089080" cy="1657440"/>
          </a:xfrm>
          <a:prstGeom prst="flowChartAlternateProcess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гры-загад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12"/>
          <p:cNvSpPr/>
          <p:nvPr/>
        </p:nvSpPr>
        <p:spPr>
          <a:xfrm>
            <a:off x="611280" y="4149720"/>
            <a:ext cx="2089080" cy="1657440"/>
          </a:xfrm>
          <a:prstGeom prst="flowChartAlternateProcess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гра "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Я начн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а ты продолжи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6:59:14Z</dcterms:created>
  <dc:creator>Анатолий</dc:creator>
  <dc:description/>
  <dc:language>en-US</dc:language>
  <cp:lastModifiedBy>Ольга</cp:lastModifiedBy>
  <dcterms:modified xsi:type="dcterms:W3CDTF">2010-04-28T17:30:03Z</dcterms:modified>
  <cp:revision>7</cp:revision>
  <dc:subject/>
  <dc:title>Дидактическая игра как средство повышения интереса к урокам русского языка и литературы </dc:title>
</cp:coreProperties>
</file>