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A111-76CB-4C1D-AA8C-0E0DC6B1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FBDE-3D46-4DA4-8061-9F90E60E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BF0D-1D62-401A-92A0-CD673855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33F0-EB62-4382-8AB2-B5A931442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D897-284E-4821-80B0-56149E0B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2018-FAA0-4699-854A-C0859826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61AF-8F26-4065-8370-6D4C8DEA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D157-1B41-441B-ADD7-8DFA6C9F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0012-3C3F-4E4E-A639-1874A0C8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EA99-03FE-4573-9313-909B61ED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036B-F78F-4554-BDAE-3E6B3763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0933-1501-431F-9665-4E6D641D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11E0-AD3A-481E-9CA0-C22A8E61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2337-CC56-406E-AFC4-F85112B9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7428-66E0-4E8C-A96E-26E3C8CB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0E83-C87C-4A48-9E3B-3E8DD800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9A33-8EE8-4767-BD51-194F7E547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C6E6-0804-4179-8808-A84410A4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0D1C-45FA-4D6A-8D4F-68F011D4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405D-99DB-49AF-9621-487480B1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F2FA-E016-4ACA-B85A-EA4F0BB5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918D-483D-433A-A1C4-E9426BCE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D3F1-7D28-493D-AC34-A1F6B5CA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6093-408D-46B7-90A4-4440CA59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6699"/>
              </a:gs>
              <a:gs pos="100000">
                <a:srgbClr val="005a8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5682"/>
                  </a:gs>
                  <a:gs pos="100000">
                    <a:srgbClr val="0066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6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4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6f9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929A-5439-4CE6-B125-73A70B7F01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5682"/>
                  </a:gs>
                  <a:gs pos="100000">
                    <a:srgbClr val="0066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6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4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6f9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9695-F950-4806-94F4-D892D3042A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c0c0"/>
                </a:solidFill>
                <a:latin typeface="Arial"/>
              </a:rPr>
              <a:t>Дидактическая игра как средство повышения интереса к урокам русского языка и литературы</a:t>
            </a:r>
            <a:r>
              <a:rPr b="0" lang="en-US" sz="48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афронова Ольга Евгень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читель русского языка и литератур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У «Георгиевская средняя общеобразовательная школ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c0c0"/>
                </a:solidFill>
                <a:latin typeface="Arial"/>
              </a:rPr>
              <a:t>Путешествие в страну «Глаголию»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маршрут – «Не спеши языком, торопись делом» (глаголы движения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маршрут – «Любишь кататься, люби и саночки возить» (глаголы чувства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маршрут – «Слово не воробей – вылетит, не поймаешь» (глаголы речи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маршрут – «Как аукнется, так и откликнется» (глаголы звучания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удо-дворник перед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ми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гребущими руками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 одну минуту сгреб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огромнейш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гроб. (снегоочиститель)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сть у нас в квартир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обот,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него огром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обот.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юбит робот чистоту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гудит, как лайне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ТУ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пылесо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Литературная гостиная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47" name="Рисунок 3" descr="C:\Documents and Settings\Ольга\Мои документы\Мои результаты сканирования\2009-11 (ноя)\сканирование0001.jpg"/>
          <p:cNvPicPr/>
          <p:nvPr/>
        </p:nvPicPr>
        <p:blipFill>
          <a:blip r:embed="rId1"/>
          <a:stretch/>
        </p:blipFill>
        <p:spPr>
          <a:xfrm>
            <a:off x="2925720" y="1600200"/>
            <a:ext cx="3290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Создание кроссворда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49" name="Рисунок 8" descr="C:\Documents and Settings\Ольга\Мои документы\Мои результаты сканирования\2009-12 (дек)\сканирование0002.jpg"/>
          <p:cNvPicPr/>
          <p:nvPr/>
        </p:nvPicPr>
        <p:blipFill>
          <a:blip r:embed="rId1"/>
          <a:stretch/>
        </p:blipFill>
        <p:spPr>
          <a:xfrm>
            <a:off x="1187280" y="1012680"/>
            <a:ext cx="705672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Методы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правлены на создание поиска решения проблемы при самостоятельной работе учащихся, поскольку вся система методов при этом направлена на всестороннее развитие школьника, развитие его познавательных потребностей, на формирование интеллектуально активной лич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Контроль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нтроль над деятельностью учащихся на уроках русского языка и литературы самый разнообразный. Это и текущий контроль на уроках, который может происходить в виде тематического опроса, творческого диктанта, теста, самостоятельной работы. Составление проектов, презентаций, кроссвордов, игровых словариков и т.д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Object 4"/>
          <p:cNvGraphicFramePr/>
          <p:nvPr/>
        </p:nvGraphicFramePr>
        <p:xfrm>
          <a:off x="457200" y="1413000"/>
          <a:ext cx="8229600" cy="47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13000"/>
                    <a:ext cx="8229600" cy="47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Результат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Результат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graphicFrame>
        <p:nvGraphicFramePr>
          <p:cNvPr id="258" name="Object 3"/>
          <p:cNvGraphicFramePr/>
          <p:nvPr/>
        </p:nvGraphicFramePr>
        <p:xfrm>
          <a:off x="3071880" y="1428840"/>
          <a:ext cx="3143160" cy="416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1880" y="1428840"/>
                    <a:ext cx="3143160" cy="41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Результат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3084480" cy="5472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C:\Documents and Settings\Зоя\Мои документы\Мои рисунки\Ермола\Ермола 039.jpg"/>
          <p:cNvPicPr/>
          <p:nvPr/>
        </p:nvPicPr>
        <p:blipFill>
          <a:blip r:embed="rId2"/>
          <a:stretch/>
        </p:blipFill>
        <p:spPr>
          <a:xfrm>
            <a:off x="6153120" y="1413000"/>
            <a:ext cx="2882880" cy="5273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3276720" y="1268280"/>
            <a:ext cx="2950920" cy="540072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3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спользование на уроках дидактических игр и занимательного материала способствует созданию у учеников эмоционального настроя, вызывает положительное отношение к выполняемой работе, улучшает общую работоспособность, дает возможность повторить один и тот же материал разными способа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1833480" y="1463040"/>
            <a:ext cx="6626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Для того, чтобы ученик учил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хорошо, нужно, чтобы он учил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хотно, для того, чтобы он учил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хотно, нужно, чтобы то, че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чат ученика, было понятно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нимательно, и чтобы душе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илы его были в самых выгод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словиях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Л.Н.Толст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Игровая технология способствует:</a:t>
            </a:r>
            <a:br>
              <a:rPr sz="4000"/>
            </a:b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ормированию положительной познавательной мотивации учения у школьников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итию интеллектуальных качеств учащегося в соответствии с его «зоной ближайшего развития»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имулирует развитие познавательных и творческих способностей школьни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ормировать творческие, интеллектуальные способности учащихся  в процессе изучения русского языка и литературы через дидактическую игр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Arial"/>
              </a:rPr>
              <a:t>Задачи:</a:t>
            </a: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сформировать положительную мотивацию к изучению русского языка и литературы через дидактические игр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ключить учащихся в продуктивную мыслительную деятельность,   стимулируемую  игровыми ситуация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развивать творческое воображение и способность открывать новые знания, находить новые способы  учебного действ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.С. Газман пишет: «Природа создала детские игры для всесторонней подготовки к жизни. Поэтому игра имеет генетическую связь со всеми видами деятельности человека и выступает как специфическая форма познания, труда, общения, искусства, спорта и т.д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идактические игры - это разновидность игр с правилами, специально создаваемых педагогикой в целях обучения и воспитания детей. Игры направлены на решение конкретных задач обучения детей, но в то же время в них проявляется воспитательное и развивающее влияние игровой деятель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Diagram 6"/>
          <p:cNvGrpSpPr/>
          <p:nvPr/>
        </p:nvGrpSpPr>
        <p:grpSpPr>
          <a:xfrm>
            <a:off x="1716480" y="676440"/>
            <a:ext cx="5636520" cy="5361840"/>
            <a:chOff x="1716480" y="676440"/>
            <a:chExt cx="5636520" cy="5361840"/>
          </a:xfrm>
        </p:grpSpPr>
        <p:sp>
          <p:nvSpPr>
            <p:cNvPr id="223" name="_s1028"/>
            <p:cNvSpPr/>
            <p:nvPr/>
          </p:nvSpPr>
          <p:spPr>
            <a:xfrm>
              <a:off x="3048120" y="676440"/>
              <a:ext cx="2974680" cy="2976480"/>
            </a:xfrm>
            <a:custGeom>
              <a:avLst/>
              <a:gdLst>
                <a:gd name="textAreaLeft" fmla="*/ 0 w 2974680"/>
                <a:gd name="textAreaRight" fmla="*/ 2975040 w 2974680"/>
                <a:gd name="textAreaTop" fmla="*/ 0 h 2976480"/>
                <a:gd name="textAreaBottom" fmla="*/ 2976840 h 297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_s1029"/>
            <p:cNvSpPr/>
            <p:nvPr/>
          </p:nvSpPr>
          <p:spPr>
            <a:xfrm rot="4320000">
              <a:off x="3989880" y="1362600"/>
              <a:ext cx="2976480" cy="2975040"/>
            </a:xfrm>
            <a:custGeom>
              <a:avLst/>
              <a:gdLst>
                <a:gd name="textAreaLeft" fmla="*/ 0 w 2976480"/>
                <a:gd name="textAreaRight" fmla="*/ 2976840 w 2976480"/>
                <a:gd name="textAreaTop" fmla="*/ 0 h 2975040"/>
                <a:gd name="textAreaBottom" fmla="*/ 2975400 h 297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1030"/>
            <p:cNvSpPr/>
            <p:nvPr/>
          </p:nvSpPr>
          <p:spPr>
            <a:xfrm rot="8640000">
              <a:off x="3630600" y="2471760"/>
              <a:ext cx="2975040" cy="2976480"/>
            </a:xfrm>
            <a:custGeom>
              <a:avLst/>
              <a:gdLst>
                <a:gd name="textAreaLeft" fmla="*/ 0 w 2975040"/>
                <a:gd name="textAreaRight" fmla="*/ 2975400 w 2975040"/>
                <a:gd name="textAreaTop" fmla="*/ 0 h 2976480"/>
                <a:gd name="textAreaBottom" fmla="*/ 2976840 h 297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_s1031"/>
            <p:cNvSpPr/>
            <p:nvPr/>
          </p:nvSpPr>
          <p:spPr>
            <a:xfrm rot="12960000">
              <a:off x="2463840" y="2471400"/>
              <a:ext cx="2975040" cy="2976480"/>
            </a:xfrm>
            <a:custGeom>
              <a:avLst/>
              <a:gdLst>
                <a:gd name="textAreaLeft" fmla="*/ 0 w 2975040"/>
                <a:gd name="textAreaRight" fmla="*/ 2975400 w 2975040"/>
                <a:gd name="textAreaTop" fmla="*/ 0 h 2976480"/>
                <a:gd name="textAreaBottom" fmla="*/ 2976840 h 297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1032"/>
            <p:cNvSpPr/>
            <p:nvPr/>
          </p:nvSpPr>
          <p:spPr>
            <a:xfrm rot="17280000">
              <a:off x="2102760" y="1362960"/>
              <a:ext cx="2976480" cy="2975040"/>
            </a:xfrm>
            <a:custGeom>
              <a:avLst/>
              <a:gdLst>
                <a:gd name="textAreaLeft" fmla="*/ 0 w 2976480"/>
                <a:gd name="textAreaRight" fmla="*/ 2976840 w 2976480"/>
                <a:gd name="textAreaTop" fmla="*/ 0 h 2975040"/>
                <a:gd name="textAreaBottom" fmla="*/ 2975400 h 297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_s1033"/>
            <p:cNvSpPr/>
            <p:nvPr/>
          </p:nvSpPr>
          <p:spPr>
            <a:xfrm>
              <a:off x="5299200" y="804960"/>
              <a:ext cx="1093680" cy="10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Дидактическая задач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_s1034"/>
            <p:cNvSpPr/>
            <p:nvPr/>
          </p:nvSpPr>
          <p:spPr>
            <a:xfrm>
              <a:off x="6110280" y="3297240"/>
              <a:ext cx="1093680" cy="10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Игровая задач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_s1035"/>
            <p:cNvSpPr/>
            <p:nvPr/>
          </p:nvSpPr>
          <p:spPr>
            <a:xfrm>
              <a:off x="3990960" y="4838760"/>
              <a:ext cx="1093680" cy="10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Игровые действ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_s1036"/>
            <p:cNvSpPr/>
            <p:nvPr/>
          </p:nvSpPr>
          <p:spPr>
            <a:xfrm>
              <a:off x="1870200" y="3298680"/>
              <a:ext cx="1093680" cy="10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Правила игр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_s1037"/>
            <p:cNvSpPr/>
            <p:nvPr/>
          </p:nvSpPr>
          <p:spPr>
            <a:xfrm>
              <a:off x="2678040" y="806400"/>
              <a:ext cx="1094040" cy="10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Результа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19"/>
            <p:cNvSpPr/>
            <p:nvPr/>
          </p:nvSpPr>
          <p:spPr>
            <a:xfrm>
              <a:off x="3039480" y="2613600"/>
              <a:ext cx="2855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Структура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дидактической игры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Виды дидактической игры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468360" y="1268280"/>
            <a:ext cx="2089080" cy="1657440"/>
          </a:xfrm>
          <a:prstGeom prst="flowChartAlternateProcess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гры-путеше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ли игры-экскурс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3348000" y="2276640"/>
            <a:ext cx="2089080" cy="1657080"/>
          </a:xfrm>
          <a:prstGeom prst="flowChartAlternateProcess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гры-предполож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3708360" y="4581360"/>
            <a:ext cx="2089080" cy="1657440"/>
          </a:xfrm>
          <a:prstGeom prst="flowChartAlternateProcess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гра «Кто больше?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9"/>
          <p:cNvSpPr/>
          <p:nvPr/>
        </p:nvSpPr>
        <p:spPr>
          <a:xfrm>
            <a:off x="6659640" y="4292640"/>
            <a:ext cx="2089080" cy="1657440"/>
          </a:xfrm>
          <a:prstGeom prst="flowChartAlternateProcess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Семафор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10"/>
          <p:cNvSpPr/>
          <p:nvPr/>
        </p:nvSpPr>
        <p:spPr>
          <a:xfrm>
            <a:off x="6659640" y="1628640"/>
            <a:ext cx="2089080" cy="1657440"/>
          </a:xfrm>
          <a:prstGeom prst="flowChartAlternateProcess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гры-загад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12"/>
          <p:cNvSpPr/>
          <p:nvPr/>
        </p:nvSpPr>
        <p:spPr>
          <a:xfrm>
            <a:off x="611280" y="4149720"/>
            <a:ext cx="2089080" cy="1657440"/>
          </a:xfrm>
          <a:prstGeom prst="flowChartAlternateProcess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гра "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Я начну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а ты продолжи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6:59:14Z</dcterms:created>
  <dc:creator>Анатолий</dc:creator>
  <dc:description/>
  <dc:language>en-US</dc:language>
  <cp:lastModifiedBy>Ольга</cp:lastModifiedBy>
  <dcterms:modified xsi:type="dcterms:W3CDTF">2010-04-28T17:30:03Z</dcterms:modified>
  <cp:revision>7</cp:revision>
  <dc:subject/>
  <dc:title>Дидактическая игра как средство повышения интереса к урокам русского языка и литературы </dc:title>
</cp:coreProperties>
</file>