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0E6-C371-4DF2-B659-2D5696E2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28F-88C1-49F4-AB50-E954D478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BB0-1ED1-4542-8119-46014521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48C-2D94-4E62-A73B-7D6C9627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11D6-E706-49BC-91D9-1875D749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80E8-D9DF-4B47-B846-E28F9178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72DA-450A-4D82-966D-CE585619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9F7-B42D-43C3-BB23-414B1FA6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6522-F73B-4DA4-B5CD-1313F087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19AA-E788-40E4-B0E5-10C748F4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D7A-9575-43FB-B521-0F8549EF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AAE-4DE6-4FD1-A711-E9C822FA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C1D7-2358-4A9F-98DE-0994B9420F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ы по теме «Земноводны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воночных животных с трёхкамерным сердием, размножение которых тесно связано с водой, объединяют в клас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Костные рыбы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Моллюс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Пресмыкающиеся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Земновод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4"/>
          <p:cNvSpPr/>
          <p:nvPr/>
        </p:nvSpPr>
        <p:spPr>
          <a:xfrm>
            <a:off x="395280" y="3716280"/>
            <a:ext cx="21607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явление в процессе эволюции у земноводных трёхкамерного сердца и двух кругов кровообращения способствовал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их выходу на суш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кожному дыха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увеличению размеров их т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развитию их личинок в во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4"/>
          <p:cNvSpPr/>
          <p:nvPr/>
        </p:nvSpPr>
        <p:spPr>
          <a:xfrm>
            <a:off x="395280" y="2421000"/>
            <a:ext cx="28814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у земноводных в процессе эволюции трёхкамерного сердца привело к тому , что клетки их тела стали снабжаться кровью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венозной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артериаль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смешанной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богатой кислород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4"/>
          <p:cNvSpPr/>
          <p:nvPr/>
        </p:nvSpPr>
        <p:spPr>
          <a:xfrm>
            <a:off x="395280" y="3284640"/>
            <a:ext cx="180036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 превращения головастика во взрослую лягушку называе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размножение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метаморфоз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 Прогресс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 рос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ая соединительная линия 4"/>
          <p:cNvSpPr/>
          <p:nvPr/>
        </p:nvSpPr>
        <p:spPr>
          <a:xfrm>
            <a:off x="395280" y="2421000"/>
            <a:ext cx="230508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28573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головастика имею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двухкамерное сердце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один круг кровообращ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орган боковой линии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все перечисленные призна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4"/>
          <p:cNvSpPr/>
          <p:nvPr/>
        </p:nvSpPr>
        <p:spPr>
          <a:xfrm>
            <a:off x="395280" y="2997360"/>
            <a:ext cx="41767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иболее древними земноводными считаю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ихтиозавр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стегоцефал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 трито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 жаб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4"/>
          <p:cNvSpPr/>
          <p:nvPr/>
        </p:nvSpPr>
        <p:spPr>
          <a:xfrm>
            <a:off x="395280" y="1628640"/>
            <a:ext cx="208908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987640" y="2565360"/>
            <a:ext cx="57150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ком земноводных считаю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латимерию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вымершую кистеперую рыб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ихтиозавра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динозав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4"/>
          <p:cNvSpPr/>
          <p:nvPr/>
        </p:nvSpPr>
        <p:spPr>
          <a:xfrm>
            <a:off x="395280" y="2060640"/>
            <a:ext cx="41767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059280" y="2565360"/>
            <a:ext cx="5715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отряду бесхвостых амфиби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тнося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жерлянки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чесночниц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тритоны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квакш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4"/>
          <p:cNvSpPr/>
          <p:nvPr/>
        </p:nvSpPr>
        <p:spPr>
          <a:xfrm>
            <a:off x="301680" y="2492280"/>
            <a:ext cx="16063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059280" y="2637000"/>
            <a:ext cx="55814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признаки присущи амфибия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органы дыхания — кожа, лёг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сердце трёхкамерн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органы дыхания — жаб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сердце двухкамерн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)гермафроди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)развитие происходит в во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ая соединительная линия 4"/>
          <p:cNvSpPr/>
          <p:nvPr/>
        </p:nvSpPr>
        <p:spPr>
          <a:xfrm>
            <a:off x="301680" y="1197000"/>
            <a:ext cx="470196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ая соединительная линия 5"/>
          <p:cNvSpPr/>
          <p:nvPr/>
        </p:nvSpPr>
        <p:spPr>
          <a:xfrm>
            <a:off x="301680" y="1628640"/>
            <a:ext cx="33336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6"/>
          <p:cNvSpPr/>
          <p:nvPr/>
        </p:nvSpPr>
        <p:spPr>
          <a:xfrm>
            <a:off x="468360" y="3500280"/>
            <a:ext cx="381636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берите особенности строения, относящие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лько к земноводны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в отличие от рыб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Органы дыхания представлены легкими и кож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Есть внутреннее и среднее ух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Есть сердце и кровеносные сосу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Головной мозг разделен на пять отде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)Сердце трехкамерн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)Один круг кровообращ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4"/>
          <p:cNvSpPr/>
          <p:nvPr/>
        </p:nvSpPr>
        <p:spPr>
          <a:xfrm>
            <a:off x="301680" y="2043000"/>
            <a:ext cx="64818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5"/>
          <p:cNvSpPr/>
          <p:nvPr/>
        </p:nvSpPr>
        <p:spPr>
          <a:xfrm>
            <a:off x="301680" y="2492280"/>
            <a:ext cx="463068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ая соединительная линия 6"/>
          <p:cNvSpPr/>
          <p:nvPr/>
        </p:nvSpPr>
        <p:spPr>
          <a:xfrm>
            <a:off x="301680" y="3789360"/>
            <a:ext cx="38178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какому классу относят животное, изображенное на рисунк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Пресмыкающиеся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Костные рыб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Млекопитающие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Земновод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3138480" cy="2359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ая соединительная линия 4"/>
          <p:cNvSpPr/>
          <p:nvPr/>
        </p:nvSpPr>
        <p:spPr>
          <a:xfrm>
            <a:off x="395280" y="2924280"/>
            <a:ext cx="21607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тройте путь прохождения пищи у лягушки в правильной последователь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глотка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желуд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толстая кишка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клоа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тонкая киш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пищев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3782880" y="256536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4358880" y="2565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4870440" y="2544840"/>
            <a:ext cx="45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5351760" y="2565360"/>
            <a:ext cx="50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8"/>
          <p:cNvSpPr/>
          <p:nvPr/>
        </p:nvSpPr>
        <p:spPr>
          <a:xfrm>
            <a:off x="5841720" y="2544840"/>
            <a:ext cx="45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9"/>
          <p:cNvSpPr/>
          <p:nvPr/>
        </p:nvSpPr>
        <p:spPr>
          <a:xfrm>
            <a:off x="6314400" y="2565360"/>
            <a:ext cx="39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556080" y="3716280"/>
            <a:ext cx="36162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шибочные утверждения. Запишите сначала номера этих утверждений, а затем правильно сформулируйте и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)У позвоночных  наружный   скел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)У позвоночных развиты челюсти, служащие для захвата пищ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)Тело многих позвоночных покрыто   хитиновым покров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)Органы выделения позвоночных представлены специализированными клетк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)Органы пищеварения дифференцированы на отдел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)Системы пищеварения и дыхания связаны между соб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)Все позвоночные — двухслойные животны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8)У всех позвоночных лучевая симметрия тел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Овал 1"/>
          <p:cNvSpPr/>
          <p:nvPr/>
        </p:nvSpPr>
        <p:spPr>
          <a:xfrm>
            <a:off x="324000" y="1341360"/>
            <a:ext cx="360360" cy="3589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492640" y="1393920"/>
            <a:ext cx="132984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внутрен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Овал 5"/>
          <p:cNvSpPr/>
          <p:nvPr/>
        </p:nvSpPr>
        <p:spPr>
          <a:xfrm>
            <a:off x="324000" y="2133720"/>
            <a:ext cx="360360" cy="3585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4788000" y="2124000"/>
            <a:ext cx="295272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кож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Овал 7"/>
          <p:cNvSpPr/>
          <p:nvPr/>
        </p:nvSpPr>
        <p:spPr>
          <a:xfrm>
            <a:off x="324000" y="2492280"/>
            <a:ext cx="360360" cy="3603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6443640" y="2482920"/>
            <a:ext cx="147636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поч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10"/>
          <p:cNvSpPr/>
          <p:nvPr/>
        </p:nvSpPr>
        <p:spPr>
          <a:xfrm>
            <a:off x="324000" y="2997360"/>
            <a:ext cx="410364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Овал 13"/>
          <p:cNvSpPr/>
          <p:nvPr/>
        </p:nvSpPr>
        <p:spPr>
          <a:xfrm>
            <a:off x="324000" y="3860640"/>
            <a:ext cx="360360" cy="36036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3092400" y="3860640"/>
            <a:ext cx="299232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трехслойные живот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15"/>
          <p:cNvSpPr/>
          <p:nvPr/>
        </p:nvSpPr>
        <p:spPr>
          <a:xfrm>
            <a:off x="314280" y="4240080"/>
            <a:ext cx="360360" cy="3589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16"/>
          <p:cNvSpPr/>
          <p:nvPr/>
        </p:nvSpPr>
        <p:spPr>
          <a:xfrm>
            <a:off x="3092400" y="4249800"/>
            <a:ext cx="372744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вусторонняя симметрия те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знать земноводных среди позвоночных други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жно п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сухой коже без желез с роговыми чешуй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коже без желез с перьевым покров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коже, покрытой чешуей с большим количеством желе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голой влажной коже с большим количеством желе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ая соединительная линия 4"/>
          <p:cNvSpPr/>
          <p:nvPr/>
        </p:nvSpPr>
        <p:spPr>
          <a:xfrm>
            <a:off x="395280" y="3429000"/>
            <a:ext cx="69134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оложение глаз и ноздрей на верхней поверхности головы позволяет лягушк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дышать кислородом воздуха, оставаясь под вод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быстро плавать в во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добывать подвижных живот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воспринимать звуки в воздушной сре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ая соединительная линия 4"/>
          <p:cNvSpPr/>
          <p:nvPr/>
        </p:nvSpPr>
        <p:spPr>
          <a:xfrm>
            <a:off x="395280" y="2060640"/>
            <a:ext cx="691344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700360" y="3500280"/>
            <a:ext cx="400824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чем проявляется приспособленность к плаванию в  строении задних конечностей земноводны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задние ноги длиннее передн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между пальцами развиты перепо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конечности состоят из трех отделов: бедра, голени, сто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опорой задних конечностей служит тазовый поя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4"/>
          <p:cNvSpPr/>
          <p:nvPr/>
        </p:nvSpPr>
        <p:spPr>
          <a:xfrm>
            <a:off x="395280" y="2492280"/>
            <a:ext cx="525636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916360" y="3573360"/>
            <a:ext cx="309564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абы, в отличие от лягушек, могут жить вдали от водоема. Чем это можно объясни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Они размножаются на суш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У них лучше развиты легкие и более сухая кож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У них короткие задние конечности и длинные перед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Они питаются наземными беспозвоночными животн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4"/>
          <p:cNvSpPr/>
          <p:nvPr/>
        </p:nvSpPr>
        <p:spPr>
          <a:xfrm>
            <a:off x="395280" y="2492280"/>
            <a:ext cx="655308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85720" y="3463920"/>
            <a:ext cx="3952800" cy="2781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5003640" y="3357720"/>
            <a:ext cx="31338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каких животных в процессе эволюции появляется второй круг кровообращ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хрящевых рыб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костных ры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земноводных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пресмыкаю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4"/>
          <p:cNvSpPr/>
          <p:nvPr/>
        </p:nvSpPr>
        <p:spPr>
          <a:xfrm>
            <a:off x="395280" y="2924280"/>
            <a:ext cx="2448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88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круг кровообращения начал формироваться 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земноводных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двоякодышащих ры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моллюсков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пресмыкаю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4"/>
          <p:cNvSpPr/>
          <p:nvPr/>
        </p:nvSpPr>
        <p:spPr>
          <a:xfrm>
            <a:off x="395280" y="2133720"/>
            <a:ext cx="316872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из признаков, доказывающий усложнение земноводных по сравнению с рыб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трехкамерное сердце и два круга кровообращ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перепонки между пальцами задних н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)внутренний ске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пищеварительная, кровеносная и другие системы орга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4"/>
          <p:cNvSpPr/>
          <p:nvPr/>
        </p:nvSpPr>
        <p:spPr>
          <a:xfrm>
            <a:off x="395280" y="2060640"/>
            <a:ext cx="698508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12T19:04:50Z</dcterms:modified>
  <cp:revision>6</cp:revision>
  <dc:subject/>
  <dc:title>Тесты по теме «Земноводные»</dc:title>
</cp:coreProperties>
</file>