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B5A-8BA0-4D83-8B92-B97E5B86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DD4-5A4C-4D62-B67C-1A75C201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ADA-DD9B-4171-B746-399907BB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1F8-69E9-4BAE-95BD-7B81C72E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2DE-05EA-49E3-AF2A-5CE3D9D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296-B854-4C73-98AD-3D7C1A4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DEF-996E-4123-BBF0-1FCA1EB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9FF-6E85-4EAD-A178-AACABBD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836-1A7B-47CC-A6AA-6146514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1E7-E02A-4E71-83A8-371542F4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985-1333-47DD-B346-AA2AB33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6AC-39DE-4539-ADC3-E8144B3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0AD-3ADC-4CC7-9772-1A0769F3C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ы по теме «Земновод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ночных животных с трёхкамерным сердием, размножение которых тесно связано с водой, объединяют в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Костные рыбы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оллюс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Пресмыкающиеся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395280" y="3716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в процессе эволюции у земноводных трёхкамерного сердца и двух кругов кровообращения способствова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 выходу на суш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ному дых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величению размеров их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развитию их личинок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"/>
          <p:cNvSpPr/>
          <p:nvPr/>
        </p:nvSpPr>
        <p:spPr>
          <a:xfrm>
            <a:off x="395280" y="2421000"/>
            <a:ext cx="2881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земноводных в процессе эволюции трёхкамерного сердца привело к тому , что клетки их тела стали снабжаться кров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венозной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артериаль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смешанной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богатой кислор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395280" y="3284640"/>
            <a:ext cx="180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ревращения головастика во взрослую лягушку назы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размнож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таморфоз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Прогресс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р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395280" y="2421000"/>
            <a:ext cx="230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857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головастика име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вухкамерное сердце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один круг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 боковой линии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се перечисленны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395280" y="299736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древними земноводными счита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тиозав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тегоцефа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трит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жа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395280" y="1628640"/>
            <a:ext cx="2089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ком земноводных счита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латимерию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вымершую кистеперую ры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ихтиозавра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динозав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4"/>
          <p:cNvSpPr/>
          <p:nvPr/>
        </p:nvSpPr>
        <p:spPr>
          <a:xfrm>
            <a:off x="395280" y="206064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тряду бесхвостых амфиб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нося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жерлянки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чесноч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тритоны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квак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4"/>
          <p:cNvSpPr/>
          <p:nvPr/>
        </p:nvSpPr>
        <p:spPr>
          <a:xfrm>
            <a:off x="301680" y="2492280"/>
            <a:ext cx="16063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5581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признаки присущи амфибия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— кожа, лёг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ердце трё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ы дыхания — жаб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сердце дву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гермафрод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развитие происходит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"/>
          <p:cNvSpPr/>
          <p:nvPr/>
        </p:nvSpPr>
        <p:spPr>
          <a:xfrm>
            <a:off x="301680" y="1197000"/>
            <a:ext cx="47019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5"/>
          <p:cNvSpPr/>
          <p:nvPr/>
        </p:nvSpPr>
        <p:spPr>
          <a:xfrm>
            <a:off x="301680" y="1628640"/>
            <a:ext cx="33336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468360" y="3500280"/>
            <a:ext cx="381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ерите особенности строения, относящие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к земноводны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отличие от ры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представлены легкими и ко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Есть внутреннее и среднее у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Есть сердце и кровеносные сос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вной мозг разделен на пять отде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Сердце трехкамер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Один круг кровообра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4"/>
          <p:cNvSpPr/>
          <p:nvPr/>
        </p:nvSpPr>
        <p:spPr>
          <a:xfrm>
            <a:off x="301680" y="2043000"/>
            <a:ext cx="6481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301680" y="2492280"/>
            <a:ext cx="46306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6"/>
          <p:cNvSpPr/>
          <p:nvPr/>
        </p:nvSpPr>
        <p:spPr>
          <a:xfrm>
            <a:off x="301680" y="3789360"/>
            <a:ext cx="3817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какому классу относят животное, изображенное на рисун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Пресмыкающиеся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е ры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лекопитающие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3138480" cy="2359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4"/>
          <p:cNvSpPr/>
          <p:nvPr/>
        </p:nvSpPr>
        <p:spPr>
          <a:xfrm>
            <a:off x="395280" y="2924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ройте путь прохождения пищи у лягушки в правильн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глотка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желу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толстая киш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кло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тонкая ки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пище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3782880" y="25653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35888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870440" y="254484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5351760" y="2565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5841720" y="2544840"/>
            <a:ext cx="4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6314400" y="256536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56080" y="3716280"/>
            <a:ext cx="36162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шибочные утверждения. Запишите сначала номера этих утверждений, а затем правильно сформулируйте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У позвоночных  наружный   ске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У позвоночных развиты челюсти, служащие для захвата пи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)Тело многих позвоночных покрыто   хитиновым покров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Органы выделения позвоночных представлены специализированными клет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)Органы пищеварения дифференцированы на отде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)Системы пищеварения и дыхания связаны между соб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)Все позвоночные — двухслойные животны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)У всех позвоночных лучевая симметрия те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1"/>
          <p:cNvSpPr/>
          <p:nvPr/>
        </p:nvSpPr>
        <p:spPr>
          <a:xfrm>
            <a:off x="324000" y="134136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492640" y="1393920"/>
            <a:ext cx="13298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нутрен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324000" y="2133720"/>
            <a:ext cx="360360" cy="358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788000" y="2124000"/>
            <a:ext cx="29527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ож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324000" y="249228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43640" y="2482920"/>
            <a:ext cx="147636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ч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10"/>
          <p:cNvSpPr/>
          <p:nvPr/>
        </p:nvSpPr>
        <p:spPr>
          <a:xfrm>
            <a:off x="324000" y="2997360"/>
            <a:ext cx="4103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3"/>
          <p:cNvSpPr/>
          <p:nvPr/>
        </p:nvSpPr>
        <p:spPr>
          <a:xfrm>
            <a:off x="324000" y="386064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092400" y="3860640"/>
            <a:ext cx="29923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рехслойные живо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314280" y="424008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3092400" y="4249800"/>
            <a:ext cx="37274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вусторонняя симметрия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нать земноводных среди позвоночных други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п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сухой коже без желез с роговыми чешуй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е без желез с перьевым покро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же, покрытой чешуей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й влажной коже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395280" y="342900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ожение глаз и ноздрей на верхней поверхности головы позволяет лягуш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ышать кислородом воздуха, оставаясь под вод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быстро плавать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добывать подвижных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оспринимать звуки в воздуш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206064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40082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проявляется приспособленность к плаванию в  строении задних конечностей земновод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адние ноги длиннее перед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жду пальцами развиты переп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нечности состоят из трех отделов: бедра, голени, ст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порой задних конечностей служит тазовый поя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95280" y="2492280"/>
            <a:ext cx="525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09564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бы, в отличие от лягушек, могут жить вдали от водоема. Чем это можно объясн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ни размножаются на су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У них лучше развиты легкие и более сухая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 них короткие задние конечности и длинные перед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ни питаются наземными беспозвоночными живо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395280" y="2492280"/>
            <a:ext cx="6553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85720" y="3463920"/>
            <a:ext cx="395280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1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аких животных в процессе эволюции появляется второй круг кровообращ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хрящевых рыб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земноводных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395280" y="2924280"/>
            <a:ext cx="244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8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круг кровообращения начал формироваться 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емноводных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двоякодышащи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оллюсков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395280" y="2133720"/>
            <a:ext cx="3168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признаков, доказывающий усложнение земноводных по сравнению с рыб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трехкамерное сердце и два круга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перепонки между пальцами задних н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внутренний ске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ищеварительная, кровеносная и другие системы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4"/>
          <p:cNvSpPr/>
          <p:nvPr/>
        </p:nvSpPr>
        <p:spPr>
          <a:xfrm>
            <a:off x="395280" y="2060640"/>
            <a:ext cx="698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2T19:04:50Z</dcterms:modified>
  <cp:revision>6</cp:revision>
  <dc:subject/>
  <dc:title>Тесты по теме «Земноводные»</dc:title>
</cp:coreProperties>
</file>