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73F-A11B-45F6-8899-6A3AE41D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DEF-4D6B-459E-8088-D1A3F021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361-875A-4C8D-A7D9-690046E1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D71-7FAC-45FB-91FC-1F820DA8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2FC-EA72-4615-931F-12588D6C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19C-0774-4BC0-B2E8-EA4DFFB0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937-3D2F-43F5-960C-9C70DC87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BC6-6DBD-4DE6-A5E6-E251240A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1BD-4C44-4304-AE1E-2542E18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65E-1E78-4B20-9550-BCF6A4F7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A74-CC72-49F5-BD69-B8932AE0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2CB-70A4-4B7B-8F5B-388022C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C5B7-6792-443E-99C9-A5B6AFB56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ы по теме «Земновод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воночных животных с трёхкамерным сердием, размножение которых тесно связано с водой, объединяют в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Костные рыбы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Моллюс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Пресмыкающиеся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Земново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4"/>
          <p:cNvSpPr/>
          <p:nvPr/>
        </p:nvSpPr>
        <p:spPr>
          <a:xfrm>
            <a:off x="395280" y="3716280"/>
            <a:ext cx="2160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ение в процессе эволюции у земноводных трёхкамерного сердца и двух кругов кровообращения способствова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их выходу на суш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жному дых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увеличению размеров их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развитию их личинок в 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4"/>
          <p:cNvSpPr/>
          <p:nvPr/>
        </p:nvSpPr>
        <p:spPr>
          <a:xfrm>
            <a:off x="395280" y="2421000"/>
            <a:ext cx="2881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у земноводных в процессе эволюции трёхкамерного сердца привело к тому , что клетки их тела стали снабжаться кров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венозной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артериаль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смешанной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богатой кислор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4"/>
          <p:cNvSpPr/>
          <p:nvPr/>
        </p:nvSpPr>
        <p:spPr>
          <a:xfrm>
            <a:off x="395280" y="3284640"/>
            <a:ext cx="1800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превращения головастика во взрослую лягушку называ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размножени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метаморфоз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Прогресс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ро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4"/>
          <p:cNvSpPr/>
          <p:nvPr/>
        </p:nvSpPr>
        <p:spPr>
          <a:xfrm>
            <a:off x="395280" y="2421000"/>
            <a:ext cx="2305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2857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головастика име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двухкамерное сердце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один круг кровообра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орган боковой линии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все перечисленные призна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4"/>
          <p:cNvSpPr/>
          <p:nvPr/>
        </p:nvSpPr>
        <p:spPr>
          <a:xfrm>
            <a:off x="395280" y="2997360"/>
            <a:ext cx="4176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более древними земноводными счита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ихтиозав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стегоцефа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трит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жа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4"/>
          <p:cNvSpPr/>
          <p:nvPr/>
        </p:nvSpPr>
        <p:spPr>
          <a:xfrm>
            <a:off x="395280" y="1628640"/>
            <a:ext cx="2089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5715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ком земноводных считаю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латимерию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вымершую кистеперую ры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ихтиозавра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динозав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4"/>
          <p:cNvSpPr/>
          <p:nvPr/>
        </p:nvSpPr>
        <p:spPr>
          <a:xfrm>
            <a:off x="395280" y="2060640"/>
            <a:ext cx="4176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тряду бесхвостых амфиби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тнося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жерлянки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чесноч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тритоны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квак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4"/>
          <p:cNvSpPr/>
          <p:nvPr/>
        </p:nvSpPr>
        <p:spPr>
          <a:xfrm>
            <a:off x="301680" y="2492280"/>
            <a:ext cx="16063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5581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признаки присущи амфибия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органы дыхания — кожа, лёг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сердце трёхкамер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органы дыхания — жаб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сердце двухкамер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гермафрод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)развитие происходит в 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4"/>
          <p:cNvSpPr/>
          <p:nvPr/>
        </p:nvSpPr>
        <p:spPr>
          <a:xfrm>
            <a:off x="301680" y="1197000"/>
            <a:ext cx="47019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5"/>
          <p:cNvSpPr/>
          <p:nvPr/>
        </p:nvSpPr>
        <p:spPr>
          <a:xfrm>
            <a:off x="301680" y="1628640"/>
            <a:ext cx="33336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6"/>
          <p:cNvSpPr/>
          <p:nvPr/>
        </p:nvSpPr>
        <p:spPr>
          <a:xfrm>
            <a:off x="468360" y="3500280"/>
            <a:ext cx="3816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ерите особенности строения, относящие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ько к земноводны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отличие от рыб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Органы дыхания представлены легкими и ко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Есть внутреннее и среднее ух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Есть сердце и кровеносные сосу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Головной мозг разделен на пять отде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Сердце трехкамер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)Один круг кровообра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4"/>
          <p:cNvSpPr/>
          <p:nvPr/>
        </p:nvSpPr>
        <p:spPr>
          <a:xfrm>
            <a:off x="301680" y="2043000"/>
            <a:ext cx="6481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5"/>
          <p:cNvSpPr/>
          <p:nvPr/>
        </p:nvSpPr>
        <p:spPr>
          <a:xfrm>
            <a:off x="301680" y="2492280"/>
            <a:ext cx="46306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6"/>
          <p:cNvSpPr/>
          <p:nvPr/>
        </p:nvSpPr>
        <p:spPr>
          <a:xfrm>
            <a:off x="301680" y="3789360"/>
            <a:ext cx="3817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какому классу относят животное, изображенное на рисунк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Пресмыкающиеся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стные ры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Млекопитающие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Земново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3138480" cy="2359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4"/>
          <p:cNvSpPr/>
          <p:nvPr/>
        </p:nvSpPr>
        <p:spPr>
          <a:xfrm>
            <a:off x="395280" y="2924280"/>
            <a:ext cx="2160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ройте путь прохождения пищи у лягушки в правильной последова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глотка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желу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толстая кишк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кло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тонкая ки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пище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3782880" y="256536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4358880" y="256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870440" y="2544840"/>
            <a:ext cx="45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5351760" y="256536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5841720" y="2544840"/>
            <a:ext cx="4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6314400" y="2565360"/>
            <a:ext cx="3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556080" y="3716280"/>
            <a:ext cx="36162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шибочные утверждения. Запишите сначала номера этих утверждений, а затем правильно сформулируйте 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)У позвоночных  наружный   ске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)У позвоночных развиты челюсти, служащие для захвата пищ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)Тело многих позвоночных покрыто   хитиновым покров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)Органы выделения позвоночных представлены специализированными клетк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)Органы пищеварения дифференцированы на отде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)Системы пищеварения и дыхания связаны между соб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)Все позвоночные — двухслойные животны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)У всех позвоночных лучевая симметрия те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1"/>
          <p:cNvSpPr/>
          <p:nvPr/>
        </p:nvSpPr>
        <p:spPr>
          <a:xfrm>
            <a:off x="324000" y="1341360"/>
            <a:ext cx="360360" cy="3589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492640" y="1393920"/>
            <a:ext cx="132984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внутрен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5"/>
          <p:cNvSpPr/>
          <p:nvPr/>
        </p:nvSpPr>
        <p:spPr>
          <a:xfrm>
            <a:off x="324000" y="2133720"/>
            <a:ext cx="360360" cy="3585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788000" y="2124000"/>
            <a:ext cx="295272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кож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7"/>
          <p:cNvSpPr/>
          <p:nvPr/>
        </p:nvSpPr>
        <p:spPr>
          <a:xfrm>
            <a:off x="324000" y="2492280"/>
            <a:ext cx="360360" cy="3603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6443640" y="2482920"/>
            <a:ext cx="147636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оч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10"/>
          <p:cNvSpPr/>
          <p:nvPr/>
        </p:nvSpPr>
        <p:spPr>
          <a:xfrm>
            <a:off x="324000" y="2997360"/>
            <a:ext cx="41036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13"/>
          <p:cNvSpPr/>
          <p:nvPr/>
        </p:nvSpPr>
        <p:spPr>
          <a:xfrm>
            <a:off x="324000" y="3860640"/>
            <a:ext cx="360360" cy="3603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092400" y="3860640"/>
            <a:ext cx="299232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трехслойные живо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5"/>
          <p:cNvSpPr/>
          <p:nvPr/>
        </p:nvSpPr>
        <p:spPr>
          <a:xfrm>
            <a:off x="314280" y="4240080"/>
            <a:ext cx="360360" cy="3589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3092400" y="4249800"/>
            <a:ext cx="372744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вусторонняя симметрия т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нать земноводных среди позвоночных други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п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сухой коже без желез с роговыми чешуй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же без желез с перьевым покро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коже, покрытой чешуей с большим количеством жел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голой влажной коже с большим количеством жел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4"/>
          <p:cNvSpPr/>
          <p:nvPr/>
        </p:nvSpPr>
        <p:spPr>
          <a:xfrm>
            <a:off x="395280" y="3429000"/>
            <a:ext cx="6913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оложение глаз и ноздрей на верхней поверхности головы позволяет лягуш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дышать кислородом воздуха, оставаясь под вод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быстро плавать в 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добывать подвижных живот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воспринимать звуки в воздушной сре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>
            <a:off x="395280" y="2060640"/>
            <a:ext cx="6913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40082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чем проявляется приспособленность к плаванию в  строении задних конечностей земновод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задние ноги длиннее перед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между пальцами развиты переп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конечности состоят из трех отделов: бедра, голени, сто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опорой задних конечностей служит тазовый поя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395280" y="2492280"/>
            <a:ext cx="5256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309564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абы, в отличие от лягушек, могут жить вдали от водоема. Чем это можно объясн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Они размножаются на су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У них лучше развиты легкие и более сухая ко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У них короткие задние конечности и длинные перед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Они питаются наземными беспозвоночными живот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4"/>
          <p:cNvSpPr/>
          <p:nvPr/>
        </p:nvSpPr>
        <p:spPr>
          <a:xfrm>
            <a:off x="395280" y="2492280"/>
            <a:ext cx="6553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85720" y="3463920"/>
            <a:ext cx="3952800" cy="27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133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аких животных в процессе эволюции появляется второй круг кровообращ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хрящевых рыб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стных ры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земноводных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пресмык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4"/>
          <p:cNvSpPr/>
          <p:nvPr/>
        </p:nvSpPr>
        <p:spPr>
          <a:xfrm>
            <a:off x="395280" y="2924280"/>
            <a:ext cx="2448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8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круг кровообращения начал формироваться 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земноводных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двоякодышащих ры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моллюсков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пресмык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4"/>
          <p:cNvSpPr/>
          <p:nvPr/>
        </p:nvSpPr>
        <p:spPr>
          <a:xfrm>
            <a:off x="395280" y="2133720"/>
            <a:ext cx="3168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признаков, доказывающий усложнение земноводных по сравнению с рыб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трехкамерное сердце и два круга кровообра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перепонки между пальцами задних н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внутренний ске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пищеварительная, кровеносная и другие системы орга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4"/>
          <p:cNvSpPr/>
          <p:nvPr/>
        </p:nvSpPr>
        <p:spPr>
          <a:xfrm>
            <a:off x="395280" y="2060640"/>
            <a:ext cx="6985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2T19:04:50Z</dcterms:modified>
  <cp:revision>6</cp:revision>
  <dc:subject/>
  <dc:title>Тесты по теме «Земноводные»</dc:title>
</cp:coreProperties>
</file>