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589-2850-4286-B8D1-3ED5F282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5FE-E6F3-4ADD-B114-BC8C56CA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239-D8E3-4FCD-8509-84631446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E34-14BA-4482-BF9B-B3E2BB2B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FE4-F6B9-4475-928E-5F9F8FEC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9F8-DF30-4214-9BB9-24D295B1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605-AF2D-45A5-B8F9-76887E76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638-C58A-4EE1-833C-CA226281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D1A-A515-4B0E-9036-7C7406A9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305-82A1-40C4-9C7D-D5FF071A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7AE-DD96-4A03-8A75-1C4EDCE8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29F-7A7C-4B3A-8811-B7E25786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26FA-77CC-41AB-B68B-42C3597E02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search?text=&#1096;&#1082;&#1086;&#1083;&#1100;&#1085;&#1072;&#1103;%20&#1090;&#1077;&#1084;&#1072;&amp;rpt=simage&amp;img_url=s012.radikal.ru/i319/1011/d9/2c7e90cccc7a.jpg&amp;noreask=1&amp;lr=213&amp;p=1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mou19-mp.edusite.ru/images/school0413.gif&amp;noreask=1&amp;lr=213&amp;p=4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img_url=img-fotki.yandex.ru/get/5112/47407354.238/0_83162_21ec2508_orig.png&amp;rpt=simage&amp;p=123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96;&#1082;&#1086;&#1083;&#1100;&#1085;&#1072;&#1103;%20&#1090;&#1077;&#1084;&#1072;&amp;rpt=simage&amp;img_url=img541.imageshack.us/img541/6439/80707277.jpg&amp;noreask=1&amp;lr=213&amp;p=37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p=115&amp;img_url=img1.liveinternet.ru/images/attach/c/2/64/201/64201674_1284872765_02.pn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text=&#1096;&#1082;&#1086;&#1083;&#1100;&#1085;&#1072;&#1103;%20&#1090;&#1077;&#1084;&#1072;&amp;noreask=1&amp;lr=213&amp;p=119&amp;img_url=www.sunhome.ru/UsersGallery/Cards/117/26233319.jpg&amp;rpt=simag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img541.imageshack.us/img541/6439/80707277.jpg&amp;noreask=1&amp;lr=213&amp;p=37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activerain.com/image_store/uploads/3/7/9/5/5/ar121660244955973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yandsearch?text=&#1096;&#1082;&#1086;&#1083;&#1100;&#1085;&#1072;&#1103;%20&#1090;&#1077;&#1084;&#1072;&amp;noreask=1&amp;lr=213&amp;p=57&amp;img_url=www.fisnyak.ru/_nw/22/99002547.jpg&amp;rpt=simage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yandsearch?text=&#1096;&#1082;&#1086;&#1083;&#1100;&#1085;&#1072;&#1103;%20&#1090;&#1077;&#1084;&#1072;&amp;noreask=1&amp;lr=213&amp;img_url=www.android-online.ru/app_images/shots/t/r/a/c/trace-alphabets_screenshot_286491.jpg&amp;rpt=simage&amp;p=125" TargetMode="External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www.donsenda.com/books/images/books.jpg&amp;noreask=1&amp;lr=213&amp;p=14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96;&#1082;&#1086;&#1083;&#1100;&#1085;&#1072;&#1103;%20&#1090;&#1077;&#1084;&#1072;&amp;rpt=simage&amp;img_url=www.donsenda.com/books/images/books.jpg&amp;noreask=1&amp;lr=213&amp;p=14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yandsearch?text=&#1096;&#1082;&#1086;&#1083;&#1100;&#1085;&#1072;&#1103;%20&#1090;&#1077;&#1084;&#1072;&amp;rpt=simage&amp;img_url=www.donsenda.com/books/images/books.jpg&amp;noreask=1&amp;lr=213&amp;p=14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yandex.ru/yandsearch?text=&#1096;&#1082;&#1086;&#1083;&#1100;&#1085;&#1072;&#1103;%20&#1090;&#1077;&#1084;&#1072;&amp;noreask=1&amp;lr=213&amp;p=183&amp;img_url=www.edu.cap.ru/home/5318/ckola.jpg&amp;rpt=simage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img_url=www.myjulia.ru/data/cache/2011/08/31/851073_7632nothumb500.jpg&amp;rpt=simage&amp;p=164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yandex.ru/yandsearch?text=&#1096;&#1082;&#1086;&#1083;&#1100;&#1085;&#1072;&#1103;%20&#1090;&#1077;&#1084;&#1072;&amp;noreask=1&amp;lr=213&amp;img_url=www.kujbyshevec.ru/media/k2/items/cache/171fc14b49a79ea979710de5b3402b30_XL.jpg&amp;rpt=simage&amp;p=99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yandex.ru/yandsearch?text=&#1096;&#1082;&#1086;&#1083;&#1100;&#1085;&#1072;&#1103;%20&#1090;&#1077;&#1084;&#1072;&amp;noreask=1&amp;lr=213&amp;p=188&amp;img_url=old.prima-news.ru/upimg/m_32537.gif&amp;rpt=simage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oreask=1&amp;lr=213&amp;ed=1&amp;text=&#1076;&#1077;&#1090;&#1080;%20&#1074;%20&#1096;&#1082;&#1086;&#1083;&#1077;&amp;p=121&amp;img_url=parkour.tyt.kz/media/files/file_1319832827.jpg&amp;rpt=simage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yandex.ru/yandsearch?noreask=1&amp;lr=213&amp;ed=1&amp;text=&#1076;&#1077;&#1090;&#1080;%20&#1074;%20&#1096;&#1082;&#1086;&#1083;&#1077;&amp;p=134&amp;img_url=gdb.rferl.org/6F8B0768-221C-45F7-9A0E-C373B597FC9B_mw800_s.jpg&amp;rpt=simage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yandex.ru/yandsearch?noreask=1&amp;lr=213&amp;ed=1&amp;text=&#1076;&#1077;&#1090;&#1080;%20&#1074;%20&#1096;&#1082;&#1086;&#1083;&#1077;&amp;p=103&amp;img_url=mojasemja.ru/wp-content/uploads/2010/12/shkola.jpg&amp;rpt=simage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yandex.ru/yandsearch?noreask=1&amp;lr=213&amp;ed=1&amp;text=&#1076;&#1077;&#1090;&#1080;%20&#1074;%20&#1096;&#1082;&#1086;&#1083;&#1077;&amp;p=107&amp;img_url=www.gazetairkutsk.ru/wp-content/uploads/2011/03/80269.jpg&amp;rpt=simage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images.yandex.ru/yandsearch?noreask=1&amp;lr=213&amp;ed=1&amp;text=&#1076;&#1077;&#1090;&#1080;%20&#1074;%20&#1096;&#1082;&#1086;&#1083;&#1077;&amp;p=86&amp;img_url=eu.123rf.com/400wm/400/400/pressmaster/pressmaster1012/pressmaster101202445/8448361-smart.jpg&amp;rpt=simage" TargetMode="External"/><Relationship Id="rId10" Type="http://schemas.openxmlformats.org/officeDocument/2006/relationships/image" Target="../media/image29.jpeg"/><Relationship Id="rId11" Type="http://schemas.openxmlformats.org/officeDocument/2006/relationships/hyperlink" Target="http://images.yandex.ru/yandsearch?noreask=1&amp;lr=213&amp;ed=1&amp;text=&#1076;&#1077;&#1090;&#1080;%20&#1074;%20&#1096;&#1082;&#1086;&#1083;&#1077;&amp;p=90&amp;img_url=img-fotki.yandex.ru/get/0/epidemi.1/0_9a_7562b65c_XL&amp;rpt=simage" TargetMode="External"/><Relationship Id="rId12" Type="http://schemas.openxmlformats.org/officeDocument/2006/relationships/image" Target="../media/image30.jpeg"/><Relationship Id="rId13" Type="http://schemas.openxmlformats.org/officeDocument/2006/relationships/hyperlink" Target="http://sch9.org/files/sch9.org/imagecache/1000x1000/images/%2F-roditelyam/09/07/vashi-deti-vpervye-idut-v-shkolu-83726306.jpg" TargetMode="External"/><Relationship Id="rId14" Type="http://schemas.openxmlformats.org/officeDocument/2006/relationships/image" Target="../media/image31.jpeg"/><Relationship Id="rId15" Type="http://schemas.openxmlformats.org/officeDocument/2006/relationships/hyperlink" Target="http://natalija.tmweb.ru/wp-content/uploads/2011/06/63012400_1282412776_bc89940011.jpg" TargetMode="External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image" Target="../media/image34.jpeg"/><Relationship Id="rId19" Type="http://schemas.openxmlformats.org/officeDocument/2006/relationships/image" Target="../media/image35.jpe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.allday.ru/uploads/posts/1191269179_c4125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s.keldysh.ru/sch148/images/C41-3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900igr.net/datai/fizkultura/Zdorove-uchenika/0002-002-Konsultanty-proekta-Silchenko-T.N.feldsher-shkoly-Uchebnyj-predmet.jpg&amp;noreask=1&amp;lr=213&amp;p=26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22440" y="500040"/>
            <a:ext cx="7991280" cy="330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1280" y="4365720"/>
            <a:ext cx="4681440" cy="792000"/>
          </a:xfrm>
          <a:prstGeom prst="rect">
            <a:avLst/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клад подготовила Смирнова Л.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i?id=304991333-42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3933720"/>
            <a:ext cx="223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ой опыт нам поможет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а на технологию оценивания образовательных достижений (учебных успех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662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хнология оценивания образовательных достижений (учебных успехов)  представляет собой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семь прави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определяющих порядок действий в разных ситуациях контроля и оценива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и правила дают ответы на все вопросы оценивания результатов ФГО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i?id=160102832-2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4865760"/>
            <a:ext cx="1800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780000" y="40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то оцениваем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ваем результаты – предметные, метапредметные и личнос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755640" y="5229360"/>
            <a:ext cx="4572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то оценива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и ученик вместе определяют оценку и отметку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i?id=456723574-64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7520" y="620640"/>
            <a:ext cx="189396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?id=259672220-38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645000"/>
            <a:ext cx="2016360" cy="222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im0-tub-ru.yandex.net/i?id=630344477-25-72"/>
          <p:cNvPicPr/>
          <p:nvPr/>
        </p:nvPicPr>
        <p:blipFill>
          <a:blip r:embed="rId5"/>
          <a:stretch/>
        </p:blipFill>
        <p:spPr>
          <a:xfrm>
            <a:off x="3635280" y="2349360"/>
            <a:ext cx="2160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250920" y="549360"/>
            <a:ext cx="4105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колько ставить отметок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числу решённых зад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3924360" y="3645000"/>
            <a:ext cx="457200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4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де накапливать оценки и отметки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блицах образовательных результатов (предметных, метапредметных , личностных) и в «Портфеле достижений» («Портфолио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i?id=62460605-17-72">
            <a:hlinkClick r:id="rId1"/>
          </p:cNvPr>
          <p:cNvPicPr/>
          <p:nvPr/>
        </p:nvPicPr>
        <p:blipFill>
          <a:blip r:embed="rId2"/>
          <a:stretch/>
        </p:blipFill>
        <p:spPr>
          <a:xfrm rot="254400">
            <a:off x="5388120" y="596520"/>
            <a:ext cx="2197080" cy="2303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i?id=420500495-32-72">
            <a:hlinkClick r:id="rId3"/>
          </p:cNvPr>
          <p:cNvPicPr/>
          <p:nvPr/>
        </p:nvPicPr>
        <p:blipFill>
          <a:blip r:embed="rId4"/>
          <a:stretch/>
        </p:blipFill>
        <p:spPr>
          <a:xfrm rot="21055800">
            <a:off x="1115640" y="3141360"/>
            <a:ext cx="199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900000" y="2641680"/>
            <a:ext cx="472932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5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гда ставить оценки?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кущ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 желани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 тематические проверочны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ы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i?id=259672220-3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797360"/>
            <a:ext cx="1511280" cy="1722600"/>
          </a:xfrm>
          <a:prstGeom prst="rect">
            <a:avLst/>
          </a:prstGeom>
          <a:ln w="0">
            <a:noFill/>
          </a:ln>
        </p:spPr>
      </p:pic>
      <p:pic>
        <p:nvPicPr>
          <p:cNvPr id="84" name="i-main-pic" descr="Картинка 5 из 1572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4880" y="965160"/>
            <a:ext cx="2484720" cy="529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i?id=512589536-04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19640" y="4797360"/>
            <a:ext cx="1584000" cy="172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i?id=349375181-65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95640" y="69048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i?id=370344869-39-72"/>
          <p:cNvPicPr/>
          <p:nvPr/>
        </p:nvPicPr>
        <p:blipFill>
          <a:blip r:embed="rId9"/>
          <a:stretch/>
        </p:blipFill>
        <p:spPr>
          <a:xfrm>
            <a:off x="1187280" y="333360"/>
            <a:ext cx="19083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95280" y="404640"/>
            <a:ext cx="6985080" cy="631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6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 каким критериям оценивать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ризнакам уровневой успешност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необходим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базовый) – решение типовой задачи (умение действовать в привычной ситуации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н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ограммный) – решение нестандартной задачи (умение действовать в нестандартной ситуации, требующей применения имеющихся знаний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альн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Еобязательный) -  решение не изучавшейся в классе «сверхзадачи» (умение действовать совершенно самостоятельно в незнакомой ситуации, требующей новых, неизучавшихся знани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i?id=308789428-6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55040" y="3716280"/>
            <a:ext cx="1068120" cy="1425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?id=308789428-68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67640" y="2125800"/>
            <a:ext cx="1068480" cy="142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?id=308789428-6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67640" y="5268960"/>
            <a:ext cx="1068480" cy="1425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i?id=205493586-28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56560" y="297000"/>
            <a:ext cx="11286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95280" y="404640"/>
            <a:ext cx="457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ило  7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ять итоговые оценки/отмет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129200" y="2606760"/>
            <a:ext cx="457200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едметные четвертные оценки/отметк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яются по таблицам предметных результатов (среднее арифметическое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i?id=305897999-23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565360"/>
            <a:ext cx="3295800" cy="356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?id=160239848-25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6840" y="4730760"/>
            <a:ext cx="3816360" cy="1573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?id=344560837-12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176040"/>
            <a:ext cx="3059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2286000" y="1766880"/>
            <a:ext cx="457200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тоговая оценка за ступень начальной школ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на основе всех положительных результатов, накопленных учеником в своём портфеле достижений, и на основе итоговой диагностики предметных и метапредмет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i?id=328166813-27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84320" y="585720"/>
            <a:ext cx="1425600" cy="1057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i?id=249728356-25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766880"/>
            <a:ext cx="1425600" cy="140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i?id=254452215-2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3433680"/>
            <a:ext cx="1425600" cy="126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i?id=385510032-66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58120" y="1643040"/>
            <a:ext cx="949320" cy="1425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227658110-10-7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186680" y="3397320"/>
            <a:ext cx="1425600" cy="127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16660304-71-7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19800" y="314280"/>
            <a:ext cx="1425600" cy="94932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181 из 15966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97120" y="5229360"/>
            <a:ext cx="1947960" cy="1436400"/>
          </a:xfrm>
          <a:prstGeom prst="rect">
            <a:avLst/>
          </a:prstGeom>
          <a:ln w="0">
            <a:noFill/>
          </a:ln>
        </p:spPr>
      </p:pic>
      <p:pic>
        <p:nvPicPr>
          <p:cNvPr id="106" name="i-main-pic" descr="Картинка 185 из 159664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516720" y="4869000"/>
            <a:ext cx="2409840" cy="169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?id=364128208-14-72"/>
          <p:cNvPicPr/>
          <p:nvPr/>
        </p:nvPicPr>
        <p:blipFill>
          <a:blip r:embed="rId17"/>
          <a:stretch/>
        </p:blipFill>
        <p:spPr>
          <a:xfrm>
            <a:off x="606600" y="4941720"/>
            <a:ext cx="1711080" cy="169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i?id=270249383-43-72"/>
          <p:cNvPicPr/>
          <p:nvPr/>
        </p:nvPicPr>
        <p:blipFill>
          <a:blip r:embed="rId18"/>
          <a:stretch/>
        </p:blipFill>
        <p:spPr>
          <a:xfrm>
            <a:off x="1041480" y="217440"/>
            <a:ext cx="1068480" cy="1425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i?id=109865420-40-72"/>
          <p:cNvPicPr/>
          <p:nvPr/>
        </p:nvPicPr>
        <p:blipFill>
          <a:blip r:embed="rId19"/>
          <a:stretch/>
        </p:blipFill>
        <p:spPr>
          <a:xfrm>
            <a:off x="5337000" y="603360"/>
            <a:ext cx="142560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68836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ный материал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. Д. Данилов. «Система оценки достижения планируемых результатов освоения основной образовательной программы начального общего образования в «Школе 2100» (технология оценивания образовательных достиже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учебных успехов)»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зентацию подготовила Смирнова Л.В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i?id=277333190-55-72"/>
          <p:cNvPicPr/>
          <p:nvPr/>
        </p:nvPicPr>
        <p:blipFill>
          <a:blip r:embed="rId1"/>
          <a:stretch/>
        </p:blipFill>
        <p:spPr>
          <a:xfrm>
            <a:off x="3059280" y="3645000"/>
            <a:ext cx="3384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11280" y="1601640"/>
            <a:ext cx="7704000" cy="499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Педагогическая диагностик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это совокупность специально подобранных и систематизированных заданий, которые позволяют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ить особенности усвоения учащимися предметных знаний, умений и навыков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явить характер трудностей ученика и установить их причины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становить уровень овладения учебной деятельностью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ценить изменения, происходящие в развитии учащих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дагогическая ди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072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едагогическая диагностика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позволяет определить особенности усвоения учащимися предметных знаний, умений и навыков Три уровня усвоения содержания ставят задачу проверки воспроизведения знаний, применения знаний в знакомой ситуации, применения знаний в незнакомой ситу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д качественным усвоением понимается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не репродуктивный уровень (ученик действует только в соответствии с инструкцией, по усвоенному образцу), а умение учащегося самостоятельно осуществлять поиск решения, применить нестандартный способ действия, использовать приобретенные знания самостоятельно и творчески; осуществлять поиск дополнительной информации в соответствии с поставленной учебной задач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нужны новые формы и методы оцен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7704000" cy="446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жно изменить инструментарий – формы и методы оце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ритетными в диагностике становя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дуктив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дания (задачи) по применению знаний и умений, предполагающие создание учеником в ходе решен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воего информационного продукта: вывода, оценк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проводи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тапредметные диагностические рабо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оставленные из компетентностных  заданий, требующих от ученика не тольк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о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ых и коммуникативны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ршенно новым для массовой школы является вводимая ФГОС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агностика результатов личностного разви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5040360" cy="30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ая диагностика предполагает проявление ученико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честв своей личн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ценки поступков, обозначение своей жизненной позиции, культурного выбора, мотивов, личностных ц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сугуб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ая сфе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этому проводить такую диагностику необходимо только в вид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персонифицированных раб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-main-pic" descr="Картинка 89 из 158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21000"/>
            <a:ext cx="2552760" cy="381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i?id=420500495-32-72"/>
          <p:cNvPicPr/>
          <p:nvPr/>
        </p:nvPicPr>
        <p:blipFill>
          <a:blip r:embed="rId3"/>
          <a:stretch/>
        </p:blipFill>
        <p:spPr>
          <a:xfrm>
            <a:off x="279360" y="260280"/>
            <a:ext cx="1628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  контроля дополняется новыми формами контроля результат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280" y="1773000"/>
            <a:ext cx="5256360" cy="43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енаправленное наблюдение (фиксация проявляемых учениками действий и качеств по заданным параметрам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амооценка ученика по принятым формам (например, лист с вопросами по саморефлексии конкретной деятельност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зультаты учебных проек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зультаты разнообразных внеучебных и внешкольных работ, достижений ученик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-main-pic" descr="Картинка 6 из 158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773360"/>
            <a:ext cx="2521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30040" y="790560"/>
            <a:ext cx="7353360" cy="52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принципиально переосмыслить, а по сути изменить традиционную оценочно-отметочную шкалу («пятибалльную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ременная шкала оценивания построена по принципу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«вычитания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ищутся ошибки, чтоб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низи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тмет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место этого предлагается переосмыслить шкалу по принципу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«прибавления»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«уровневого подхода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решение учеником даж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ст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чебной задачи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части зада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ценивать ка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езусловный успе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о на элементарном уровне, за которым следует более высокий уровень, к нему учени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ж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емить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i?id=504504022-1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83400" y="4179960"/>
            <a:ext cx="1425600" cy="137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i?id=504504022-18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101520"/>
            <a:ext cx="1425240" cy="137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i?id=504504022-1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83400" y="1403280"/>
            <a:ext cx="1425600" cy="137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?id=504504022-18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80160" y="5423040"/>
            <a:ext cx="1425600" cy="137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?id=504504022-18-7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01040" y="2801880"/>
            <a:ext cx="14256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921800" cy="122400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беспечи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ую оценк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х образовательных результатов (предметных, метапредметных и личностны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560" y="1844280"/>
            <a:ext cx="6697800" cy="374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мплексная оценка результатов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общая характеристика всего приобретённого учеником – его личностные, метапредметные и предметные результаты, которые фиксируются в таблица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е главное, что все оценки и отметки, помещаемые в таблицах нужны для принятия решений по педагогической помощи и поддержке каждого ученика в том, что ему необходимо на данном этапе его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?id=54751574-35-72"/>
          <p:cNvPicPr/>
          <p:nvPr/>
        </p:nvPicPr>
        <p:blipFill>
          <a:blip r:embed="rId1"/>
          <a:stretch/>
        </p:blipFill>
        <p:spPr>
          <a:xfrm>
            <a:off x="6948360" y="4149720"/>
            <a:ext cx="1979640" cy="2433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i?id=249980627-03-72"/>
          <p:cNvPicPr/>
          <p:nvPr/>
        </p:nvPicPr>
        <p:blipFill>
          <a:blip r:embed="rId2"/>
          <a:stretch/>
        </p:blipFill>
        <p:spPr>
          <a:xfrm>
            <a:off x="250920" y="18900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i?id=92381907-60-72"/>
          <p:cNvPicPr/>
          <p:nvPr/>
        </p:nvPicPr>
        <p:blipFill>
          <a:blip r:embed="rId3"/>
          <a:stretch/>
        </p:blipFill>
        <p:spPr>
          <a:xfrm>
            <a:off x="7667640" y="1844640"/>
            <a:ext cx="1260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ми должны быть границы применения системы оцен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4000" y="1699920"/>
            <a:ext cx="727236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введении новой системы оценки образовательных результатов необходимо установить чёткие границы и рам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епенное внедрение : от простого к сложно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имание, что система оценки результатов не даётся в законченном и неизменном виде, она будет развивать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кращение до минимума «отчётных документов» и сроков их обязательного заполнения учител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иентир только на поддержание успешности и мотивации учени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еспечение личной психологической безопасности учени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i?id=87032760-20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300640"/>
            <a:ext cx="12477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4:14:49Z</dcterms:created>
  <dc:creator>Galina</dc:creator>
  <dc:description/>
  <dc:language>en-US</dc:language>
  <cp:lastModifiedBy>Людмила В. Смирнова</cp:lastModifiedBy>
  <dcterms:modified xsi:type="dcterms:W3CDTF">2012-10-19T04:06:14Z</dcterms:modified>
  <cp:revision>22</cp:revision>
  <dc:subject/>
  <dc:title>Система оценки достижения планируемых результатов освоения основной образовательной программы начального общего образования</dc:title>
</cp:coreProperties>
</file>