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6CA9-2BAD-4950-9097-1B8D7D0B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ABD7-1CDC-4A1C-87A4-DB5EA818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4CD4-37D3-4CA9-BB4D-FC6715C1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6C21-E7E0-4238-805D-06F96918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8E23-A984-4786-998C-2B9C84C1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7B0B-C381-4F52-A09C-5CBC59BE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7AE7-E4AC-4D4E-B774-7D040355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E049-BBE5-4122-8150-1EF4737A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8E75-676D-414D-9E39-F1D8BC0D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A5CC-CD54-42D5-9B41-390FE8DA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91CE-15F2-471B-BEB6-54EC3CF7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0902-256E-41EC-A4C9-6424FCD7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2B2A-C2D1-405A-ADE5-CA41AE04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8335-AF64-4FBA-A9A3-5436B068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E78C-BD60-41B4-BD77-7F379307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17DE-F79D-4B85-9C16-5F313FCA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BE92-CE99-4C55-A913-C261248F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87CE6-A816-4B7C-B3E4-26A6D36C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70ACF-B481-402E-82BB-BC7538B8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D62B3-3AEE-4A3D-88A9-1E1D5880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9D0A0-6F30-44CF-9BC3-ACF8C716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EAE9D-2336-4644-9208-E3E241BC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EE8-170A-4ED5-BBAC-94A75050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B2B54-A2C5-4B0F-95F7-20055DDE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8A5D4-0B0A-4C75-9999-81AC5F99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6800E-FD24-415B-8C4C-D90E55B9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F4F0A-C50A-4D8B-ACA7-B21EB45E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7BCDB-0F7A-417F-BF10-FB7042C2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55D6A-18AB-4798-805C-F2A1E7D2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EE543-E525-4911-B7CC-1C903E92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87384-71A9-47FA-AF26-4FE3A820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4FFAB-9B67-4DE2-A5D2-94DF478A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FDCE9-DC7E-42F2-98D4-0C6DEEC6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2CDE-C5D3-40EC-9F25-81AC2E2A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B5B71-E73D-4407-98D4-D7A776BC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BE5C0-E7B1-42BE-ACA0-B6CE37EB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92294-FD36-4175-BEA8-AE51EE97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70A0C-99D2-42BE-AE9E-49167753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48C9F-436B-4856-AFFF-45EAF04F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DD347-F09B-484D-8BFA-35E2E1EB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FA424-E148-438A-84A1-292495A7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C5480-2D89-4812-A44E-873720BE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16885-EC30-4965-A7F0-D19B5E93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72094-0AAB-4BDC-8B25-FCEFE56B9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0E51-9D0D-4A6C-907E-5A1DBD22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FEA45-21F0-4F32-96AC-A7D153FD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29F51-A43D-4AE6-BC3C-86100029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FC0B1-20C3-47F1-AB2D-75353E8F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6321B-FFE7-473C-98A2-5A2BD4E9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5D54B-B400-41F9-B454-E1B5E63F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C194B-941E-41B0-835C-75FAFEB2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8EF09-9B93-441A-96C5-D6856CB9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33281-AC39-4A3B-8816-3272DF71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3909A-81A2-41CC-8010-EEEA8BD2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2248D-E2E3-43D2-AFD5-9FD38F3B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B09D-6887-4E48-8396-DBFCE368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8646E-5E7B-42D8-96A2-AC5A81C8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F6A1-1F6D-43C0-87F3-B7FAF6E4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F6B1-B5FF-425A-8ED8-4126BFB8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E326-443E-4B4B-9B9F-A52724C8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7F28-BAB3-40DE-AD44-E69D8173446B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5318-2FDA-408B-BF3D-3EF1F5957A98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D0A3-39AD-4528-ACB5-2F6A11304002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6CF2-9410-476A-B2E4-2FF4D1F1F990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0222-3389-40D0-8618-A7EB7DCA4BD0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1258920" y="628200"/>
            <a:ext cx="6696000" cy="1922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Haettenschweiler"/>
              </a:rPr>
              <a:t>Дифференциация  К-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116000" y="2500200"/>
            <a:ext cx="6553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: письмо и развитие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: специальная (коррекционная) программа школ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кола: МБОУ Брагинская СОШ №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-дефектолог интегрированного класса: Артемьева М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79280" y="5013360"/>
            <a:ext cx="482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Заголовок 1"/>
          <p:cNvSpPr/>
          <p:nvPr/>
        </p:nvSpPr>
        <p:spPr>
          <a:xfrm>
            <a:off x="950760" y="3321000"/>
            <a:ext cx="7242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Заголовок 1"/>
          <p:cNvSpPr/>
          <p:nvPr/>
        </p:nvSpPr>
        <p:spPr>
          <a:xfrm>
            <a:off x="1103400" y="3473280"/>
            <a:ext cx="7242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Назовите, кто нарисован на этих картинках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На какие две группы можно разделить этих животных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Давайте определим позицию звуков в этих словах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Запишите слова в тетрадь, выполните звукобуквенный анализ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Не забудем подчеркнуть парные согласные, которые изучаем сегодня на уроке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ой из парных звуков и букв « К – Г» является звонким? А какой – глухим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Какое задание выполнял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473960" cy="12366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Инструкция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Я показываю вам картинки, если в названии  предметов изображенных на картинке есть звук «К»- приседаете и встаете; звук «Г»- поднимаете и опускаете рук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Что сейчас выполняли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311040" y="291960"/>
            <a:ext cx="7394760" cy="1176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rebuchet MS"/>
              </a:rPr>
              <a:t>Задание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- спишите, добавляя слова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-буквы, которые обозначают парные глухие согласные, подчеркните одной чертой, парные – двумя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Какое задание было в упражнении?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Рисунок 3" descr="C:\Users\User\Desktop\DSCN0444.JPG"/>
          <p:cNvPicPr/>
          <p:nvPr/>
        </p:nvPicPr>
        <p:blipFill>
          <a:blip r:embed="rId2"/>
          <a:stretch/>
        </p:blipFill>
        <p:spPr>
          <a:xfrm>
            <a:off x="2071800" y="2786040"/>
            <a:ext cx="457200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9560"/>
            <a:ext cx="7238880" cy="17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Инструкция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Повторяем за мной и учимся показывать, как выглядят буквы « К и Г»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28760" y="714240"/>
            <a:ext cx="3520800" cy="54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«Сигнальщик держит два флажка. С флажками он как буква «К»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(В. Степан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177800" y="785880"/>
            <a:ext cx="352116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«Г» схожа с цаплею по виду, горбит спину буква «Г»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( А. Шибае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4" name="Рисунок 5" descr=""/>
          <p:cNvPicPr/>
          <p:nvPr/>
        </p:nvPicPr>
        <p:blipFill>
          <a:blip r:embed="rId1"/>
          <a:stretch/>
        </p:blipFill>
        <p:spPr>
          <a:xfrm>
            <a:off x="1000080" y="2714760"/>
            <a:ext cx="2143080" cy="300024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6" descr=""/>
          <p:cNvPicPr/>
          <p:nvPr/>
        </p:nvPicPr>
        <p:blipFill>
          <a:blip r:embed="rId2"/>
          <a:stretch/>
        </p:blipFill>
        <p:spPr>
          <a:xfrm>
            <a:off x="4714920" y="2571840"/>
            <a:ext cx="25002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4" descr=""/>
          <p:cNvPicPr/>
          <p:nvPr/>
        </p:nvPicPr>
        <p:blipFill>
          <a:blip r:embed="rId1"/>
          <a:stretch/>
        </p:blipFill>
        <p:spPr>
          <a:xfrm>
            <a:off x="311040" y="317520"/>
            <a:ext cx="7394760" cy="1150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V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1. Упражнение на развитие внимания, фонематического слуха «Аквариум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Инструкция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Перед вами «аквариум», в нем «плавают» картинки с изображением предметов в которых есть звуки и буквы, изучаемые нами сегодня на уроке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(Предметные картинки: мотоцикл, земляника, тигр, бегемот, грибы, гитара, рыбы, кактус, гвозди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Вам необходимо «поймать» картинки с предметами, в названии которых слышите звуки «К – Г», пишем буквы «К – Г» и распределить их на доске в два столбик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Какое упражнение выполнял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351920" cy="1150920"/>
          </a:xfrm>
          <a:prstGeom prst="rect">
            <a:avLst/>
          </a:prstGeom>
          <a:ln w="0">
            <a:noFill/>
          </a:ln>
        </p:spPr>
      </p:pic>
      <p:pic>
        <p:nvPicPr>
          <p:cNvPr id="259" name="Содержимое 3" descr="D:\фото новые\100NIKON\DSCN0402.JPG"/>
          <p:cNvPicPr/>
          <p:nvPr/>
        </p:nvPicPr>
        <p:blipFill>
          <a:blip r:embed="rId2"/>
          <a:stretch/>
        </p:blipFill>
        <p:spPr>
          <a:xfrm>
            <a:off x="1058760" y="177012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143000" y="107172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Чему учились на сегодняшнем уроке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Охарактеризуйте изученные сегодня звук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Чем они похож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Чем отличаются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ими буквами  принято обозначать эти звук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Давайте покажем, как выглядят эти буквы с помощью новых зарядок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Что нового узнали на уроке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Что вызвало у вас затруднения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V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.Итог урок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7255080" cy="1474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оронкова В.В. Русский язык: учеб. для 2 кл. специальных (коррекционных) образовательных учреждений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III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вида/ В.В. Воронкова. -М.: Гуманитар. изд. центр ВЛАДОС, 2005г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глядное пособие для педагогов, логопедов, воспитателей и родителей. Серия «Животные» в картинках. ООО «Издательство «ГНОМ и Д», 2007г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3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Оборудование: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предметные картинки,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емонстрационные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буквы, касса букв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Задачи урока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учить различать звуки и буквы «К – Г»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развивать фонематический слух, внимание через специальные (коррекционные) упражнения ; навыки грамотного письма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воспитывать положительную мотивацию к учению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785520" y="1356840"/>
            <a:ext cx="790092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.Активизирующее начало урок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1. Организационный момен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2. Повторение временных представлени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I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.Актуализация полученных знани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II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1. Упражнение на развитие внимания, фонематического слуха « Услышь звук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II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. Введение в тем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IV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. Изучение нового материал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IV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1.Работа с предметными картинкам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IV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2. Упражнение на развитие внимания, координацию движений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213920" y="857160"/>
            <a:ext cx="692964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IV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3. Работа по учебник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IV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4. Упражнение на координацию движений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V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. Закрепление изученного материал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V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1. Упражнение на развитие внимания, фонематического слуха «Аквариум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V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. Итог урок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VI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. Домашнее задани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1. Организационный момен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2. Повторение временных представлени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ой сейчас урок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ой он по счету с начала учебного дня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ой сегодня день недел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ой он по счету сначала недел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ое сегодня число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ой по счету месяц сначала года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ое время года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Назовите признаки этого времени год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1"/>
          <a:stretch/>
        </p:blipFill>
        <p:spPr>
          <a:xfrm>
            <a:off x="311040" y="244440"/>
            <a:ext cx="8382240" cy="1620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99680" y="2071800"/>
            <a:ext cx="828684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Инструкция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Я называю слова, а если в этих словах вы услышите звук «К» - хлопаете в ладоши один раз. Если услышите звук «Г» - хлопаете в ладоши два раз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(Слова: волк, гусь, медведь, суслик, ежик,  собака, галка, конь и т.п.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ое одно название можно дать всем этим словам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Что сейчас выполняли?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 называется упражнение, которое выполняли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Text Box 73"/>
          <p:cNvSpPr/>
          <p:nvPr/>
        </p:nvSpPr>
        <p:spPr>
          <a:xfrm>
            <a:off x="468360" y="5734080"/>
            <a:ext cx="41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3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Какую тему мы изучаем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 отличить звонкий от глухого согласного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ие парные согласные мы уже знаем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Вспомните и скажите, что выполняли в предыдущем упражнени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 вы думаете, о каких звуках  и буквах будем сегодня говорить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Правильно, сегодня будем изучать звуки и буквы «К – Г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Чем похожи эти звук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Чем отличаются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714240"/>
            <a:ext cx="723888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Звук «Г», который произносится с голосом, называется звонким, а звук «К»,который произносится без голоса, только с шумом называется глухи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Отыщите в кассах букв букву, обозначающую звуки «Г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rebuchet MS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» и «Г». Прочтите е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 Отыщите в кассах букв букву, обозначающую звуки «К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rebuchet MS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» и «К». Прочтите е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Кто может сказать, какие буквы будем сегодня писать на минутке чистописания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Правильно. Открываем тетради, записываем число и пишем наши буквы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768240" y="420840"/>
            <a:ext cx="8382240" cy="12985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42884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IV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1.Работа с предметными картинкам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емонстрация предметных картинок с изображением  волка, тигра, коня, гуся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Рисунок 3" descr=""/>
          <p:cNvPicPr/>
          <p:nvPr/>
        </p:nvPicPr>
        <p:blipFill>
          <a:blip r:embed="rId2"/>
          <a:stretch/>
        </p:blipFill>
        <p:spPr>
          <a:xfrm>
            <a:off x="1214280" y="2714760"/>
            <a:ext cx="1285920" cy="17715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4" descr=""/>
          <p:cNvPicPr/>
          <p:nvPr/>
        </p:nvPicPr>
        <p:blipFill>
          <a:blip r:embed="rId3"/>
          <a:stretch/>
        </p:blipFill>
        <p:spPr>
          <a:xfrm>
            <a:off x="2643120" y="2714760"/>
            <a:ext cx="2571840" cy="17715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5" descr=""/>
          <p:cNvPicPr/>
          <p:nvPr/>
        </p:nvPicPr>
        <p:blipFill>
          <a:blip r:embed="rId4"/>
          <a:stretch/>
        </p:blipFill>
        <p:spPr>
          <a:xfrm>
            <a:off x="2643120" y="4643280"/>
            <a:ext cx="3521160" cy="17719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6" descr=""/>
          <p:cNvPicPr/>
          <p:nvPr/>
        </p:nvPicPr>
        <p:blipFill>
          <a:blip r:embed="rId5"/>
          <a:stretch/>
        </p:blipFill>
        <p:spPr>
          <a:xfrm>
            <a:off x="5357880" y="2786040"/>
            <a:ext cx="2625480" cy="177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9T09:17:43Z</dcterms:created>
  <dc:creator>МИМЦ</dc:creator>
  <dc:description/>
  <dc:language>en-US</dc:language>
  <cp:lastModifiedBy>Олег</cp:lastModifiedBy>
  <dcterms:modified xsi:type="dcterms:W3CDTF">2013-04-26T10:55:28Z</dcterms:modified>
  <cp:revision>38</cp:revision>
  <dc:subject/>
  <dc:title>Слайд 1</dc:title>
</cp:coreProperties>
</file>