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C80D-24DC-4C8A-AB28-68AE501A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843A-CAC2-4BE8-BB1E-00ABFE9D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ABD-29CF-4004-94EF-DFE73742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905B-F429-4500-96F9-39060D01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EF2B-03CF-4458-85E2-11C22F4F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DBA0-B95C-480C-B940-8B9E19ED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B7C4-2955-4242-9AD7-B17E1127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DC87-93D7-4168-84D2-501DB887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8576-108D-41F8-AA05-2ED2D6E5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E158-95AA-44C6-B421-5E82455C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507C-4405-419C-83CF-3F62C217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DB6-4855-43D2-B86F-4F527C43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C12C-700A-4262-AB87-D433288A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92CF-0262-45A3-97D6-E9635FEE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A661-AA8A-400F-AC56-29C1F982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84A6-49B9-4031-9179-FC5CF9BF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ED88-74D1-4678-B9FD-56D36256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F9123-ED6B-441B-B323-02F06FFB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B7BF8-22F5-4313-B7BF-F8E0482E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AB527-BA02-4003-AFE6-0A2DF28A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D90E5-0418-4D7A-984A-19049578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20478-28FB-432A-B7F7-4415E44A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07E-99BB-4661-AA0D-05510DCD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2D13B-9199-41D5-A0A5-FF0DF0B2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87ED9-046B-40D8-BD5F-CB827F2C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CB97A-152A-4A14-8EB4-E6D8999E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A8153-4DA8-4E8E-A66A-FEE480C4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6D747-11D8-4995-ACE3-CF01E125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D4055-18E3-4A0B-A2B7-DAFFFBDB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A8DD-321E-4769-A4B8-182A92BB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D879E-1142-431B-9446-E38323C5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B50D3-1F07-4A88-A2C2-DCA980FB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85790-EE8B-4BFA-8FF8-AA8B1E50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3FF-A97E-4AC0-9B00-5FBF8004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480BA-FD0A-47F4-A378-AC1C0B11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0E57B-7186-478B-9A32-496EA28F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4A3CA-F8EF-4C7E-AEFE-2537BB75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2650D-C819-40FD-950C-FC59DF47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8A50A-54C8-4DB2-90CA-E4E7904A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9CF21-DF76-4531-8FA0-AAF0FA26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F16E1-C986-40E0-9DCD-15DF5189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CCB82-F540-405B-AE7A-5CAA0099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8B5AE-70ED-4AE3-8BAA-266F08A5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0E380-7557-447C-A672-D76D1234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F08-970B-4BED-A06C-CEE963B3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E86FF-2BD5-40CE-B309-DCC48F2E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C40FF-51FA-4C8D-AB09-36808AC5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8896D-74CA-48AC-97EA-4FA1D087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CD937-7A13-49D9-BD5B-2C336F8C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A09C0-6419-4056-A693-BEF738A3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7C927-8D21-4BA1-8D62-9FA7C60D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D0AE8-3C62-4329-89F9-96198609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D35D9-75D0-4FF9-ABDD-58872DA9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0E988-6F60-4216-8DBD-60B7CD55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AC001-1F7A-487D-9406-7A77EA3F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CC3-8D57-4567-9724-B1560981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E52AD-1BA2-40B6-9BC1-B81B9AC2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E0B-8AA7-4A66-B41A-9DDEE0BF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BC2A-C54F-451E-9CDB-EACAB6A5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3230-6359-49DF-BE99-29523CFA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824E-AD37-4695-B4C8-6E659CF7ECCA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EF6F-86D6-45AB-BA2A-9B9C638CED5A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37FD-3355-46EE-A918-C762988180FA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6BD1-0292-4C55-9657-9474E93F320E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122D-02A1-4C0B-8DF4-5B1FB3392882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1258920" y="628200"/>
            <a:ext cx="6696000" cy="1922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Haettenschweiler"/>
              </a:rPr>
              <a:t>Дифференциация  К-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116000" y="2500200"/>
            <a:ext cx="6553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: письмо и развитие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: специальная (коррекционная) программа школ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кола: МБОУ Брагинская СОШ №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-дефектолог интегрированного класса: Артемьева М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79280" y="5013360"/>
            <a:ext cx="482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Заголовок 1"/>
          <p:cNvSpPr/>
          <p:nvPr/>
        </p:nvSpPr>
        <p:spPr>
          <a:xfrm>
            <a:off x="950760" y="3321000"/>
            <a:ext cx="7242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Заголовок 1"/>
          <p:cNvSpPr/>
          <p:nvPr/>
        </p:nvSpPr>
        <p:spPr>
          <a:xfrm>
            <a:off x="1103400" y="3473280"/>
            <a:ext cx="7242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Назовите, кто нарисован на этих картинках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На какие две группы можно разделить этих животных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Давайте определим позицию звуков в этих словах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Запишите слова в тетрадь, выполните звукобуквенный анализ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Не забудем подчеркнуть парные согласные, которые изучаем сегодня на уроке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й из парных звуков и букв « К – Г» является звонким? А какой – глухим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Какое задание выполнял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473960" cy="12366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Инструкци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Я показываю вам картинки, если в названии  предметов изображенных на картинке есть звук «К»- приседаете и встаете; звук «Г»- поднимаете и опускаете рук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Что сейчас выполняли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311040" y="291960"/>
            <a:ext cx="7394760" cy="1176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Задание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- спишите, добавляя слова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-буквы, которые обозначают парные глухие согласные, подчеркните одной чертой, парные – двум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Какое задание было в упражнении?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Рисунок 3" descr="C:\Users\User\Desktop\DSCN0444.JPG"/>
          <p:cNvPicPr/>
          <p:nvPr/>
        </p:nvPicPr>
        <p:blipFill>
          <a:blip r:embed="rId2"/>
          <a:stretch/>
        </p:blipFill>
        <p:spPr>
          <a:xfrm>
            <a:off x="2071800" y="2786040"/>
            <a:ext cx="45720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560"/>
            <a:ext cx="7238880" cy="17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Инструкци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Повторяем за мной и учимся показывать, как выглядят буквы « К и Г»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28760" y="714240"/>
            <a:ext cx="352080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«Сигнальщик держит два флажка. С флажками он как буква «К»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В. Степан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177800" y="785880"/>
            <a:ext cx="35211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«Г» схожа с цаплею по виду, горбит спину буква «Г»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 А. Шибае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Рисунок 5" descr=""/>
          <p:cNvPicPr/>
          <p:nvPr/>
        </p:nvPicPr>
        <p:blipFill>
          <a:blip r:embed="rId1"/>
          <a:stretch/>
        </p:blipFill>
        <p:spPr>
          <a:xfrm>
            <a:off x="1000080" y="2714760"/>
            <a:ext cx="2143080" cy="300024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6" descr=""/>
          <p:cNvPicPr/>
          <p:nvPr/>
        </p:nvPicPr>
        <p:blipFill>
          <a:blip r:embed="rId2"/>
          <a:stretch/>
        </p:blipFill>
        <p:spPr>
          <a:xfrm>
            <a:off x="4714920" y="2571840"/>
            <a:ext cx="2500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4" descr=""/>
          <p:cNvPicPr/>
          <p:nvPr/>
        </p:nvPicPr>
        <p:blipFill>
          <a:blip r:embed="rId1"/>
          <a:stretch/>
        </p:blipFill>
        <p:spPr>
          <a:xfrm>
            <a:off x="311040" y="317520"/>
            <a:ext cx="739476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 Упражнение на развитие внимания, фонематического слуха «Аквариум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Инструкци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Перед вами «аквариум», в нем «плавают» картинки с изображением предметов в которых есть звуки и буквы, изучаемые нами сегодня на уроке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Предметные картинки: мотоцикл, земляника, тигр, бегемот, грибы, гитара, рыбы, кактус, гвозди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Вам необходимо «поймать» картинки с предметами, в названии которых слышите звуки «К – Г», пишем буквы «К – Г» и распределить их на доске в два столби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Какое упражнение выполнял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351920" cy="1150920"/>
          </a:xfrm>
          <a:prstGeom prst="rect">
            <a:avLst/>
          </a:prstGeom>
          <a:ln w="0">
            <a:noFill/>
          </a:ln>
        </p:spPr>
      </p:pic>
      <p:pic>
        <p:nvPicPr>
          <p:cNvPr id="259" name="Содержимое 3" descr="D:\фото новые\100NIKON\DSCN0402.JPG"/>
          <p:cNvPicPr/>
          <p:nvPr/>
        </p:nvPicPr>
        <p:blipFill>
          <a:blip r:embed="rId2"/>
          <a:stretch/>
        </p:blipFill>
        <p:spPr>
          <a:xfrm>
            <a:off x="1058760" y="177012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143000" y="107172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Чему учились на сегодняшнем уроке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Охарактеризуйте изученные сегодня звук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Чем они похож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Чем отличаются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ими буквами  принято обозначать эти звук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Давайте покажем, как выглядят эти буквы с помощью новых зарядок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Что нового узнали на уроке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Что вызвало у вас затруднения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V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.Итог урок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255080" cy="1474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оронкова В.В. Русский язык: учеб. для 2 кл. специальных (коррекционных) образовательных учреждений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III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вида/ В.В. Воронкова. -М.: Гуманитар. изд. центр ВЛАДОС, 2005г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глядное пособие для педагогов, логопедов, воспитателей и родителей. Серия «Животные» в картинках. ООО «Издательство «ГНОМ и Д», 2007г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3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Оборудование: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предметные картинки,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емонстрационные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буквы, касса букв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учить различать звуки и буквы «К – Г»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развивать фонематический слух, внимание через специальные (коррекционные) упражнения ; навыки грамотного письма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 воспитывать положительную мотивацию к учению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785520" y="1356840"/>
            <a:ext cx="790092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Активизирующее начало уро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 Организационный момен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2. Повторение временных представлени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Актуализация полученных знани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I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 Упражнение на развитие внимания, фонематического слуха « Услышь звук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 Введение в тем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V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 Изучение нового материал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Работа с предметными картинкам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2. Упражнение на развитие внимания, координацию движени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213920" y="857160"/>
            <a:ext cx="69296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3. Работа по учебник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4. Упражнение на координацию движений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V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 Закрепление изученного материал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 Упражнение на развитие внимания, фонематического слуха «Аквариум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V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 Итог уро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VI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. Домашнее задани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 Организационный момен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2. Повторение временных представлени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й сейчас урок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й он по счету с начала учебного дня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й сегодня день недел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й он по счету сначала недел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е сегодня число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й по счету месяц сначала года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е время года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Назовите признаки этого времени год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311040" y="244440"/>
            <a:ext cx="8382240" cy="1620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99680" y="2071800"/>
            <a:ext cx="828684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Инструкци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Я называю слова, а если в этих словах вы услышите звук «К» - хлопаете в ладоши один раз. Если услышите звук «Г» - хлопаете в ладоши два раз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(Слова: волк, гусь, медведь, суслик, ежик,  собака, галка, конь и т.п.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ое одно название можно дать всем этим словам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Что сейчас выполняли?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 называется упражнение, которое выполняли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Text Box 73"/>
          <p:cNvSpPr/>
          <p:nvPr/>
        </p:nvSpPr>
        <p:spPr>
          <a:xfrm>
            <a:off x="468360" y="5734080"/>
            <a:ext cx="41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3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Какую тему мы изучаем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 отличить звонкий от глухого согласного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ие парные согласные мы уже знаем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Вспомните и скажите, что выполняли в предыдущем упражнени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Как вы думаете, о каких звуках  и буквах будем сегодня говорить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Правильно, сегодня будем изучать звуки и буквы «К – Г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Чем похожи эти звук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Чем отличаются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714240"/>
            <a:ext cx="72388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Звук «Г», который произносится с голосом, называется звонким, а звук «К»,который произносится без голоса, только с шумом называется глухи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Отыщите в кассах букв букву, обозначающую звуки «Г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» и «Г». Прочтите е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 Отыщите в кассах букв букву, обозначающую звуки «К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» и «К». Прочтите е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Кто может сказать, какие буквы будем сегодня писать на минутке чистописания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Правильно. Открываем тетради, записываем число и пишем наши букв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768240" y="420840"/>
            <a:ext cx="8382240" cy="12985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1.Работа с предметными картинкам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емонстрация предметных картинок с изображением  волка, тигра, коня, гуся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Рисунок 3" descr=""/>
          <p:cNvPicPr/>
          <p:nvPr/>
        </p:nvPicPr>
        <p:blipFill>
          <a:blip r:embed="rId2"/>
          <a:stretch/>
        </p:blipFill>
        <p:spPr>
          <a:xfrm>
            <a:off x="1214280" y="2714760"/>
            <a:ext cx="1285920" cy="17715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"/>
          <p:cNvPicPr/>
          <p:nvPr/>
        </p:nvPicPr>
        <p:blipFill>
          <a:blip r:embed="rId3"/>
          <a:stretch/>
        </p:blipFill>
        <p:spPr>
          <a:xfrm>
            <a:off x="2643120" y="2714760"/>
            <a:ext cx="2571840" cy="17715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"/>
          <p:cNvPicPr/>
          <p:nvPr/>
        </p:nvPicPr>
        <p:blipFill>
          <a:blip r:embed="rId4"/>
          <a:stretch/>
        </p:blipFill>
        <p:spPr>
          <a:xfrm>
            <a:off x="2643120" y="4643280"/>
            <a:ext cx="3521160" cy="1771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"/>
          <p:cNvPicPr/>
          <p:nvPr/>
        </p:nvPicPr>
        <p:blipFill>
          <a:blip r:embed="rId5"/>
          <a:stretch/>
        </p:blipFill>
        <p:spPr>
          <a:xfrm>
            <a:off x="5357880" y="2786040"/>
            <a:ext cx="2625480" cy="177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09:17:43Z</dcterms:created>
  <dc:creator>МИМЦ</dc:creator>
  <dc:description/>
  <dc:language>en-US</dc:language>
  <cp:lastModifiedBy>Олег</cp:lastModifiedBy>
  <dcterms:modified xsi:type="dcterms:W3CDTF">2013-04-26T10:55:28Z</dcterms:modified>
  <cp:revision>38</cp:revision>
  <dc:subject/>
  <dc:title>Слайд 1</dc:title>
</cp:coreProperties>
</file>