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302-0234-4540-BA20-A64F332C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DFC-8A60-4A35-8447-5EBFEA56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9F1-DBEE-4A76-948A-0FD9782E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FCE-81BD-4D09-9C9C-C5274AD0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0C36-241B-4EFE-805A-CC792181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2AC3-127D-48C8-8F6A-1B593DC9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C690-3C0A-42B0-BA79-1C3126DC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6486-0129-4C52-8BE1-BCAA0972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44E3-7951-48CE-A478-A5908CAD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6FA2-96B9-4C43-A255-BA6D0A08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6CB7-7603-40B9-A1E5-1880270C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751-A66C-43AA-BB54-B0DCAFBC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C4D7-D293-42AD-ABD4-C9DF5BAD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A67A-36D0-4792-ACB5-C8A9EACA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C653-17BE-47EE-B368-A6698CA4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06A2-4BDF-4C09-A788-E19EB8FE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A57C-0DEB-4096-9C0F-245A8C51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DA316-C31C-4080-AAE3-B7D9C96D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C7B9-3E4C-4A94-9B48-43C8E400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9AE2-CA84-49AF-B3A4-DAA3AA59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D12BF-7BF0-4DE6-9880-D7B82D22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3B99-A06A-41C9-BFE1-FA216D5D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E38-AFF7-42FB-B547-92003F13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4774-C1C1-4C28-B46A-1B5B8201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6C59-43CA-43BA-A3BB-D1120FA8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290D-48D8-4057-90C2-18790DCC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57EE-C175-4505-99D8-76DBB9A4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44D8E-895C-41D1-AD63-99B45146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453D6-95E0-425B-BD36-6B7AB7AF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0904C-41AC-4703-9875-708876ED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15BA2-E6A7-47AC-83B4-1A345CD7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69BDE-DE7E-4F84-BF41-11A96044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9759F-4E7F-466F-8A60-965D1863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540-534B-4A11-9122-56FBAE5B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D0811-4B97-434F-947C-23412238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4014F-17F8-4C1E-9E3E-63A90F1C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D44F3-5208-4B59-9A4E-E60BC657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CEA99-A5FF-4116-9D6D-FF742A93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1A047-A145-4872-8CB9-6766FB06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805B4-6FEF-4D4D-8E3B-280D66A6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96B32-D97C-4427-BD66-DEDFBECF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7F937-D62A-428E-8E4C-2EDBC4F1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F31A-D4AB-40F0-BE49-13A777B6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F40B5-C00E-41C8-AFEE-121E4759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C56-5AD4-426B-ACD6-17E7830C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D1AF-DF1C-4A9F-8B48-4E2A4A69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2DD24-D636-4905-BA29-3C106D63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109C4-FD44-4A06-B8B5-86402750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A0364-246E-477D-8F50-1D68E830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626D0-752B-42DB-B4C2-E426F46B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3C2B9-163B-450B-8BAF-D5C49764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54B01-5E1E-4885-A9EE-6EAB0293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D8A79-4294-494C-B207-E6702D9E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857A9-BE6E-4F9A-8345-D408B7F1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93D09-2449-4962-A2B7-D1442EB5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7A2-FDC6-4FAE-9412-EC020D14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DFE76-1E59-4D02-82A7-8C558715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EDA-6248-428E-93F4-7CDC2DA2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D42-A19E-45E5-BF87-47266FEA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E89-3445-4AC2-BA0A-881F85A7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CE2C-3D5D-435F-A631-A33CFB4C15B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CE12-0230-4506-9228-CBF05C7C46E9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DEC4-5EF9-4E56-AB23-66B34C84F6B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8092-C874-44B2-8D35-A377CF479660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DEDE-F77E-407E-A4E5-F553966CE2E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1258920" y="628200"/>
            <a:ext cx="6696000" cy="1922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Haettenschweiler"/>
              </a:rPr>
              <a:t>Дифференциация  К-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116000" y="2500200"/>
            <a:ext cx="655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: письмо и развитие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: специальная (коррекционная) программа шко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а: МБОУ Брагинская СОШ №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-дефектолог интегрированного класса: Артемьева М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79280" y="5013360"/>
            <a:ext cx="482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головок 1"/>
          <p:cNvSpPr/>
          <p:nvPr/>
        </p:nvSpPr>
        <p:spPr>
          <a:xfrm>
            <a:off x="950760" y="3321000"/>
            <a:ext cx="7242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1103400" y="3473280"/>
            <a:ext cx="7242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Назовите, кто нарисован на этих картинка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На какие две группы можно разделить этих животны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Давайте определим позицию звуков в этих слова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Запишите слова в тетрадь, выполните звукобуквенный анализ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Не забудем подчеркнуть парные согласные, которые изучаем сегодня на уроке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из парных звуков и букв « К – Г» является звонким? А какой – глухим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акое задание выполнял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473960" cy="1236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нструкц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Я показываю вам картинки, если в названии  предметов изображенных на картинке есть звук «К»- приседаете и встаете; звук «Г»- поднимаете и опускаете ру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Что сейчас выполняли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311040" y="291960"/>
            <a:ext cx="7394760" cy="1176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Задание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- спишите, добавляя слова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-буквы, которые обозначают парные глухие согласные, подчеркните одной чертой, парные – двум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Какое задание было в упражнении?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Рисунок 3" descr="C:\Users\User\Desktop\DSCN0444.JPG"/>
          <p:cNvPicPr/>
          <p:nvPr/>
        </p:nvPicPr>
        <p:blipFill>
          <a:blip r:embed="rId2"/>
          <a:stretch/>
        </p:blipFill>
        <p:spPr>
          <a:xfrm>
            <a:off x="2071800" y="2786040"/>
            <a:ext cx="45720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560"/>
            <a:ext cx="7238880" cy="17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нструкц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Повторяем за мной и учимся показывать, как выглядят буквы « К и Г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28760" y="714240"/>
            <a:ext cx="352080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«Сигнальщик держит два флажка. С флажками он как буква «К»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В. Степан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177800" y="785880"/>
            <a:ext cx="35211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«Г» схожа с цаплею по виду, горбит спину буква «Г»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 А. Шибае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Рисунок 5" descr=""/>
          <p:cNvPicPr/>
          <p:nvPr/>
        </p:nvPicPr>
        <p:blipFill>
          <a:blip r:embed="rId1"/>
          <a:stretch/>
        </p:blipFill>
        <p:spPr>
          <a:xfrm>
            <a:off x="1000080" y="2714760"/>
            <a:ext cx="2143080" cy="30002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6" descr=""/>
          <p:cNvPicPr/>
          <p:nvPr/>
        </p:nvPicPr>
        <p:blipFill>
          <a:blip r:embed="rId2"/>
          <a:stretch/>
        </p:blipFill>
        <p:spPr>
          <a:xfrm>
            <a:off x="4714920" y="2571840"/>
            <a:ext cx="2500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311040" y="317520"/>
            <a:ext cx="739476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Упражнение на развитие внимания, фонематического слуха «Аквариум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нструкц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Перед вами «аквариум», в нем «плавают» картинки с изображением предметов в которых есть звуки и буквы, изучаемые нами сегодня на урок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Предметные картинки: мотоцикл, земляника, тигр, бегемот, грибы, гитара, рыбы, кактус, гвозди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Вам необходимо «поймать» картинки с предметами, в названии которых слышите звуки «К – Г», пишем буквы «К – Г» и распределить их на доске в два столб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акое упражнение выполнял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351920" cy="1150920"/>
          </a:xfrm>
          <a:prstGeom prst="rect">
            <a:avLst/>
          </a:prstGeom>
          <a:ln w="0">
            <a:noFill/>
          </a:ln>
        </p:spPr>
      </p:pic>
      <p:pic>
        <p:nvPicPr>
          <p:cNvPr id="259" name="Содержимое 3" descr="D:\фото новые\100NIKON\DSCN0402.JPG"/>
          <p:cNvPicPr/>
          <p:nvPr/>
        </p:nvPicPr>
        <p:blipFill>
          <a:blip r:embed="rId2"/>
          <a:stretch/>
        </p:blipFill>
        <p:spPr>
          <a:xfrm>
            <a:off x="1058760" y="1770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143000" y="107172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Чему учились на сегодняшнем урок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Охарактеризуйте изученные сегодня звук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ем они похож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ем отличаютс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ими буквами  принято обозначать эти звук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Давайте покажем, как выглядят эти буквы с помощью новых зарядок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Что нового узнали на урок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Что вызвало у вас затруднени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.Итог уро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255080" cy="1474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ронкова В.В. Русский язык: учеб. для 2 кл. специальных (коррекционных) образовательных учреждений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I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вида/ В.В. Воронкова. -М.: Гуманитар. изд. центр ВЛАДОС, 2005г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глядное пособие для педагогов, логопедов, воспитателей и родителей. Серия «Животные» в картинках. ООО «Издательство «ГНОМ и Д», 2007г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3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Оборудование: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предметные картинки,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монстрационные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буквы, касса бук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учить различать звуки и буквы «К – Г»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развивать фонематический слух, внимание через специальные (коррекционные) упражнения ; навыки грамотного письм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воспитывать положительную мотивацию к учению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785520" y="1356840"/>
            <a:ext cx="79009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Активизирующее начало уро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Организационный момен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2. Повторение временных представле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Актуализация полученных зна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Упражнение на развитие внимания, фонематического слуха « Услышь звук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Введение в тем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Изучение нового материал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Работа с предметными картинка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2. Упражнение на развитие внимания, координацию движени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213920" y="857160"/>
            <a:ext cx="69296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3. Работа по учебник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4. Упражнение на координацию движени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Закрепление изученного материал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Упражнение на развитие внимания, фонематического слуха «Аквариум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Итог уро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V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Домашнее задани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Организационный момен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2. Повторение временных представле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сейчас уро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он по счету с начала учебного дн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сегодня день недел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он по счету сначала недел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е сегодня число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по счету месяц сначала года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е время года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Назовите признаки этого времени год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311040" y="244440"/>
            <a:ext cx="8382240" cy="1620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99680" y="2071800"/>
            <a:ext cx="828684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нструкц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 называю слова, а если в этих словах вы услышите звук «К» - хлопаете в ладоши один раз. Если услышите звук «Г» - хлопаете в ладоши два раз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(Слова: волк, гусь, медведь, суслик, ежик,  собака, галка, конь и т.п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е одно название можно дать всем этим словам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то сейчас выполняли?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 называется упражнение, которое выполняли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Text Box 73"/>
          <p:cNvSpPr/>
          <p:nvPr/>
        </p:nvSpPr>
        <p:spPr>
          <a:xfrm>
            <a:off x="468360" y="573408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3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акую тему мы изучаем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 отличить звонкий от глухого согласного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ие парные согласные мы уже знаем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Вспомните и скажите, что выполняли в предыдущем упражнени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 вы думаете, о каких звуках  и буквах будем сегодня говорить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Правильно, сегодня будем изучать звуки и буквы «К – Г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ем похожи эти звук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ем отличаютс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714240"/>
            <a:ext cx="7238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Звук «Г», который произносится с голосом, называется звонким, а звук «К»,который произносится без голоса, только с шумом называется глухи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Отыщите в кассах букв букву, обозначающую звуки «Г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» и «Г». Прочтите е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 Отыщите в кассах букв букву, обозначающую звуки «К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» и «К». Прочтите е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то может сказать, какие буквы будем сегодня писать на минутке чистописани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Правильно. Открываем тетради, записываем число и пишем наши букв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768240" y="420840"/>
            <a:ext cx="8382240" cy="1298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Работа с предметными картинка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монстрация предметных картинок с изображением  волка, тигра, коня, гуся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Рисунок 3" descr=""/>
          <p:cNvPicPr/>
          <p:nvPr/>
        </p:nvPicPr>
        <p:blipFill>
          <a:blip r:embed="rId2"/>
          <a:stretch/>
        </p:blipFill>
        <p:spPr>
          <a:xfrm>
            <a:off x="1214280" y="2714760"/>
            <a:ext cx="1285920" cy="17715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"/>
          <p:cNvPicPr/>
          <p:nvPr/>
        </p:nvPicPr>
        <p:blipFill>
          <a:blip r:embed="rId3"/>
          <a:stretch/>
        </p:blipFill>
        <p:spPr>
          <a:xfrm>
            <a:off x="2643120" y="2714760"/>
            <a:ext cx="2571840" cy="1771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"/>
          <p:cNvPicPr/>
          <p:nvPr/>
        </p:nvPicPr>
        <p:blipFill>
          <a:blip r:embed="rId4"/>
          <a:stretch/>
        </p:blipFill>
        <p:spPr>
          <a:xfrm>
            <a:off x="2643120" y="4643280"/>
            <a:ext cx="3521160" cy="1771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"/>
          <p:cNvPicPr/>
          <p:nvPr/>
        </p:nvPicPr>
        <p:blipFill>
          <a:blip r:embed="rId5"/>
          <a:stretch/>
        </p:blipFill>
        <p:spPr>
          <a:xfrm>
            <a:off x="5357880" y="2786040"/>
            <a:ext cx="2625480" cy="177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9:17:43Z</dcterms:created>
  <dc:creator>МИМЦ</dc:creator>
  <dc:description/>
  <dc:language>en-US</dc:language>
  <cp:lastModifiedBy>Олег</cp:lastModifiedBy>
  <dcterms:modified xsi:type="dcterms:W3CDTF">2013-04-26T10:55:28Z</dcterms:modified>
  <cp:revision>38</cp:revision>
  <dc:subject/>
  <dc:title>Слайд 1</dc:title>
</cp:coreProperties>
</file>