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BB2-7BDC-4DB8-8967-A4475A96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865-16EB-46CE-9905-B0317910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366-BB8A-40FF-9FA0-48D3CDB3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95E-C012-451C-A8F0-BD38BA6B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775E-5B0F-48E7-B5D5-3D1FED46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1893-251A-4F8E-9244-276F5FB0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4B8B-72C2-4CA3-A1D9-ABBDF27D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E3A4-ECC1-4EA2-A01C-BFDDCE5E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F82E-D489-460B-8732-ABF17EA3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6656-7381-4CEA-B273-9DBC3A6A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4298-C1D9-4ACA-8F9F-28F3B4A2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0A5-4F3B-4358-A62D-11B49510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DD70-ADDF-4CB6-9649-6D5B7AF3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2841-7D82-42C1-BF65-AFBA365C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2AB0-498B-4107-A9B7-3EFE927C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3006-F5DE-4CE1-B623-876FED6E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B8E8-AFED-44B3-9976-DC258372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548-B0B6-4156-8ABB-908127C6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2420-9E0D-4266-851F-A4EC61E7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804-FFA9-4862-B59D-7D6071F5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DC4-AF4E-430D-A679-D4E093DD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C1A3-3BFF-4421-904F-3841EDC1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73F-5BDA-4959-B4DB-E4F250F3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6CB-C196-44C4-9254-F81AFF79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ABC6-01C2-49C4-BA09-2D3AD1CCC2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6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94C7-B898-43FF-BB29-1652E3B58B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&#1047;&#1072;&#1082;&#1072;&#1083;&#1080;&#1074;&#1072;&#1085;&#1080;&#1077; &#1086;&#1088;&#1075;&#1072;&#1085;&#1080;&#1079;&#1084;&#1072;.ppt" TargetMode="External"/><Relationship Id="rId3" Type="http://schemas.openxmlformats.org/officeDocument/2006/relationships/hyperlink" Target="&#1041;&#1091;&#1082;&#1083;&#1077;&#1090; &#1091;&#1095;&#1077;&#1085;&#1080;&#1095;&#1077;&#1089;&#1082;&#1080;&#1081;.pub" TargetMode="External"/><Relationship Id="rId4" Type="http://schemas.openxmlformats.org/officeDocument/2006/relationships/image" Target="../media/image1.png"/><Relationship Id="rId5" Type="http://schemas.openxmlformats.org/officeDocument/2006/relationships/hyperlink" Target="&#1042;&#1080;&#1079;&#1080;&#1090;&#1085;&#1072;&#1103; &#1082;&#1072;&#1088;&#1090;&#1072; &#1087;&#1088;&#1086;&#1077;&#1082;&#1090;&#1072;.doc" TargetMode="External"/><Relationship Id="rId6" Type="http://schemas.openxmlformats.org/officeDocument/2006/relationships/hyperlink" Target="&#1043;&#1088;&#1072;&#1084;&#1086;&#1090;&#1072;.pub" TargetMode="External"/><Relationship Id="rId7" Type="http://schemas.openxmlformats.org/officeDocument/2006/relationships/hyperlink" Target="&#1043;&#1088;&#1072;&#1084;&#1086;&#1090;&#1072; 2.pub" TargetMode="External"/><Relationship Id="rId8" Type="http://schemas.openxmlformats.org/officeDocument/2006/relationships/hyperlink" Target="&#1041;&#1091;&#1082;&#1083;&#1077;&#1090;.pub" TargetMode="Externa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0360" y="2997000"/>
            <a:ext cx="57578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 Black"/>
              </a:rPr>
              <a:t>Тема :</a:t>
            </a:r>
            <a:br>
              <a:rPr sz="2400"/>
            </a:br>
            <a:r>
              <a:rPr b="1" i="1" lang="ru-RU" sz="3600" spc="-1" strike="noStrike">
                <a:solidFill>
                  <a:srgbClr val="ffff99"/>
                </a:solidFill>
                <a:latin typeface="Arial"/>
              </a:rPr>
              <a:t>Здоровье подростков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24000" y="2012400"/>
            <a:ext cx="82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В здоровом теле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132000" y="4723920"/>
            <a:ext cx="554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усев Юрий Викторович – учитель физкультур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1844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Результаты исследования групп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71640" y="1988640"/>
            <a:ext cx="38275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- презентац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- график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- букл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4" descr="SL01395_"/>
          <p:cNvPicPr/>
          <p:nvPr/>
        </p:nvPicPr>
        <p:blipFill>
          <a:blip r:embed="rId1"/>
          <a:stretch/>
        </p:blipFill>
        <p:spPr>
          <a:xfrm>
            <a:off x="6156360" y="1484280"/>
            <a:ext cx="208440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10920" y="1557000"/>
            <a:ext cx="47530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оисковый эта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думывание темы проек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бор приема создания проблемной ситуац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ановка цели проек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4" descr="CRTN008"/>
          <p:cNvPicPr/>
          <p:nvPr/>
        </p:nvPicPr>
        <p:blipFill>
          <a:blip r:embed="rId4"/>
          <a:stretch/>
        </p:blipFill>
        <p:spPr>
          <a:xfrm>
            <a:off x="6372360" y="1557360"/>
            <a:ext cx="2082600" cy="3701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16000" y="1599840"/>
            <a:ext cx="57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Аналитический этап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нализ имеющейся информации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бор и изучение недостающей информ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тбор содерж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ектирование всех этапов рабо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11280" y="158400"/>
            <a:ext cx="447516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284360" y="1628640"/>
            <a:ext cx="43909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</a:rPr>
              <a:t>Основно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Практический эта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ализация этапов деятельности ученика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кущий контрол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несение изменений в планировани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4" descr="J0101867"/>
          <p:cNvPicPr/>
          <p:nvPr/>
        </p:nvPicPr>
        <p:blipFill>
          <a:blip r:embed="rId1"/>
          <a:stretch/>
        </p:blipFill>
        <p:spPr>
          <a:xfrm>
            <a:off x="324000" y="189000"/>
            <a:ext cx="3744720" cy="2530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27280" y="1557000"/>
            <a:ext cx="6121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</a:rPr>
              <a:t>Рефлексивно-оценоч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ализ соответствия цели и результаты проект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ценка эффективности и оптимальности деятельности педагог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4" descr="J0101858"/>
          <p:cNvPicPr/>
          <p:nvPr/>
        </p:nvPicPr>
        <p:blipFill>
          <a:blip r:embed="rId1"/>
          <a:stretch/>
        </p:blipFill>
        <p:spPr>
          <a:xfrm>
            <a:off x="179280" y="1268280"/>
            <a:ext cx="2478240" cy="3745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остав УМП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771280" y="1600200"/>
            <a:ext cx="5915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зультаты деятельности учащих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Букл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рганизационные материалы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Визит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Грамота 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Грамота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Букл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чебники по ОБЖ и физической культур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ая литерату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терне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8" descr="HH00546_"/>
          <p:cNvPicPr/>
          <p:nvPr/>
        </p:nvPicPr>
        <p:blipFill>
          <a:blip r:embed="rId4"/>
          <a:stretch/>
        </p:blipFill>
        <p:spPr>
          <a:xfrm>
            <a:off x="4572000" y="1844640"/>
            <a:ext cx="3519360" cy="360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Контактная информация: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03848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ировская область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ижанский район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. Безводно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л. Советская, д. 2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Шарыгины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лександр Александрович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 Надежда Валерьев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7" descr="Рисунок15"/>
          <p:cNvPicPr/>
          <p:nvPr/>
        </p:nvPicPr>
        <p:blipFill>
          <a:blip r:embed="rId1"/>
          <a:stretch/>
        </p:blipFill>
        <p:spPr>
          <a:xfrm>
            <a:off x="4356000" y="1673280"/>
            <a:ext cx="4330800" cy="438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5"/>
          <p:cNvSpPr txBox="1"/>
          <p:nvPr/>
        </p:nvSpPr>
        <p:spPr>
          <a:xfrm>
            <a:off x="1619280" y="476280"/>
            <a:ext cx="6696000" cy="294012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лагодарим за внима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Arial"/>
              </a:rPr>
              <a:t>Краткая аннотация проект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проект предназначен для учащихся 7-9 классов школ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охватывает тему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Здоровый образ жизни» в курсе ОБЖ, «Физическое воспитание детей» в курсе физкультур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раскрывает значение движения на развитие организм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2491920"/>
            <a:ext cx="77868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727280" y="242100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В здоровом теле…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258920" y="907200"/>
            <a:ext cx="72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Verdana"/>
              </a:rPr>
              <a:t>Творческое название проекта</a:t>
            </a:r>
            <a:r>
              <a:rPr b="0" lang="ru-RU" sz="4000" spc="-1" strike="noStrike">
                <a:solidFill>
                  <a:srgbClr val="ffff66"/>
                </a:solidFill>
                <a:latin typeface="Verdan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BD00173_"/>
          <p:cNvPicPr/>
          <p:nvPr/>
        </p:nvPicPr>
        <p:blipFill>
          <a:blip r:embed="rId1"/>
          <a:stretch/>
        </p:blipFill>
        <p:spPr>
          <a:xfrm>
            <a:off x="6588000" y="3544920"/>
            <a:ext cx="2235240" cy="3313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66"/>
                </a:solidFill>
                <a:latin typeface="Arial"/>
              </a:rPr>
              <a:t>Подтемы проекта</a:t>
            </a:r>
            <a:r>
              <a:rPr b="0" lang="ru-RU" sz="60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ияние движения на важнейшие системы челове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изическое воспитание – благо для развития организм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алив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яд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ежим дн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гиен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9" descr="SL00712_"/>
          <p:cNvPicPr/>
          <p:nvPr/>
        </p:nvPicPr>
        <p:blipFill>
          <a:blip r:embed="rId7"/>
          <a:stretch/>
        </p:blipFill>
        <p:spPr>
          <a:xfrm>
            <a:off x="5151600" y="3389400"/>
            <a:ext cx="3992400" cy="3468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Дидактическая цель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Создать условия для развития интереса к здоровому образу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732089"/>
          <p:cNvPicPr/>
          <p:nvPr/>
        </p:nvPicPr>
        <p:blipFill>
          <a:blip r:embed="rId2"/>
          <a:stretch/>
        </p:blipFill>
        <p:spPr>
          <a:xfrm>
            <a:off x="914400" y="3068640"/>
            <a:ext cx="7315200" cy="3529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Методические задач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Образовательная</a:t>
            </a:r>
            <a:r>
              <a:rPr b="0" i="1" lang="ru-RU" sz="3200" spc="-1" strike="noStrike">
                <a:solidFill>
                  <a:srgbClr val="ffff66"/>
                </a:solidFill>
                <a:latin typeface="Verdana"/>
              </a:rPr>
              <a:t>: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способствовать формированию системы знаний о влиянии движения на развитие организма подрос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Развивающая: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способствовать физическому развитию учащих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66"/>
                </a:solidFill>
                <a:uFillTx/>
                <a:latin typeface="Verdana"/>
              </a:rPr>
              <a:t>Воспитательная:</a:t>
            </a:r>
            <a:r>
              <a:rPr b="0" lang="ru-RU" sz="3200" spc="-1" strike="noStrike">
                <a:solidFill>
                  <a:srgbClr val="ffff66"/>
                </a:solidFill>
                <a:latin typeface="Verdana"/>
              </a:rPr>
              <a:t> воспитание интереса к спорту, ЗОЖ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Основополагающий вопрос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9" name="Picture 13" descr="SO00345_"/>
          <p:cNvPicPr/>
          <p:nvPr/>
        </p:nvPicPr>
        <p:blipFill>
          <a:blip r:embed="rId1"/>
          <a:stretch/>
        </p:blipFill>
        <p:spPr>
          <a:xfrm>
            <a:off x="5105520" y="836640"/>
            <a:ext cx="4038480" cy="2430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SO00350_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65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SO00299_"/>
          <p:cNvPicPr/>
          <p:nvPr/>
        </p:nvPicPr>
        <p:blipFill>
          <a:blip r:embed="rId3"/>
          <a:stretch/>
        </p:blipFill>
        <p:spPr>
          <a:xfrm>
            <a:off x="1042920" y="907920"/>
            <a:ext cx="3384720" cy="2257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SL00256_"/>
          <p:cNvPicPr/>
          <p:nvPr/>
        </p:nvPicPr>
        <p:blipFill>
          <a:blip r:embed="rId4"/>
          <a:stretch/>
        </p:blipFill>
        <p:spPr>
          <a:xfrm>
            <a:off x="2268360" y="3933720"/>
            <a:ext cx="2627640" cy="2637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7"/>
          <p:cNvSpPr/>
          <p:nvPr/>
        </p:nvSpPr>
        <p:spPr>
          <a:xfrm>
            <a:off x="1692360" y="2997360"/>
            <a:ext cx="745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Движение – это жизнь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 advTm="5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99"/>
                </a:solidFill>
                <a:uFillTx/>
                <a:latin typeface="Arial"/>
              </a:rPr>
              <a:t>Проблемные вопросы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556000" y="1411560"/>
            <a:ext cx="63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чему возникает необходимость движения и как оно влияет на подростка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чем сущность физического воспитания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чему необходимо закаливание организма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ужна ли ежедневная зарядка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жим дня: надо ли его соблюдать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кие основные гигиенические требования должен соблюдать подросток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7" descr="SL00286_"/>
          <p:cNvPicPr/>
          <p:nvPr/>
        </p:nvPicPr>
        <p:blipFill>
          <a:blip r:embed="rId1"/>
          <a:stretch/>
        </p:blipFill>
        <p:spPr>
          <a:xfrm>
            <a:off x="5940360" y="4467240"/>
            <a:ext cx="2435400" cy="2390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99"/>
                </a:solidFill>
                <a:uFillTx/>
                <a:latin typeface="Arial"/>
              </a:rPr>
              <a:t>Темы самостоятельных исследовани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2411280" y="1523880"/>
            <a:ext cx="67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Установить связь между потребностью и необходимостью движе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Выяснить влияние движения на важнейшие жизненные органы подрост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Раскрыть сущность физического воспита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Выяснить, как закаливание влияет на организм ребен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Разработать комплекс упражнений для проведения ежедневной утренней заряд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Составить режим дня для учащихся  1-4, 5-8  или 9 класс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Verdana"/>
              </a:rPr>
              <a:t>Перечислить основные гигиенические требования к подростку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7" descr="SL01394_"/>
          <p:cNvPicPr/>
          <p:nvPr/>
        </p:nvPicPr>
        <p:blipFill>
          <a:blip r:embed="rId1"/>
          <a:stretch/>
        </p:blipFill>
        <p:spPr>
          <a:xfrm>
            <a:off x="5651640" y="4724280"/>
            <a:ext cx="3198600" cy="1951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8:09:40Z</dcterms:created>
  <dc:creator>kirov3</dc:creator>
  <dc:description/>
  <dc:language>en-US</dc:language>
  <cp:lastModifiedBy>User</cp:lastModifiedBy>
  <dcterms:modified xsi:type="dcterms:W3CDTF">2011-03-27T06:29:46Z</dcterms:modified>
  <cp:revision>19</cp:revision>
  <dc:subject/>
  <dc:title>Тема проекта:  Влияние алкоголя на организм человека</dc:title>
</cp:coreProperties>
</file>