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7A5-845A-486F-9A0C-8B3F45AB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A31-C33C-429D-A304-C681A9B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DB9-0C3B-4FFC-8A27-86881BFA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CE3-AB29-4866-BAE4-4D9BA1AD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7A10-530C-4A39-88B9-23424345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3D28-8BB5-47B5-A314-D5809BE4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C3E0-EC49-4CA3-92A0-36F0FE4F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1F6E-6627-41C8-8C7B-868F88FE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7F61-AFCB-447F-9654-D695FF99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D688-EA3C-487D-A178-F90E46B7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9498-94B0-4926-A5A7-8ADBE60F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3AC-CF7D-48F2-9C45-B4814729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61CB-333F-4C0D-9CD2-CC150ACD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58B0-33F0-476F-9FCB-4F451C73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15B4-7894-4A76-B1FC-1D9670C6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2FBF-935E-4656-8F0C-18844037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C104-3F90-428E-8BCF-E6354366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A57-2F94-4968-93DA-65ED5FDB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B8D-EDD7-4F28-BE16-F1F4A906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952-D04D-49CF-9DCD-2C3C57BD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401-6648-4F51-AE84-2D892D5B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049-5CDB-44D2-96B1-D31811D4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1DC-3B05-4BD0-B743-9563370A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32C-4A82-4884-A065-2E44903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4AF0-C6DD-4DE7-AA66-1278E1FE6A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F1F7-F3A6-4026-B41E-37D0FB11A5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&#1047;&#1072;&#1082;&#1072;&#1083;&#1080;&#1074;&#1072;&#1085;&#1080;&#1077; &#1086;&#1088;&#1075;&#1072;&#1085;&#1080;&#1079;&#1084;&#1072;.ppt" TargetMode="External"/><Relationship Id="rId3" Type="http://schemas.openxmlformats.org/officeDocument/2006/relationships/hyperlink" Target="&#1041;&#1091;&#1082;&#1083;&#1077;&#1090; &#1091;&#1095;&#1077;&#1085;&#1080;&#1095;&#1077;&#1089;&#1082;&#1080;&#1081;.pub" TargetMode="External"/><Relationship Id="rId4" Type="http://schemas.openxmlformats.org/officeDocument/2006/relationships/image" Target="../media/image1.png"/><Relationship Id="rId5" Type="http://schemas.openxmlformats.org/officeDocument/2006/relationships/hyperlink" Target="&#1042;&#1080;&#1079;&#1080;&#1090;&#1085;&#1072;&#1103; &#1082;&#1072;&#1088;&#1090;&#1072; &#1087;&#1088;&#1086;&#1077;&#1082;&#1090;&#1072;.doc" TargetMode="External"/><Relationship Id="rId6" Type="http://schemas.openxmlformats.org/officeDocument/2006/relationships/hyperlink" Target="&#1043;&#1088;&#1072;&#1084;&#1086;&#1090;&#1072;.pub" TargetMode="External"/><Relationship Id="rId7" Type="http://schemas.openxmlformats.org/officeDocument/2006/relationships/hyperlink" Target="&#1043;&#1088;&#1072;&#1084;&#1086;&#1090;&#1072; 2.pub" TargetMode="External"/><Relationship Id="rId8" Type="http://schemas.openxmlformats.org/officeDocument/2006/relationships/hyperlink" Target="&#1041;&#1091;&#1082;&#1083;&#1077;&#1090;.pub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0360" y="2997000"/>
            <a:ext cx="57578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Тема :</a:t>
            </a:r>
            <a:br>
              <a:rPr sz="2400"/>
            </a:br>
            <a:r>
              <a:rPr b="1" i="1" lang="ru-RU" sz="3600" spc="-1" strike="noStrike">
                <a:solidFill>
                  <a:srgbClr val="ffff99"/>
                </a:solidFill>
                <a:latin typeface="Arial"/>
              </a:rPr>
              <a:t>Здоровье подростков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24000" y="2012400"/>
            <a:ext cx="82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 здоровом теле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132000" y="4723920"/>
            <a:ext cx="554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усев Юрий Викторович – учитель физкульту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Результаты исследования групп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71640" y="1988640"/>
            <a:ext cx="38275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- презентац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- график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- бук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SL01395_"/>
          <p:cNvPicPr/>
          <p:nvPr/>
        </p:nvPicPr>
        <p:blipFill>
          <a:blip r:embed="rId1"/>
          <a:stretch/>
        </p:blipFill>
        <p:spPr>
          <a:xfrm>
            <a:off x="6156360" y="1484280"/>
            <a:ext cx="208440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4753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исковый эта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умывание темы проек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бор приема создания проблемной ситу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ановка цели проек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CRTN008"/>
          <p:cNvPicPr/>
          <p:nvPr/>
        </p:nvPicPr>
        <p:blipFill>
          <a:blip r:embed="rId4"/>
          <a:stretch/>
        </p:blipFill>
        <p:spPr>
          <a:xfrm>
            <a:off x="6372360" y="1557360"/>
            <a:ext cx="2082600" cy="3701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Аналитический этап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ализ имеющейся информации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бор и изучение недостающей информ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бор содерж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ектирование всех этапов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11280" y="158400"/>
            <a:ext cx="4475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284360" y="1628640"/>
            <a:ext cx="43909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</a:rPr>
              <a:t>Основ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рактический эта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ализация этапов деятельности ученика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кущий контрол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сение изменений в планир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4" descr="J0101867"/>
          <p:cNvPicPr/>
          <p:nvPr/>
        </p:nvPicPr>
        <p:blipFill>
          <a:blip r:embed="rId1"/>
          <a:stretch/>
        </p:blipFill>
        <p:spPr>
          <a:xfrm>
            <a:off x="324000" y="189000"/>
            <a:ext cx="3744720" cy="2530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27280" y="1557000"/>
            <a:ext cx="6121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</a:rPr>
              <a:t>Рефлексивно-оценоч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лиз соответствия цели и результаты проек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ценка эффективности и оптимальности деятельности педагог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4" descr="J0101858"/>
          <p:cNvPicPr/>
          <p:nvPr/>
        </p:nvPicPr>
        <p:blipFill>
          <a:blip r:embed="rId1"/>
          <a:stretch/>
        </p:blipFill>
        <p:spPr>
          <a:xfrm>
            <a:off x="179280" y="1268280"/>
            <a:ext cx="2478240" cy="3745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став УМП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ультаты деятельности учащих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Букл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ганизационные материал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Визит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Грамота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Грамота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Букл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ебники по ОБЖ и физической культур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ая литерату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терн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8" descr="HH00546_"/>
          <p:cNvPicPr/>
          <p:nvPr/>
        </p:nvPicPr>
        <p:blipFill>
          <a:blip r:embed="rId4"/>
          <a:stretch/>
        </p:blipFill>
        <p:spPr>
          <a:xfrm>
            <a:off x="4572000" y="1844640"/>
            <a:ext cx="351936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онтактная информация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ировская область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ижанский район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. Безводно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л. Советская, д. 2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Шарыгины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лександр Александрович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 Надежда Валерьев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7" descr="Рисунок15"/>
          <p:cNvPicPr/>
          <p:nvPr/>
        </p:nvPicPr>
        <p:blipFill>
          <a:blip r:embed="rId1"/>
          <a:stretch/>
        </p:blipFill>
        <p:spPr>
          <a:xfrm>
            <a:off x="4356000" y="1673280"/>
            <a:ext cx="4330800" cy="43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5"/>
          <p:cNvSpPr txBox="1"/>
          <p:nvPr/>
        </p:nvSpPr>
        <p:spPr>
          <a:xfrm>
            <a:off x="1619280" y="476280"/>
            <a:ext cx="6696000" cy="29401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агодарим за внима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Краткая аннотация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проект предназначен для учащихся 7-9 классов школ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охватывает тему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доровый образ жизни» в курсе ОБЖ, «Физическое воспитание детей» в курсе физкульту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раскрывает значение движения на развитие организм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2491920"/>
            <a:ext cx="77868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727280" y="242100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В здоровом теле…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258920" y="907200"/>
            <a:ext cx="72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Verdana"/>
              </a:rPr>
              <a:t>Творческое название проекта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BD00173_"/>
          <p:cNvPicPr/>
          <p:nvPr/>
        </p:nvPicPr>
        <p:blipFill>
          <a:blip r:embed="rId1"/>
          <a:stretch/>
        </p:blipFill>
        <p:spPr>
          <a:xfrm>
            <a:off x="6588000" y="3544920"/>
            <a:ext cx="2235240" cy="331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66"/>
                </a:solidFill>
                <a:latin typeface="Arial"/>
              </a:rPr>
              <a:t>Подтемы проекта</a:t>
            </a:r>
            <a:r>
              <a:rPr b="0" lang="ru-RU" sz="60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ияние движения на важнейшие системы чело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изическое воспитание – благо для развития организм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али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д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жим д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гиен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9" descr="SL00712_"/>
          <p:cNvPicPr/>
          <p:nvPr/>
        </p:nvPicPr>
        <p:blipFill>
          <a:blip r:embed="rId7"/>
          <a:stretch/>
        </p:blipFill>
        <p:spPr>
          <a:xfrm>
            <a:off x="5151600" y="3389400"/>
            <a:ext cx="399240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идактическая цель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Создать условия для развития интереса к здоровому образу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732089"/>
          <p:cNvPicPr/>
          <p:nvPr/>
        </p:nvPicPr>
        <p:blipFill>
          <a:blip r:embed="rId2"/>
          <a:stretch/>
        </p:blipFill>
        <p:spPr>
          <a:xfrm>
            <a:off x="914400" y="3068640"/>
            <a:ext cx="7315200" cy="3529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етодические задач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Образовательная</a:t>
            </a: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способствовать формированию системы знаний о влиянии движения на развитие организм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Развивающая: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способствовать физическому развитию учащих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Воспитательная: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воспитание интереса к спорту, ЗОЖ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Основополагающий вопрос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Picture 13" descr="SO00345_"/>
          <p:cNvPicPr/>
          <p:nvPr/>
        </p:nvPicPr>
        <p:blipFill>
          <a:blip r:embed="rId1"/>
          <a:stretch/>
        </p:blipFill>
        <p:spPr>
          <a:xfrm>
            <a:off x="5105520" y="836640"/>
            <a:ext cx="4038480" cy="2430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SO00350_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65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SO00299_"/>
          <p:cNvPicPr/>
          <p:nvPr/>
        </p:nvPicPr>
        <p:blipFill>
          <a:blip r:embed="rId3"/>
          <a:stretch/>
        </p:blipFill>
        <p:spPr>
          <a:xfrm>
            <a:off x="1042920" y="907920"/>
            <a:ext cx="3384720" cy="2257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L00256_"/>
          <p:cNvPicPr/>
          <p:nvPr/>
        </p:nvPicPr>
        <p:blipFill>
          <a:blip r:embed="rId4"/>
          <a:stretch/>
        </p:blipFill>
        <p:spPr>
          <a:xfrm>
            <a:off x="2268360" y="3933720"/>
            <a:ext cx="2627640" cy="2637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7"/>
          <p:cNvSpPr/>
          <p:nvPr/>
        </p:nvSpPr>
        <p:spPr>
          <a:xfrm>
            <a:off x="1692360" y="2997360"/>
            <a:ext cx="745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Движение – это жизнь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99"/>
                </a:solidFill>
                <a:uFillTx/>
                <a:latin typeface="Arial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556000" y="1411560"/>
            <a:ext cx="63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чему возникает необходимость движения и как оно влияет на подростка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чем сущность физического воспитания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чему необходимо закаливание организма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ужна ли ежедневная зарядка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жим дня: надо ли его соблюдать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ие основные гигиенические требования должен соблюдать подросток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7" descr="SL00286_"/>
          <p:cNvPicPr/>
          <p:nvPr/>
        </p:nvPicPr>
        <p:blipFill>
          <a:blip r:embed="rId1"/>
          <a:stretch/>
        </p:blipFill>
        <p:spPr>
          <a:xfrm>
            <a:off x="5940360" y="4467240"/>
            <a:ext cx="2435400" cy="2390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99"/>
                </a:solidFill>
                <a:uFillTx/>
                <a:latin typeface="Arial"/>
              </a:rPr>
              <a:t>Темы самостоятельных исследовани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411280" y="1523880"/>
            <a:ext cx="67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Установить связь между потребностью и необходимостью движ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Выяснить влияние движения на важнейшие жизненные органы подрост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Раскрыть сущность физического воспит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Выяснить, как закаливание влияет на организм ребен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Разработать комплекс упражнений для проведения ежедневной утренней заряд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Составить режим дня для учащихся  1-4, 5-8  или 9 класс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Перечислить основные гигиенические требования к подростку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7" descr="SL01394_"/>
          <p:cNvPicPr/>
          <p:nvPr/>
        </p:nvPicPr>
        <p:blipFill>
          <a:blip r:embed="rId1"/>
          <a:stretch/>
        </p:blipFill>
        <p:spPr>
          <a:xfrm>
            <a:off x="5651640" y="4724280"/>
            <a:ext cx="3198600" cy="1951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09:40Z</dcterms:created>
  <dc:creator>kirov3</dc:creator>
  <dc:description/>
  <dc:language>en-US</dc:language>
  <cp:lastModifiedBy>User</cp:lastModifiedBy>
  <dcterms:modified xsi:type="dcterms:W3CDTF">2011-03-27T06:29:46Z</dcterms:modified>
  <cp:revision>19</cp:revision>
  <dc:subject/>
  <dc:title>Тема проекта:  Влияние алкоголя на организм человека</dc:title>
</cp:coreProperties>
</file>