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109D0-61DC-4DBB-8463-767C18D7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944B-F0C7-4988-B5B7-7F508554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304A-F62E-4298-95E7-827EF74B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4411-360F-4C44-8769-32B58BC3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3D17-F62A-4693-9260-A7ECFA41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3629-875D-4DF7-BBE1-F2880DF9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5A86-EDF3-4903-BBD8-A4D46EBB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E408-D692-408E-A065-A3D435AE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89B5-DF13-4DAC-AE0A-CA03489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A44-8AD9-4A44-ACEA-529B6A0E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AA6-68D7-4B92-9DD7-FBD26EFA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3725-060A-4B81-9A41-7DCD042D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A323-485E-4CD8-BF10-530C5513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D1DF-C0CB-4DA8-9B51-AFCC3FA2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689F-A68D-4F03-9B1B-E75B8752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ADE0-81D2-4F31-8C63-D5A961FB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7CF-302A-4FAE-BF02-D5547EBC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C3E0-F5DB-4171-9F96-C01211ED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BCD3-5C01-4455-8FC3-D3119B71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C5B64-A40F-46E6-89A9-B1E5197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52AD-CE5E-4912-A78D-94757D88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1299C-D0B7-4B25-8478-0D131888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F73D-70E1-45BF-80EA-6ECD069A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9483-54A6-493B-AA54-DB98C750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98CB-303D-4AAD-AA08-2B5792A43E2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4C95-CB7B-4744-ABB4-7A57A82785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онцепция преподавания истории в школ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жидания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дни говорят, что в школьном учебнике истории не должен освещаться современный период - после 2000 года. Другие говорят, что современный период, после 2000 года, тоже должен освещаться в школьном учебнике истории. С какой точкой зрения - с первой или второй - Вы согласны?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4" descr="gd07290626"/>
          <p:cNvPicPr/>
          <p:nvPr/>
        </p:nvPicPr>
        <p:blipFill>
          <a:blip r:embed="rId1"/>
          <a:stretch/>
        </p:blipFill>
        <p:spPr>
          <a:xfrm>
            <a:off x="2855880" y="1484280"/>
            <a:ext cx="38718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Должны ли в учебнике присутствовать разные точки зрения в оценки отдельных личностей и событий?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gd07290636"/>
          <p:cNvPicPr/>
          <p:nvPr/>
        </p:nvPicPr>
        <p:blipFill>
          <a:blip r:embed="rId1"/>
          <a:stretch/>
        </p:blipFill>
        <p:spPr>
          <a:xfrm>
            <a:off x="2805120" y="1413000"/>
            <a:ext cx="3579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DSCN2956"/>
          <p:cNvPicPr/>
          <p:nvPr/>
        </p:nvPicPr>
        <p:blipFill>
          <a:blip r:embed="rId1"/>
          <a:stretch/>
        </p:blipFill>
        <p:spPr>
          <a:xfrm>
            <a:off x="1467000" y="765000"/>
            <a:ext cx="62085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 проекту новых подходов к изложению              новейшей истории России в 11 классе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00320" y="1874880"/>
            <a:ext cx="7536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320" bIns="2286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 проекту новых подходов к изложению  новейшей истории России в 11 класс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403280" y="2492280"/>
          <a:ext cx="5734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92280"/>
                    <a:ext cx="5734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остоинства проекта новых подходов к изложению  новейшей истории России в 11 классе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482840"/>
          <a:ext cx="6913440" cy="4476600"/>
        </p:xfrm>
        <a:graphic>
          <a:graphicData uri="http://schemas.openxmlformats.org/drawingml/2006/table">
            <a:tbl>
              <a:tblPr/>
              <a:tblGrid>
                <a:gridCol w="341280"/>
                <a:gridCol w="6046560"/>
                <a:gridCol w="525600"/>
              </a:tblGrid>
              <a:tr h="31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оинства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ент на формировании гражданского патриотизм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ект современный (наиболее полно соответствует современным запросам обществ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ивность материа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едает позицию государства, четко сформулированное отношение к событиям новейшей исто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ошо представлена история повседне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ступ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сутствует вариативность в изложении материа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Недостатки проекта новых подходов к изложению новейшей истории Росс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197000"/>
          <a:ext cx="8229600" cy="5456160"/>
        </p:xfrm>
        <a:graphic>
          <a:graphicData uri="http://schemas.openxmlformats.org/drawingml/2006/table">
            <a:tbl>
              <a:tblPr/>
              <a:tblGrid>
                <a:gridCol w="406440"/>
                <a:gridCol w="7197840"/>
                <a:gridCol w="6253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статки про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доработ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уделить внимание хрестоматийному материалу, методическому обеспеч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зальтернативная оценка собы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ишком сильный уклон в политолог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дополнить вопросами для анализа, проблемными вопрос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хватает историз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 использование в качестве книги для учителя, дополнительного пособ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 проблемы при сдаче ЕГЭ, поступлении в ВУЗ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бходимо отработать понятийный аппар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удно оценить, т.к. неизвестно, что будет представлять собой учебник для 10 к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Наиболее важные критерии для учебников истории и обществознания для старшей школы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оступность материала (соответствие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озрастным особенностям учащихс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3,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личие вспомогательной (дополнительной) информации: исторических документов, биографических справок, схем, карт, статистики, иллюстративного материала и т.д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1,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учность, объективность исторических факт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0,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чественный методический аппар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8,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териал должен быть интересным, увлекатель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ультимедийное сопровождение (мультимедийные, интерактивные пособия, электронные версии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227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ответствие образовательным стандартам (в т.ч. требованиям ЕГЭ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риативность, альтернативные точки зрения (широта взглядов, многообразие источнико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,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ногоуровневость, возможность реализации программы базового и профильного уровн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,3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личие заданий, позволяющих реализовать деятельностный подход (наличие вопросов, заданий, блоки проблемных вопросов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,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триотичность содержания (формирование гражданско-патриотической позиции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еткая, ясная терминология (словарь терминов, четкость понятий и формулировок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,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редпочтительная система исторического образования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468360" y="1724040"/>
          <a:ext cx="820728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24040"/>
                    <a:ext cx="820728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Когда Вы учились в школе, Вам нравилась или не нравилась история как учебный предмет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d0729061"/>
          <p:cNvPicPr/>
          <p:nvPr/>
        </p:nvPicPr>
        <p:blipFill>
          <a:blip r:embed="rId1"/>
          <a:stretch/>
        </p:blipFill>
        <p:spPr>
          <a:xfrm>
            <a:off x="2195640" y="1574640"/>
            <a:ext cx="504036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Если говорить в целом, большинство школьных учебников истории, по которым Вы учились в школе, Вам нравились или не нравились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d0729066"/>
          <p:cNvPicPr/>
          <p:nvPr/>
        </p:nvPicPr>
        <p:blipFill>
          <a:blip r:embed="rId1"/>
          <a:stretch/>
        </p:blipFill>
        <p:spPr>
          <a:xfrm>
            <a:off x="2195640" y="1574640"/>
            <a:ext cx="489744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Вам приходилось или не приходилось читать или просматривать нынешние школьные учебники истории России? И если приходилось, то они Вам понравились или не понравились?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d07290611"/>
          <p:cNvPicPr/>
          <p:nvPr/>
        </p:nvPicPr>
        <p:blipFill>
          <a:blip r:embed="rId1"/>
          <a:stretch/>
        </p:blipFill>
        <p:spPr>
          <a:xfrm>
            <a:off x="2492280" y="1484280"/>
            <a:ext cx="4400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5:40:29Z</dcterms:created>
  <dc:creator>А.Петров</dc:creator>
  <dc:description/>
  <dc:language>en-US</dc:language>
  <cp:lastModifiedBy>Коля</cp:lastModifiedBy>
  <dcterms:modified xsi:type="dcterms:W3CDTF">2013-09-05T13:17:52Z</dcterms:modified>
  <cp:revision>5</cp:revision>
  <dc:subject/>
  <dc:title>Концепция преподавания истории в школе</dc:title>
</cp:coreProperties>
</file>