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64EA-82AB-4510-AECB-52A7E8E8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C64E-6D50-49C9-B197-A816BBC4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C3EB-5944-4ED2-8A33-6241485E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4CFF-67BA-4F32-8EF4-8BA1EC7E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54D5-7496-43FC-A368-44807A06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2BCB-8C17-4CDF-986D-7B299082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7102-F068-4FD0-A0BB-CDC18FAB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451E-130E-4BB1-B059-5A02CF67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AC9B-91F7-4955-8540-E5C6C89B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5874-A5BD-49F8-BBDD-AFC3CCF2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4334-3724-4E8F-90BC-51E960F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042A-B254-4BA5-902E-B7A0242A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585E-3D45-4463-A2CD-A8A26C8A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6E98-35AC-4A90-ACB5-6B86EC2C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5F86-B09E-4675-9DB0-D23D3F16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F498-A2BD-455C-90EC-42D68E29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8100-A2B4-4C98-A448-1B4C3934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FFCB-D6A0-4022-BC1F-088627FB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C19F-0222-4B2F-B081-E52150B4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34B9-9C94-4929-9E3D-6D66D382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207C-ECB2-4671-83FB-51F380E7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0F93-5235-4215-8A1E-CEC0BD72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121F-E76C-4309-AD03-29915859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99B5-4781-405D-9C43-B8F3DC74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DD68-06AD-4D52-A8B7-B10571DD24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24BF-6506-40CB-AA0D-8106DF1665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онцепция преподавания истории в школ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дни говорят, что в школьном учебнике истории не должен освещаться современный период - после 2000 года. Другие говорят, что современный период, после 2000 года, тоже должен освещаться в школьном учебнике истории. С какой точкой зрения - с первой или второй - Вы согласны?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4" descr="gd07290626"/>
          <p:cNvPicPr/>
          <p:nvPr/>
        </p:nvPicPr>
        <p:blipFill>
          <a:blip r:embed="rId1"/>
          <a:stretch/>
        </p:blipFill>
        <p:spPr>
          <a:xfrm>
            <a:off x="2855880" y="1484280"/>
            <a:ext cx="38718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олжны ли в учебнике присутствовать разные точки зрения в оценки отдельных личностей и событий?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4" descr="gd07290636"/>
          <p:cNvPicPr/>
          <p:nvPr/>
        </p:nvPicPr>
        <p:blipFill>
          <a:blip r:embed="rId1"/>
          <a:stretch/>
        </p:blipFill>
        <p:spPr>
          <a:xfrm>
            <a:off x="2805120" y="1413000"/>
            <a:ext cx="3579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DSCN2956"/>
          <p:cNvPicPr/>
          <p:nvPr/>
        </p:nvPicPr>
        <p:blipFill>
          <a:blip r:embed="rId1"/>
          <a:stretch/>
        </p:blipFill>
        <p:spPr>
          <a:xfrm>
            <a:off x="1467000" y="765000"/>
            <a:ext cx="62085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к проекту новых подходов к изложению              новейшей истории России в 11 класс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00320" y="1874880"/>
            <a:ext cx="7536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320" bIns="22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к проекту новых подходов к изложению  новейшей истории России в 11 класс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403280" y="2492280"/>
          <a:ext cx="5734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92280"/>
                    <a:ext cx="5734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остоинства проекта новых подходов к изложению  новейшей истории России в 11 классе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71640" y="1482840"/>
          <a:ext cx="6913440" cy="4476600"/>
        </p:xfrm>
        <a:graphic>
          <a:graphicData uri="http://schemas.openxmlformats.org/drawingml/2006/table">
            <a:tbl>
              <a:tblPr/>
              <a:tblGrid>
                <a:gridCol w="341280"/>
                <a:gridCol w="6046560"/>
                <a:gridCol w="525600"/>
              </a:tblGrid>
              <a:tr h="31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стоинства про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 на формировании гражданского патриот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 современный (наиболее полно соответствует современным запросам обществ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ктивность материа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ает позицию государства, четко сформулированное отношение к событиям новейшей истор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о представлена история повседне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ступ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сутствует вариативность в изложении материа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Недостатки проекта новых подходов к изложению новейшей истории Росс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197000"/>
          <a:ext cx="8229600" cy="5456160"/>
        </p:xfrm>
        <a:graphic>
          <a:graphicData uri="http://schemas.openxmlformats.org/drawingml/2006/table">
            <a:tbl>
              <a:tblPr/>
              <a:tblGrid>
                <a:gridCol w="406440"/>
                <a:gridCol w="7197840"/>
                <a:gridCol w="6253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статки про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доработ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уделить внимание хрестоматийному материалу, методическому обеспеч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альтернативная оценка событ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ишком сильный уклон в политолог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дополнить вопросами для анализа, проблемными вопрос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хватает истори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 использование в качестве книги для учителя, дополнительного пособ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ы проблемы при сдаче ЕГЭ, поступлении в ВУЗ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отработать понятийный аппар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удно оценить, т.к. неизвестно, что будет представлять собой учебник для 10 к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Наиболее важные критерии для учебников истории и обществознания для старшей школы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оступность материала (соответствие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растным особенностям учащихс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3,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личие вспомогательной (дополнительной) информации: исторических документов, биографических справок, схем, карт, статистики, иллюстративного материала и т.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1,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учность, объективность исторических факт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0,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чественный методический аппара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8,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териал должен быть интересным, увлекатель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6,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ультимедийное сопровождение (мультимедийные, интерактивные пособия, электронные версии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,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ответствие образовательным стандартам (в т.ч. требованиям ЕГЭ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,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риативность, альтернативные точки зрения (широта взглядов, многообразие источников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,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ногоуровневость, возможность реализации программы базового и профильного уровн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,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личие заданий, позволяющих реализовать деятельностный подход (наличие вопросов, заданий, блоки проблемных вопросов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,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триотичность содержания (формирование гражданско-патриотической позиции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,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еткая, ясная терминология (словарь терминов, четкость понятий и формулировок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,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редпочтительная система исторического образования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468360" y="1724040"/>
          <a:ext cx="8207280" cy="45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24040"/>
                    <a:ext cx="820728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гда Вы учились в школе, Вам нравилась или не нравилась история как учебный предмет?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d0729061"/>
          <p:cNvPicPr/>
          <p:nvPr/>
        </p:nvPicPr>
        <p:blipFill>
          <a:blip r:embed="rId1"/>
          <a:stretch/>
        </p:blipFill>
        <p:spPr>
          <a:xfrm>
            <a:off x="2195640" y="1574640"/>
            <a:ext cx="504036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говорить в целом, большинство школьных учебников истории, по которым Вы учились в школе, Вам нравились или не нравились?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d0729066"/>
          <p:cNvPicPr/>
          <p:nvPr/>
        </p:nvPicPr>
        <p:blipFill>
          <a:blip r:embed="rId1"/>
          <a:stretch/>
        </p:blipFill>
        <p:spPr>
          <a:xfrm>
            <a:off x="2195640" y="1574640"/>
            <a:ext cx="489744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ам приходилось или не приходилось читать или просматривать нынешние школьные учебники истории России? И если приходилось, то они Вам понравились или не понравились?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d07290611"/>
          <p:cNvPicPr/>
          <p:nvPr/>
        </p:nvPicPr>
        <p:blipFill>
          <a:blip r:embed="rId1"/>
          <a:stretch/>
        </p:blipFill>
        <p:spPr>
          <a:xfrm>
            <a:off x="2492280" y="1484280"/>
            <a:ext cx="4400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5:40:29Z</dcterms:created>
  <dc:creator>А.Петров</dc:creator>
  <dc:description/>
  <dc:language>en-US</dc:language>
  <cp:lastModifiedBy>Коля</cp:lastModifiedBy>
  <dcterms:modified xsi:type="dcterms:W3CDTF">2013-09-05T13:17:52Z</dcterms:modified>
  <cp:revision>5</cp:revision>
  <dc:subject/>
  <dc:title>Концепция преподавания истории в школе</dc:title>
</cp:coreProperties>
</file>