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4A68-0D4B-4BB7-9ADE-2CAFA308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3411-0B66-47EE-8C1B-991E54B9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6A4D-7575-4B9A-9D47-481CCF30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F4C5-6B1C-4182-AFF1-8229C61E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521-75D8-44C1-84E3-257BF2A2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767-00B7-4DEE-A602-922833E9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4A7F-C566-4E65-A62D-CA47DBA4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A29D-5004-4D2F-9FD1-C6D85025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5B40-7482-442F-BF77-4AEDDE6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05A-4C5C-4FB5-BBE0-6E4AA3B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056-4A18-4C97-8A0D-434AF73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556D-4469-4EF7-9A4F-40BD2BE2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0AA1-DF86-48E7-8D97-318B594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85B8-D726-43E6-A39A-766F269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2D2-89BF-42D0-99E7-DBB442A5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D70-6F28-43FE-B7C0-1E7FD362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0B40-64ED-4EFE-B825-83E1CE8C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522C-46C3-45A6-8308-6EEB521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DFC5-002A-4EA9-9E09-7F3302D5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7306-AED2-4346-9A86-E1A1D2F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F124-161B-442D-9AC5-D9A6604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D84E-74B8-4879-9DC1-5AC7581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3F0E-C71D-4F2A-9903-7272DBC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A4E8-96CF-4914-990C-7215777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FCD7-984D-45B2-980C-54645FE2EA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5850-25A6-4FA0-BE01-3D647FA314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онцепция преподавания истории в школ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дни говорят, что в школьном учебнике истории не должен освещаться современный период - после 2000 года. Другие говорят, что современный период, после 2000 года, тоже должен освещаться в школьном учебнике истории. С какой точкой зрения - с первой или второй - Вы согласны?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gd07290626"/>
          <p:cNvPicPr/>
          <p:nvPr/>
        </p:nvPicPr>
        <p:blipFill>
          <a:blip r:embed="rId1"/>
          <a:stretch/>
        </p:blipFill>
        <p:spPr>
          <a:xfrm>
            <a:off x="2855880" y="1484280"/>
            <a:ext cx="3871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олжны ли в учебнике присутствовать разные точки зрения в оценки отдельных личностей и событий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gd07290636"/>
          <p:cNvPicPr/>
          <p:nvPr/>
        </p:nvPicPr>
        <p:blipFill>
          <a:blip r:embed="rId1"/>
          <a:stretch/>
        </p:blipFill>
        <p:spPr>
          <a:xfrm>
            <a:off x="2805120" y="1413000"/>
            <a:ext cx="357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DSCN2956"/>
          <p:cNvPicPr/>
          <p:nvPr/>
        </p:nvPicPr>
        <p:blipFill>
          <a:blip r:embed="rId1"/>
          <a:stretch/>
        </p:blipFill>
        <p:spPr>
          <a:xfrm>
            <a:off x="1467000" y="765000"/>
            <a:ext cx="6208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            новейшей истории России в 11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00320" y="1874880"/>
            <a:ext cx="7536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новейшей истории России в 11 класс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03280" y="2492280"/>
          <a:ext cx="5734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5734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остоинства проекта новых подходов к изложению  новейшей истории России в 11 классе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482840"/>
          <a:ext cx="6913440" cy="4476600"/>
        </p:xfrm>
        <a:graphic>
          <a:graphicData uri="http://schemas.openxmlformats.org/drawingml/2006/table">
            <a:tbl>
              <a:tblPr/>
              <a:tblGrid>
                <a:gridCol w="341280"/>
                <a:gridCol w="6046560"/>
                <a:gridCol w="525600"/>
              </a:tblGrid>
              <a:tr h="31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оинства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формировании гражданского патриот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временный (наиболее полно соответствует современным запросам обществ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ивность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ает позицию государства, четко сформулированное отношение к событиям новейшей исто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 представлена история повседне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уп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ует вариативность в изложении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Недостатки проекта новых подходов к изложению новейшей истории Росс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197000"/>
          <a:ext cx="8229600" cy="5456160"/>
        </p:xfrm>
        <a:graphic>
          <a:graphicData uri="http://schemas.openxmlformats.org/drawingml/2006/table">
            <a:tbl>
              <a:tblPr/>
              <a:tblGrid>
                <a:gridCol w="406440"/>
                <a:gridCol w="7197840"/>
                <a:gridCol w="625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ки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работ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уделить внимание хрестоматийному материалу, методическому обеспеч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альтернативная оценка собы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шком сильный уклон в политолог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полнить вопросами для анализа, проблемными вопро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ватает исто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 использование в качестве книги для учителя, дополнительного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 проблемы при сдаче ЕГЭ, поступлении в ВУ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отработать понятийный аппа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дно оценить, т.к. неизвестно, что будет представлять собой учебник для 10 к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Наиболее важные критерии для учебников истории и обществознания для старшей школ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ступность материала (соответствие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растным особенностям учащихс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3,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вспомогательной (дополнительной) информации: исторических документов, биографических справок, схем, карт, статистики, иллюстративного материала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1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ность, объективность исторических фак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0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чественный методический аппар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8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териал должен быть интересным, увлекатель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ультимедийное сопровождение (мультимедийные, интерактивные пособия, электронные верс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тветствие образовательным стандартам (в т.ч. требованиям ЕГЭ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риативность, альтернативные точки зрения (широта взглядов, многообразие источник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ногоуровневость, возможность реализации программы базового и профильного уровн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заданий, позволяющих реализовать деятельностный подход (наличие вопросов, заданий, блоки проблемных вопрос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триотичность содержания (формирование гражданско-патриотической позиц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ткая, ясная терминология (словарь терминов, четкость понятий и формулировок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редпочтительная система исторического образовани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68360" y="1724040"/>
          <a:ext cx="820728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4040"/>
                    <a:ext cx="82072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гда Вы учились в школе, Вам нравилась или не нравилась история как учебный предмет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d0729061"/>
          <p:cNvPicPr/>
          <p:nvPr/>
        </p:nvPicPr>
        <p:blipFill>
          <a:blip r:embed="rId1"/>
          <a:stretch/>
        </p:blipFill>
        <p:spPr>
          <a:xfrm>
            <a:off x="2195640" y="1574640"/>
            <a:ext cx="50403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говорить в целом, большинство школьных учебников истории, по которым Вы учились в школе, Вам нравились или не 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d0729066"/>
          <p:cNvPicPr/>
          <p:nvPr/>
        </p:nvPicPr>
        <p:blipFill>
          <a:blip r:embed="rId1"/>
          <a:stretch/>
        </p:blipFill>
        <p:spPr>
          <a:xfrm>
            <a:off x="2195640" y="1574640"/>
            <a:ext cx="48974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ам приходилось или не приходилось читать или просматривать нынешние школьные учебники истории России? И если приходилось, то они Вам понравились или не по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d07290611"/>
          <p:cNvPicPr/>
          <p:nvPr/>
        </p:nvPicPr>
        <p:blipFill>
          <a:blip r:embed="rId1"/>
          <a:stretch/>
        </p:blipFill>
        <p:spPr>
          <a:xfrm>
            <a:off x="2492280" y="1484280"/>
            <a:ext cx="440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5:40:29Z</dcterms:created>
  <dc:creator>А.Петров</dc:creator>
  <dc:description/>
  <dc:language>en-US</dc:language>
  <cp:lastModifiedBy>Коля</cp:lastModifiedBy>
  <dcterms:modified xsi:type="dcterms:W3CDTF">2013-09-05T13:17:52Z</dcterms:modified>
  <cp:revision>5</cp:revision>
  <dc:subject/>
  <dc:title>Концепция преподавания истории в школе</dc:title>
</cp:coreProperties>
</file>