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1D8-BBC8-49D4-B5C0-0ECB4EB8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8C9-788B-42D5-9EAE-0D1BAB35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BF2-30FF-48C8-8B41-4EA9E3C4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B02-6EE5-40FE-AD29-ED0392C6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2D9-0CAA-412A-8AB0-7A24C359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0FE5-E6F0-4C04-B8B1-E130FD33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50AD-F489-4A9F-B8CB-EEEBA2BF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ABEB-A542-4F4E-B6DD-AA29A694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8307-F82B-4CE9-989A-5708A450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9DBA-2B72-4464-A689-0BB0CEF4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3342-7B72-4FC5-B8E1-F49A6214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403-092B-4D9B-829D-E88E644B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BE6E-3BFB-4018-9341-F6960C7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8F30-7506-43AA-A7E2-165E1EB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6F19-589C-40B0-B282-3B4BFD64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11D7-EEC7-427B-8F04-41508D95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FA58-E7D8-44D4-B5F7-A87DEBC2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E2A8-02E9-4288-8DCB-DB3F512C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75D-B694-4370-8D91-2DDB7E90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E18-B80F-46E2-A856-30DF2AD7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AF0-9DAC-4A06-9D65-77D9A9B5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EE8-CDD4-4E1D-B16D-056076B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A96E-F85E-461E-9B2F-157C3011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00A-7E46-4078-9D6E-68EB160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FCF2-295F-49FE-B8F7-EE8C23D30D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38FB-90A2-40B4-90F3-C761026606D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990720" y="762120"/>
            <a:ext cx="7162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80"/>
                </a:solidFill>
                <a:latin typeface="Book Antiqua"/>
              </a:rPr>
              <a:t>И.А. Крылов </a:t>
            </a:r>
            <a:endParaRPr b="0" lang="en-US" sz="2000" spc="1" strike="noStrike">
              <a:ln w="0">
                <a:noFill/>
              </a:ln>
              <a:solidFill>
                <a:srgbClr val="00008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80"/>
                </a:solidFill>
                <a:latin typeface="Book Antiqua"/>
              </a:rPr>
              <a:t>и </a:t>
            </a:r>
            <a:endParaRPr b="0" lang="en-US" sz="2000" spc="1" strike="noStrike">
              <a:ln w="0">
                <a:noFill/>
              </a:ln>
              <a:solidFill>
                <a:srgbClr val="000080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80"/>
                </a:solidFill>
                <a:latin typeface="Book Antiqua"/>
              </a:rPr>
              <a:t>его творчество</a:t>
            </a:r>
            <a:endParaRPr b="0" lang="en-US" sz="2000" spc="1" strike="noStrike">
              <a:ln w="0">
                <a:noFill/>
              </a:ln>
              <a:solidFill>
                <a:srgbClr val="000080"/>
              </a:solidFill>
              <a:latin typeface="Book Antiqua"/>
              <a:ea typeface="Book Antiqu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о ли вам узн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ещё басни создал И. А. Крыл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И. А. Крылов написал первую бас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басен было написано Крылов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биографию пис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буклет о жизни и творчестве И. А.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ть басни: «Ворона и Лисица», «Стрекоза и Муравей», «Кварт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выставку рису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чему басни И. А. Крылова актуальны и в наше врем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4" descr="д.jpeg"/>
          <p:cNvPicPr/>
          <p:nvPr/>
        </p:nvPicPr>
        <p:blipFill>
          <a:blip r:embed="rId1"/>
          <a:stretch/>
        </p:blipFill>
        <p:spPr>
          <a:xfrm>
            <a:off x="2514600" y="2895480"/>
            <a:ext cx="413712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ворчество                  И.А.Кры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й стране есть свои баснописцы. В России лучшим считается И.А.Кры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 Андреевич Крылов, родился в Москве 2 февраля 17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семье бедного дворянина, а после смерти отца, который оставил ему в наследство солдатский сундучок с книгами,  жил со своей матерью в глубокой нищете. Умер 21 ноября 1844 г. в Санкт- Петербур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van_Krylov"/>
          <p:cNvPicPr/>
          <p:nvPr/>
        </p:nvPicPr>
        <p:blipFill>
          <a:blip r:embed="rId1"/>
          <a:stretch/>
        </p:blipFill>
        <p:spPr>
          <a:xfrm>
            <a:off x="324000" y="260280"/>
            <a:ext cx="4535280" cy="626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Жизнь Крылова с детства сложилась так, что ему не пришлось учиться в школе. Но стремление к образованию у него было настолько сильным, что он самоучкой овладел языками, математикой и стал высокообразованным для своего времени человеком. Сначала прошлого века Крылов входит в литературу как создатель русской басни. Первая книга его басни вышла когда ему было 40 лет. А всего он создал более 200 бас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KrylovBasnopisetsByEggink"/>
          <p:cNvPicPr/>
          <p:nvPr/>
        </p:nvPicPr>
        <p:blipFill>
          <a:blip r:embed="rId1"/>
          <a:stretch/>
        </p:blipFill>
        <p:spPr>
          <a:xfrm>
            <a:off x="4992840" y="333360"/>
            <a:ext cx="3900240" cy="6191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й короткий занимательный сюж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 опис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диал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ев обычно нескольк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й герой выражает основную иде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ями являются животные, растения, вещи, птицы, ры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сни обычно пишутся в стихотворной фор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прием иносказ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или в конце сформулирован вывод-мор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меиваются человеческие по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042920" y="692280"/>
            <a:ext cx="705816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собенности басен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1203184272_3b_krylov_kvartet"/>
          <p:cNvPicPr/>
          <p:nvPr/>
        </p:nvPicPr>
        <p:blipFill>
          <a:blip r:embed="rId1"/>
          <a:stretch/>
        </p:blipFill>
        <p:spPr>
          <a:xfrm>
            <a:off x="3059280" y="40464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fox03"/>
          <p:cNvPicPr/>
          <p:nvPr/>
        </p:nvPicPr>
        <p:blipFill>
          <a:blip r:embed="rId2"/>
          <a:stretch/>
        </p:blipFill>
        <p:spPr>
          <a:xfrm>
            <a:off x="6346800" y="3789360"/>
            <a:ext cx="2292480" cy="269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scan0003"/>
          <p:cNvPicPr/>
          <p:nvPr/>
        </p:nvPicPr>
        <p:blipFill>
          <a:blip r:embed="rId3"/>
          <a:stretch/>
        </p:blipFill>
        <p:spPr>
          <a:xfrm>
            <a:off x="6588000" y="549360"/>
            <a:ext cx="2232000" cy="261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BasniKrylov"/>
          <p:cNvPicPr/>
          <p:nvPr/>
        </p:nvPicPr>
        <p:blipFill>
          <a:blip r:embed="rId4"/>
          <a:stretch/>
        </p:blipFill>
        <p:spPr>
          <a:xfrm>
            <a:off x="468360" y="4292640"/>
            <a:ext cx="223200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diaBasniKrylova"/>
          <p:cNvPicPr/>
          <p:nvPr/>
        </p:nvPicPr>
        <p:blipFill>
          <a:blip r:embed="rId5"/>
          <a:stretch/>
        </p:blipFill>
        <p:spPr>
          <a:xfrm>
            <a:off x="2843280" y="3789360"/>
            <a:ext cx="3041640" cy="232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9"/>
          <p:cNvPicPr/>
          <p:nvPr/>
        </p:nvPicPr>
        <p:blipFill>
          <a:blip r:embed="rId6"/>
          <a:stretch/>
        </p:blipFill>
        <p:spPr>
          <a:xfrm>
            <a:off x="324000" y="549360"/>
            <a:ext cx="2286000" cy="3143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8002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лож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лу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езнрав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веж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хвастов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2050920" y="1052640"/>
            <a:ext cx="5042160" cy="1172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сни высмеивают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трудолюб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серд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ч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обр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тзыв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лагород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лагод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добывать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2050920" y="620640"/>
            <a:ext cx="5040360" cy="88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му учат басни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ие басни вы знае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трекоза и мурав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а и лисиц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варте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и оч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4-28T09:29:34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