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F17-3336-42EC-8660-1835C997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368-1ACA-4483-AFB5-3F8A8190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CCC-3A3F-4279-82C8-9F87EF47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D78C-B8C0-4862-B753-3E4F83F1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4F30-51EC-44B4-80B7-DEECE014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CE98-5BE9-426C-A002-0AA68847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56ED-CF9B-4051-A19C-866008F8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FE1D-6A5F-4F7C-A9CA-12A8394B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BA02-CC68-47CE-B028-0383EEAB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C99B-CA10-46AF-91A1-55CFEFE1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20E1-6A57-4E21-A2C8-E836BA66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A04-39C9-47FB-91C1-2492E3E5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9A9E-C4CA-4CCB-9045-4726EE3E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4293-8E19-46D8-A426-B4F3B60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4305-B9D4-4B1B-9AD5-2D6AABDB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AE5E-7CBF-45DD-9FCE-3B74C83A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08CE-4A56-46A3-A0F5-E49C8A2B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F34-2707-4EE2-84D2-43316BC3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E82-99F6-4010-9355-FB9845CE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126-6335-45F9-B6B8-4F2DF9F1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AEC-3938-4AE4-B541-2FBDB8A5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884-3009-42FB-8F6A-E2BD0D56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1E5-DA91-43DE-AD1C-E0DCE95C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45A-81F9-4049-936F-0063D81E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9A0F-600C-4D82-AFDE-FE6AA8531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8246-7AB7-43DF-8E35-B121C43CA01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990720" y="762120"/>
            <a:ext cx="7162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80"/>
                </a:solidFill>
                <a:latin typeface="Book Antiqua"/>
              </a:rPr>
              <a:t>И.А. Крылов </a:t>
            </a:r>
            <a:endParaRPr b="0" lang="en-US" sz="2000" spc="1" strike="noStrike">
              <a:ln w="0">
                <a:noFill/>
              </a:ln>
              <a:solidFill>
                <a:srgbClr val="00008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80"/>
                </a:solidFill>
                <a:latin typeface="Book Antiqua"/>
              </a:rPr>
              <a:t>и </a:t>
            </a:r>
            <a:endParaRPr b="0" lang="en-US" sz="2000" spc="1" strike="noStrike">
              <a:ln w="0">
                <a:noFill/>
              </a:ln>
              <a:solidFill>
                <a:srgbClr val="00008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80"/>
                </a:solidFill>
                <a:latin typeface="Book Antiqua"/>
              </a:rPr>
              <a:t>его творчество</a:t>
            </a:r>
            <a:endParaRPr b="0" lang="en-US" sz="2000" spc="1" strike="noStrike">
              <a:ln w="0">
                <a:noFill/>
              </a:ln>
              <a:solidFill>
                <a:srgbClr val="000080"/>
              </a:solidFill>
              <a:latin typeface="Book Antiqua"/>
              <a:ea typeface="Book Antiqu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о ли вам узн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ещё басни создал И. А. Кры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И. А. Крылов написал первую бас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басен было написано Крылов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биографию пис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буклет о жизни и творчестве И. А. 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 басни: «Ворона и Лисица», «Стрекоза и Муравей», «Кварт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выставку рису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елаем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 басни И. А. Крылова актуальны и в наше врем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4" descr="д.jpeg"/>
          <p:cNvPicPr/>
          <p:nvPr/>
        </p:nvPicPr>
        <p:blipFill>
          <a:blip r:embed="rId1"/>
          <a:stretch/>
        </p:blipFill>
        <p:spPr>
          <a:xfrm>
            <a:off x="2514600" y="2895480"/>
            <a:ext cx="413712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ворчество                  И.А.Кры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й стране есть свои баснописцы. В России лучшим считается И.А.Кры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 Андреевич Крылов, родился в Москве 2 февраля 176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семье бедного дворянина, а после смерти отца, который оставил ему в наследство солдатский сундучок с книгами,  жил со своей матерью в глубокой нищете. Умер 21 ноября 1844 г. в Санкт- Петербур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van_Krylov"/>
          <p:cNvPicPr/>
          <p:nvPr/>
        </p:nvPicPr>
        <p:blipFill>
          <a:blip r:embed="rId1"/>
          <a:stretch/>
        </p:blipFill>
        <p:spPr>
          <a:xfrm>
            <a:off x="324000" y="260280"/>
            <a:ext cx="453528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Жизнь Крылова с детства сложилась так, что ему не пришлось учиться в школе. Но стремление к образованию у него было настолько сильным, что он самоучкой овладел языками, математикой и стал высокообразованным для своего времени человеком. Сначала прошлого века Крылов входит в литературу как создатель русской басни. Первая книга его басни вышла когда ему было 40 лет. А всего он создал более 200 б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KrylovBasnopisetsByEggink"/>
          <p:cNvPicPr/>
          <p:nvPr/>
        </p:nvPicPr>
        <p:blipFill>
          <a:blip r:embed="rId1"/>
          <a:stretch/>
        </p:blipFill>
        <p:spPr>
          <a:xfrm>
            <a:off x="4992840" y="333360"/>
            <a:ext cx="3900240" cy="6191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й короткий занимательный сюж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 опис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диал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оев обычно нескольк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й герой выражает основную иде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оями являются животные, растения, вещи, птицы, ры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ни обычно пишутся в стихотворной фор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прием иносказ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или в конце сформулирован вывод-мор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меиваются человеческие по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042920" y="692280"/>
            <a:ext cx="705816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собенности басен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1203184272_3b_krylov_kvartet"/>
          <p:cNvPicPr/>
          <p:nvPr/>
        </p:nvPicPr>
        <p:blipFill>
          <a:blip r:embed="rId1"/>
          <a:stretch/>
        </p:blipFill>
        <p:spPr>
          <a:xfrm>
            <a:off x="3059280" y="404640"/>
            <a:ext cx="3457440" cy="238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fox03"/>
          <p:cNvPicPr/>
          <p:nvPr/>
        </p:nvPicPr>
        <p:blipFill>
          <a:blip r:embed="rId2"/>
          <a:stretch/>
        </p:blipFill>
        <p:spPr>
          <a:xfrm>
            <a:off x="6346800" y="3789360"/>
            <a:ext cx="2292480" cy="269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can0003"/>
          <p:cNvPicPr/>
          <p:nvPr/>
        </p:nvPicPr>
        <p:blipFill>
          <a:blip r:embed="rId3"/>
          <a:stretch/>
        </p:blipFill>
        <p:spPr>
          <a:xfrm>
            <a:off x="6588000" y="549360"/>
            <a:ext cx="2232000" cy="261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BasniKrylov"/>
          <p:cNvPicPr/>
          <p:nvPr/>
        </p:nvPicPr>
        <p:blipFill>
          <a:blip r:embed="rId4"/>
          <a:stretch/>
        </p:blipFill>
        <p:spPr>
          <a:xfrm>
            <a:off x="468360" y="4292640"/>
            <a:ext cx="223200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diaBasniKrylova"/>
          <p:cNvPicPr/>
          <p:nvPr/>
        </p:nvPicPr>
        <p:blipFill>
          <a:blip r:embed="rId5"/>
          <a:stretch/>
        </p:blipFill>
        <p:spPr>
          <a:xfrm>
            <a:off x="2843280" y="3789360"/>
            <a:ext cx="3041640" cy="232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9"/>
          <p:cNvPicPr/>
          <p:nvPr/>
        </p:nvPicPr>
        <p:blipFill>
          <a:blip r:embed="rId6"/>
          <a:stretch/>
        </p:blipFill>
        <p:spPr>
          <a:xfrm>
            <a:off x="324000" y="549360"/>
            <a:ext cx="2286000" cy="3143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002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ло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лу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езнрав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веж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хвастов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2050920" y="1052640"/>
            <a:ext cx="5042160" cy="117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сни высмеивают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трудолюб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серд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обр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тзыв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лагород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лагод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2050920" y="620640"/>
            <a:ext cx="5040360" cy="88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учат басни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басни вы знае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трекоза и мурав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рона и лисиц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варт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ышка и 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8T09:29:3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