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C91-4CC0-4C60-9C99-0D7B6C00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13F-7230-4BE1-B795-55F22B68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580-EF99-40B9-A636-DD20EFDD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5A8-2734-4F4D-A680-6E9D80B6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3B63-8626-4D24-BD46-38E719E6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400D-3057-449E-8CAA-C2740B46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B79E-FF34-4C5D-B23A-2CEEAC1A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2A57-73B9-464B-A5F9-D89ABD71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2A78-02CF-4A10-92E7-AE3DE233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8D1B-E187-414F-86E2-03A9A21A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8567-3551-4C59-A875-969FCAA0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091-9A86-4B6C-A951-BC209201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86B4-7F88-4F0A-BB81-E0DED31C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0ACE-AAC0-4E6A-86EB-D2D1CBF0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88A3-2D86-4215-82FA-27D398F9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9B22-91F5-4A4B-9D73-320F9672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6BE6-9F16-4066-AEC4-8DB7F157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FC7-09FB-460A-9615-37B5C49D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094-00A9-465F-8080-CBBBF989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795-229C-4E54-A670-0EDCC2BB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330-3861-42F1-BEA2-E2B9E346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B1C-D474-4F8A-B63A-8E91A28A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487-2BFC-46E6-903C-D5A6C205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3DA-71CB-476C-89D8-F53D75E2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40C4-99F7-490B-82F1-6935D4E23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7F22-919D-4EC6-8D15-C200B4E336D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990720" y="762120"/>
            <a:ext cx="7162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80"/>
                </a:solidFill>
                <a:latin typeface="Book Antiqua"/>
              </a:rPr>
              <a:t>И.А. Крылов </a:t>
            </a:r>
            <a:endParaRPr b="0" lang="en-US" sz="2000" spc="1" strike="noStrike">
              <a:ln w="0">
                <a:noFill/>
              </a:ln>
              <a:solidFill>
                <a:srgbClr val="00008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80"/>
                </a:solidFill>
                <a:latin typeface="Book Antiqua"/>
              </a:rPr>
              <a:t>и </a:t>
            </a:r>
            <a:endParaRPr b="0" lang="en-US" sz="2000" spc="1" strike="noStrike">
              <a:ln w="0">
                <a:noFill/>
              </a:ln>
              <a:solidFill>
                <a:srgbClr val="00008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80"/>
                </a:solidFill>
                <a:latin typeface="Book Antiqua"/>
              </a:rPr>
              <a:t>его творчество</a:t>
            </a:r>
            <a:endParaRPr b="0" lang="en-US" sz="2000" spc="1" strike="noStrike">
              <a:ln w="0">
                <a:noFill/>
              </a:ln>
              <a:solidFill>
                <a:srgbClr val="000080"/>
              </a:solidFill>
              <a:latin typeface="Book Antiqua"/>
              <a:ea typeface="Book Antiqu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о ли вам узн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ещё басни создал И. А. Кры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И. А. Крылов написал первую басн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басен было написано Крылов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биографию пис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буклет о жизни и творчестве И. А. 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 басни: «Ворона и Лисица», «Стрекоза и Муравей», «Кварт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выставку рису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елаем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 басни И. А. Крылова актуальны и в наше врем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4" descr="д.jpeg"/>
          <p:cNvPicPr/>
          <p:nvPr/>
        </p:nvPicPr>
        <p:blipFill>
          <a:blip r:embed="rId1"/>
          <a:stretch/>
        </p:blipFill>
        <p:spPr>
          <a:xfrm>
            <a:off x="2514600" y="2895480"/>
            <a:ext cx="413712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ворчество                  И.А.Кры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й стране есть свои баснописцы. В России лучшим считается И.А.Кры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 Андреевич Крылов, родился в Москве 2 февраля 176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семье бедного дворянина, а после смерти отца, который оставил ему в наследство солдатский сундучок с книгами,  жил со своей матерью в глубокой нищете. Умер 21 ноября 1844 г. в Санкт- Петербур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van_Krylov"/>
          <p:cNvPicPr/>
          <p:nvPr/>
        </p:nvPicPr>
        <p:blipFill>
          <a:blip r:embed="rId1"/>
          <a:stretch/>
        </p:blipFill>
        <p:spPr>
          <a:xfrm>
            <a:off x="324000" y="260280"/>
            <a:ext cx="4535280" cy="626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Жизнь Крылова с детства сложилась так, что ему не пришлось учиться в школе. Но стремление к образованию у него было настолько сильным, что он самоучкой овладел языками, математикой и стал высокообразованным для своего времени человеком. Сначала прошлого века Крылов входит в литературу как создатель русской басни. Первая книга его басни вышла когда ему было 40 лет. А всего он создал более 200 б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KrylovBasnopisetsByEggink"/>
          <p:cNvPicPr/>
          <p:nvPr/>
        </p:nvPicPr>
        <p:blipFill>
          <a:blip r:embed="rId1"/>
          <a:stretch/>
        </p:blipFill>
        <p:spPr>
          <a:xfrm>
            <a:off x="4992840" y="333360"/>
            <a:ext cx="3900240" cy="6191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й короткий занимательный сюж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 опис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диал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оев обычно нескольк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й герой выражает основную иде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оями являются животные, растения, вещи, птицы, ры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ни обычно пишутся в стихотворной фор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прием иносказ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или в конце сформулирован вывод-мора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меиваются человеческие по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042920" y="692280"/>
            <a:ext cx="705816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собенности басен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1203184272_3b_krylov_kvartet"/>
          <p:cNvPicPr/>
          <p:nvPr/>
        </p:nvPicPr>
        <p:blipFill>
          <a:blip r:embed="rId1"/>
          <a:stretch/>
        </p:blipFill>
        <p:spPr>
          <a:xfrm>
            <a:off x="3059280" y="404640"/>
            <a:ext cx="3457440" cy="238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fox03"/>
          <p:cNvPicPr/>
          <p:nvPr/>
        </p:nvPicPr>
        <p:blipFill>
          <a:blip r:embed="rId2"/>
          <a:stretch/>
        </p:blipFill>
        <p:spPr>
          <a:xfrm>
            <a:off x="6346800" y="3789360"/>
            <a:ext cx="2292480" cy="269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can0003"/>
          <p:cNvPicPr/>
          <p:nvPr/>
        </p:nvPicPr>
        <p:blipFill>
          <a:blip r:embed="rId3"/>
          <a:stretch/>
        </p:blipFill>
        <p:spPr>
          <a:xfrm>
            <a:off x="6588000" y="549360"/>
            <a:ext cx="2232000" cy="261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BasniKrylov"/>
          <p:cNvPicPr/>
          <p:nvPr/>
        </p:nvPicPr>
        <p:blipFill>
          <a:blip r:embed="rId4"/>
          <a:stretch/>
        </p:blipFill>
        <p:spPr>
          <a:xfrm>
            <a:off x="468360" y="4292640"/>
            <a:ext cx="223200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diaBasniKrylova"/>
          <p:cNvPicPr/>
          <p:nvPr/>
        </p:nvPicPr>
        <p:blipFill>
          <a:blip r:embed="rId5"/>
          <a:stretch/>
        </p:blipFill>
        <p:spPr>
          <a:xfrm>
            <a:off x="2843280" y="3789360"/>
            <a:ext cx="3041640" cy="232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9"/>
          <p:cNvPicPr/>
          <p:nvPr/>
        </p:nvPicPr>
        <p:blipFill>
          <a:blip r:embed="rId6"/>
          <a:stretch/>
        </p:blipFill>
        <p:spPr>
          <a:xfrm>
            <a:off x="324000" y="549360"/>
            <a:ext cx="2286000" cy="3143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002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л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ло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лу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езнрав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евеж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хвастов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2050920" y="1052640"/>
            <a:ext cx="5042160" cy="1172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сни высмеивают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р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трудолюб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серд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обр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тзыв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лагород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лагод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обывать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2050920" y="620640"/>
            <a:ext cx="5040360" cy="88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у учат басни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басни вы знае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трекоза и мурав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рона и лисиц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варт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ышка и 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8T09:29:3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