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782-AD50-447E-829F-E9111EDFF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7CE6-D3C6-4C5D-8090-2C39F334C6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3E94-ABB0-43FF-A9A2-7F91E445ED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06DA-8FEB-460F-B556-329C546661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D4F8-001A-4B6F-B6A6-867CE5FA20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3182-FB83-4A12-AC5D-8B0B9CA950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5F79-6633-44AF-881D-F48B81C095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5504-7AFF-4C1D-B587-6B8A807A34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4647-DA92-4338-8FD6-B9DADB626E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82DE-DF17-42AC-80F6-B786F82250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BBC4-CE3E-422E-9665-2CB9010EEA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3C0-F2B2-440B-B417-FF7F6F09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D6D-A803-48F6-A66F-987F0A4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446-C89F-4A98-BC7D-39336F45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6A7-AD7C-4D64-821A-DB89B20F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5C9D-1601-466F-9106-7C66EF72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1F85-AD09-4686-8D5B-FE45961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E6A1-7FE3-41C2-B5EC-6A65CF8A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0331-0B5F-452C-8F1A-91CB5B4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18A3-8AD5-4B85-9940-4D35B94C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31C-1202-45D8-9B89-710F9541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50FA-B503-4726-BCDC-396AA57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6D2-F137-4986-AE03-531A1BE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1A36-B509-4E30-90F5-6D21703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8F01-4E94-4A2A-BAFD-4895A866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1B07-414D-4A5D-9919-329B54C7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544D-4C68-42A5-B867-D00C9A7D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21D3-BEE2-4CF7-A2FE-8715CD0A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1B6-063E-44BB-99F8-D69B9053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969-3B1B-4A61-8D1D-99C6CE0E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170-F652-43C2-A719-03C72E1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6A2-3875-4688-AEE7-BBB03BC7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A39-59BC-405E-9014-ECEEB44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CBA-2854-41EC-823C-331D463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3BF-A434-4AF5-A997-65B3D71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82C8-959D-4BA4-807F-82937AC3DBD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A7CB-8A8D-4FE6-A801-74FEFB1B4F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7;&#1074;&#1103;&#1090;&#1086;&#1075;&#1086;_&#1072;&#1087;&#1086;&#1089;&#1090;&#1086;&#1083;&#1072;_&#1040;&#1085;&#1076;&#1088;&#1077;&#1103;_&#1055;&#1077;&#1088;&#1074;&#1086;&#1079;&#1074;&#1072;&#1085;&#1085;&#1086;&#1075;&#1086;" TargetMode="External"/><Relationship Id="rId2" Type="http://schemas.openxmlformats.org/officeDocument/2006/relationships/hyperlink" Target="http://ru.wikipedia.org/wiki/&#1050;&#1080;&#1085;&#1073;&#1091;&#1088;&#1085;&#1089;&#1082;&#1072;&#1103;_&#1073;&#1072;&#1090;&#1072;&#1083;&#1080;&#1103;" TargetMode="External"/><Relationship Id="rId3" Type="http://schemas.openxmlformats.org/officeDocument/2006/relationships/hyperlink" Target="http://ru.wikipedia.org/wiki/&#1047;&#1086;&#1083;&#1086;&#1090;&#1086;&#1077;_&#1086;&#1088;&#1091;&#1078;&#1080;&#1077;_&#171;&#1047;&#1072;_&#1093;&#1088;&#1072;&#1073;&#1088;&#1086;&#1089;&#1090;&#1100;&#187;" TargetMode="External"/><Relationship Id="rId4" Type="http://schemas.openxmlformats.org/officeDocument/2006/relationships/hyperlink" Target="http://ru.wikipedia.org/wiki/&#1054;&#1088;&#1076;&#1077;&#1085;_&#1057;&#1074;&#1103;&#1090;&#1086;&#1075;&#1086;_&#1042;&#1083;&#1072;&#1076;&#1080;&#1084;&#1080;&#1088;&#1072;" TargetMode="External"/><Relationship Id="rId5" Type="http://schemas.openxmlformats.org/officeDocument/2006/relationships/hyperlink" Target="http://ru.wikipedia.org/wiki/&#1054;&#1088;&#1076;&#1077;&#1085;_&#1057;&#1074;&#1103;&#1090;&#1086;&#1075;&#1086;_&#1040;&#1083;&#1077;&#1082;&#1089;&#1072;&#1085;&#1076;&#1088;&#1072;_&#1053;&#1077;&#1074;&#1089;&#1082;&#1086;&#1075;&#1086;" TargetMode="External"/><Relationship Id="rId6" Type="http://schemas.openxmlformats.org/officeDocument/2006/relationships/hyperlink" Target="http://ru.wikipedia.org/wiki/&#1054;&#1088;&#1076;&#1077;&#1085;_&#1057;&#1074;&#1103;&#1090;&#1086;&#1081;_&#1040;&#1085;&#1085;&#1099;" TargetMode="External"/><Relationship Id="rId7" Type="http://schemas.openxmlformats.org/officeDocument/2006/relationships/hyperlink" Target="http://ru.wikipedia.org/wiki/&#1052;&#1072;&#1083;&#1100;&#1090;&#1080;&#1081;&#1089;&#1082;&#1080;&#1081;_&#1082;&#1088;&#1077;&#1089;&#1090;_(&#1086;&#1088;&#1076;&#1077;&#1085;)" TargetMode="External"/><Relationship Id="rId8" Type="http://schemas.openxmlformats.org/officeDocument/2006/relationships/hyperlink" Target="http://ru.wikipedia.org/wiki/&#1054;&#1088;&#1076;&#1077;&#1085;_&#1052;&#1072;&#1088;&#1080;&#1080;_&#1058;&#1077;&#1088;&#1077;&#1079;&#1080;&#1080;" TargetMode="External"/><Relationship Id="rId9" Type="http://schemas.openxmlformats.org/officeDocument/2006/relationships/hyperlink" Target="http://ru.wikipedia.org/wiki/&#1054;&#1088;&#1076;&#1077;&#1085;_&#1050;&#1088;&#1072;&#1089;&#1085;&#1086;&#1075;&#1086;_&#1054;&#1088;&#1083;&#1072;" TargetMode="External"/><Relationship Id="rId10" Type="http://schemas.openxmlformats.org/officeDocument/2006/relationships/hyperlink" Target="http://ru.wikipedia.org/wiki/&#1054;&#1088;&#1076;&#1077;&#1085;_&#1063;&#1105;&#1088;&#1085;&#1086;&#1075;&#1086;_&#1054;&#1088;&#1083;&#1072;" TargetMode="External"/><Relationship Id="rId11" Type="http://schemas.openxmlformats.org/officeDocument/2006/relationships/hyperlink" Target="http://ru.wikipedia.org/wiki/&#1054;&#1088;&#1076;&#1077;&#1085;_&#1041;&#1077;&#1083;&#1086;&#1075;&#1086;_&#1054;&#1088;&#1083;&#1072;" TargetMode="External"/><Relationship Id="rId12" Type="http://schemas.openxmlformats.org/officeDocument/2006/relationships/hyperlink" Target="http://ru.wikipedia.org/wiki/&#1054;&#1088;&#1076;&#1077;&#1085;_&#1057;&#1074;&#1103;&#1090;&#1086;&#1075;&#1086;_&#1057;&#1090;&#1072;&#1085;&#1080;&#1089;&#1083;&#1072;&#1074;&#1072;" TargetMode="External"/><Relationship Id="rId13" Type="http://schemas.openxmlformats.org/officeDocument/2006/relationships/hyperlink" Target="http://ru.wikipedia.org/wiki/&#1057;&#1072;&#1088;&#1076;&#1080;&#1085;&#1089;&#1082;&#1086;&#1077;_&#1082;&#1086;&#1088;&#1086;&#1083;&#1077;&#1074;&#1089;&#1090;&#1074;&#1086;" TargetMode="External"/><Relationship Id="rId14" Type="http://schemas.openxmlformats.org/officeDocument/2006/relationships/hyperlink" Target="http://ru.wikipedia.org/wiki/&#1042;&#1099;&#1089;&#1096;&#1080;&#1081;_&#1086;&#1088;&#1076;&#1077;&#1085;_&#1057;&#1074;&#1103;&#1090;&#1086;&#1075;&#1086;_&#1041;&#1083;&#1072;&#1075;&#1086;&#1074;&#1077;&#1097;&#1077;&#1085;&#1080;&#1103;_(&#1048;&#1090;&#1072;&#1083;&#1080;&#1103;)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ого проект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95280" y="1557360"/>
            <a:ext cx="84488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"НИ РАЗУ НЕ ПОБЕЖДЕННЫЕ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684360" y="335772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уворов А.В., Ушаков Ф.Ф.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Bookman Old Style"/>
              </a:rPr>
              <a:t>Память в народе, в Отечест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Ушаков Ф.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нем названы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хта в юго-восточной части Баренцева моря и мыс на северном побережье Охотского мор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евые корабли русского и советского Военно-морского флота (броненосец, крейсер, атомный ракетный крейсер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рская Государственная Академия г. Новороссийск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львар Адмирала Ушакова в  г. Москв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ощадь Ушакова г. Севастопол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енный орден Ушакова двух степеней и медаль Ушак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юст в городе Рыбинске( близ родины адмирала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реция, остров Корфу – памятник адмиралу Ушаков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федральный собор святого праведного воина Феодора Ушак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адмиралу Ушакову на мысе Калиакре (Болгария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честь Ушакова назван астероид 3010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Херсоне  именем Ушакова назван проспект и судомеханический технику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 августа 2001г. Адмирал Ушаков канонизирован Русской Православной Церковью как местночтимый святой Саранской епархии. 2004 г. канонизирован как общероссийский свят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408720" cy="421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02165002t"/>
          <p:cNvPicPr/>
          <p:nvPr/>
        </p:nvPicPr>
        <p:blipFill>
          <a:blip r:embed="rId2"/>
          <a:stretch/>
        </p:blipFill>
        <p:spPr>
          <a:xfrm>
            <a:off x="5770440" y="2421000"/>
            <a:ext cx="3373560" cy="443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ysh41"/>
          <p:cNvPicPr/>
          <p:nvPr/>
        </p:nvPicPr>
        <p:blipFill>
          <a:blip r:embed="rId3"/>
          <a:stretch/>
        </p:blipFill>
        <p:spPr>
          <a:xfrm>
            <a:off x="826920" y="1989000"/>
            <a:ext cx="7345440" cy="446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ysh43"/>
          <p:cNvPicPr/>
          <p:nvPr/>
        </p:nvPicPr>
        <p:blipFill>
          <a:blip r:embed="rId4"/>
          <a:stretch/>
        </p:blipFill>
        <p:spPr>
          <a:xfrm>
            <a:off x="2268360" y="1628640"/>
            <a:ext cx="4172040" cy="522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"/>
          <p:cNvPicPr/>
          <p:nvPr/>
        </p:nvPicPr>
        <p:blipFill>
          <a:blip r:embed="rId5"/>
          <a:stretch/>
        </p:blipFill>
        <p:spPr>
          <a:xfrm>
            <a:off x="0" y="1341360"/>
            <a:ext cx="4464000" cy="339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ushakov-11302007041259_s"/>
          <p:cNvPicPr/>
          <p:nvPr/>
        </p:nvPicPr>
        <p:blipFill>
          <a:blip r:embed="rId6"/>
          <a:stretch/>
        </p:blipFill>
        <p:spPr>
          <a:xfrm>
            <a:off x="2494080" y="2205000"/>
            <a:ext cx="43099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2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5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7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0"/>
                            </p:stCondLst>
                            <p:childTnLst>
                              <p:par>
                                <p:cTn id="7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2000"/>
                            </p:stCondLst>
                            <p:childTnLst>
                              <p:par>
                                <p:cTn id="7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7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1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7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6500"/>
                            </p:stCondLst>
                            <p:childTnLst>
                              <p:par>
                                <p:cTn id="71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8500"/>
                            </p:stCondLst>
                            <p:childTnLst>
                              <p:par>
                                <p:cTn id="7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3" dur="2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7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1000"/>
                            </p:stCondLst>
                            <p:childTnLst>
                              <p:par>
                                <p:cTn id="729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2500"/>
                            </p:stCondLst>
                            <p:childTnLst>
                              <p:par>
                                <p:cTn id="7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20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4500"/>
                            </p:stCondLst>
                            <p:childTnLst>
                              <p:par>
                                <p:cTn id="7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9" dur="2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6500"/>
                            </p:stCondLst>
                            <p:childTnLst>
                              <p:par>
                                <p:cTn id="7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2000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848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ажения, победы, 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ь в народе, в Отече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Bookman Old Style"/>
              </a:rPr>
              <a:t>Детство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13 ноября 1729г. в Моск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 в честь Александра Не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аб здоровь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яга к военному де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 Ганниб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24 февраля 1744г. В селе Бурнако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 в честь воинов –великомуче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при монасты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ожденное бесстраш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Bookman Old Style"/>
              </a:rPr>
              <a:t>Учеб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42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ят мушкетером в лейб-гвардии Семеновский пол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48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тельной военной служб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уч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59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ят в Морской корпус г. Петербур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66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ск из Морского корпуса. Мичм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Bookman Old Style"/>
              </a:rPr>
              <a:t>Сражения, победы, награ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7786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1.    Более 60 сражений. Во всех победа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2.   Книга «Наука побеждать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3.   Награ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рден Св. Георгия 1-й степе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Орден Святого апостола Андрея Первозванн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09.11.1787) — за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сражение под Кинбурно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бриллиантовые знаки к ордену (1789) — за сражение при Рымник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. В. Суворов стал одним из 3 Георгиевских кавалеров за всю историю ордена, награждённых с 3-й по 1-ю степень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Золотая шпага с бриллиантам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лаврами (10.07.1775) — в честь победы над турками; вторая шпага с бриллиантами и лавровыми венками за победу при Рымнике (1789)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Орден Святого Владимир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ст. (28.07.1783) — за победы над ногайскими татарами в Крыму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Орден Святого Александра Нев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20.12.1771) — за победу над польскими конфедератам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Орден Святой Анн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09.1770) — за бои с польскими конфедератам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валер большого креста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Иоанна Иерусалим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встрийский Военный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орден Марии Терези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кл.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усск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9"/>
              </a:rPr>
              <a:t>орден Красн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ст.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0"/>
              </a:rPr>
              <a:t>орден Чёрн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«За военные заслуги»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ьскиe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1"/>
              </a:rPr>
              <a:t>орден Бел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2"/>
              </a:rPr>
              <a:t>орден Св. Станислав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3"/>
              </a:rPr>
              <a:t>Сардински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4"/>
              </a:rPr>
              <a:t>Св. Анунциат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Св. Маврикия и Лазаря; Королевства обеих Сицилий — св. Януария; баварский — Св. Губерта и Золотого льва; французский — Кармельской богородицы и Св. Лазар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6" descr=""/>
          <p:cNvPicPr/>
          <p:nvPr/>
        </p:nvPicPr>
        <p:blipFill>
          <a:blip r:embed="rId15"/>
          <a:stretch/>
        </p:blipFill>
        <p:spPr>
          <a:xfrm>
            <a:off x="97164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3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3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3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5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500"/>
                            </p:stCondLst>
                            <p:childTnLst>
                              <p:par>
                                <p:cTn id="3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Bookman Old Style"/>
              </a:rPr>
              <a:t>Сражения, победы, награ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Хроника жиз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69 год Ф. Ф. Ушаков назначается в Донскую (Азовскую) флотил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68 - 1774 годы Ф. Ф. Ушаков участвует в русско-турецкой войн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0 - 1782 годы Ф. Ф. Ушаков командует линейным кораблем "Виктор", охраняет русские торговые суда от пиратских действий английского флот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3 год Ф. Ф. Ушаков переведен на Черноморский флот, борется с эпидемией чум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7 год Ф. Ф. Ушаков командует линейным кораблем "Святой Павел» и одерживает победу у острова Фидониси над турецким флото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9 год Ф. Ф. Ушаков получает чин контр-адмирал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0 год Ф. Ф. Ушаков командует Черноморским флотом, одерживает победы в Керченском сражении и у острова Тендра над турецким флото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1 год Ф. Ф. Ушаков одерживает победу над турецким флотом у мыса Калиакр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3 год Ф. Ф. Ушаков получает чин вице-адмирал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8 - 1800 годы Эскадра под командованием Ф. Ф. Ушакова освобождает Ионические острова от французской оккупаци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9 год Ф. Ф. Ушаков получает чин адмирала. Эскадра под командованием Ф. Ф. Ушакова берет штурмом крепость на острове Корфу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395280" y="890640"/>
            <a:ext cx="8209080" cy="596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ysh60"/>
          <p:cNvPicPr/>
          <p:nvPr/>
        </p:nvPicPr>
        <p:blipFill>
          <a:blip r:embed="rId2"/>
          <a:stretch/>
        </p:blipFill>
        <p:spPr>
          <a:xfrm>
            <a:off x="1619280" y="2421000"/>
            <a:ext cx="568800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Георгия 4 степени (178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Георгия 2 степени (17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4 степени (1784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3 степени (178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2 степени (17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Александра Невского 4 степени (179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мазные знаки Святого Александра Невского (179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Януария Королевства обеих Сицил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андор креста Святого Иоанна Иерусалимского (179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ая награда Османской империи «Челенг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олотое оружие от греческой Республики Семи Остров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2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2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2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Bookman Old Style"/>
              </a:rPr>
              <a:t>Личност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еда над собственной слаб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ерывн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ая куль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вь к  солд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анность Род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страшие и пренебрежение к 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аднокровность в боевой обстано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омность в обычной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ажение к матрос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я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ushakov_svyat"/>
          <p:cNvPicPr/>
          <p:nvPr/>
        </p:nvPicPr>
        <p:blipFill>
          <a:blip r:embed="rId1"/>
          <a:stretch/>
        </p:blipFill>
        <p:spPr>
          <a:xfrm>
            <a:off x="108000" y="1197000"/>
            <a:ext cx="441648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4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8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6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http://upload.wikimedia.org/wikipedia/commons/thumb/4/42/Suvorov_Grave_Down.JPG/180px-Suvorov_Grave_Down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upload.wikimedia.org/wikipedia/commons/thumb/6/60/Suworow-denkmal.jpg/193px-Suworow-denkmal.jpg"/>
          <p:cNvPicPr/>
          <p:nvPr/>
        </p:nvPicPr>
        <p:blipFill>
          <a:blip r:embed="rId2"/>
          <a:stretch/>
        </p:blipFill>
        <p:spPr>
          <a:xfrm>
            <a:off x="0" y="3476520"/>
            <a:ext cx="3635280" cy="3381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Bookman Old Style"/>
              </a:rPr>
              <a:t>Память в народе, в Отечеств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мориальный музей Суворова в Санкт – Петербург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ден Суворова III степ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уск юбилейных монет, банкн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0" descr="http://upload.wikimedia.org/wikipedia/commons/thumb/9/9f/Suvorovmuseum.jpg/220px-Suvorovmuseum.jpg"/>
          <p:cNvPicPr/>
          <p:nvPr/>
        </p:nvPicPr>
        <p:blipFill>
          <a:blip r:embed="rId3"/>
          <a:stretch/>
        </p:blipFill>
        <p:spPr>
          <a:xfrm>
            <a:off x="4859280" y="1989000"/>
            <a:ext cx="4032360" cy="303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upload.wikimedia.org/wikipedia/commons/thumb/d/da/Order_of_suvorov_medal_3rd_class.jpg/190px-Order_of_suvorov_medal_3rd_class.jpg"/>
          <p:cNvPicPr/>
          <p:nvPr/>
        </p:nvPicPr>
        <p:blipFill>
          <a:blip r:embed="rId4"/>
          <a:stretch/>
        </p:blipFill>
        <p:spPr>
          <a:xfrm>
            <a:off x="4859280" y="1989000"/>
            <a:ext cx="3968640" cy="3969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3785400" y="148284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уворов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00"/>
                            </p:stCondLst>
                            <p:childTnLst>
                              <p:par>
                                <p:cTn id="601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5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6:56:09Z</dcterms:created>
  <dc:creator>user</dc:creator>
  <dc:description/>
  <dc:language>en-US</dc:language>
  <cp:lastModifiedBy>Пользователь</cp:lastModifiedBy>
  <dcterms:modified xsi:type="dcterms:W3CDTF">2012-02-02T13:16:46Z</dcterms:modified>
  <cp:revision>14</cp:revision>
  <dc:subject/>
  <dc:title>Слайд 1</dc:title>
</cp:coreProperties>
</file>