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DCAD-45F5-42C1-B214-53E15AD24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03D2-92A3-4B54-A022-18E626358E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C240-328E-4217-A7F8-47682D7A48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1BEF-7F03-42B2-9AB9-DFB3EE7A79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5377-90EB-408F-88F9-62040CB4F5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0709-6D47-4CA5-A1C1-F692820F2E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84D8-EA6C-4B57-AB3B-47D061179D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01DA-2D43-44D4-AD07-5605BA9C18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03BE-2DF7-4D23-94CE-EDBC180525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E0B0-B714-404B-8C43-B2384C63A2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FA88-AE9E-432B-92B7-742F82E4B9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638-DE0B-4890-B567-20C8134A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C77-5982-4C96-A4D2-175B91B7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871-0A8D-499E-A9BF-3BF25712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FB7-30A5-4CD1-8C36-F0BDD0B8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D515-D882-4E78-80E1-7B9AEDBA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C36B-B172-4BB1-B108-804FBD6B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EADA-0A7A-4051-8AA7-A73DD5DB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8BDD-04A7-405B-B9E7-9A1AA3FB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5CF1-5297-4A6F-9724-7FB16643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4143-A281-45F0-BDE1-0851149F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1C9C-63C3-4797-9378-53F9C53F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9DB-8DE2-4195-9664-BA616ED2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F2AE-19E6-4FD9-B02D-CBCFD6CF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44AF-C7B1-461A-9416-7F911AF9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49CC-44C4-4905-BFC8-83068DBF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515C-A1DA-4627-8241-48BB9BA4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768D-C473-4A49-B1CF-139D931F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4F3-461C-4DCC-888E-210DBD37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38D-F345-49BB-BDFE-0FAF0099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8BE-F7B2-4287-B6BB-B86A1D0E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BC6-BB48-4D98-9E09-70BEAA83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63F-6DBE-4C17-AFB5-9B63DD07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55A-82C7-4763-9388-656D4570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0B7-F3E7-4A2E-A52F-91D92C44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7C9F-5B84-40B5-B575-8C721D22EE2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652E-F8C3-44AD-B85C-5DCC4E6A1D1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6;&#1077;&#1085;_&#1057;&#1074;&#1103;&#1090;&#1086;&#1075;&#1086;_&#1072;&#1087;&#1086;&#1089;&#1090;&#1086;&#1083;&#1072;_&#1040;&#1085;&#1076;&#1088;&#1077;&#1103;_&#1055;&#1077;&#1088;&#1074;&#1086;&#1079;&#1074;&#1072;&#1085;&#1085;&#1086;&#1075;&#1086;" TargetMode="External"/><Relationship Id="rId2" Type="http://schemas.openxmlformats.org/officeDocument/2006/relationships/hyperlink" Target="http://ru.wikipedia.org/wiki/&#1050;&#1080;&#1085;&#1073;&#1091;&#1088;&#1085;&#1089;&#1082;&#1072;&#1103;_&#1073;&#1072;&#1090;&#1072;&#1083;&#1080;&#1103;" TargetMode="External"/><Relationship Id="rId3" Type="http://schemas.openxmlformats.org/officeDocument/2006/relationships/hyperlink" Target="http://ru.wikipedia.org/wiki/&#1047;&#1086;&#1083;&#1086;&#1090;&#1086;&#1077;_&#1086;&#1088;&#1091;&#1078;&#1080;&#1077;_&#171;&#1047;&#1072;_&#1093;&#1088;&#1072;&#1073;&#1088;&#1086;&#1089;&#1090;&#1100;&#187;" TargetMode="External"/><Relationship Id="rId4" Type="http://schemas.openxmlformats.org/officeDocument/2006/relationships/hyperlink" Target="http://ru.wikipedia.org/wiki/&#1054;&#1088;&#1076;&#1077;&#1085;_&#1057;&#1074;&#1103;&#1090;&#1086;&#1075;&#1086;_&#1042;&#1083;&#1072;&#1076;&#1080;&#1084;&#1080;&#1088;&#1072;" TargetMode="External"/><Relationship Id="rId5" Type="http://schemas.openxmlformats.org/officeDocument/2006/relationships/hyperlink" Target="http://ru.wikipedia.org/wiki/&#1054;&#1088;&#1076;&#1077;&#1085;_&#1057;&#1074;&#1103;&#1090;&#1086;&#1075;&#1086;_&#1040;&#1083;&#1077;&#1082;&#1089;&#1072;&#1085;&#1076;&#1088;&#1072;_&#1053;&#1077;&#1074;&#1089;&#1082;&#1086;&#1075;&#1086;" TargetMode="External"/><Relationship Id="rId6" Type="http://schemas.openxmlformats.org/officeDocument/2006/relationships/hyperlink" Target="http://ru.wikipedia.org/wiki/&#1054;&#1088;&#1076;&#1077;&#1085;_&#1057;&#1074;&#1103;&#1090;&#1086;&#1081;_&#1040;&#1085;&#1085;&#1099;" TargetMode="External"/><Relationship Id="rId7" Type="http://schemas.openxmlformats.org/officeDocument/2006/relationships/hyperlink" Target="http://ru.wikipedia.org/wiki/&#1052;&#1072;&#1083;&#1100;&#1090;&#1080;&#1081;&#1089;&#1082;&#1080;&#1081;_&#1082;&#1088;&#1077;&#1089;&#1090;_(&#1086;&#1088;&#1076;&#1077;&#1085;)" TargetMode="External"/><Relationship Id="rId8" Type="http://schemas.openxmlformats.org/officeDocument/2006/relationships/hyperlink" Target="http://ru.wikipedia.org/wiki/&#1054;&#1088;&#1076;&#1077;&#1085;_&#1052;&#1072;&#1088;&#1080;&#1080;_&#1058;&#1077;&#1088;&#1077;&#1079;&#1080;&#1080;" TargetMode="External"/><Relationship Id="rId9" Type="http://schemas.openxmlformats.org/officeDocument/2006/relationships/hyperlink" Target="http://ru.wikipedia.org/wiki/&#1054;&#1088;&#1076;&#1077;&#1085;_&#1050;&#1088;&#1072;&#1089;&#1085;&#1086;&#1075;&#1086;_&#1054;&#1088;&#1083;&#1072;" TargetMode="External"/><Relationship Id="rId10" Type="http://schemas.openxmlformats.org/officeDocument/2006/relationships/hyperlink" Target="http://ru.wikipedia.org/wiki/&#1054;&#1088;&#1076;&#1077;&#1085;_&#1063;&#1105;&#1088;&#1085;&#1086;&#1075;&#1086;_&#1054;&#1088;&#1083;&#1072;" TargetMode="External"/><Relationship Id="rId11" Type="http://schemas.openxmlformats.org/officeDocument/2006/relationships/hyperlink" Target="http://ru.wikipedia.org/wiki/&#1054;&#1088;&#1076;&#1077;&#1085;_&#1041;&#1077;&#1083;&#1086;&#1075;&#1086;_&#1054;&#1088;&#1083;&#1072;" TargetMode="External"/><Relationship Id="rId12" Type="http://schemas.openxmlformats.org/officeDocument/2006/relationships/hyperlink" Target="http://ru.wikipedia.org/wiki/&#1054;&#1088;&#1076;&#1077;&#1085;_&#1057;&#1074;&#1103;&#1090;&#1086;&#1075;&#1086;_&#1057;&#1090;&#1072;&#1085;&#1080;&#1089;&#1083;&#1072;&#1074;&#1072;" TargetMode="External"/><Relationship Id="rId13" Type="http://schemas.openxmlformats.org/officeDocument/2006/relationships/hyperlink" Target="http://ru.wikipedia.org/wiki/&#1057;&#1072;&#1088;&#1076;&#1080;&#1085;&#1089;&#1082;&#1086;&#1077;_&#1082;&#1086;&#1088;&#1086;&#1083;&#1077;&#1074;&#1089;&#1090;&#1074;&#1086;" TargetMode="External"/><Relationship Id="rId14" Type="http://schemas.openxmlformats.org/officeDocument/2006/relationships/hyperlink" Target="http://ru.wikipedia.org/wiki/&#1042;&#1099;&#1089;&#1096;&#1080;&#1081;_&#1086;&#1088;&#1076;&#1077;&#1085;_&#1057;&#1074;&#1103;&#1090;&#1086;&#1075;&#1086;_&#1041;&#1083;&#1072;&#1075;&#1086;&#1074;&#1077;&#1097;&#1077;&#1085;&#1080;&#1103;_(&#1048;&#1090;&#1072;&#1083;&#1080;&#1103;)" TargetMode="External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зентац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ого проект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95280" y="1557360"/>
            <a:ext cx="84488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"НИ РАЗУ НЕ ПОБЕЖДЕННЫЕ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684360" y="335772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уворов А.В., Ушаков Ф.Ф.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0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Bookman Old Style"/>
              </a:rPr>
              <a:t>Память в народе, в Отечест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Ушаков Ф.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енем названы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ухта в юго-восточной части Баренцева моря и мыс на северном побережье Охотского мор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евые корабли русского и советского Военно-морского флота (броненосец, крейсер, атомный ракетный крейсер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рская Государственная Академия г. Новороссийск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ульвар Адмирала Ушакова в  г. Москв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ощадь Ушакова г. Севастопол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енный орден Ушакова двух степеней и медаль Ушак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юст в городе Рыбинске( близ родины адмирала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реция, остров Корфу – памятник адмиралу Ушакову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федральный собор святого праведного воина Феодора Ушак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мятник адмиралу Ушакову на мысе Калиакре (Болгария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честь Ушакова назван астероид 3010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Херсоне  именем Ушакова назван проспект и судомеханический технику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 августа 2001г. Адмирал Ушаков канонизирован Русской Православной Церковью как местночтимый святой Саранской епархии. 2004 г. канонизирован как общероссийский свят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408720" cy="4213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02165002t"/>
          <p:cNvPicPr/>
          <p:nvPr/>
        </p:nvPicPr>
        <p:blipFill>
          <a:blip r:embed="rId2"/>
          <a:stretch/>
        </p:blipFill>
        <p:spPr>
          <a:xfrm>
            <a:off x="5770440" y="2421000"/>
            <a:ext cx="3373560" cy="4437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ysh41"/>
          <p:cNvPicPr/>
          <p:nvPr/>
        </p:nvPicPr>
        <p:blipFill>
          <a:blip r:embed="rId3"/>
          <a:stretch/>
        </p:blipFill>
        <p:spPr>
          <a:xfrm>
            <a:off x="826920" y="1989000"/>
            <a:ext cx="7345440" cy="446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ysh43"/>
          <p:cNvPicPr/>
          <p:nvPr/>
        </p:nvPicPr>
        <p:blipFill>
          <a:blip r:embed="rId4"/>
          <a:stretch/>
        </p:blipFill>
        <p:spPr>
          <a:xfrm>
            <a:off x="2268360" y="1628640"/>
            <a:ext cx="4172040" cy="522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i"/>
          <p:cNvPicPr/>
          <p:nvPr/>
        </p:nvPicPr>
        <p:blipFill>
          <a:blip r:embed="rId5"/>
          <a:stretch/>
        </p:blipFill>
        <p:spPr>
          <a:xfrm>
            <a:off x="0" y="1341360"/>
            <a:ext cx="4464000" cy="3395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ushakov-11302007041259_s"/>
          <p:cNvPicPr/>
          <p:nvPr/>
        </p:nvPicPr>
        <p:blipFill>
          <a:blip r:embed="rId6"/>
          <a:stretch/>
        </p:blipFill>
        <p:spPr>
          <a:xfrm>
            <a:off x="2494080" y="2205000"/>
            <a:ext cx="43099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77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3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500"/>
                            </p:stCondLst>
                            <p:childTnLst>
                              <p:par>
                                <p:cTn id="6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500"/>
                            </p:stCondLst>
                            <p:childTnLst>
                              <p:par>
                                <p:cTn id="6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2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1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5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1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3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8000"/>
                            </p:stCondLst>
                            <p:childTnLst>
                              <p:par>
                                <p:cTn id="697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0"/>
                            </p:stCondLst>
                            <p:childTnLst>
                              <p:par>
                                <p:cTn id="7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3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2000"/>
                            </p:stCondLst>
                            <p:childTnLst>
                              <p:par>
                                <p:cTn id="7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7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4000"/>
                            </p:stCondLst>
                            <p:childTnLst>
                              <p:par>
                                <p:cTn id="7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1" dur="20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7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6500"/>
                            </p:stCondLst>
                            <p:childTnLst>
                              <p:par>
                                <p:cTn id="71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8500"/>
                            </p:stCondLst>
                            <p:childTnLst>
                              <p:par>
                                <p:cTn id="7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3" dur="2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500"/>
                            </p:stCondLst>
                            <p:childTnLst>
                              <p:par>
                                <p:cTn id="7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1000"/>
                            </p:stCondLst>
                            <p:childTnLst>
                              <p:par>
                                <p:cTn id="729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2500"/>
                            </p:stCondLst>
                            <p:childTnLst>
                              <p:par>
                                <p:cTn id="7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5" dur="20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4500"/>
                            </p:stCondLst>
                            <p:childTnLst>
                              <p:par>
                                <p:cTn id="7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9" dur="2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6500"/>
                            </p:stCondLst>
                            <p:childTnLst>
                              <p:par>
                                <p:cTn id="7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2000"/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7848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ажения, победы, нагр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ь в народе, в Отечест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Bookman Old Style"/>
              </a:rPr>
              <a:t>Детство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13 ноября 1729г. в Моск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н в честь Александра Нев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аб здоровь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яга к военному де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 Ганниб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24 февраля 1744г. В селе Бурнако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н в честь воинов –великомучен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при монасты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ожденное бесстраш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Bookman Old Style"/>
              </a:rPr>
              <a:t>Учеб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42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ят мушкетером в лейб-гвардии Семеновский пол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48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тельной военной служб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уч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59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ят в Морской корпус г. Петербур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66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уск из Морского корпуса. Мичм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4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Bookman Old Style"/>
              </a:rPr>
              <a:t>Сражения, победы, наград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7786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akerSignet"/>
              </a:rPr>
              <a:t>1.    Более 60 сражений. Во всех победа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akerSignet"/>
              </a:rPr>
              <a:t>2.   Книга «Наука побеждать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akerSignet"/>
              </a:rPr>
              <a:t>3.   Награ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рден Св. Георгия 1-й степен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Орден Святого апостола Андрея Первозванн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09.11.1787) — за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сражение под Кинбурном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; бриллиантовые знаки к ордену (1789) — за сражение при Рымнике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. В. Суворов стал одним из 3 Георгиевских кавалеров за всю историю ордена, награждённых с 3-й по 1-ю степень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Золотая шпага с бриллиантам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и лаврами (10.07.1775) — в честь победы над турками; вторая шпага с бриллиантами и лавровыми венками за победу при Рымнике (1789)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Орден Святого Владимир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1-й ст. (28.07.1783) — за победы над ногайскими татарами в Крыму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Орден Святого Александра Нев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20.12.1771) — за победу над польскими конфедератам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Орден Святой Анн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09.1770) — за бои с польскими конфедератам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валер большого креста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Иоанна Иерусалим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встрийский Военный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орден Марии Терези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1-й кл.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усски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9"/>
              </a:rPr>
              <a:t>орден Красного Орл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1-й ст.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0"/>
              </a:rPr>
              <a:t>орден Чёрного Орл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«За военные заслуги»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ьскиe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1"/>
              </a:rPr>
              <a:t>орден Белого Орл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2"/>
              </a:rPr>
              <a:t>орден Св. Станислав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3"/>
              </a:rPr>
              <a:t>Сардински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4"/>
              </a:rPr>
              <a:t>Св. Анунциат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и Св. Маврикия и Лазаря; Королевства обеих Сицилий — св. Януария; баварский — Св. Губерта и Золотого льва; французский — Кармельской богородицы и Св. Лазар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36" descr=""/>
          <p:cNvPicPr/>
          <p:nvPr/>
        </p:nvPicPr>
        <p:blipFill>
          <a:blip r:embed="rId15"/>
          <a:stretch/>
        </p:blipFill>
        <p:spPr>
          <a:xfrm>
            <a:off x="97164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500"/>
                            </p:stCondLst>
                            <p:childTnLst>
                              <p:par>
                                <p:cTn id="27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3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3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3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3500"/>
                            </p:stCondLst>
                            <p:childTnLst>
                              <p:par>
                                <p:cTn id="3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3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25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500"/>
                            </p:stCondLst>
                            <p:childTnLst>
                              <p:par>
                                <p:cTn id="3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Bookman Old Style"/>
              </a:rPr>
              <a:t>Сражения, победы, наград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Хроника жиз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69 год Ф. Ф. Ушаков назначается в Донскую (Азовскую) флотили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68 - 1774 годы Ф. Ф. Ушаков участвует в русско-турецкой войн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0 - 1782 годы Ф. Ф. Ушаков командует линейным кораблем "Виктор", охраняет русские торговые суда от пиратских действий английского флот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3 год Ф. Ф. Ушаков переведен на Черноморский флот, борется с эпидемией чумы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7 год Ф. Ф. Ушаков командует линейным кораблем "Святой Павел» и одерживает победу у острова Фидониси над турецким флото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9 год Ф. Ф. Ушаков получает чин контр-адмирал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0 год Ф. Ф. Ушаков командует Черноморским флотом, одерживает победы в Керченском сражении и у острова Тендра над турецким флото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1 год Ф. Ф. Ушаков одерживает победу над турецким флотом у мыса Калиакр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3 год Ф. Ф. Ушаков получает чин вице-адмирал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8 - 1800 годы Эскадра под командованием Ф. Ф. Ушакова освобождает Ионические острова от французской оккупаци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9 год Ф. Ф. Ушаков получает чин адмирала. Эскадра под командованием Ф. Ф. Ушакова берет штурмом крепость на острове Корфу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395280" y="890640"/>
            <a:ext cx="8209080" cy="596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ysh60"/>
          <p:cNvPicPr/>
          <p:nvPr/>
        </p:nvPicPr>
        <p:blipFill>
          <a:blip r:embed="rId2"/>
          <a:stretch/>
        </p:blipFill>
        <p:spPr>
          <a:xfrm>
            <a:off x="1619280" y="2421000"/>
            <a:ext cx="5688000" cy="38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2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2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20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20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гр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Георгия 4 степени (178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Георгия 2 степени (179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Владимира 4 степени (1784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Владимира 3 степени (178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Владимира 2 степени (179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Александра Невского 4 степени (179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мазные знаки Святого Александра Невского (179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Януария Королевства обеих Сицил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андор креста Святого Иоанна Иерусалимского (179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шая награда Османской империи «Челенг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олотое оружие от греческой Республики Семи Остров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90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2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2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2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" dur="2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Bookman Old Style"/>
              </a:rPr>
              <a:t>Личност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еда над собственной слаб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рерывное образо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окая культу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вь к  солд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анность Роди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страшие и пренебрежение к опас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ладнокровность в боевой обстанов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ромность в обычной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важение к матрос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я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9" descr="ushakov_svyat"/>
          <p:cNvPicPr/>
          <p:nvPr/>
        </p:nvPicPr>
        <p:blipFill>
          <a:blip r:embed="rId1"/>
          <a:stretch/>
        </p:blipFill>
        <p:spPr>
          <a:xfrm>
            <a:off x="108000" y="1197000"/>
            <a:ext cx="441648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4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4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8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2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546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0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4500"/>
                            </p:stCondLst>
                            <p:childTnLst>
                              <p:par>
                                <p:cTn id="5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http://upload.wikimedia.org/wikipedia/commons/thumb/4/42/Suvorov_Grave_Down.JPG/180px-Suvorov_Grave_Down.JPG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upload.wikimedia.org/wikipedia/commons/thumb/6/60/Suworow-denkmal.jpg/193px-Suworow-denkmal.jpg"/>
          <p:cNvPicPr/>
          <p:nvPr/>
        </p:nvPicPr>
        <p:blipFill>
          <a:blip r:embed="rId2"/>
          <a:stretch/>
        </p:blipFill>
        <p:spPr>
          <a:xfrm>
            <a:off x="0" y="3476520"/>
            <a:ext cx="3635280" cy="3381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Bookman Old Style"/>
              </a:rPr>
              <a:t>Память в народе, в Отечеств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мориальный музей Суворова в Санкт – Петербург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ден Суворова III степе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уск юбилейных монет, банкн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0" descr="http://upload.wikimedia.org/wikipedia/commons/thumb/9/9f/Suvorovmuseum.jpg/220px-Suvorovmuseum.jpg"/>
          <p:cNvPicPr/>
          <p:nvPr/>
        </p:nvPicPr>
        <p:blipFill>
          <a:blip r:embed="rId3"/>
          <a:stretch/>
        </p:blipFill>
        <p:spPr>
          <a:xfrm>
            <a:off x="4859280" y="1989000"/>
            <a:ext cx="4032360" cy="3038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upload.wikimedia.org/wikipedia/commons/thumb/d/da/Order_of_suvorov_medal_3rd_class.jpg/190px-Order_of_suvorov_medal_3rd_class.jpg"/>
          <p:cNvPicPr/>
          <p:nvPr/>
        </p:nvPicPr>
        <p:blipFill>
          <a:blip r:embed="rId4"/>
          <a:stretch/>
        </p:blipFill>
        <p:spPr>
          <a:xfrm>
            <a:off x="4859280" y="1989000"/>
            <a:ext cx="3968640" cy="3969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3785400" y="148284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уворов А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500"/>
                            </p:stCondLst>
                            <p:childTnLst>
                              <p:par>
                                <p:cTn id="59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500"/>
                            </p:stCondLst>
                            <p:childTnLst>
                              <p:par>
                                <p:cTn id="601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000"/>
                            </p:stCondLst>
                            <p:childTnLst>
                              <p:par>
                                <p:cTn id="60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0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5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6:56:09Z</dcterms:created>
  <dc:creator>user</dc:creator>
  <dc:description/>
  <dc:language>en-US</dc:language>
  <cp:lastModifiedBy>Пользователь</cp:lastModifiedBy>
  <dcterms:modified xsi:type="dcterms:W3CDTF">2012-02-02T13:16:46Z</dcterms:modified>
  <cp:revision>14</cp:revision>
  <dc:subject/>
  <dc:title>Слайд 1</dc:title>
</cp:coreProperties>
</file>