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54C8-AA10-4B6F-9CCA-204328660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CFF7-5E66-4BD5-91C7-B994F2073B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96B0-B11F-4744-A268-4030658374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6D96-6B53-4ACD-99BE-E589B5C5A5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58B1-7C00-443B-AF07-CCA9DA2BA4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0F5-03BA-4B2A-9D2A-2160B31ECD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84B-9569-4C98-9A65-1BDA9BD23A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9D1D-7C7B-424B-865F-64091042BF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E39F-F4E9-4524-97FC-6AC33EFC17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440F-3795-4F51-806E-0F39433BB7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CBDE-E7EA-4EB4-909E-A8C5F75F8B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B84-61EE-47DE-B850-087F2C8C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191-2B54-41BC-8516-55FD4934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E59-F19F-4343-AF69-FF24995B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FC5-C77A-40E4-BE24-66D1FBD6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6CB3-54B8-43EF-8D80-C7A8F0BB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FB0-1A32-4469-84CB-5B68D64F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DB22-937A-49B5-93B7-AE493E9F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D5A5-BCA9-4652-A77C-3B35CA0D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8508-30D7-4072-A7A5-706A2F4C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779E-A152-48F6-B9B2-B92DF49E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99C3-F1BD-4A39-AB11-30F4A9AC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F63-18FD-494F-BC3D-DBF23C47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D975-30B2-44A7-B322-9C7A538E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1239-C0AE-4A19-B27D-05A8351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E6E9-0A09-4CDC-B805-24C0988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29D9-BD67-42FF-B754-89FA74AE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CD7-EAE7-4315-B096-953774ED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DD0-F36F-437A-9F51-D26ABB0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DF9-1081-4CD8-98F8-D997207D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78D-1271-4D97-BD07-B54DAC49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178-EC23-4813-9CFB-4A2A156D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F78-5063-4E4F-94CA-7D35C68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EE8-3568-4BB5-B44A-4CE20A8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FA0-BF89-4644-B0B6-76F6C0D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20AA-ED4E-427A-8AD2-BB867559DC2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EA98-1686-484F-ADE9-7F5528725A1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88;&#1076;&#1077;&#1085;_&#1057;&#1074;&#1103;&#1090;&#1086;&#1075;&#1086;_&#1072;&#1087;&#1086;&#1089;&#1090;&#1086;&#1083;&#1072;_&#1040;&#1085;&#1076;&#1088;&#1077;&#1103;_&#1055;&#1077;&#1088;&#1074;&#1086;&#1079;&#1074;&#1072;&#1085;&#1085;&#1086;&#1075;&#1086;" TargetMode="External"/><Relationship Id="rId2" Type="http://schemas.openxmlformats.org/officeDocument/2006/relationships/hyperlink" Target="http://ru.wikipedia.org/wiki/&#1050;&#1080;&#1085;&#1073;&#1091;&#1088;&#1085;&#1089;&#1082;&#1072;&#1103;_&#1073;&#1072;&#1090;&#1072;&#1083;&#1080;&#1103;" TargetMode="External"/><Relationship Id="rId3" Type="http://schemas.openxmlformats.org/officeDocument/2006/relationships/hyperlink" Target="http://ru.wikipedia.org/wiki/&#1047;&#1086;&#1083;&#1086;&#1090;&#1086;&#1077;_&#1086;&#1088;&#1091;&#1078;&#1080;&#1077;_&#171;&#1047;&#1072;_&#1093;&#1088;&#1072;&#1073;&#1088;&#1086;&#1089;&#1090;&#1100;&#187;" TargetMode="External"/><Relationship Id="rId4" Type="http://schemas.openxmlformats.org/officeDocument/2006/relationships/hyperlink" Target="http://ru.wikipedia.org/wiki/&#1054;&#1088;&#1076;&#1077;&#1085;_&#1057;&#1074;&#1103;&#1090;&#1086;&#1075;&#1086;_&#1042;&#1083;&#1072;&#1076;&#1080;&#1084;&#1080;&#1088;&#1072;" TargetMode="External"/><Relationship Id="rId5" Type="http://schemas.openxmlformats.org/officeDocument/2006/relationships/hyperlink" Target="http://ru.wikipedia.org/wiki/&#1054;&#1088;&#1076;&#1077;&#1085;_&#1057;&#1074;&#1103;&#1090;&#1086;&#1075;&#1086;_&#1040;&#1083;&#1077;&#1082;&#1089;&#1072;&#1085;&#1076;&#1088;&#1072;_&#1053;&#1077;&#1074;&#1089;&#1082;&#1086;&#1075;&#1086;" TargetMode="External"/><Relationship Id="rId6" Type="http://schemas.openxmlformats.org/officeDocument/2006/relationships/hyperlink" Target="http://ru.wikipedia.org/wiki/&#1054;&#1088;&#1076;&#1077;&#1085;_&#1057;&#1074;&#1103;&#1090;&#1086;&#1081;_&#1040;&#1085;&#1085;&#1099;" TargetMode="External"/><Relationship Id="rId7" Type="http://schemas.openxmlformats.org/officeDocument/2006/relationships/hyperlink" Target="http://ru.wikipedia.org/wiki/&#1052;&#1072;&#1083;&#1100;&#1090;&#1080;&#1081;&#1089;&#1082;&#1080;&#1081;_&#1082;&#1088;&#1077;&#1089;&#1090;_(&#1086;&#1088;&#1076;&#1077;&#1085;)" TargetMode="External"/><Relationship Id="rId8" Type="http://schemas.openxmlformats.org/officeDocument/2006/relationships/hyperlink" Target="http://ru.wikipedia.org/wiki/&#1054;&#1088;&#1076;&#1077;&#1085;_&#1052;&#1072;&#1088;&#1080;&#1080;_&#1058;&#1077;&#1088;&#1077;&#1079;&#1080;&#1080;" TargetMode="External"/><Relationship Id="rId9" Type="http://schemas.openxmlformats.org/officeDocument/2006/relationships/hyperlink" Target="http://ru.wikipedia.org/wiki/&#1054;&#1088;&#1076;&#1077;&#1085;_&#1050;&#1088;&#1072;&#1089;&#1085;&#1086;&#1075;&#1086;_&#1054;&#1088;&#1083;&#1072;" TargetMode="External"/><Relationship Id="rId10" Type="http://schemas.openxmlformats.org/officeDocument/2006/relationships/hyperlink" Target="http://ru.wikipedia.org/wiki/&#1054;&#1088;&#1076;&#1077;&#1085;_&#1063;&#1105;&#1088;&#1085;&#1086;&#1075;&#1086;_&#1054;&#1088;&#1083;&#1072;" TargetMode="External"/><Relationship Id="rId11" Type="http://schemas.openxmlformats.org/officeDocument/2006/relationships/hyperlink" Target="http://ru.wikipedia.org/wiki/&#1054;&#1088;&#1076;&#1077;&#1085;_&#1041;&#1077;&#1083;&#1086;&#1075;&#1086;_&#1054;&#1088;&#1083;&#1072;" TargetMode="External"/><Relationship Id="rId12" Type="http://schemas.openxmlformats.org/officeDocument/2006/relationships/hyperlink" Target="http://ru.wikipedia.org/wiki/&#1054;&#1088;&#1076;&#1077;&#1085;_&#1057;&#1074;&#1103;&#1090;&#1086;&#1075;&#1086;_&#1057;&#1090;&#1072;&#1085;&#1080;&#1089;&#1083;&#1072;&#1074;&#1072;" TargetMode="External"/><Relationship Id="rId13" Type="http://schemas.openxmlformats.org/officeDocument/2006/relationships/hyperlink" Target="http://ru.wikipedia.org/wiki/&#1057;&#1072;&#1088;&#1076;&#1080;&#1085;&#1089;&#1082;&#1086;&#1077;_&#1082;&#1086;&#1088;&#1086;&#1083;&#1077;&#1074;&#1089;&#1090;&#1074;&#1086;" TargetMode="External"/><Relationship Id="rId14" Type="http://schemas.openxmlformats.org/officeDocument/2006/relationships/hyperlink" Target="http://ru.wikipedia.org/wiki/&#1042;&#1099;&#1089;&#1096;&#1080;&#1081;_&#1086;&#1088;&#1076;&#1077;&#1085;_&#1057;&#1074;&#1103;&#1090;&#1086;&#1075;&#1086;_&#1041;&#1083;&#1072;&#1075;&#1086;&#1074;&#1077;&#1097;&#1077;&#1085;&#1080;&#1103;_(&#1048;&#1090;&#1072;&#1083;&#1080;&#1103;)" TargetMode="External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ормационного проек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95280" y="1557360"/>
            <a:ext cx="844884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"НИ РАЗУ НЕ ПОБЕЖДЕННЫЕ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684360" y="335772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уворов А.В., Ушаков Ф.Ф.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Bookman Old Style"/>
              </a:rPr>
              <a:t>Память в народе, в Отечеств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Ушаков Ф.Ф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ем названы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хта в юго-восточной части Баренцева моря и мыс на северном побережье Охотского мор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евые корабли русского и советского Военно-морского флота (броненосец, крейсер, атомный ракетный крейсер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рская Государственная Академия г. Новороссийск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ульвар Адмирала Ушакова в  г. Москве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ощадь Ушакова г. Севастопол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енный орден Ушакова двух степеней и медаль Ушак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юст в городе Рыбинске( близ родины адмирала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реция, остров Корфу – памятник адмиралу Ушакову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федральный собор святого праведного воина Феодора Ушако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адмиралу Ушакову на мысе Калиакре (Болгария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честь Ушакова назван астероид 3010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Херсоне  именем Ушакова назван проспект и судомеханический технику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 августа 2001г. Адмирал Ушаков канонизирован Русской Православной Церковью как местночтимый святой Саранской епархии. 2004 г. канонизирован как общероссийский свят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408720" cy="421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02165002t"/>
          <p:cNvPicPr/>
          <p:nvPr/>
        </p:nvPicPr>
        <p:blipFill>
          <a:blip r:embed="rId2"/>
          <a:stretch/>
        </p:blipFill>
        <p:spPr>
          <a:xfrm>
            <a:off x="5770440" y="2421000"/>
            <a:ext cx="3373560" cy="4437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ysh41"/>
          <p:cNvPicPr/>
          <p:nvPr/>
        </p:nvPicPr>
        <p:blipFill>
          <a:blip r:embed="rId3"/>
          <a:stretch/>
        </p:blipFill>
        <p:spPr>
          <a:xfrm>
            <a:off x="826920" y="1989000"/>
            <a:ext cx="7345440" cy="446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ysh43"/>
          <p:cNvPicPr/>
          <p:nvPr/>
        </p:nvPicPr>
        <p:blipFill>
          <a:blip r:embed="rId4"/>
          <a:stretch/>
        </p:blipFill>
        <p:spPr>
          <a:xfrm>
            <a:off x="2268360" y="1628640"/>
            <a:ext cx="4172040" cy="522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i"/>
          <p:cNvPicPr/>
          <p:nvPr/>
        </p:nvPicPr>
        <p:blipFill>
          <a:blip r:embed="rId5"/>
          <a:stretch/>
        </p:blipFill>
        <p:spPr>
          <a:xfrm>
            <a:off x="0" y="1341360"/>
            <a:ext cx="4464000" cy="3395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ushakov-11302007041259_s"/>
          <p:cNvPicPr/>
          <p:nvPr/>
        </p:nvPicPr>
        <p:blipFill>
          <a:blip r:embed="rId6"/>
          <a:stretch/>
        </p:blipFill>
        <p:spPr>
          <a:xfrm>
            <a:off x="2494080" y="2205000"/>
            <a:ext cx="43099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3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2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1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6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5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1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3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8000"/>
                            </p:stCondLst>
                            <p:childTnLst>
                              <p:par>
                                <p:cTn id="697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0"/>
                            </p:stCondLst>
                            <p:childTnLst>
                              <p:par>
                                <p:cTn id="7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3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2000"/>
                            </p:stCondLst>
                            <p:childTnLst>
                              <p:par>
                                <p:cTn id="7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7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6000"/>
                            </p:stCondLst>
                            <p:childTnLst>
                              <p:par>
                                <p:cTn id="7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6500"/>
                            </p:stCondLst>
                            <p:childTnLst>
                              <p:par>
                                <p:cTn id="71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8500"/>
                            </p:stCondLst>
                            <p:childTnLst>
                              <p:par>
                                <p:cTn id="7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3" dur="2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500"/>
                            </p:stCondLst>
                            <p:childTnLst>
                              <p:par>
                                <p:cTn id="7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1000"/>
                            </p:stCondLst>
                            <p:childTnLst>
                              <p:par>
                                <p:cTn id="729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2500"/>
                            </p:stCondLst>
                            <p:childTnLst>
                              <p:par>
                                <p:cTn id="7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5" dur="20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4500"/>
                            </p:stCondLst>
                            <p:childTnLst>
                              <p:par>
                                <p:cTn id="7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9" dur="2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6500"/>
                            </p:stCondLst>
                            <p:childTnLst>
                              <p:par>
                                <p:cTn id="7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3" dur="2000"/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848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ажения, победы, 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ь в народе, в Отечест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Bookman Old Style"/>
              </a:rPr>
              <a:t>Детство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13 ноября 1729г. в Моск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 честь Александра Не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аб здоровь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яга к военному де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 Ганниба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24 февраля 1744г. В селе Бурнако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н в честь воинов –великомуче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при монасты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ожденное бесстраш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Bookman Old Style"/>
              </a:rPr>
              <a:t>Учеб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4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ят мушкетером в лейб-гвардии Семеновский пол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48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тельной военной служб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уч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59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ят в Морской корпус г. Петербур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766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уск из Морского корпуса. Мичм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4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Сражения, победы, награ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7786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1.    Более 60 сражений. Во всех победа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2.   Книга «Наука побеждать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akerSignet"/>
              </a:rPr>
              <a:t>3.   Наград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рден Св. Георгия 1-й степе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"/>
              </a:rPr>
              <a:t>Орден Святого апостола Андрея Первозванн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09.11.1787) — за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2"/>
              </a:rPr>
              <a:t>сражение под Кинбурно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бриллиантовые знаки к ордену (1789) — за сражение при Рымнике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. В. Суворов стал одним из 3 Георгиевских кавалеров за всю историю ордена, награждённых с 3-й по 1-ю степень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3"/>
              </a:rPr>
              <a:t>Золотая шпага с бриллиантам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лаврами (10.07.1775) — в честь победы над турками; вторая шпага с бриллиантами и лавровыми венками за победу при Рымнике (1789)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4"/>
              </a:rPr>
              <a:t>Орден Святого Владимир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ст. (28.07.1783) — за победы над ногайскими татарами в Крыму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5"/>
              </a:rPr>
              <a:t>Орден Святого Александра Нев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20.12.1771) — за победу над польскими конфедератам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6"/>
              </a:rPr>
              <a:t>Орден Святой Анн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(09.1770) — за бои с польскими конфедератам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валер большого креста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7"/>
              </a:rPr>
              <a:t>Иоанна Иерусалимского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встрийский Военный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8"/>
              </a:rPr>
              <a:t>орден Марии Терезии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кл.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усск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9"/>
              </a:rPr>
              <a:t>орден Красн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1-й ст.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0"/>
              </a:rPr>
              <a:t>орден Чёрн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, «За военные заслуги»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ьскиe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1"/>
              </a:rPr>
              <a:t>орден Белого Орл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2"/>
              </a:rPr>
              <a:t>орден Св. Станислав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3"/>
              </a:rPr>
              <a:t>Сардинский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imes New Roman"/>
                <a:hlinkClick r:id="rId14"/>
              </a:rPr>
              <a:t>Св. Анунциаты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и Св. Маврикия и Лазаря; Королевства обеих Сицилий — св. Януария; баварский — Св. Губерта и Золотого льва; французский — Кармельской богородицы и Св. Лазар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36" descr=""/>
          <p:cNvPicPr/>
          <p:nvPr/>
        </p:nvPicPr>
        <p:blipFill>
          <a:blip r:embed="rId15"/>
          <a:stretch/>
        </p:blipFill>
        <p:spPr>
          <a:xfrm>
            <a:off x="971640" y="0"/>
            <a:ext cx="662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5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3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3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3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500"/>
                            </p:stCondLst>
                            <p:childTnLst>
                              <p:par>
                                <p:cTn id="3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Bookman Old Style"/>
              </a:rPr>
              <a:t>Сражения, победы, наград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Хроника жиз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69 год Ф. Ф. Ушаков назначается в Донскую (Азовскую) флотил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68 - 1774 годы Ф. Ф. Ушаков участвует в русско-турецкой войн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0 - 1782 годы Ф. Ф. Ушаков командует линейным кораблем "Виктор", охраняет русские торговые суда от пиратских действий английского фло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3 год Ф. Ф. Ушаков переведен на Черноморский флот, борется с эпидемией чумы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7 год Ф. Ф. Ушаков командует линейным кораблем "Святой Павел» и одерживает победу у острова Фидониси над турецким ф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89 год Ф. Ф. Ушаков получает чин контр-адмира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0 год Ф. Ф. Ушаков командует Черноморским флотом, одерживает победы в Керченском сражении и у острова Тендра над турецким флото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1 год Ф. Ф. Ушаков одерживает победу над турецким флотом у мыса Калиакри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3 год Ф. Ф. Ушаков получает чин вице-адмира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8 - 1800 годы Эскадра под командованием Ф. Ф. Ушакова освобождает Ионические острова от французской оккупаци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799 год Ф. Ф. Ушаков получает чин адмирала. Эскадра под командованием Ф. Ф. Ушакова берет штурмом крепость на острове Корфу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395280" y="890640"/>
            <a:ext cx="8209080" cy="5967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ysh60"/>
          <p:cNvPicPr/>
          <p:nvPr/>
        </p:nvPicPr>
        <p:blipFill>
          <a:blip r:embed="rId2"/>
          <a:stretch/>
        </p:blipFill>
        <p:spPr>
          <a:xfrm>
            <a:off x="1619280" y="2421000"/>
            <a:ext cx="5688000" cy="38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500"/>
                            </p:stCondLst>
                            <p:childTnLst>
                              <p:par>
                                <p:cTn id="394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2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20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" dur="20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гра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Георгия 4 степени (178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Георгия 2 степени (17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4 степени (1784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3 степени (178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Владимира 2 степени (1790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Александра Невского 4 степени (179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мазные знаки Святого Александра Невского (179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Святого Януария Королевства обеих Сицил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андор креста Святого Иоанна Иерусалимского (1798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 награда Османской империи «Челенг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олотое оружие от греческой Республики Семи Остров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90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2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2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2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2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2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" dur="2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Bookman Old Style"/>
              </a:rPr>
              <a:t>Личност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Суворов А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беда над собственной слаб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ерывн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сокая культу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юбовь к  солда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анность Род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ustralian Sunrise"/>
              </a:rPr>
              <a:t>Ушаков Ф.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страшие и пренебрежение к опас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ладнокровность в боевой обстанов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ромность в обычной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важение к матрос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я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ushakov_svyat"/>
          <p:cNvPicPr/>
          <p:nvPr/>
        </p:nvPicPr>
        <p:blipFill>
          <a:blip r:embed="rId1"/>
          <a:stretch/>
        </p:blipFill>
        <p:spPr>
          <a:xfrm>
            <a:off x="108000" y="1197000"/>
            <a:ext cx="441648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7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9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000"/>
                            </p:stCondLst>
                            <p:childTnLst>
                              <p:par>
                                <p:cTn id="51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500"/>
                            </p:stCondLst>
                            <p:childTnLst>
                              <p:par>
                                <p:cTn id="52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4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4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38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546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2500"/>
                            </p:stCondLst>
                            <p:childTnLst>
                              <p:par>
                                <p:cTn id="550" nodeType="after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4500"/>
                            </p:stCondLst>
                            <p:childTnLst>
                              <p:par>
                                <p:cTn id="5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http://upload.wikimedia.org/wikipedia/commons/thumb/4/42/Suvorov_Grave_Down.JPG/180px-Suvorov_Grave_Down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upload.wikimedia.org/wikipedia/commons/thumb/6/60/Suworow-denkmal.jpg/193px-Suworow-denkmal.jpg"/>
          <p:cNvPicPr/>
          <p:nvPr/>
        </p:nvPicPr>
        <p:blipFill>
          <a:blip r:embed="rId2"/>
          <a:stretch/>
        </p:blipFill>
        <p:spPr>
          <a:xfrm>
            <a:off x="0" y="3476520"/>
            <a:ext cx="3635280" cy="3381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cc"/>
                </a:solidFill>
                <a:latin typeface="Bookman Old Style"/>
              </a:rPr>
              <a:t>Память в народе, в Отечеств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мориальный музей Суворова в Санкт – Петербург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ден Суворова III степ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уск юбилейных монет, банкно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0" descr="http://upload.wikimedia.org/wikipedia/commons/thumb/9/9f/Suvorovmuseum.jpg/220px-Suvorovmuseum.jpg"/>
          <p:cNvPicPr/>
          <p:nvPr/>
        </p:nvPicPr>
        <p:blipFill>
          <a:blip r:embed="rId3"/>
          <a:stretch/>
        </p:blipFill>
        <p:spPr>
          <a:xfrm>
            <a:off x="4859280" y="1989000"/>
            <a:ext cx="4032360" cy="303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upload.wikimedia.org/wikipedia/commons/thumb/d/da/Order_of_suvorov_medal_3rd_class.jpg/190px-Order_of_suvorov_medal_3rd_class.jpg"/>
          <p:cNvPicPr/>
          <p:nvPr/>
        </p:nvPicPr>
        <p:blipFill>
          <a:blip r:embed="rId4"/>
          <a:stretch/>
        </p:blipFill>
        <p:spPr>
          <a:xfrm>
            <a:off x="4859280" y="1989000"/>
            <a:ext cx="3968640" cy="3969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3785400" y="148284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уворов А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601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9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5" nodeType="afterEffect" fill="hold" presetClass="exit" presetID="8" presetSubtype="16">
                                  <p:stCondLst>
                                    <p:cond delay="2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6:56:09Z</dcterms:created>
  <dc:creator>user</dc:creator>
  <dc:description/>
  <dc:language>en-US</dc:language>
  <cp:lastModifiedBy>Пользователь</cp:lastModifiedBy>
  <dcterms:modified xsi:type="dcterms:W3CDTF">2012-02-02T13:16:46Z</dcterms:modified>
  <cp:revision>14</cp:revision>
  <dc:subject/>
  <dc:title>Слайд 1</dc:title>
</cp:coreProperties>
</file>